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D93-B091-4212-9FA2-00A111F2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EC1-F169-4407-8E67-C98A473C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715-5DE1-4410-8291-4C43EF86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CC3-BD6B-4660-9EDA-9EE5A144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894-ABC8-4DDA-9DDF-335E1931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5D5-0561-4200-8C2D-D3DE5EAD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642-514C-465A-A51D-2A00A142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8EF-F8D5-4333-B606-39A7A1D4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D8B-B711-4B3C-87CC-98417071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A2B-40FF-42AF-9C64-A6E34EF8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A04-0D4F-4152-9336-C9669205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C52-674A-471F-8CCB-EFEA3C9D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E984-79C2-499A-89CD-FF58B5CF8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2760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27600" y="11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2760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27600" y="10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27600" y="11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2760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143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4120" y="129528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752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120" y="19051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362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251460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971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3760" y="312408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581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3400" y="37339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191120"/>
            <a:ext cx="13716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85136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3040" y="601992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219320"/>
            <a:ext cx="3733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30280" y="125568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1905120"/>
            <a:ext cx="2590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4680" y="190512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CP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905120"/>
            <a:ext cx="2590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6480" y="190512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CP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7280" y="198108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733920" y="1523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86400" y="15235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791320" y="15235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7924680" y="15235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657600"/>
            <a:ext cx="2590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4680" y="36576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657600"/>
            <a:ext cx="2590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6480" y="36576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7640" y="37339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2209680"/>
            <a:ext cx="8384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2209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09680"/>
            <a:ext cx="8384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209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98680" y="5029200"/>
            <a:ext cx="1563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5200" y="502920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6760" y="502920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505320" y="4648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648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257440" y="4648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648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58000" y="4648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1520" y="50292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51160" y="5029200"/>
            <a:ext cx="1563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7680" y="502920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4000" y="50292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5029200"/>
            <a:ext cx="1563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881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57480" y="502920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24160" y="50292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76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04200" y="5029200"/>
            <a:ext cx="1563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010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70360" y="502920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37040" y="50292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104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4191120"/>
            <a:ext cx="8991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9360" y="434340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/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343400"/>
            <a:ext cx="2590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343400"/>
            <a:ext cx="2590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9400" y="43434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582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23:22:23Z</dcterms:created>
  <dc:creator>laptop1</dc:creator>
  <dc:description/>
  <dc:language>en-US</dc:language>
  <cp:lastModifiedBy>laptop1</cp:lastModifiedBy>
  <dcterms:modified xsi:type="dcterms:W3CDTF">2003-08-04T00:22:28Z</dcterms:modified>
  <cp:revision>3</cp:revision>
  <dc:subject/>
  <dc:title>PowerPoint Presentation</dc:title>
</cp:coreProperties>
</file>