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FD9-5B4E-40D1-98EA-A3722878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4FA-B5A8-402D-BDB2-C7552B5E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3E0-8019-4804-B3AE-BED2FC11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C25-754B-4F5A-8195-C10718A2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227-3A4F-44DF-9D9E-B243F2C9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E9F-4AA3-44EF-BE5E-322A9053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80D-AFC1-4BE4-B045-E10F41AC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F41-5657-4B91-A225-7B47002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DE4-3196-4548-9EF5-C299F26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EAF-C582-46E7-8D20-07A18EF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1E7-A588-42E9-9C55-77BF1F7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B44-EEAB-49AD-B088-E30FA91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CB3-C5B0-4D7D-BC4E-225C9B675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760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11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2760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760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27600" y="11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2760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143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4120" y="129528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752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19051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362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251460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971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3760" y="312408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581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3400" y="37339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1911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85136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3040" y="60199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219320"/>
            <a:ext cx="3733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30280" y="12556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1905120"/>
            <a:ext cx="2590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4680" y="1905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C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905120"/>
            <a:ext cx="2590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6480" y="1905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C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19810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733920" y="1523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86400" y="15235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791320" y="1523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924680" y="1523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6576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4680" y="3657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6576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6480" y="3657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7640" y="37339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20968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0968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98680" y="5029200"/>
            <a:ext cx="1563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520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6760" y="502920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505320" y="4648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648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25744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648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58000" y="4648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152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51160" y="5029200"/>
            <a:ext cx="1563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768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400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5029200"/>
            <a:ext cx="1563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881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748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2416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76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4200" y="5029200"/>
            <a:ext cx="1563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7036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704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104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4191120"/>
            <a:ext cx="8991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360" y="43434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/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3434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3434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9400" y="43434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3:22:23Z</dcterms:created>
  <dc:creator>laptop1</dc:creator>
  <dc:description/>
  <dc:language>en-US</dc:language>
  <cp:lastModifiedBy>laptop1</cp:lastModifiedBy>
  <dcterms:modified xsi:type="dcterms:W3CDTF">2003-08-04T00:22:28Z</dcterms:modified>
  <cp:revision>3</cp:revision>
  <dc:subject/>
  <dc:title>PowerPoint Presentation</dc:title>
</cp:coreProperties>
</file>