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267-451C-44BD-A462-D9DBF3C9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3A1-B666-4BDD-B8F6-823AAB6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5DA-27A5-4A62-A886-E0F10070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912-2E13-40F3-923A-BAFD7F2E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BB9-0A03-4D52-B5E3-411C6AF3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FF6-2799-4E7F-A36D-65054FC8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4AE-7FF3-4143-AE88-420E68C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808-BAA0-468B-8EB7-6F248EBF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EB3-ABBC-4D6B-8011-906518A2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B99-BA7B-4CF6-B418-5B6E11D2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628-BA97-42FF-BACD-4C677BB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EE6-858A-488F-A691-0492647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745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4720" y="6474960"/>
            <a:ext cx="1895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ai-An (Paul) Lin, Intel Co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855897-D973-4220-9906-E912ED90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09520" y="365760"/>
            <a:ext cx="28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P802 Handoff ECS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off for Multi-interfaced 802 Mobile De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Co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’03, Da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MN with Multiple Interfaces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76520"/>
            <a:ext cx="28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te/Complete handoff while traversing in the overlapping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44800" y="3241800"/>
            <a:ext cx="2911320" cy="2840040"/>
          </a:xfrm>
          <a:prstGeom prst="ellipse">
            <a:avLst/>
          </a:prstGeom>
          <a:solidFill>
            <a:srgbClr val="ff00ff">
              <a:alpha val="27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7303680" y="2457000"/>
            <a:ext cx="54612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6120" y="2512800"/>
            <a:ext cx="44928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440" y="3157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6040" y="2689200"/>
            <a:ext cx="765000" cy="320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ff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26400" y="30178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3360" y="3160800"/>
            <a:ext cx="167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02320" y="1846440"/>
            <a:ext cx="3235320" cy="72216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5600" y="3174840"/>
            <a:ext cx="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25920" y="2708280"/>
            <a:ext cx="765360" cy="3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ff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86280" y="3036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178080"/>
            <a:ext cx="264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255840"/>
            <a:ext cx="2911320" cy="2840040"/>
          </a:xfrm>
          <a:prstGeom prst="ellipse">
            <a:avLst/>
          </a:prstGeom>
          <a:solidFill>
            <a:srgbClr val="ff9933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9240" y="3255840"/>
            <a:ext cx="2911320" cy="284004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534280" y="3695760"/>
            <a:ext cx="1986840" cy="705960"/>
            <a:chOff x="5534280" y="3695760"/>
            <a:chExt cx="1986840" cy="7059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11864" t="11429" r="16949" b="11429"/>
            <a:stretch/>
          </p:blipFill>
          <p:spPr>
            <a:xfrm>
              <a:off x="5829840" y="4010400"/>
              <a:ext cx="314280" cy="3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144480" y="413604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4280" y="3695760"/>
              <a:ext cx="198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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quire new Co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37560" y="4389480"/>
            <a:ext cx="1919880" cy="776520"/>
            <a:chOff x="6037560" y="4389480"/>
            <a:chExt cx="1919880" cy="776520"/>
          </a:xfrm>
        </p:grpSpPr>
        <p:sp>
          <p:nvSpPr>
            <p:cNvPr id="68" name=""/>
            <p:cNvSpPr/>
            <p:nvPr/>
          </p:nvSpPr>
          <p:spPr>
            <a:xfrm>
              <a:off x="6037560" y="4828680"/>
              <a:ext cx="191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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itiate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rcRect l="11864" t="11429" r="16949" b="11429"/>
            <a:stretch/>
          </p:blipFill>
          <p:spPr>
            <a:xfrm>
              <a:off x="6333120" y="4389480"/>
              <a:ext cx="3146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647760" y="4578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135400" y="332424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40320" y="3174840"/>
            <a:ext cx="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70680" y="330516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75600" y="3157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75520" y="330516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9240" y="332424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11864" t="11429" r="16949" b="11429"/>
          <a:stretch/>
        </p:blipFill>
        <p:spPr>
          <a:xfrm>
            <a:off x="2925720" y="4446720"/>
            <a:ext cx="314280" cy="39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03720" y="3940200"/>
            <a:ext cx="95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89096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rcRect l="11864" t="11429" r="16949" b="11429"/>
          <a:stretch/>
        </p:blipFill>
        <p:spPr>
          <a:xfrm>
            <a:off x="4368960" y="451476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240" y="47037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78080" y="3749760"/>
            <a:ext cx="254160" cy="696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76920"/>
            <a:ext cx="2666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big is the overlapping area to be useful &amp; practic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ndoff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479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distance traversed by a MN from acquiring a new CoA or initiation L2 handoff to completion of the hand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66688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 scheme (route optim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(non-transport related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8195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d-to-end de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r spe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cket loss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-way latency distrib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0480" y="4716360"/>
            <a:ext cx="351000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end points at Irvine,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711600" cy="344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46040"/>
            <a:ext cx="3537000" cy="3383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05520" y="4648320"/>
            <a:ext cx="39621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points at Irvine and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638680"/>
            <a:ext cx="8153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 peaked distributions (shifted Gam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lay values clustered within about 10% of both the mean and minimum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18148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ndrew Corlett, et al, “Statistics of One-Way Internet Packet Delays,” 53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TF, Minneapolis, March 18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-way Latenc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4788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9240" y="1189080"/>
            <a:ext cx="4420800" cy="3841200"/>
            <a:chOff x="219240" y="1189080"/>
            <a:chExt cx="4420800" cy="38412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84240" y="1326240"/>
              <a:ext cx="3426120" cy="31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080" y="11890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440" y="171000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80" y="21909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8880" y="27403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880" y="325008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880" y="3769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8880" y="43203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65680" y="469296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ay (m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9556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2664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6808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129960" y="26733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85760" y="1198440"/>
            <a:ext cx="4035240" cy="3832560"/>
            <a:chOff x="4685760" y="1198440"/>
            <a:chExt cx="4035240" cy="38325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132160" y="1335240"/>
              <a:ext cx="34124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05200" y="119844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5760" y="1609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5200" y="19519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5200" y="236340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5200" y="27745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5200" y="318564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5200" y="35287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05200" y="391104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05560" y="4282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0212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14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16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806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01880" y="4485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6360" y="469368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ay (m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3920" y="50292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vine –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0292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vine –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0680" y="6019920"/>
            <a:ext cx="82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. Corlett, et al., “Statistics of One-Way Internet Packet Delays,” 5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ETF, Minneapolis, March 200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3040" y="5562720"/>
            <a:ext cx="59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.9% of delays occur within 30 ms and 115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3 Handoff D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92280" y="1425600"/>
          <a:ext cx="8118360" cy="4591080"/>
        </p:xfrm>
        <a:graphic>
          <a:graphicData uri="http://schemas.openxmlformats.org/drawingml/2006/table">
            <a:tbl>
              <a:tblPr/>
              <a:tblGrid>
                <a:gridCol w="957240"/>
                <a:gridCol w="666720"/>
                <a:gridCol w="811080"/>
                <a:gridCol w="812880"/>
                <a:gridCol w="811080"/>
                <a:gridCol w="811440"/>
                <a:gridCol w="812520"/>
                <a:gridCol w="811440"/>
                <a:gridCol w="812880"/>
                <a:gridCol w="811080"/>
              </a:tblGrid>
              <a:tr h="81000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off Distance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eter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MN Moving Spee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o route optim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MN Moving Spee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route optim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one-way packet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3520" y="3255840"/>
          <a:ext cx="6465960" cy="276192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8200"/>
                <a:gridCol w="809640"/>
                <a:gridCol w="807840"/>
                <a:gridCol w="808200"/>
                <a:gridCol w="807840"/>
                <a:gridCol w="808200"/>
              </a:tblGrid>
              <a:tr h="91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0.6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.4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685800" y="60958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99.9+% Packe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10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L2 Handoff (Gener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220760"/>
            <a:ext cx="8534880" cy="5106600"/>
            <a:chOff x="609480" y="1220760"/>
            <a:chExt cx="8534880" cy="5106600"/>
          </a:xfrm>
        </p:grpSpPr>
        <p:sp>
          <p:nvSpPr>
            <p:cNvPr id="138" name=""/>
            <p:cNvSpPr/>
            <p:nvPr/>
          </p:nvSpPr>
          <p:spPr>
            <a:xfrm>
              <a:off x="2338560" y="1495080"/>
              <a:ext cx="0" cy="47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35440" y="12207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05960" y="122076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’s within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63400" y="1542240"/>
              <a:ext cx="2684880" cy="977760"/>
              <a:chOff x="2363400" y="1542240"/>
              <a:chExt cx="2684880" cy="977760"/>
            </a:xfrm>
          </p:grpSpPr>
          <p:sp>
            <p:nvSpPr>
              <p:cNvPr id="142" name=""/>
              <p:cNvSpPr/>
              <p:nvPr/>
            </p:nvSpPr>
            <p:spPr>
              <a:xfrm>
                <a:off x="2363760" y="1692000"/>
                <a:ext cx="2684520" cy="18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61440" y="1542240"/>
                <a:ext cx="1436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be Reque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363400" y="1973160"/>
                <a:ext cx="268452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3400" y="2067120"/>
                <a:ext cx="268452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67480" y="2212920"/>
                <a:ext cx="168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be Respon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048280" y="1679400"/>
              <a:ext cx="380880" cy="137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3760" y="259776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1800" y="2447640"/>
              <a:ext cx="14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be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363400" y="287892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363400" y="297324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7480" y="3050280"/>
              <a:ext cx="168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be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3760" y="355752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0080" y="340776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63400" y="383904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0320" y="394200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57720" y="334620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21840" y="30434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40600" y="3346200"/>
              <a:ext cx="1296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3280" y="3003480"/>
              <a:ext cx="121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rent 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92720" y="459324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64680" y="4443480"/>
              <a:ext cx="190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d Security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292360" y="487440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8560" y="4401720"/>
              <a:ext cx="268416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3280" y="4251960"/>
              <a:ext cx="21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-associa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38560" y="5917320"/>
              <a:ext cx="2684160" cy="18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8640" y="6020280"/>
              <a:ext cx="23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-association 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4200" y="4977360"/>
              <a:ext cx="184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v. Security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310360" y="5211720"/>
              <a:ext cx="2684160" cy="841320"/>
              <a:chOff x="5310360" y="5211720"/>
              <a:chExt cx="2684160" cy="841320"/>
            </a:xfrm>
          </p:grpSpPr>
          <p:sp>
            <p:nvSpPr>
              <p:cNvPr id="170" name=""/>
              <p:cNvSpPr/>
              <p:nvPr/>
            </p:nvSpPr>
            <p:spPr>
              <a:xfrm>
                <a:off x="5310360" y="5361480"/>
                <a:ext cx="2684160" cy="18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42600" y="5211720"/>
                <a:ext cx="138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ve Reque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310360" y="5643000"/>
                <a:ext cx="268416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69520" y="5745960"/>
                <a:ext cx="153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ve Respon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42920" y="17006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2920" y="355176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2920" y="437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2920" y="61570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33720" y="245484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040" y="3797280"/>
              <a:ext cx="14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680" y="5100120"/>
              <a:ext cx="152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-assoc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76440" y="170064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6440" y="279792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576440" y="355176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6440" y="41004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576440" y="437472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6440" y="540324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1220760"/>
              <a:ext cx="6400800" cy="2125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27480" y="1770480"/>
              <a:ext cx="221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itiated outside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verlapping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3414960"/>
              <a:ext cx="8153640" cy="287964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6240" y="3551760"/>
              <a:ext cx="22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completed inside</a:t>
              </a:r>
              <a:br>
                <a:rPr sz="2000"/>
              </a:b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overlapping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2 Handoff D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66120" y="3429000"/>
            <a:ext cx="1197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65880" y="3429000"/>
            <a:ext cx="12002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68880" y="3429000"/>
            <a:ext cx="1197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3429000"/>
            <a:ext cx="1198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6200" y="3429000"/>
            <a:ext cx="35942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 Handoff Dista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me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6120" y="228600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65880" y="2286000"/>
            <a:ext cx="12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8880" y="228600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70440" y="2286000"/>
            <a:ext cx="119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6200" y="2286000"/>
            <a:ext cx="359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MN Moving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2286000"/>
            <a:ext cx="838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703760"/>
            <a:ext cx="838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6200" y="2286000"/>
            <a:ext cx="0" cy="241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63120" y="2286000"/>
            <a:ext cx="0" cy="241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200" y="3429000"/>
            <a:ext cx="838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7044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6888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6588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612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560" y="4851360"/>
            <a:ext cx="22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99.9+% Packe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acticality &amp; Im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76200" y="1447920"/>
            <a:ext cx="87724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overlapping region be practically engineered? Seems OK, consi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 cell: typically ~20 miles in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 cells: a mile or so in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regions of high-traffic 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o cells: diameter of a few hundred meter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bile service in highly congested areas like shopping centers, exhibition centers, office building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-2000 feet without special 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t-spot, low-speed roaming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6: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, low-, medium- and high-speed roaming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AP associations or IP connections for multi-interfaced mobile nodes can simplify and expedite hand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 to include corresponding handoff procedure(s) and network planning in th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2:55:03Z</dcterms:created>
  <dc:creator>Paul Lin</dc:creator>
  <dc:description/>
  <dc:language>en-US</dc:language>
  <cp:lastModifiedBy>David Johnston</cp:lastModifiedBy>
  <dcterms:modified xsi:type="dcterms:W3CDTF">2003-05-10T05:57:05Z</dcterms:modified>
  <cp:revision>70</cp:revision>
  <dc:subject/>
  <dc:title>Handoff for Multi-interfaced 802 Mobile Devices</dc:title>
</cp:coreProperties>
</file>