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E26-F749-4E7B-AED5-F599EFF4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B4F-7111-4A85-A9BB-634DE7DE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8C7-49F5-44D9-8EB7-87A7A490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A25-CA05-489E-926F-22B6963A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A01-46EF-4938-8E4F-29436C0B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241-FB2B-400D-BCAD-57AF7718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A9E-96DC-4FE4-BF1D-23EBBEDF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F14-682A-4C6B-BB31-9D55629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413-D70B-4420-9B81-F4A85CC2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B0E-B094-487B-8A8E-32837A1E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AD1-094B-433D-93C3-4E36F0A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6EF-A06D-4E2F-9A4A-416CA84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66680"/>
            <a:ext cx="745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14720" y="6474960"/>
            <a:ext cx="18954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ai-An (Paul) Lin, Intel Co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788AF1-B842-4986-9E0E-FDC587166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09520" y="365760"/>
            <a:ext cx="284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P802 Handoff ECS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off for Multi-interfaced 802 Mobile De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 Co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’03, Da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MN with Multiple Interfaces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76520"/>
            <a:ext cx="281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te/Complete handoff while traversing in the overlapping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44800" y="3241800"/>
            <a:ext cx="2911320" cy="2840040"/>
          </a:xfrm>
          <a:prstGeom prst="ellipse">
            <a:avLst/>
          </a:prstGeom>
          <a:solidFill>
            <a:srgbClr val="ff00ff">
              <a:alpha val="27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7303680" y="2457000"/>
            <a:ext cx="54612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6120" y="2512800"/>
            <a:ext cx="44928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440" y="3157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66040" y="2689200"/>
            <a:ext cx="765000" cy="320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ff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26400" y="30178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3360" y="3160800"/>
            <a:ext cx="167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02320" y="1846440"/>
            <a:ext cx="3235320" cy="72216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5600" y="3174840"/>
            <a:ext cx="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25920" y="2708280"/>
            <a:ext cx="765360" cy="3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ff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86280" y="30369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178080"/>
            <a:ext cx="2644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255840"/>
            <a:ext cx="2911320" cy="2840040"/>
          </a:xfrm>
          <a:prstGeom prst="ellipse">
            <a:avLst/>
          </a:prstGeom>
          <a:solidFill>
            <a:srgbClr val="ff9933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9240" y="3255840"/>
            <a:ext cx="2911320" cy="2840040"/>
          </a:xfrm>
          <a:prstGeom prst="ellipse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534280" y="3695760"/>
            <a:ext cx="1986840" cy="705960"/>
            <a:chOff x="5534280" y="3695760"/>
            <a:chExt cx="1986840" cy="7059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11864" t="11429" r="16949" b="11429"/>
            <a:stretch/>
          </p:blipFill>
          <p:spPr>
            <a:xfrm>
              <a:off x="5829840" y="4010400"/>
              <a:ext cx="314280" cy="3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144480" y="4136040"/>
              <a:ext cx="100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34280" y="3695760"/>
              <a:ext cx="198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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quire new Co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037560" y="4389480"/>
            <a:ext cx="1919880" cy="776520"/>
            <a:chOff x="6037560" y="4389480"/>
            <a:chExt cx="1919880" cy="776520"/>
          </a:xfrm>
        </p:grpSpPr>
        <p:sp>
          <p:nvSpPr>
            <p:cNvPr id="68" name=""/>
            <p:cNvSpPr/>
            <p:nvPr/>
          </p:nvSpPr>
          <p:spPr>
            <a:xfrm>
              <a:off x="6037560" y="4828680"/>
              <a:ext cx="191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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itiate hand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2"/>
            <a:srcRect l="11864" t="11429" r="16949" b="11429"/>
            <a:stretch/>
          </p:blipFill>
          <p:spPr>
            <a:xfrm>
              <a:off x="6333120" y="4389480"/>
              <a:ext cx="3146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647760" y="45781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135400" y="3324240"/>
            <a:ext cx="623880" cy="260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ff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40320" y="3174840"/>
            <a:ext cx="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70680" y="3305160"/>
            <a:ext cx="623880" cy="260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ff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75600" y="3157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75520" y="3305160"/>
            <a:ext cx="623880" cy="260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ff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89240" y="3324240"/>
            <a:ext cx="623880" cy="260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ff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11864" t="11429" r="16949" b="11429"/>
          <a:stretch/>
        </p:blipFill>
        <p:spPr>
          <a:xfrm>
            <a:off x="2925720" y="4446720"/>
            <a:ext cx="314280" cy="39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03720" y="3940200"/>
            <a:ext cx="95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489096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rcRect l="11864" t="11429" r="16949" b="11429"/>
          <a:stretch/>
        </p:blipFill>
        <p:spPr>
          <a:xfrm>
            <a:off x="4368960" y="451476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240" y="470376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78080" y="3749760"/>
            <a:ext cx="254160" cy="696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76920"/>
            <a:ext cx="2666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big is the overlapping area to be useful &amp; practic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ndoff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447920"/>
            <a:ext cx="8001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distance traversed by a MN from acquiring a new CoA or initiation L2 handoff to completion of the hand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2666880"/>
            <a:ext cx="6172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ff scheme (route optim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(non-transport related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819520"/>
            <a:ext cx="8001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d-to-end del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r spe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cket loss 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-way latency distribu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0480" y="4716360"/>
            <a:ext cx="3510000" cy="5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end points at Irvine,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-25992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h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3711600" cy="3443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346040"/>
            <a:ext cx="3537000" cy="3383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05520" y="4648320"/>
            <a:ext cx="39621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 points at Irvine and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638680"/>
            <a:ext cx="8153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 peaked distributions (shifted Gam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lay values clustered within about 10% of both the mean and minimum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181480"/>
            <a:ext cx="449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ndrew Corlett, et al, “Statistics of One-Way Internet Packet Delays,” 53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TF, Minneapolis, March 18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-way Latenc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4788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9240" y="1189080"/>
            <a:ext cx="4420800" cy="3841200"/>
            <a:chOff x="219240" y="1189080"/>
            <a:chExt cx="4420800" cy="38412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984240" y="1326240"/>
              <a:ext cx="3426120" cy="31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080" y="118908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9440" y="171000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880" y="21909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8880" y="274032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880" y="325008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880" y="37695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8880" y="43203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65680" y="469296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ay (m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95560" y="448668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26640" y="448668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68080" y="448668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129960" y="26733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685760" y="1198440"/>
            <a:ext cx="4035240" cy="3832560"/>
            <a:chOff x="4685760" y="1198440"/>
            <a:chExt cx="4035240" cy="383256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5132160" y="1335240"/>
              <a:ext cx="341244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705200" y="1198440"/>
              <a:ext cx="4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5760" y="16095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5200" y="195192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05200" y="236340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05200" y="277452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05200" y="318564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05200" y="352872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05200" y="391104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05560" y="4282560"/>
              <a:ext cx="51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40000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02120" y="4488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51480" y="4488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31680" y="4488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80680" y="4488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01880" y="44852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6360" y="469368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ay (m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53920" y="502920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vine – Ir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502920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vine –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0680" y="6019920"/>
            <a:ext cx="82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. Corlett, et al., “Statistics of One-Way Internet Packet Delays,” 5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ETF, Minneapolis, March 200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3040" y="5562720"/>
            <a:ext cx="59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.9% of delays occur within 30 ms and 115 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3 Handoff D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92280" y="1425600"/>
          <a:ext cx="8118360" cy="4591080"/>
        </p:xfrm>
        <a:graphic>
          <a:graphicData uri="http://schemas.openxmlformats.org/drawingml/2006/table">
            <a:tbl>
              <a:tblPr/>
              <a:tblGrid>
                <a:gridCol w="957240"/>
                <a:gridCol w="666720"/>
                <a:gridCol w="811080"/>
                <a:gridCol w="812880"/>
                <a:gridCol w="811080"/>
                <a:gridCol w="811440"/>
                <a:gridCol w="812520"/>
                <a:gridCol w="811440"/>
                <a:gridCol w="812880"/>
                <a:gridCol w="811080"/>
              </a:tblGrid>
              <a:tr h="81000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doff Distance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meter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MN Moving Spee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o route optim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MN Moving Spee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 route optim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one-way packet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333520" y="3255840"/>
          <a:ext cx="6465960" cy="276192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8200"/>
                <a:gridCol w="809640"/>
                <a:gridCol w="807840"/>
                <a:gridCol w="808200"/>
                <a:gridCol w="807840"/>
                <a:gridCol w="808200"/>
              </a:tblGrid>
              <a:tr h="91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0.6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.4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685800" y="60958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99.9+% Packet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6109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L2 Handoff (Generi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09480" y="1220760"/>
            <a:ext cx="8534880" cy="5106600"/>
            <a:chOff x="609480" y="1220760"/>
            <a:chExt cx="8534880" cy="5106600"/>
          </a:xfrm>
        </p:grpSpPr>
        <p:sp>
          <p:nvSpPr>
            <p:cNvPr id="138" name=""/>
            <p:cNvSpPr/>
            <p:nvPr/>
          </p:nvSpPr>
          <p:spPr>
            <a:xfrm>
              <a:off x="2338560" y="1495080"/>
              <a:ext cx="0" cy="473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35440" y="122076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05960" y="1220760"/>
              <a:ext cx="18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’s within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363400" y="1542240"/>
              <a:ext cx="2684880" cy="977760"/>
              <a:chOff x="2363400" y="1542240"/>
              <a:chExt cx="2684880" cy="977760"/>
            </a:xfrm>
          </p:grpSpPr>
          <p:sp>
            <p:nvSpPr>
              <p:cNvPr id="142" name=""/>
              <p:cNvSpPr/>
              <p:nvPr/>
            </p:nvSpPr>
            <p:spPr>
              <a:xfrm>
                <a:off x="2363760" y="1692000"/>
                <a:ext cx="2684520" cy="18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61440" y="1542240"/>
                <a:ext cx="1436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be Reque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363400" y="1973160"/>
                <a:ext cx="2684520" cy="18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363400" y="2067120"/>
                <a:ext cx="2684520" cy="18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67480" y="2212920"/>
                <a:ext cx="168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be Respon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048280" y="1679400"/>
              <a:ext cx="380880" cy="137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63760" y="2597760"/>
              <a:ext cx="2684520" cy="18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61800" y="2447640"/>
              <a:ext cx="14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be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363400" y="2878920"/>
              <a:ext cx="268452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363400" y="2973240"/>
              <a:ext cx="268452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7480" y="3050280"/>
              <a:ext cx="168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be Respon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3760" y="3557520"/>
              <a:ext cx="2684520" cy="18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70080" y="3407760"/>
              <a:ext cx="142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363400" y="3839040"/>
              <a:ext cx="268452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0320" y="3942000"/>
              <a:ext cx="142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57720" y="3346200"/>
              <a:ext cx="0" cy="27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21840" y="30434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40600" y="3346200"/>
              <a:ext cx="1296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3280" y="3003480"/>
              <a:ext cx="121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rrent 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92720" y="4593240"/>
              <a:ext cx="2684520" cy="18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64680" y="4443480"/>
              <a:ext cx="190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nd Security B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292360" y="4874400"/>
              <a:ext cx="268452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38560" y="4401720"/>
              <a:ext cx="2684160" cy="18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3280" y="4251960"/>
              <a:ext cx="21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-associa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338560" y="5917320"/>
              <a:ext cx="2684160" cy="18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18640" y="6020280"/>
              <a:ext cx="23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-association Respo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4200" y="4977360"/>
              <a:ext cx="184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v. Security B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310360" y="5211720"/>
              <a:ext cx="2684160" cy="841320"/>
              <a:chOff x="5310360" y="5211720"/>
              <a:chExt cx="2684160" cy="841320"/>
            </a:xfrm>
          </p:grpSpPr>
          <p:sp>
            <p:nvSpPr>
              <p:cNvPr id="170" name=""/>
              <p:cNvSpPr/>
              <p:nvPr/>
            </p:nvSpPr>
            <p:spPr>
              <a:xfrm>
                <a:off x="5310360" y="5361480"/>
                <a:ext cx="2684160" cy="18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42600" y="5211720"/>
                <a:ext cx="138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ve Reque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310360" y="5643000"/>
                <a:ext cx="2684160" cy="18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69520" y="5745960"/>
                <a:ext cx="1533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ve Respon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042920" y="17006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2920" y="355176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2920" y="437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2920" y="61570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33720" y="245484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040" y="3797280"/>
              <a:ext cx="14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4680" y="5100120"/>
              <a:ext cx="152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-assoc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576440" y="1700640"/>
              <a:ext cx="0" cy="75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76440" y="2797920"/>
              <a:ext cx="0" cy="75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576440" y="355176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76440" y="4100400"/>
              <a:ext cx="0" cy="27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576440" y="4374720"/>
              <a:ext cx="0" cy="75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6440" y="5403240"/>
              <a:ext cx="0" cy="75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1220760"/>
              <a:ext cx="6400800" cy="2125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27480" y="1770480"/>
              <a:ext cx="221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itiated outside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verlapping ar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80" y="3414960"/>
              <a:ext cx="8153640" cy="2879640"/>
            </a:xfrm>
            <a:prstGeom prst="rect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6240" y="3551760"/>
              <a:ext cx="225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completed inside</a:t>
              </a:r>
              <a:br>
                <a:rPr sz="2000"/>
              </a:b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overlapping ar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2 Handoff D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66120" y="3429000"/>
            <a:ext cx="11970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65880" y="3429000"/>
            <a:ext cx="12002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68880" y="3429000"/>
            <a:ext cx="11970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3429000"/>
            <a:ext cx="1198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6200" y="3429000"/>
            <a:ext cx="35942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 Handoff Distanc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met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66120" y="2286000"/>
            <a:ext cx="119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Km/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65880" y="2286000"/>
            <a:ext cx="120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 Km/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68880" y="2286000"/>
            <a:ext cx="119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Km/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70440" y="2286000"/>
            <a:ext cx="119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Km/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6200" y="2286000"/>
            <a:ext cx="359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MN Moving Sp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2286000"/>
            <a:ext cx="8386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6200" y="4703760"/>
            <a:ext cx="8386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6200" y="2286000"/>
            <a:ext cx="0" cy="241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763120" y="2286000"/>
            <a:ext cx="0" cy="241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6200" y="3429000"/>
            <a:ext cx="838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70440" y="2286000"/>
            <a:ext cx="0" cy="2417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68880" y="2286000"/>
            <a:ext cx="0" cy="2417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65880" y="2286000"/>
            <a:ext cx="0" cy="2417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66120" y="2286000"/>
            <a:ext cx="0" cy="2417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560" y="4851360"/>
            <a:ext cx="222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99.9+% Packet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acticality &amp; Im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76200" y="1447920"/>
            <a:ext cx="87724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he overlapping region be practically engineered? Seems OK, consi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 cell: typically ~20 miles in 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 cells: a mile or so in 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regions of high-traffic 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o cells: diameter of a few hundred meter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mobile service in highly congested areas like shopping centers, exhibition centers, office building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-2000 feet without special 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t-spot, low-speed roaming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6: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, low-, medium- and high-speed roaming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taneous AP associations or IP connections for multi-interfaced mobile nodes can simplify and expedite hand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 to include corresponding handoff procedure(s) and network planning in th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22:55:03Z</dcterms:created>
  <dc:creator>Paul Lin</dc:creator>
  <dc:description/>
  <dc:language>en-US</dc:language>
  <cp:lastModifiedBy>David Johnston</cp:lastModifiedBy>
  <dcterms:modified xsi:type="dcterms:W3CDTF">2003-05-10T05:57:05Z</dcterms:modified>
  <cp:revision>70</cp:revision>
  <dc:subject/>
  <dc:title>Handoff for Multi-interfaced 802 Mobile Devices</dc:title>
</cp:coreProperties>
</file>