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73C03-A95C-42A6-9DFF-EEA988CEA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190F-2FBA-4904-8B18-26B2F4A89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FA225-F471-4730-BA31-DADBA3F58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2FEF4-8C91-4D2A-BBA6-F42F38F67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7DF32-1461-4A6F-A1D1-023B04CDE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D53A-A969-429A-84AE-DA71518BD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9AE8E-3256-47AC-9E67-D98E930AC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97BCB-E31D-4CA7-ACF3-BFF0E4E3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07CBC-C8FA-468A-B4FE-92CA24EA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67F3-949E-4F2F-9C4E-5F6598705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04D66-AA8E-44EB-B9A4-D06A3C87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2D552-571D-49A2-8EC0-B08CEEDA1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166680"/>
            <a:ext cx="9586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4</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300800" y="6474960"/>
            <a:ext cx="13096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Johnston, Inte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671647-C973-4291-BE82-942070316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578200" y="396000"/>
            <a:ext cx="28886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802.21_Opening_Notes_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 name="" descr=""/>
          <p:cNvPicPr/>
          <p:nvPr/>
        </p:nvPicPr>
        <p:blipFill>
          <a:blip r:embed="rId2"/>
          <a:stretch/>
        </p:blipFill>
        <p:spPr>
          <a:xfrm>
            <a:off x="7010280" y="685800"/>
            <a:ext cx="1828800" cy="170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904760"/>
            <a:ext cx="78487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21</a:t>
            </a:r>
            <a:br>
              <a:rPr sz="4000"/>
            </a:br>
            <a:r>
              <a:rPr b="0" lang="en-US" sz="4000" spc="-1" strike="noStrike">
                <a:solidFill>
                  <a:srgbClr val="000000"/>
                </a:solidFill>
                <a:latin typeface="Times New Roman"/>
              </a:rPr>
              <a:t>Session #1</a:t>
            </a:r>
            <a:br>
              <a:rPr sz="4000"/>
            </a:br>
            <a:r>
              <a:rPr b="0" lang="en-US" sz="4000" spc="-1" strike="noStrike">
                <a:solidFill>
                  <a:srgbClr val="000000"/>
                </a:solidFill>
                <a:latin typeface="Times New Roman"/>
              </a:rPr>
              <a:t>Opening Plenary Notes</a:t>
            </a: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1371600" y="3809520"/>
            <a:ext cx="640080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Johnsto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johnston@ieee.o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j.johnston@intel.com</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925C03D-63A5-456E-A3E2-0AD6FEBBA47B}" type="slidenum">
              <a:t>1</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im Chai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avid Johnston (Int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johnston@ieee.or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j.johnston@intel.c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retary</a:t>
            </a:r>
            <a:r>
              <a:rPr b="0" lang="en-US" sz="3200" spc="-1" strike="noStrike">
                <a:solidFill>
                  <a:srgbClr val="000000"/>
                </a:solidFill>
                <a:latin typeface="Times New Roman"/>
              </a:rPr>
              <a:t>	</a:t>
            </a:r>
            <a:r>
              <a:rPr b="0" lang="en-US" sz="3200" spc="-1" strike="noStrike">
                <a:solidFill>
                  <a:srgbClr val="000000"/>
                </a:solidFill>
                <a:latin typeface="Times New Roman"/>
              </a:rPr>
              <a:t>Michael Williams (Nok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e Chair</a:t>
            </a:r>
            <a:r>
              <a:rPr b="0" lang="en-US" sz="3200" spc="-1" strike="noStrike">
                <a:solidFill>
                  <a:srgbClr val="000000"/>
                </a:solidFill>
                <a:latin typeface="Times New Roman"/>
              </a:rPr>
              <a:t>	</a:t>
            </a:r>
            <a:r>
              <a:rPr b="0" lang="en-US" sz="3200" spc="-1" strike="noStrike">
                <a:solidFill>
                  <a:srgbClr val="000000"/>
                </a:solidFill>
                <a:latin typeface="Times New Roman"/>
              </a:rPr>
              <a:t>Ajay Rajkumar (Lucent)</a:t>
            </a: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400" spc="-1" strike="noStrike">
                <a:solidFill>
                  <a:srgbClr val="000000"/>
                </a:solidFill>
                <a:latin typeface="Times New Roman"/>
              </a:rPr>
              <a:t>Officer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EAB6527-CE68-43E3-8385-84D8707CC024}" type="slidenum">
              <a:t>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4 Operation of the Working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peration of the Working Group has to be balanced between democratic procedures that reflect the desires of the Working Group members and the Working Group Chair’s responsibility to produce a standard, recommended practice, or guideline, in a reasonable amount of time. </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s Rules of Order shall be used in combination with these operating rules to achieve this balan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400" spc="-1" strike="noStrike">
                <a:solidFill>
                  <a:srgbClr val="000000"/>
                </a:solidFill>
                <a:latin typeface="Times New Roman"/>
              </a:rPr>
              <a:t>IEEE 802 Rul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86D32EF-D930-48CA-9E6F-2A0D10398D0A}" type="slidenum">
              <a:t>3</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e debate each member has the right to speak twice on the same question on the same day (except on an appeal), but cannot make a second speech on the same question as long as any member who has not spoken on that question desires the flo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400" spc="-1" strike="noStrike">
                <a:solidFill>
                  <a:srgbClr val="000000"/>
                </a:solidFill>
                <a:latin typeface="Times New Roman"/>
              </a:rPr>
              <a:t>Robert's Rul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2434DA6-85FE-4830-BE43-6824B7D461F0}" type="slidenum">
              <a:t>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w slides #1 and #2 of this presentation (</a:t>
            </a:r>
            <a:r>
              <a:rPr b="1" i="1" lang="en-US" sz="1600" spc="-1" strike="noStrike">
                <a:solidFill>
                  <a:srgbClr val="000000"/>
                </a:solidFill>
                <a:latin typeface="Times New Roman"/>
              </a:rPr>
              <a:t>the following two slides</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ise the WG membership th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s Patent Policy is consistent with the ANSI patent policy and is described in Clause 6 of the </a:t>
            </a:r>
            <a:r>
              <a:rPr b="0" i="1" lang="en-US" sz="1600" spc="-1" strike="noStrike">
                <a:solidFill>
                  <a:srgbClr val="000000"/>
                </a:solidFill>
                <a:latin typeface="Times New Roman"/>
              </a:rPr>
              <a:t>IEEE SA Standards Board Bylaw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disclosure of patents which may be essential for the use of standards under development is encouraged;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6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 the WG Secretary to record in the minutes of the relevant WG meeting:</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the foregoing advice was provided and the two slides were shown;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an opportunity was provided for WG members to identify or disclose patents that the WG member believes may be essential for the use of that standar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responses that were given, specifically the patents and patent applications that were identified (if any) and by whom.</a:t>
            </a:r>
            <a:endParaRPr b="0" lang="en-US" sz="16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PlaceHolder 2"/>
          <p:cNvSpPr>
            <a:spLocks noGrp="1"/>
          </p:cNvSpPr>
          <p:nvPr>
            <p:ph type="title"/>
          </p:nvPr>
        </p:nvSpPr>
        <p:spPr>
          <a:xfrm>
            <a:off x="380880" y="914400"/>
            <a:ext cx="8229600" cy="45720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700" spc="-1" strike="noStrike">
                <a:solidFill>
                  <a:srgbClr val="000000"/>
                </a:solidFill>
                <a:latin typeface="Times New Roman"/>
              </a:rPr>
              <a:t>"At Each Meeting, the Working Group Chair shall:"</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AC1E7AF-A2D3-4B28-A2D7-9D0482A7C14C}" type="slidenum">
              <a:t>5</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600" spc="-1" strike="noStrike">
                <a:solidFill>
                  <a:srgbClr val="000000"/>
                </a:solidFill>
                <a:latin typeface="Times New Roman"/>
              </a:rPr>
              <a:t>6. Patents</a:t>
            </a:r>
            <a:endParaRPr b="0" lang="en-US" sz="16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assurance shall apply, at a minimum, from the date of the standard's approval to the date of the standard's withdrawal and is irrevocable during that perio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PlaceHolder 2"/>
          <p:cNvSpPr>
            <a:spLocks noGrp="1"/>
          </p:cNvSpPr>
          <p:nvPr>
            <p:ph type="title"/>
          </p:nvPr>
        </p:nvSpPr>
        <p:spPr>
          <a:xfrm>
            <a:off x="380880" y="914400"/>
            <a:ext cx="8229600" cy="45720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100" spc="-1" strike="noStrike" u="sng">
                <a:solidFill>
                  <a:srgbClr val="000000"/>
                </a:solidFill>
                <a:uFillTx/>
                <a:latin typeface="Times New Roman"/>
              </a:rPr>
              <a:t>IEEE-SA Standards Board Bylaws</a:t>
            </a:r>
            <a:r>
              <a:rPr b="0" lang="en-US" sz="3100" spc="-1" strike="noStrike" u="sng">
                <a:solidFill>
                  <a:srgbClr val="000000"/>
                </a:solidFill>
                <a:uFillTx/>
                <a:latin typeface="Times New Roman"/>
              </a:rPr>
              <a:t> on Patents in Standards</a:t>
            </a: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F61D5B2-F217-47C0-A681-189F472F9C6B}" type="slidenum">
              <a:t>6</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0720"/>
            <a:ext cx="7772400" cy="4038840"/>
          </a:xfrm>
          <a:prstGeom prst="rect">
            <a:avLst/>
          </a:prstGeom>
          <a:noFill/>
          <a:ln w="0">
            <a:noFill/>
          </a:ln>
        </p:spPr>
        <p:txBody>
          <a:bodyPr lIns="92160" rIns="92160" tIns="46080" bIns="46080" anchor="t">
            <a:normAutofit/>
          </a:bodyPr>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on’t discuss licensing terms or conditions</a:t>
            </a:r>
            <a:endParaRPr b="0"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on’t discuss product pricing, territorial restrictions or market share</a:t>
            </a:r>
            <a:br>
              <a:rPr sz="2100"/>
            </a:b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on’t discuss ongoing litigation or threatened litigation</a:t>
            </a:r>
            <a:br>
              <a:rPr sz="2100"/>
            </a:b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on’t be silent if inappropriate topics are discussed… do formally object.</a:t>
            </a:r>
            <a:endParaRPr b="0"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f you have questions, contact the IEEE Patent Committee Administrator at patcom@ieee.org</a:t>
            </a:r>
            <a:endParaRPr b="0" lang="en-US" sz="2100" spc="-1" strike="noStrike">
              <a:solidFill>
                <a:srgbClr val="000000"/>
              </a:solidFill>
              <a:latin typeface="Times New Roman"/>
            </a:endParaRPr>
          </a:p>
        </p:txBody>
      </p:sp>
      <p:sp>
        <p:nvSpPr>
          <p:cNvPr id="59" name="PlaceHolder 2"/>
          <p:cNvSpPr>
            <a:spLocks noGrp="1"/>
          </p:cNvSpPr>
          <p:nvPr>
            <p:ph type="title"/>
          </p:nvPr>
        </p:nvSpPr>
        <p:spPr>
          <a:xfrm>
            <a:off x="380880" y="761760"/>
            <a:ext cx="8229600" cy="99036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u="sng">
                <a:solidFill>
                  <a:srgbClr val="000000"/>
                </a:solidFill>
                <a:uFillTx/>
                <a:latin typeface="Times New Roman"/>
              </a:rPr>
              <a:t>Inappropriate Topics for IEEE WG Meetings</a:t>
            </a:r>
            <a:endParaRPr b="0" lang="en-US" sz="3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A88AF44-B350-4112-9662-70D769BAA630}" type="slidenum">
              <a:t>7</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ims for the Sess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wards a set of requirements/go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standards developmen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 from the IET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agreed action on triggers in Janua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 for WG Cha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 for WG Vice Chai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45CCEE9-7F88-4D3B-BC08-3DF56895AAB2}" type="slidenum">
              <a:t>8</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day afternoon, the EC will approve (or not) the elected Chair and Vice chair of 802.2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ed Chair and Vice chair should attend to receive their grill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6C0BBF1-BB26-4385-89D5-62D783781461}" type="slidenum">
              <a:t>9</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22:03:28Z</dcterms:created>
  <dc:creator>David Johnston</dc:creator>
  <dc:description/>
  <cp:keywords>802 handoff PAR architecture ECSG</cp:keywords>
  <dc:language>en-US</dc:language>
  <cp:lastModifiedBy>djohnst1</cp:lastModifiedBy>
  <cp:lastPrinted>1998-02-10T13:28:06Z</cp:lastPrinted>
  <dcterms:modified xsi:type="dcterms:W3CDTF">2004-03-11T06:06:16Z</dcterms:modified>
  <cp:revision>119</cp:revision>
  <dc:subject>802 Handoff</dc:subject>
  <dc:title>Architectural Elements of an 802 Handoff Solution</dc:title>
</cp:coreProperties>
</file>