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BCB-6D5E-4A4D-A0E3-DCC0F118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DEB-A842-47A6-ACF2-D7B1742E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AEC6-CD4B-412D-9112-661DE0C5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34A-91C0-40FB-B558-F1E55261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A2F-45A7-4AD7-A28A-1ED83433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AE9-3584-4E05-897E-987A2435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B830-EFBA-4216-86A9-006F1CD4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88D-F3E2-4217-99F7-18E2E3F1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A8B-064D-4593-9C05-6334E8EA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940-727D-474E-A595-93F11188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8C7-B2B9-460C-98C2-2ACCCF99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87E-5904-4B50-B04A-C3C5D2E3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4BC2-CC62-4F92-9A8F-6679E7339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10.0.1.21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EEE 802.2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Server Detai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28195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off Server: 10.0.1.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name : hand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0.0.1.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0:30:56Z</dcterms:created>
  <dc:creator>David Johnston</dc:creator>
  <dc:description/>
  <dc:language>en-US</dc:language>
  <cp:lastModifiedBy>djohnst1</cp:lastModifiedBy>
  <dcterms:modified xsi:type="dcterms:W3CDTF">2004-03-11T06:06:31Z</dcterms:modified>
  <cp:revision>8</cp:revision>
  <dc:subject/>
  <dc:title>IEEE 802 Handoff ECSG Meeting Server Details</dc:title>
</cp:coreProperties>
</file>