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2F8-E6FD-4154-8089-1A8C60D0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4DB-5594-4830-9F90-0F65DBB6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BAC-2474-481C-B459-8D9B2AA2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034-3EEA-4CD7-B757-88A986AF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44D-C38D-4F79-9296-351C6F80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E7C-1F3C-4810-B8C7-D7BDE137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3C2-61C2-4053-9AFF-611EDE2D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EC5-2D3A-42BA-835D-3D7B7D4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021-ECBA-4DEB-91C6-B6628990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715-A3D7-4F85-A872-6B6DEBC1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F58-677B-486A-8319-BAAB914D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A6F-5554-43AE-80E3-296DB80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166680"/>
            <a:ext cx="9586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.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0800" y="6474960"/>
            <a:ext cx="13096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Johnston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642B8A-F7EE-419E-BBDD-9555DEFEA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56480" y="396000"/>
            <a:ext cx="260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802.21_IETF_DNA_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010280" y="685800"/>
            <a:ext cx="1828800" cy="17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johnston@ieee.org" TargetMode="External"/><Relationship Id="rId2" Type="http://schemas.openxmlformats.org/officeDocument/2006/relationships/hyperlink" Target="mailto:dj.johnston@intel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2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2 Services for Handover Optim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Johns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avid.johnston@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j.johnston@inte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398-6493-4F2B-8D0E-C2DF0B1F73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09840" y="1992240"/>
          <a:ext cx="612432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992240"/>
                    <a:ext cx="61243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97B-4AA5-408A-98DF-82C558A94F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PE* Model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Controlled/Uncontrolled Por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09840" y="1992240"/>
          <a:ext cx="612432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992240"/>
                    <a:ext cx="61243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BE2-F01F-4F7F-86A5-0F0ED8D5327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per Layer Event Bi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09840" y="1992240"/>
          <a:ext cx="612432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992240"/>
                    <a:ext cx="61243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D2B-6925-437A-A25D-5DC1B4310F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over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Information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I likely to authenticate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net crossing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L3 service (IP, AT, ATM, etc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ghborhoo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637-EEBD-4DD4-91E6-CC4A324517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ndover Information Equiva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tility of any information increases with its similarity in terms of structure and semantics to information in other network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align with structured information from non 802 groups to allow effective interworking wit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, 3GPP, 3GP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 levels of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equivalence –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 equivalence – requires har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ing equivalence – next to 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5B7-5D05-4845-A834-2C2D7307FE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haul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current link is better at delivering data to me than my pre-association/pre-initial-ranging link to the AP/BS over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for the information via the local AP/BS who fetches it from the candidate AP/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evel of protocol required to do this and L3 support to render media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98F-63B2-4BA4-BC7B-761DCB2772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981080"/>
          <a:ext cx="6081840" cy="40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608184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A77-4FAF-40B2-A2F6-B99DE2EC93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e L1,2 – L3 Trig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rimary driver for th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intain L3 sessions during handoff L2 support is required eg. TRIGTRAN, SEAMOBY, MOBO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s are the underlying mechanism for enabling seamless handoffs whe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s can be generic (link_up, link_down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the responsibility of an implementation to determine why and when it would fire a trigg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proprietary differentiation in lower layer mechanisms while maintaining a standard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extensible. Vendor proprietary trig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alk about this further in mobo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49D-24EC-4318-BE4A-F912D811BD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his stuff to match well to the needs of mobopts and DNA, otherwise we are wasting our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al at the 802.21 to iterate trigger and DNA proposals with the IETF to achieve a stable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E53-E5D4-4C2F-B747-D9F38415DF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eee802.org/hand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for the mailing list are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open to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BC7-E32D-4C9A-96C3-E590346884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(of these slid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802.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work relevant to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11B-15EE-4684-AEBD-CCCE6C270A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d as a full IEEE WG Feb 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been meeting as an ECSG for 1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harter to study handover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x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02.x (where handover not suppor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x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02.y (where x may not equal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x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802 (e.g. cell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has approved PAR for ‘Media Independent Handover Service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567-73B6-41D5-B545-7D2B818586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Interfaced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tops, PDAs, 11/16/PP/PP2 handse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ross heterogeneous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equate L2 support for L3 DNA and Mobopts activ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BDA-74C5-4E36-84C8-08359D040E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s We Are Addr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’t know what you attached to when you associated/registered/plugged into a L2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per layers don’t know what is going on at L2 and so can’t make good handover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media independent way of asking for handover related information over a link. A conduit i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669-90B9-499F-95B0-740BCEB239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evant Elements in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95280" y="1981080"/>
          <a:ext cx="6081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081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D5E-520B-4353-B9EA-E214C62DA6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place useful L2 network detec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over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ver information definition and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2 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coup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6C2-1FFA-4500-81D3-26EDE08CCA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Related 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PE (Controlled/Uncontrolled Port Ent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s on 802.1X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media independent access to ‘informatio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 is the primary purpose of tha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ity determined by which side of the fork the information reside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 specific optimizations expected (through 802.11 FR and 802.16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81A-A38B-4CA3-AE3B-C0C8A03100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ink Inte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dia independent protocol operating over 802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handover or network detection and selectio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act as conduit for event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act as conduit for backhaul 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PE model being promo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ed and Uncontrolled Port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B4D-1625-4209-8C17-FBC6A021D7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22:03:28Z</dcterms:created>
  <dc:creator>David Johnston</dc:creator>
  <dc:description/>
  <cp:keywords>802 handoff handover 802.21</cp:keywords>
  <dc:language>en-US</dc:language>
  <cp:lastModifiedBy>djohnst1</cp:lastModifiedBy>
  <cp:lastPrinted>1998-02-10T13:28:06Z</cp:lastPrinted>
  <dcterms:modified xsi:type="dcterms:W3CDTF">2004-03-02T04:11:39Z</dcterms:modified>
  <cp:revision>111</cp:revision>
  <dc:subject>802.21</dc:subject>
  <dc:title>802.21 IETF DNA Presentation</dc:title>
</cp:coreProperties>
</file>