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2D90-AA89-462D-ADF1-B3F2F9D64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7EC3-5CA2-4C0F-81AA-1AA374A0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C479-CD06-46C0-8AEA-4C35BC787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E55E-9BE3-4F18-BC73-7F758DF8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E861-4C87-41C7-B59D-AF21ACB1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6196-58B4-43A3-9323-2EED09B6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39B6-82F8-4B91-AC6F-E6141941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6211-81F5-40AA-95CC-3B9B3D05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C629-51DC-4912-AA71-0082DE2C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B578-9A94-424C-AEEA-EF658C93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F17B-5A7C-40D9-B4CF-729E4719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14B9-245E-4619-ADDE-FC709B98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166680"/>
            <a:ext cx="9586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rch.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300800" y="6474960"/>
            <a:ext cx="13096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Johnston, In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AE8D8A2-FEAE-4005-8986-377A728BA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43880" y="396000"/>
            <a:ext cx="2621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802.21_future_ses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010280" y="685800"/>
            <a:ext cx="1828800" cy="170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S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im: May 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Hyatt Regency Orange Coun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heim CA, meetin with 802.11/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enary: July 1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Portland Hil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land,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im: Sept 1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Estrel Ho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rlin, Germany. Meeting with 802.11/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092C-8536-4598-942F-21EB7B9BAAF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8T22:03:28Z</dcterms:created>
  <dc:creator>David Johnston</dc:creator>
  <dc:description/>
  <cp:keywords>802 handoff PAR architecture ECSG</cp:keywords>
  <dc:language>en-US</dc:language>
  <cp:lastModifiedBy>djohnst1</cp:lastModifiedBy>
  <cp:lastPrinted>1998-02-10T13:28:06Z</cp:lastPrinted>
  <dcterms:modified xsi:type="dcterms:W3CDTF">2004-03-11T05:58:32Z</dcterms:modified>
  <cp:revision>119</cp:revision>
  <dc:subject>802 Handoff</dc:subject>
  <dc:title>Architectural Elements of an 802 Handoff Solution</dc:title>
</cp:coreProperties>
</file>