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97E1-0892-4680-9E4D-68A908FC70E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位から閾値を指定すると、抽象化の意味が薄れる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GOOD: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高品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GOOD: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ってよ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FAIR: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まだ使ってはだめ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まだ使ってて良い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BAD: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ってはだ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ERY BAD: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用不可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mip6details.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D cache to reacable, NAR sends NS to M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位から閾値を指定すると、抽象化の意味が薄れる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9E6-B069-41DD-A610-22026CF8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4119840"/>
            <a:ext cx="91440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164-76EF-4D01-B2B5-9018473D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4622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125360"/>
            <a:ext cx="44622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119840"/>
            <a:ext cx="44622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4119840"/>
            <a:ext cx="44622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A85-93E9-4089-91E7-A13F7318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294408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125360"/>
            <a:ext cx="294408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125360"/>
            <a:ext cx="294408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4119840"/>
            <a:ext cx="294408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4119840"/>
            <a:ext cx="294408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4119840"/>
            <a:ext cx="294408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7E9-D299-40C1-A735-97DC9E69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C447-4901-4C22-AB65-B22897F1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4AC2-0D9F-487F-A1CB-89D7640D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52B7-CC27-451E-97F8-400217E2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4622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125360"/>
            <a:ext cx="44622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B341-A540-4773-8133-BD898744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AC3B-BFA2-4C92-8E3F-CCF4EFE6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1800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52BB-53F0-4C85-A660-DFC55BD0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4622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125360"/>
            <a:ext cx="44622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4119840"/>
            <a:ext cx="44622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5D67-8030-414C-8A43-9C4744BB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E4D-7185-47B3-A56A-79A2D444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4622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125360"/>
            <a:ext cx="44622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4119840"/>
            <a:ext cx="44622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BDF5-D995-4FC6-9179-FE327546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4622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125360"/>
            <a:ext cx="44622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4119840"/>
            <a:ext cx="91440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9944-4521-46E4-B4F7-528E3961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4119840"/>
            <a:ext cx="91440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F192-6931-40ED-81C3-87783321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4622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125360"/>
            <a:ext cx="44622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4119840"/>
            <a:ext cx="44622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4119840"/>
            <a:ext cx="44622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DFB3-FD57-4E08-9586-9B3F1D26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294408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1125360"/>
            <a:ext cx="294408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1125360"/>
            <a:ext cx="294408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4119840"/>
            <a:ext cx="294408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4119840"/>
            <a:ext cx="294408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4119840"/>
            <a:ext cx="294408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859D-81D6-4D75-A570-DF3A1C4C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A18C-0FF2-4308-91D3-B79C6077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4622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125360"/>
            <a:ext cx="44622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E48-D5BD-4964-AF1B-90595472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3EE-BBCF-4AF8-8993-9772A168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1800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76FF-9D8C-4257-ACC5-435B88E3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4622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125360"/>
            <a:ext cx="44622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4119840"/>
            <a:ext cx="44622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3C2-6379-4916-92BF-A1643F23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4622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125360"/>
            <a:ext cx="44622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4119840"/>
            <a:ext cx="44622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EA36-85AA-499A-9068-5BA49FC4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4622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125360"/>
            <a:ext cx="44622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4119840"/>
            <a:ext cx="91440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909-DE8D-43B1-A0DF-4E88EF15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D231-7079-4FAC-996C-713863BBE3F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B05A-B604-4B28-A438-404E7DB9DB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ied L2 Abstrac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L3-Driven Fast Handover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edia Independent L2 Triggers from the Perspective of IP Layer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57300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Koki Mit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Rie Shib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Kazutaka Go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Fumio Tera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Keio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{koki,shibrie,gogo,tera}@tera.ics.keio.ac.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2 Primitives for AP Dis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a50021"/>
                </a:solidFill>
                <a:latin typeface="Times New Roman"/>
              </a:rPr>
              <a:t>L2-Peer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Network Interfa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Peer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ne or more [Peer*, Condition*]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66"/>
                </a:solidFill>
                <a:latin typeface="Times New Roman"/>
              </a:rPr>
              <a:t>L2-PeerFound / L2-Peer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Network Interfa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Peer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ne or more [Peer*, Condition*]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292929"/>
                </a:solidFill>
                <a:latin typeface="Times New Roman"/>
              </a:rPr>
              <a:t>* Each </a:t>
            </a:r>
            <a:r>
              <a:rPr b="1" i="1" lang="ja-JP" sz="2400" spc="-1" strike="noStrike">
                <a:solidFill>
                  <a:srgbClr val="292929"/>
                </a:solidFill>
                <a:latin typeface="Times New Roman"/>
              </a:rPr>
              <a:t>Peer</a:t>
            </a:r>
            <a:r>
              <a:rPr b="0" lang="ja-JP" sz="2400" spc="-1" strike="noStrike">
                <a:solidFill>
                  <a:srgbClr val="292929"/>
                </a:solidFill>
                <a:latin typeface="Times New Roman"/>
              </a:rPr>
              <a:t> and </a:t>
            </a:r>
            <a:r>
              <a:rPr b="1" i="1" lang="ja-JP" sz="2400" spc="-1" strike="noStrike">
                <a:solidFill>
                  <a:srgbClr val="292929"/>
                </a:solidFill>
                <a:latin typeface="Times New Roman"/>
              </a:rPr>
              <a:t>Condition</a:t>
            </a:r>
            <a:r>
              <a:rPr b="0" lang="ja-JP" sz="2400" spc="-1" strike="noStrike">
                <a:solidFill>
                  <a:srgbClr val="292929"/>
                </a:solidFill>
                <a:latin typeface="Times New Roman"/>
              </a:rPr>
              <a:t> parameter consists of one or more sub-parameters, as described i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372360" y="1125360"/>
            <a:ext cx="2447640" cy="1872000"/>
            <a:chOff x="6372360" y="1125360"/>
            <a:chExt cx="2447640" cy="1872000"/>
          </a:xfrm>
        </p:grpSpPr>
        <p:sp>
          <p:nvSpPr>
            <p:cNvPr id="325" name=""/>
            <p:cNvSpPr/>
            <p:nvPr/>
          </p:nvSpPr>
          <p:spPr>
            <a:xfrm>
              <a:off x="6372360" y="1125360"/>
              <a:ext cx="2447640" cy="1872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59120" y="1146240"/>
              <a:ext cx="2217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L2-PeerL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i/f id: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ath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Peer1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Condition1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Peer2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Condition2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Peer3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Condition3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Peer4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Condition4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372360" y="3357720"/>
            <a:ext cx="2447640" cy="1150920"/>
            <a:chOff x="6372360" y="3357720"/>
            <a:chExt cx="2447640" cy="1150920"/>
          </a:xfrm>
        </p:grpSpPr>
        <p:sp>
          <p:nvSpPr>
            <p:cNvPr id="328" name=""/>
            <p:cNvSpPr/>
            <p:nvPr/>
          </p:nvSpPr>
          <p:spPr>
            <a:xfrm>
              <a:off x="6372360" y="3357720"/>
              <a:ext cx="2447640" cy="1150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43280" y="3429000"/>
              <a:ext cx="221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L2-PeerF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i/f id: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ath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Peer5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Condition5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372360" y="4653000"/>
            <a:ext cx="2447640" cy="1150920"/>
            <a:chOff x="6372360" y="4653000"/>
            <a:chExt cx="2447640" cy="1150920"/>
          </a:xfrm>
        </p:grpSpPr>
        <p:sp>
          <p:nvSpPr>
            <p:cNvPr id="331" name=""/>
            <p:cNvSpPr/>
            <p:nvPr/>
          </p:nvSpPr>
          <p:spPr>
            <a:xfrm>
              <a:off x="6372360" y="4653000"/>
              <a:ext cx="2447640" cy="1150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43280" y="4724280"/>
              <a:ext cx="221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L2-PeerL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i/f id: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ath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Peer5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Condition5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2 Primitives for L3 Hand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2-Lin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Interfa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2-Link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Interfa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968720" y="1557360"/>
            <a:ext cx="3635280" cy="1655640"/>
            <a:chOff x="4968720" y="1557360"/>
            <a:chExt cx="3635280" cy="1655640"/>
          </a:xfrm>
        </p:grpSpPr>
        <p:sp>
          <p:nvSpPr>
            <p:cNvPr id="336" name=""/>
            <p:cNvSpPr/>
            <p:nvPr/>
          </p:nvSpPr>
          <p:spPr>
            <a:xfrm>
              <a:off x="4968720" y="1557360"/>
              <a:ext cx="3635280" cy="1655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41800" y="1628640"/>
              <a:ext cx="3384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L2-Link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i/f id: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ath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peer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MACaddr:  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01:23:45:67:89: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968720" y="4005360"/>
            <a:ext cx="3635280" cy="1655640"/>
            <a:chOff x="4968720" y="4005360"/>
            <a:chExt cx="3635280" cy="1655640"/>
          </a:xfrm>
        </p:grpSpPr>
        <p:sp>
          <p:nvSpPr>
            <p:cNvPr id="339" name=""/>
            <p:cNvSpPr/>
            <p:nvPr/>
          </p:nvSpPr>
          <p:spPr>
            <a:xfrm>
              <a:off x="4968720" y="4005360"/>
              <a:ext cx="3635280" cy="1655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41800" y="4076640"/>
              <a:ext cx="3384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L2-LinkD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i/f id: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ath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peer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MACaddr:  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01:23:45:67:89: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Times New Roman"/>
              </a:rPr>
              <a:t>L2 Primitives for Preparing L3 Hand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2-LinkToBe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Interfa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Qua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219640" y="1197000"/>
            <a:ext cx="3600360" cy="2736720"/>
            <a:chOff x="5219640" y="1197000"/>
            <a:chExt cx="3600360" cy="2736720"/>
          </a:xfrm>
        </p:grpSpPr>
        <p:grpSp>
          <p:nvGrpSpPr>
            <p:cNvPr id="344" name=""/>
            <p:cNvGrpSpPr/>
            <p:nvPr/>
          </p:nvGrpSpPr>
          <p:grpSpPr>
            <a:xfrm>
              <a:off x="5219640" y="1197000"/>
              <a:ext cx="3600360" cy="2736720"/>
              <a:chOff x="5219640" y="1197000"/>
              <a:chExt cx="3600360" cy="2736720"/>
            </a:xfrm>
          </p:grpSpPr>
          <p:sp>
            <p:nvSpPr>
              <p:cNvPr id="345" name=""/>
              <p:cNvSpPr/>
              <p:nvPr/>
            </p:nvSpPr>
            <p:spPr>
              <a:xfrm>
                <a:off x="5219640" y="1197000"/>
                <a:ext cx="3600360" cy="27367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d2d2d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90920" y="1269720"/>
                <a:ext cx="338400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L2-LinkToBeDow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i/f id:</a:t>
                </a:r>
                <a:r>
                  <a:rPr b="1" lang="ja-JP" sz="1800" spc="-1" strike="noStrike">
                    <a:solidFill>
                      <a:srgbClr val="a50021"/>
                    </a:solidFill>
                    <a:latin typeface="Times New Roman"/>
                  </a:rPr>
                  <a:t> ath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a50021"/>
                    </a:solidFill>
                    <a:latin typeface="Times New Roman"/>
                  </a:rPr>
                  <a:t> 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peer {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MACaddr:  </a:t>
                </a:r>
                <a:r>
                  <a:rPr b="1" lang="ja-JP" sz="1800" spc="-1" strike="noStrike">
                    <a:solidFill>
                      <a:srgbClr val="a50021"/>
                    </a:solidFill>
                    <a:latin typeface="Times New Roman"/>
                  </a:rPr>
                  <a:t>01:23:45:67:89:a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a50021"/>
                    </a:solidFill>
                    <a:latin typeface="Times New Roman"/>
                  </a:rPr>
                  <a:t> 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condition {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bw: </a:t>
                </a:r>
                <a:r>
                  <a:rPr b="1" lang="ja-JP" sz="1800" spc="-1" strike="noStrike">
                    <a:solidFill>
                      <a:srgbClr val="a50021"/>
                    </a:solidFill>
                    <a:latin typeface="Times New Roman"/>
                  </a:rPr>
                  <a:t>2Mbp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quality: </a:t>
                </a:r>
                <a:r>
                  <a:rPr b="1" lang="ja-JP" sz="1800" spc="-1" strike="noStrike">
                    <a:solidFill>
                      <a:srgbClr val="a50021"/>
                    </a:solidFill>
                    <a:latin typeface="Times New Roman"/>
                  </a:rPr>
                  <a:t>B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a50021"/>
                    </a:solidFill>
                    <a:latin typeface="Times New Roman"/>
                  </a:rPr>
                  <a:t>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7164360" y="3284640"/>
              <a:ext cx="216000" cy="2156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44360" y="4581360"/>
            <a:ext cx="5364360" cy="2205360"/>
            <a:chOff x="144360" y="4581360"/>
            <a:chExt cx="5364360" cy="2205360"/>
          </a:xfrm>
        </p:grpSpPr>
        <p:sp>
          <p:nvSpPr>
            <p:cNvPr id="349" name=""/>
            <p:cNvSpPr/>
            <p:nvPr/>
          </p:nvSpPr>
          <p:spPr>
            <a:xfrm>
              <a:off x="144360" y="4581360"/>
              <a:ext cx="5364360" cy="22053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5560" y="6381720"/>
              <a:ext cx="216000" cy="216000"/>
            </a:xfrm>
            <a:prstGeom prst="rect">
              <a:avLst/>
            </a:prstGeom>
            <a:solidFill>
              <a:srgbClr val="ff505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5560" y="6021360"/>
              <a:ext cx="216000" cy="2160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5560" y="5661000"/>
              <a:ext cx="216000" cy="216000"/>
            </a:xfrm>
            <a:prstGeom prst="rect">
              <a:avLst/>
            </a:prstGeom>
            <a:solidFill>
              <a:srgbClr val="ffe83b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55560" y="5300640"/>
              <a:ext cx="216000" cy="216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55560" y="4940280"/>
              <a:ext cx="216000" cy="21600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23040" y="4870440"/>
              <a:ext cx="29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ERY GOOD : high qua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36720" y="5229360"/>
              <a:ext cx="44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OOD             : available (high watermark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38880" y="5583240"/>
              <a:ext cx="33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IR               : adequate qua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37080" y="5950080"/>
              <a:ext cx="457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D                 : low quality (low watermark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43200" y="6310440"/>
              <a:ext cx="286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ERY BAD    : unavail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9280" y="458136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nk Quality 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4000" y="4941720"/>
              <a:ext cx="0" cy="1079640"/>
            </a:xfrm>
            <a:prstGeom prst="line">
              <a:avLst/>
            </a:prstGeom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66560" y="5518080"/>
              <a:ext cx="0" cy="11527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466560" y="4941360"/>
              <a:ext cx="0" cy="576360"/>
            </a:xfrm>
            <a:prstGeom prst="line">
              <a:avLst/>
            </a:prstGeom>
            <a:ln w="381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4000" y="6021360"/>
              <a:ext cx="0" cy="64944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L2 Primitives for L3-Driven Hand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L2-LinkConn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Interfa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L2-LinkDisconn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Interfa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076720" y="1701720"/>
            <a:ext cx="3635280" cy="1656000"/>
            <a:chOff x="5076720" y="1701720"/>
            <a:chExt cx="3635280" cy="1656000"/>
          </a:xfrm>
        </p:grpSpPr>
        <p:sp>
          <p:nvSpPr>
            <p:cNvPr id="368" name=""/>
            <p:cNvSpPr/>
            <p:nvPr/>
          </p:nvSpPr>
          <p:spPr>
            <a:xfrm>
              <a:off x="5076720" y="1701720"/>
              <a:ext cx="3635280" cy="1656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49800" y="1773360"/>
              <a:ext cx="3384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L2-LinkConn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i/f id: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ath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peer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MACaddr:  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01:23:45:67:89: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076720" y="3933720"/>
            <a:ext cx="3635280" cy="1656000"/>
            <a:chOff x="5076720" y="3933720"/>
            <a:chExt cx="3635280" cy="1656000"/>
          </a:xfrm>
        </p:grpSpPr>
        <p:sp>
          <p:nvSpPr>
            <p:cNvPr id="371" name=""/>
            <p:cNvSpPr/>
            <p:nvPr/>
          </p:nvSpPr>
          <p:spPr>
            <a:xfrm>
              <a:off x="5076720" y="3933720"/>
              <a:ext cx="3635280" cy="1656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49800" y="4005360"/>
              <a:ext cx="3384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L2-LinkDisconn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i/f id: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ath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peer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MACaddr:  </a:t>
              </a: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01:23:45:67:89: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 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L2 Abstractions for L3-driven Fast Hand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Goals of L3-driven fast hand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rchitecture for control information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L2 Primitives for L3-driven fast hand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Mapping of Primitives and Wireless LAN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3-Driven Fast Handover on FM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L3-Driven Fast Handover on Predictive-LIN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139240" y="4390920"/>
            <a:ext cx="536400" cy="406440"/>
          </a:xfrm>
          <a:prstGeom prst="leftArrow">
            <a:avLst>
              <a:gd name="adj1" fmla="val 50000"/>
              <a:gd name="adj2" fmla="val 32994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FMIPv6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3 Fast Handover Protocol based on Mobile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 forwards data packets to the new location during L3 hand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27240" y="1557360"/>
            <a:ext cx="8637840" cy="5327280"/>
            <a:chOff x="327240" y="1557360"/>
            <a:chExt cx="8637840" cy="5327280"/>
          </a:xfrm>
        </p:grpSpPr>
        <p:sp>
          <p:nvSpPr>
            <p:cNvPr id="379" name=""/>
            <p:cNvSpPr/>
            <p:nvPr/>
          </p:nvSpPr>
          <p:spPr>
            <a:xfrm flipV="1">
              <a:off x="3417840" y="3835440"/>
              <a:ext cx="0" cy="890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549600" y="2970360"/>
              <a:ext cx="0" cy="666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541760" y="3117960"/>
              <a:ext cx="0" cy="3585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714920" y="3835440"/>
              <a:ext cx="0" cy="890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Cloud"/>
            <p:cNvSpPr/>
            <p:nvPr/>
          </p:nvSpPr>
          <p:spPr>
            <a:xfrm>
              <a:off x="2841480" y="3448080"/>
              <a:ext cx="2376720" cy="7650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76560" y="3637080"/>
              <a:ext cx="214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32360" y="1557360"/>
              <a:ext cx="2898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Home Ag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(</a:t>
              </a: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  <a:ea typeface="HGP創英角ﾎﾟｯﾌﾟ体"/>
                </a:rPr>
                <a:t>Location Management Serv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79520" y="2281320"/>
              <a:ext cx="198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Correspondent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23440" y="625644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Mobile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417840" y="4965840"/>
              <a:ext cx="0" cy="961920"/>
            </a:xfrm>
            <a:prstGeom prst="line">
              <a:avLst/>
            </a:prstGeom>
            <a:ln cap="rnd" w="3816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4714920" y="4992480"/>
              <a:ext cx="0" cy="934920"/>
            </a:xfrm>
            <a:prstGeom prst="line">
              <a:avLst/>
            </a:prstGeom>
            <a:ln cap="rnd" w="3816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05280" y="6216480"/>
              <a:ext cx="13665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11680" y="4083120"/>
              <a:ext cx="1413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Previo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Access Rou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2" name=""/>
            <p:cNvGraphicFramePr/>
            <p:nvPr/>
          </p:nvGraphicFramePr>
          <p:xfrm>
            <a:off x="4148280" y="4654440"/>
            <a:ext cx="1368360" cy="33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48280" y="4654440"/>
                      <a:ext cx="136836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4" name=""/>
            <p:cNvGraphicFramePr/>
            <p:nvPr/>
          </p:nvGraphicFramePr>
          <p:xfrm>
            <a:off x="2637000" y="4654440"/>
            <a:ext cx="1368360" cy="339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37000" y="4654440"/>
                      <a:ext cx="136836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6" name=""/>
            <p:cNvGraphicFramePr/>
            <p:nvPr/>
          </p:nvGraphicFramePr>
          <p:xfrm>
            <a:off x="4511880" y="5940360"/>
            <a:ext cx="438120" cy="622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11880" y="5940360"/>
                      <a:ext cx="43812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8" name=""/>
            <p:cNvGraphicFramePr/>
            <p:nvPr/>
          </p:nvGraphicFramePr>
          <p:xfrm>
            <a:off x="3351240" y="2583000"/>
            <a:ext cx="438120" cy="622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51240" y="2583000"/>
                      <a:ext cx="43812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0" name=""/>
            <p:cNvGraphicFramePr/>
            <p:nvPr/>
          </p:nvGraphicFramePr>
          <p:xfrm>
            <a:off x="4292640" y="2124000"/>
            <a:ext cx="530280" cy="1009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92640" y="2124000"/>
                      <a:ext cx="530280" cy="10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2" name=""/>
            <p:cNvSpPr/>
            <p:nvPr/>
          </p:nvSpPr>
          <p:spPr>
            <a:xfrm>
              <a:off x="3670200" y="3262320"/>
              <a:ext cx="827280" cy="2814480"/>
            </a:xfrm>
            <a:custGeom>
              <a:avLst/>
              <a:gdLst/>
              <a:ahLst/>
              <a:rect l="l" t="t" r="r" b="b"/>
              <a:pathLst>
                <a:path w="521" h="1773">
                  <a:moveTo>
                    <a:pt x="8" y="0"/>
                  </a:moveTo>
                  <a:cubicBezTo>
                    <a:pt x="9" y="126"/>
                    <a:pt x="0" y="604"/>
                    <a:pt x="16" y="758"/>
                  </a:cubicBezTo>
                  <a:cubicBezTo>
                    <a:pt x="32" y="912"/>
                    <a:pt x="44" y="890"/>
                    <a:pt x="107" y="925"/>
                  </a:cubicBezTo>
                  <a:cubicBezTo>
                    <a:pt x="170" y="960"/>
                    <a:pt x="329" y="930"/>
                    <a:pt x="395" y="970"/>
                  </a:cubicBezTo>
                  <a:cubicBezTo>
                    <a:pt x="461" y="1010"/>
                    <a:pt x="481" y="1033"/>
                    <a:pt x="501" y="1167"/>
                  </a:cubicBezTo>
                  <a:cubicBezTo>
                    <a:pt x="521" y="1301"/>
                    <a:pt x="513" y="1647"/>
                    <a:pt x="516" y="1773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675680" y="4083120"/>
              <a:ext cx="1413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Access Rou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7240" y="2781360"/>
              <a:ext cx="235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  <a:ea typeface="HGP創英角ﾎﾟｯﾌﾟ体"/>
                </a:rPr>
                <a:t>Forwarding data pack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  <a:ea typeface="HGP創英角ﾎﾟｯﾌﾟ体"/>
                </a:rPr>
                <a:t>from/to the new lo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82080" y="5583240"/>
              <a:ext cx="241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Previous Care-of Addr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56280" y="3117960"/>
              <a:ext cx="558720" cy="3263760"/>
            </a:xfrm>
            <a:custGeom>
              <a:avLst/>
              <a:gdLst/>
              <a:ahLst/>
              <a:rect l="l" t="t" r="r" b="b"/>
              <a:pathLst>
                <a:path w="352" h="2175">
                  <a:moveTo>
                    <a:pt x="0" y="0"/>
                  </a:moveTo>
                  <a:cubicBezTo>
                    <a:pt x="35" y="149"/>
                    <a:pt x="149" y="524"/>
                    <a:pt x="208" y="886"/>
                  </a:cubicBezTo>
                  <a:cubicBezTo>
                    <a:pt x="267" y="1248"/>
                    <a:pt x="322" y="1907"/>
                    <a:pt x="352" y="217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8760" y="6303960"/>
              <a:ext cx="203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Binding Update of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New Care-of Addr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60800" y="2424240"/>
              <a:ext cx="2412000" cy="58068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Home Addr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Previous Care-of Addr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01320" y="2104920"/>
              <a:ext cx="146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Binding Ca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04680" y="3927600"/>
              <a:ext cx="266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  <a:ea typeface="HGP創英角ﾎﾟｯﾌﾟ体"/>
                </a:rPr>
                <a:t>Registration of new loc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  <a:ea typeface="HGP創英角ﾎﾟｯﾌﾟ体"/>
                </a:rPr>
                <a:t>by MN is in progres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72280" y="3117960"/>
              <a:ext cx="244440" cy="839520"/>
            </a:xfrm>
            <a:custGeom>
              <a:avLst/>
              <a:gdLst/>
              <a:ahLst/>
              <a:rect l="l" t="t" r="r" b="b"/>
              <a:pathLst>
                <a:path w="154" h="529">
                  <a:moveTo>
                    <a:pt x="0" y="0"/>
                  </a:moveTo>
                  <a:cubicBezTo>
                    <a:pt x="26" y="88"/>
                    <a:pt x="128" y="441"/>
                    <a:pt x="154" y="529"/>
                  </a:cubicBezTo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62120" y="3357720"/>
              <a:ext cx="1513080" cy="13665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4840" y="4724280"/>
              <a:ext cx="0" cy="865440"/>
            </a:xfrm>
            <a:prstGeom prst="line">
              <a:avLst/>
            </a:prstGeom>
            <a:ln cap="rnd" w="38160">
              <a:solidFill>
                <a:srgbClr val="0000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70480" y="5516640"/>
              <a:ext cx="287280" cy="287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570480" y="5516640"/>
              <a:ext cx="287280" cy="287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3-Driven + FMIPv6 Predictive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3-Driven Fast Handover on FMIPv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44720" y="2455920"/>
            <a:ext cx="8891280" cy="4345920"/>
            <a:chOff x="144720" y="2455920"/>
            <a:chExt cx="8891280" cy="4345920"/>
          </a:xfrm>
        </p:grpSpPr>
        <p:sp>
          <p:nvSpPr>
            <p:cNvPr id="419" name=""/>
            <p:cNvSpPr/>
            <p:nvPr/>
          </p:nvSpPr>
          <p:spPr>
            <a:xfrm>
              <a:off x="6335640" y="4977000"/>
              <a:ext cx="1043280" cy="431640"/>
            </a:xfrm>
            <a:prstGeom prst="rect">
              <a:avLst/>
            </a:prstGeom>
            <a:gradFill rotWithShape="0">
              <a:gsLst>
                <a:gs pos="0">
                  <a:srgbClr val="a1a1a1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20000" y="5985000"/>
              <a:ext cx="1222200" cy="43164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19280" y="5985000"/>
              <a:ext cx="3382920" cy="43164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20720" y="4977000"/>
              <a:ext cx="3382920" cy="431640"/>
            </a:xfrm>
            <a:prstGeom prst="rect">
              <a:avLst/>
            </a:prstGeom>
            <a:gradFill rotWithShape="0">
              <a:gsLst>
                <a:gs pos="0">
                  <a:srgbClr val="a1a1a1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11280" y="3751200"/>
              <a:ext cx="4103640" cy="432000"/>
            </a:xfrm>
            <a:prstGeom prst="rect">
              <a:avLst/>
            </a:prstGeom>
            <a:gradFill rotWithShape="0">
              <a:gsLst>
                <a:gs pos="0">
                  <a:srgbClr val="a1a1a1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87640" y="2887560"/>
              <a:ext cx="6767640" cy="432000"/>
            </a:xfrm>
            <a:prstGeom prst="rect">
              <a:avLst/>
            </a:prstGeom>
            <a:gradFill rotWithShape="0">
              <a:gsLst>
                <a:gs pos="0">
                  <a:srgbClr val="a1a1a1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35640" y="497520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03640" y="5985000"/>
              <a:ext cx="0" cy="6667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73400" y="49752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6651720"/>
              <a:ext cx="673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3520" y="47102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Times New Roman"/>
                </a:rPr>
                <a:t>L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44720" y="57564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Times New Roman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382520" y="646452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04840" y="4994280"/>
              <a:ext cx="0" cy="9907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306440" y="4994280"/>
              <a:ext cx="0" cy="990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03640" y="4994280"/>
              <a:ext cx="0" cy="9907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319640" y="4994280"/>
              <a:ext cx="0" cy="990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097080" y="4994280"/>
              <a:ext cx="0" cy="990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6113520" y="4994280"/>
              <a:ext cx="0" cy="990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60760" y="5335560"/>
              <a:ext cx="90324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66"/>
                  </a:solidFill>
                  <a:latin typeface="Times New Roman"/>
                </a:rPr>
                <a:t>L2-Link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66"/>
                  </a:solidFill>
                  <a:latin typeface="Times New Roman"/>
                </a:rPr>
                <a:t>BeD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57880" y="5349960"/>
              <a:ext cx="1265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Times New Roman"/>
                </a:rPr>
                <a:t>L2-Link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62440" y="5349960"/>
              <a:ext cx="919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L2-Lin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95640" y="4975200"/>
              <a:ext cx="977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30800" y="4975200"/>
              <a:ext cx="204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56440" y="5673960"/>
              <a:ext cx="133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L2 Hand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83200" y="4575240"/>
              <a:ext cx="243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L3 Handover Prepa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45440" y="4575240"/>
              <a:ext cx="133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L3 Hand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073400" y="5965920"/>
              <a:ext cx="2057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1655640" y="3752640"/>
              <a:ext cx="86364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87560" y="403380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RtSol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1943280" y="3752640"/>
              <a:ext cx="86364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3240000" y="3750840"/>
              <a:ext cx="86364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032360" y="3750840"/>
              <a:ext cx="86364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319640" y="2887200"/>
              <a:ext cx="86364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608720" y="2887200"/>
              <a:ext cx="86328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120000" y="2887560"/>
              <a:ext cx="1726920" cy="172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16720" y="540864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bile N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32000" y="3319560"/>
              <a:ext cx="15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vious 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01840" y="2455920"/>
              <a:ext cx="111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w 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83200" y="316872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59160" y="425628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F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81080" y="32479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522440" y="4994280"/>
              <a:ext cx="0" cy="990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0600" y="5310360"/>
              <a:ext cx="145944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50021"/>
                  </a:solidFill>
                  <a:latin typeface="Times New Roman"/>
                </a:rPr>
                <a:t>L2-PeerL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L2-PeerFound/Lo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20200" y="4567320"/>
              <a:ext cx="170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AP/AR Discove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07360" y="403380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B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00600" y="432108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PrRtAd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15000" y="338472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H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6335640" y="2887560"/>
              <a:ext cx="1727280" cy="172728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22000" y="4040280"/>
              <a:ext cx="13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imes New Roman"/>
                </a:rPr>
                <a:t>Data Pac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80920" y="3436920"/>
              <a:ext cx="21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Exchange Inform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30880" y="2571840"/>
              <a:ext cx="170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Start Forwar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24680" y="257184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Handoff Comple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MIPv6 Reactive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se that handover prediction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3-Driven Fast Handover on FMIPv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45080" y="2173320"/>
            <a:ext cx="8890920" cy="4712400"/>
            <a:chOff x="145080" y="2173320"/>
            <a:chExt cx="8890920" cy="4712400"/>
          </a:xfrm>
        </p:grpSpPr>
        <p:sp>
          <p:nvSpPr>
            <p:cNvPr id="475" name=""/>
            <p:cNvSpPr/>
            <p:nvPr/>
          </p:nvSpPr>
          <p:spPr>
            <a:xfrm>
              <a:off x="1511280" y="3835440"/>
              <a:ext cx="6767640" cy="431640"/>
            </a:xfrm>
            <a:prstGeom prst="rect">
              <a:avLst/>
            </a:prstGeom>
            <a:gradFill rotWithShape="0">
              <a:gsLst>
                <a:gs pos="0">
                  <a:srgbClr val="a1a1a1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35640" y="5060880"/>
              <a:ext cx="1043280" cy="432000"/>
            </a:xfrm>
            <a:prstGeom prst="rect">
              <a:avLst/>
            </a:prstGeom>
            <a:gradFill rotWithShape="0">
              <a:gsLst>
                <a:gs pos="0">
                  <a:srgbClr val="a1a1a1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11640" y="6068880"/>
              <a:ext cx="2230560" cy="43200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19280" y="6068880"/>
              <a:ext cx="2376360" cy="43200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0720" y="5060880"/>
              <a:ext cx="2374920" cy="432000"/>
            </a:xfrm>
            <a:prstGeom prst="rect">
              <a:avLst/>
            </a:prstGeom>
            <a:gradFill rotWithShape="0">
              <a:gsLst>
                <a:gs pos="0">
                  <a:srgbClr val="a1a1a1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96000" y="2971800"/>
              <a:ext cx="3959280" cy="432000"/>
            </a:xfrm>
            <a:prstGeom prst="rect">
              <a:avLst/>
            </a:prstGeom>
            <a:gradFill rotWithShape="0">
              <a:gsLst>
                <a:gs pos="0">
                  <a:srgbClr val="a1a1a1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35640" y="505944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84480" y="6068880"/>
              <a:ext cx="0" cy="6670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95640" y="505944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4400" y="6735960"/>
              <a:ext cx="673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3880" y="4794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5080" y="5840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382520" y="65484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04840" y="5078520"/>
              <a:ext cx="0" cy="9903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1306440" y="5078160"/>
              <a:ext cx="0" cy="990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11640" y="5078520"/>
              <a:ext cx="0" cy="9903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527640" y="5078160"/>
              <a:ext cx="0" cy="990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097440" y="5078160"/>
              <a:ext cx="0" cy="990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5130720" y="5078160"/>
              <a:ext cx="0" cy="990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558880" y="5348160"/>
              <a:ext cx="1105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L2-LinkD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10240" y="5576760"/>
              <a:ext cx="1265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Times New Roman"/>
                </a:rPr>
                <a:t>L2-Link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79640" y="5434200"/>
              <a:ext cx="919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L2-Lin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56440" y="5757840"/>
              <a:ext cx="133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L2 Hand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42160" y="4659480"/>
              <a:ext cx="133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L3 Hand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95640" y="6050160"/>
              <a:ext cx="2057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1655640" y="3836520"/>
              <a:ext cx="86364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87560" y="41180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RtSol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1943280" y="3836520"/>
              <a:ext cx="86364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6264360" y="2971440"/>
              <a:ext cx="86364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6121440" y="3835080"/>
              <a:ext cx="86364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480360" y="2971440"/>
              <a:ext cx="86364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6696000" y="2971440"/>
              <a:ext cx="86364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5184720" y="2971800"/>
              <a:ext cx="1727280" cy="172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416720" y="549288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bile N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2000" y="3225960"/>
              <a:ext cx="15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vious 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48360" y="2540160"/>
              <a:ext cx="111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w 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266160" y="376416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8160" y="418932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F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8840" y="3259080"/>
              <a:ext cx="123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NA[FBU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1522440" y="5078160"/>
              <a:ext cx="0" cy="990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0600" y="5394240"/>
              <a:ext cx="145944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50021"/>
                  </a:solidFill>
                  <a:latin typeface="Times New Roman"/>
                </a:rPr>
                <a:t>L2-PeerL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L2-PeerFound/Lo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0200" y="4651560"/>
              <a:ext cx="170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AP/AR Discove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42880" y="261144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B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100600" y="440532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PrRtAd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18520" y="261144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H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6335640" y="2971800"/>
              <a:ext cx="1727280" cy="172728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69440" y="4124520"/>
              <a:ext cx="13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imes New Roman"/>
                </a:rPr>
                <a:t>Data Pac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41880" y="5059440"/>
              <a:ext cx="119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46000" y="3465720"/>
              <a:ext cx="21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Exchange Inform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67600" y="2173320"/>
              <a:ext cx="170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Start Forwar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205760" y="238608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Handoff Comple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MIPv6 Implementation for BSD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RZ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y Nautilus6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ttp://www.nautilus6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http://www.ietf.org/internet-drafts/draft-ietf-mipshop-fast-mipv6-03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Based on SH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obile IPv6 and NEMO implementation for KAME (*BS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ttp://www.kame.ne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Support both MN and 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a50021"/>
                </a:solidFill>
                <a:latin typeface="Times New Roman"/>
              </a:rPr>
              <a:t>L2 trigger by 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ter-Layer Control Information Exchang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a50021"/>
                </a:solidFill>
                <a:latin typeface="Times New Roman"/>
              </a:rPr>
              <a:t>L2 Abst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a50021"/>
                </a:solidFill>
                <a:latin typeface="Times New Roman"/>
              </a:rPr>
              <a:t>http://www.ietf.org/internet-drafts/draft-koki-mobopts-l2-abstractions-02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Manual CAR (Candidate Access Router) 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ar_info.co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Buffering is not supported y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L3-Driven Predictive FMIPv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738840" y="69228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without Buf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2560" y="1101600"/>
            <a:ext cx="9038880" cy="5496120"/>
            <a:chOff x="52560" y="1101600"/>
            <a:chExt cx="9038880" cy="5496120"/>
          </a:xfrm>
        </p:grpSpPr>
        <p:pic>
          <p:nvPicPr>
            <p:cNvPr id="531" name="" descr=""/>
            <p:cNvPicPr/>
            <p:nvPr/>
          </p:nvPicPr>
          <p:blipFill>
            <a:blip r:embed="rId1"/>
            <a:stretch/>
          </p:blipFill>
          <p:spPr>
            <a:xfrm>
              <a:off x="52560" y="1101600"/>
              <a:ext cx="9038880" cy="549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611280" y="2854440"/>
              <a:ext cx="23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05440" y="249408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14560" y="2565360"/>
              <a:ext cx="5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6280" y="219852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2 Hando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21080" y="2206800"/>
              <a:ext cx="179856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19640" y="1774800"/>
              <a:ext cx="367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04520" y="1557360"/>
              <a:ext cx="186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a50021"/>
                  </a:solidFill>
                  <a:latin typeface="Times New Roman"/>
                </a:rPr>
                <a:t>P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a50021"/>
                  </a:solidFill>
                  <a:latin typeface="Times New Roman"/>
                </a:rPr>
                <a:t>(Forwarded to NCo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60360" y="141444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20720" y="40766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B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84680" y="3854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59280" y="4076640"/>
              <a:ext cx="287280" cy="36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702160" y="37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146920" y="4145040"/>
              <a:ext cx="158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from Distant H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2625480" y="4868640"/>
              <a:ext cx="324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412720" y="514980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F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27280" y="3429000"/>
              <a:ext cx="0" cy="107964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10160" y="3068640"/>
              <a:ext cx="14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Times New Roman"/>
                </a:rPr>
                <a:t>LinkConn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2340000" y="5013000"/>
              <a:ext cx="0" cy="57636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459800" y="5516640"/>
              <a:ext cx="17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Times New Roman"/>
                </a:rPr>
                <a:t>LinkToBeD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3348000" y="4579560"/>
              <a:ext cx="0" cy="28908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845800" y="479736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Times New Roman"/>
                </a:rPr>
                <a:t>Link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19640" y="1413000"/>
              <a:ext cx="1800000" cy="4608360"/>
            </a:xfrm>
            <a:prstGeom prst="rect">
              <a:avLst/>
            </a:prstGeom>
            <a:solidFill>
              <a:srgbClr val="a5002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268360" y="4221000"/>
              <a:ext cx="287640" cy="36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050920" y="4437000"/>
              <a:ext cx="287640" cy="36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92720" y="3645000"/>
              <a:ext cx="45720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-68040" y="6491160"/>
            <a:ext cx="92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Disruption Time: 60ms(L2) + 50ms(L3) =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110m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1800" spc="-1" strike="noStrike">
                <a:solidFill>
                  <a:srgbClr val="4d4d4d"/>
                </a:solidFill>
                <a:latin typeface="Times New Roman"/>
              </a:rPr>
              <a:t>L2: Wireless Environment E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2 Abstractions for L3-driven Fast Hand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s of L3-driven fast hand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tecture for control information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2 Primitives for L3-driven fast hand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of Primitives and Wireless LAN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3-Driven Fast Handover on FM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3-Driven Fast Handover on Predictive-LIN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39240" y="1268280"/>
            <a:ext cx="536400" cy="406440"/>
          </a:xfrm>
          <a:prstGeom prst="leftArrow">
            <a:avLst>
              <a:gd name="adj1" fmla="val 50000"/>
              <a:gd name="adj2" fmla="val 32994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L2 Abstractions for L3-driven Fast Hand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Goals of L3-driven fast hand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rchitecture for control information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L2 Primitives for L3-driven fast hand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Mapping of Primitives and Wireless LAN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L3-Driven Fast Handover on FM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3-Driven Fast Handover on Predictive-LIN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139240" y="5589720"/>
            <a:ext cx="536400" cy="406440"/>
          </a:xfrm>
          <a:prstGeom prst="leftArrow">
            <a:avLst>
              <a:gd name="adj1" fmla="val 50000"/>
              <a:gd name="adj2" fmla="val 32994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3-Driven Fast Hand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3-Driven Fast Handover on Predictive-LIN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81440" y="836640"/>
            <a:ext cx="8736120" cy="3097800"/>
            <a:chOff x="181440" y="836640"/>
            <a:chExt cx="8736120" cy="3097800"/>
          </a:xfrm>
        </p:grpSpPr>
        <p:sp>
          <p:nvSpPr>
            <p:cNvPr id="564" name=""/>
            <p:cNvSpPr/>
            <p:nvPr/>
          </p:nvSpPr>
          <p:spPr>
            <a:xfrm>
              <a:off x="7705800" y="1811160"/>
              <a:ext cx="826920" cy="432000"/>
            </a:xfrm>
            <a:prstGeom prst="rect">
              <a:avLst/>
            </a:prstGeom>
            <a:gradFill rotWithShape="0">
              <a:gsLst>
                <a:gs pos="0">
                  <a:srgbClr val="a1a1a1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27640" y="2819520"/>
              <a:ext cx="4105080" cy="43164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19280" y="2819520"/>
              <a:ext cx="1620720" cy="43164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0720" y="1811160"/>
              <a:ext cx="1619280" cy="432000"/>
            </a:xfrm>
            <a:prstGeom prst="rect">
              <a:avLst/>
            </a:prstGeom>
            <a:gradFill rotWithShape="0">
              <a:gsLst>
                <a:gs pos="0">
                  <a:srgbClr val="a1a1a1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08560" y="2479680"/>
              <a:ext cx="133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L2 Hand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40240" y="292428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  <a:ea typeface="HGP創英角ﾎﾟｯﾌﾟ体"/>
                </a:rPr>
                <a:t>Del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362320" y="182880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419720" y="2819520"/>
              <a:ext cx="3276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62320" y="2819520"/>
              <a:ext cx="2057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4419720" y="281916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12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19720" y="3284640"/>
              <a:ext cx="68580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09880" y="15638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Times New Roman"/>
                </a:rPr>
                <a:t>L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81440" y="26100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Times New Roman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285760" y="316548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62320" y="182880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96080" y="182880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6705720" y="1773000"/>
              <a:ext cx="0" cy="173196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83840" y="1384200"/>
              <a:ext cx="133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L3 Hand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705720" y="182880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05520" y="182880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59600" y="126828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  <a:ea typeface="HGP創英角ﾎﾟｯﾌﾟ体"/>
                </a:rPr>
                <a:t>L3 Hand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  <a:ea typeface="HGP創英角ﾎﾟｯﾌﾟ体"/>
                </a:rPr>
                <a:t>Prepa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5105520" y="1844280"/>
              <a:ext cx="0" cy="16606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686480" y="2328840"/>
              <a:ext cx="2046240" cy="379440"/>
            </a:xfrm>
            <a:prstGeom prst="wedgeRoundRectCallout">
              <a:avLst>
                <a:gd name="adj1" fmla="val -47981"/>
                <a:gd name="adj2" fmla="val 1077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imes New Roman"/>
                </a:rPr>
                <a:t>more than 1.5 s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69040" y="836640"/>
              <a:ext cx="2048040" cy="422280"/>
            </a:xfrm>
            <a:prstGeom prst="wedgeRoundRectCallout">
              <a:avLst>
                <a:gd name="adj1" fmla="val -49921"/>
                <a:gd name="adj2" fmla="val 763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imes New Roman"/>
                </a:rPr>
                <a:t>more than 1 s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40000" y="3645000"/>
              <a:ext cx="532764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63640" y="359712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  <a:ea typeface="HGP創英角ﾎﾟｯﾌﾟ体"/>
                </a:rPr>
                <a:t>Disrup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181440" y="4324320"/>
            <a:ext cx="8736120" cy="2466360"/>
            <a:chOff x="181440" y="4324320"/>
            <a:chExt cx="8736120" cy="2466360"/>
          </a:xfrm>
        </p:grpSpPr>
        <p:sp>
          <p:nvSpPr>
            <p:cNvPr id="592" name=""/>
            <p:cNvSpPr/>
            <p:nvPr/>
          </p:nvSpPr>
          <p:spPr>
            <a:xfrm>
              <a:off x="7236000" y="4703760"/>
              <a:ext cx="1296720" cy="431640"/>
            </a:xfrm>
            <a:prstGeom prst="rect">
              <a:avLst/>
            </a:prstGeom>
            <a:gradFill rotWithShape="0">
              <a:gsLst>
                <a:gs pos="0">
                  <a:srgbClr val="a1a1a1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27640" y="5711760"/>
              <a:ext cx="2305080" cy="43200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9280" y="5711760"/>
              <a:ext cx="3492360" cy="43200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4360" y="4703760"/>
              <a:ext cx="3527280" cy="431640"/>
            </a:xfrm>
            <a:prstGeom prst="rect">
              <a:avLst/>
            </a:prstGeom>
            <a:gradFill rotWithShape="0">
              <a:gsLst>
                <a:gs pos="0">
                  <a:srgbClr val="a1a1a1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38880" y="472428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191120" y="472428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91120" y="47242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212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09880" y="44593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Times New Roman"/>
                </a:rPr>
                <a:t>L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1440" y="55054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Times New Roman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66680" y="4724280"/>
              <a:ext cx="0" cy="9907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1219320" y="4724280"/>
              <a:ext cx="0" cy="990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91120" y="4724280"/>
              <a:ext cx="0" cy="9907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4329000" y="4724280"/>
              <a:ext cx="0" cy="990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2567160" y="4724280"/>
              <a:ext cx="0" cy="990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6230880" y="4724280"/>
              <a:ext cx="0" cy="990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55680" y="5059440"/>
              <a:ext cx="90324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66"/>
                  </a:solidFill>
                  <a:latin typeface="Times New Roman"/>
                </a:rPr>
                <a:t>L2-Link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66"/>
                  </a:solidFill>
                  <a:latin typeface="Times New Roman"/>
                </a:rPr>
                <a:t>BeD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635640" y="5099040"/>
              <a:ext cx="1265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Times New Roman"/>
                </a:rPr>
                <a:t>L2-Link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78360" y="5099040"/>
              <a:ext cx="919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L2-Lin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90920" y="472428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248520" y="5715000"/>
              <a:ext cx="990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48520" y="472428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573800" y="5423040"/>
              <a:ext cx="133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L2 Hand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03560" y="4324320"/>
              <a:ext cx="243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L3 Handover Prepa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4000" y="4324320"/>
              <a:ext cx="133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L3 Hand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91120" y="5715000"/>
              <a:ext cx="2057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285760" y="604512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11640" y="6524640"/>
              <a:ext cx="302436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143320" y="645336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  <a:ea typeface="HGP創英角ﾎﾟｯﾌﾟ体"/>
                </a:rPr>
                <a:t>Disrup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1403280" y="4724280"/>
              <a:ext cx="0" cy="990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9600" y="5013360"/>
              <a:ext cx="17229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50021"/>
                  </a:solidFill>
                  <a:latin typeface="Times New Roman"/>
                </a:rPr>
                <a:t>L2-LinkStatus/PeerL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L2-PeerFound/Lo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pplication: DVTS (15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Digital Video Stream on IEEE1394 Encapsulated into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ender: MN in a 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L3 Mobility Protocol: Predictive-LIN6 (No Forwarding, No Buffer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a50021"/>
                </a:solidFill>
                <a:latin typeface="Times New Roman"/>
              </a:rPr>
              <a:t>Prediction of LinkDown and Candidate AP/AR by L2 Trig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DAD is performed before L2 hand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L2: IEEE802.11a (5GHz, 54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All APs are same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All APs have different SS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roject: SI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mart Internet Mobile Project with Layered 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164720" y="651816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Sender (MN c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445720" y="649764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Receiver (C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68760" y="2525760"/>
            <a:ext cx="45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Handover: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L2 (1-2ms) + L3 (RTT 1-2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nkToBeDown (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Prepare L3 Handov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nkConnect (L2 switch to a specified 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nkUp (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Finish L3 Handov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30320" y="4151160"/>
            <a:ext cx="5016240" cy="2590920"/>
            <a:chOff x="130320" y="4151160"/>
            <a:chExt cx="5016240" cy="2590920"/>
          </a:xfrm>
        </p:grpSpPr>
        <p:sp>
          <p:nvSpPr>
            <p:cNvPr id="628" name=""/>
            <p:cNvSpPr/>
            <p:nvPr/>
          </p:nvSpPr>
          <p:spPr>
            <a:xfrm>
              <a:off x="1778040" y="5840280"/>
              <a:ext cx="165240" cy="158760"/>
            </a:xfrm>
            <a:prstGeom prst="ellipse">
              <a:avLst/>
            </a:prstGeom>
            <a:noFill/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9" name="" descr=""/>
            <p:cNvPicPr/>
            <p:nvPr/>
          </p:nvPicPr>
          <p:blipFill>
            <a:blip r:embed="rId1"/>
            <a:srcRect l="3565" t="15273" r="3565" b="15273"/>
            <a:stretch/>
          </p:blipFill>
          <p:spPr>
            <a:xfrm>
              <a:off x="130320" y="4151160"/>
              <a:ext cx="49464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3071880" y="4772160"/>
              <a:ext cx="163440" cy="160200"/>
            </a:xfrm>
            <a:prstGeom prst="ellipse">
              <a:avLst/>
            </a:prstGeom>
            <a:noFill/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94120" y="4721400"/>
              <a:ext cx="163440" cy="158400"/>
            </a:xfrm>
            <a:prstGeom prst="ellipse">
              <a:avLst/>
            </a:prstGeom>
            <a:noFill/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52720" y="5259240"/>
              <a:ext cx="165240" cy="157320"/>
            </a:xfrm>
            <a:prstGeom prst="ellipse">
              <a:avLst/>
            </a:prstGeom>
            <a:noFill/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765600" y="5832360"/>
              <a:ext cx="164880" cy="158760"/>
            </a:xfrm>
            <a:prstGeom prst="ellipse">
              <a:avLst/>
            </a:prstGeom>
            <a:noFill/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317760" y="5800680"/>
              <a:ext cx="163800" cy="158760"/>
            </a:xfrm>
            <a:prstGeom prst="ellipse">
              <a:avLst/>
            </a:prstGeom>
            <a:noFill/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766960" y="5794200"/>
              <a:ext cx="162000" cy="158760"/>
            </a:xfrm>
            <a:prstGeom prst="ellipse">
              <a:avLst/>
            </a:prstGeom>
            <a:noFill/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55840" y="4824360"/>
              <a:ext cx="165240" cy="158760"/>
            </a:xfrm>
            <a:prstGeom prst="ellipse">
              <a:avLst/>
            </a:prstGeom>
            <a:noFill/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4211640" y="5122440"/>
              <a:ext cx="0" cy="46836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205520" y="523080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Times New Roman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01800" y="450864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Pv6 Subnet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38240" y="448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636720" y="443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627360" y="494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565440" y="5445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127320" y="5445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619360" y="5445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219640" y="371628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monstration of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3-Driven Fast Handover on Predictive-LIN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7164360" y="1125360"/>
          <a:ext cx="1852560" cy="13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1125360"/>
                    <a:ext cx="185256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44006" fill="hold"/>
                                        <p:tgtEl>
                                          <p:spTgt spid="6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6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0" y="-17640"/>
            <a:ext cx="9144000" cy="7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of L3-Driven Fast Handover on Predictive-LIN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48680" y="907920"/>
            <a:ext cx="8586360" cy="5811120"/>
            <a:chOff x="148680" y="907920"/>
            <a:chExt cx="8586360" cy="5811120"/>
          </a:xfrm>
        </p:grpSpPr>
        <p:sp>
          <p:nvSpPr>
            <p:cNvPr id="652" name=""/>
            <p:cNvSpPr/>
            <p:nvPr/>
          </p:nvSpPr>
          <p:spPr>
            <a:xfrm>
              <a:off x="148680" y="907920"/>
              <a:ext cx="702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quence of L2 and L3 Handover: 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-4m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(L3 Disruption Tim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56000" y="1916280"/>
              <a:ext cx="2232000" cy="2736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706920" y="3213000"/>
              <a:ext cx="1440" cy="3168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4960" y="4040280"/>
              <a:ext cx="338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quence of L2 Trigger: 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40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1045440" y="4292640"/>
              <a:ext cx="7400880" cy="2426400"/>
              <a:chOff x="1045440" y="4292640"/>
              <a:chExt cx="7400880" cy="2426400"/>
            </a:xfrm>
          </p:grpSpPr>
          <p:sp>
            <p:nvSpPr>
              <p:cNvPr id="657" name=""/>
              <p:cNvSpPr/>
              <p:nvPr/>
            </p:nvSpPr>
            <p:spPr>
              <a:xfrm>
                <a:off x="2842560" y="5529240"/>
                <a:ext cx="5040360" cy="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842560" y="6381720"/>
                <a:ext cx="5040360" cy="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045440" y="4460760"/>
                <a:ext cx="1742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Userland Daem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54880" y="5300640"/>
                <a:ext cx="7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Kerne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263600" y="6165720"/>
                <a:ext cx="1549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Wireless Dev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3740040" y="5516280"/>
                <a:ext cx="216000" cy="86508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966480" y="5516640"/>
                <a:ext cx="99684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267000" y="6381720"/>
                <a:ext cx="976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2 Ev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554160" y="4292640"/>
                <a:ext cx="107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d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060720" y="5734080"/>
                <a:ext cx="67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2.6 u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030560" y="50846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3.1 u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048280" y="47480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9.8 u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842560" y="4664160"/>
                <a:ext cx="5040360" cy="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4964040" y="4652640"/>
                <a:ext cx="1657440" cy="86508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814520" y="616572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9440" y="1219320"/>
              <a:ext cx="8265600" cy="2426400"/>
              <a:chOff x="469440" y="1219320"/>
              <a:chExt cx="8265600" cy="2426400"/>
            </a:xfrm>
          </p:grpSpPr>
          <p:sp>
            <p:nvSpPr>
              <p:cNvPr id="673" name=""/>
              <p:cNvSpPr/>
              <p:nvPr/>
            </p:nvSpPr>
            <p:spPr>
              <a:xfrm flipV="1">
                <a:off x="901800" y="3230280"/>
                <a:ext cx="7199280" cy="468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900000" y="1936440"/>
                <a:ext cx="7272360" cy="468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69440" y="304308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69440" y="17478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1955880" y="3308400"/>
                <a:ext cx="16794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5700600" y="1868040"/>
                <a:ext cx="2327400" cy="1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700600" y="1795320"/>
                <a:ext cx="0" cy="15195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125080" y="273204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LinkDow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852720" y="2708280"/>
                <a:ext cx="85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inkU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3684600" y="3308400"/>
                <a:ext cx="19670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43680" y="33084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.8 m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388400" y="33084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.9 m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332240" y="1868400"/>
                <a:ext cx="136836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358880" y="1219320"/>
                <a:ext cx="1410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ddres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nfigu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838120" y="1531800"/>
                <a:ext cx="2120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ocation Registration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3684600" y="1940040"/>
                <a:ext cx="647640" cy="129528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1955880" y="1940040"/>
                <a:ext cx="647640" cy="129528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724360" y="3308400"/>
                <a:ext cx="230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230160" y="3308400"/>
                <a:ext cx="1285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RTT: 1-2 m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103240" y="306864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763640" y="1963800"/>
                <a:ext cx="14292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902520" y="2060640"/>
                <a:ext cx="901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nnec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36720" y="1125360"/>
            <a:ext cx="9396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L2 abstractions as primit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-PeerList / L2-PeerFound / L2-Peer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-LinkStatus / L2-LinkUp / L2-LinkDown / L2-LinkToBe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-LinkConnect / L2-LinkDisconn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3-driven fast handover on FMIPv6 was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3-driven fast handover on Predictive-LIN6 demonst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ETF Doc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http://www.ietf.org/internet-drafts/draft-koki-mobopts-l2-abstractions-02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Teraoka Lab. Keio Univ.  http://www.tera.ics.keio.ac.jp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Nautilus6 Project  http://www.nautilus6.org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IMPL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164360" y="6381720"/>
            <a:ext cx="360360" cy="36036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659640" y="6381720"/>
            <a:ext cx="360360" cy="360360"/>
          </a:xfrm>
          <a:prstGeom prst="rect">
            <a:avLst/>
          </a:prstGeom>
          <a:solidFill>
            <a:srgbClr val="00cc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8675640" y="6381720"/>
            <a:ext cx="360360" cy="360360"/>
          </a:xfrm>
          <a:prstGeom prst="rect">
            <a:avLst/>
          </a:prstGeom>
          <a:solidFill>
            <a:srgbClr val="ff505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8172360" y="6381720"/>
            <a:ext cx="360360" cy="36036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667640" y="6381720"/>
            <a:ext cx="360360" cy="360360"/>
          </a:xfrm>
          <a:prstGeom prst="rect">
            <a:avLst/>
          </a:prstGeom>
          <a:solidFill>
            <a:srgbClr val="ffe83b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3-Driven Fast Hand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A: L3-Driven Fast Hand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1440" y="836640"/>
            <a:ext cx="8736120" cy="3097800"/>
            <a:chOff x="181440" y="836640"/>
            <a:chExt cx="8736120" cy="3097800"/>
          </a:xfrm>
        </p:grpSpPr>
        <p:sp>
          <p:nvSpPr>
            <p:cNvPr id="97" name=""/>
            <p:cNvSpPr/>
            <p:nvPr/>
          </p:nvSpPr>
          <p:spPr>
            <a:xfrm>
              <a:off x="7705800" y="1811160"/>
              <a:ext cx="826920" cy="432000"/>
            </a:xfrm>
            <a:prstGeom prst="rect">
              <a:avLst/>
            </a:prstGeom>
            <a:gradFill rotWithShape="0">
              <a:gsLst>
                <a:gs pos="0">
                  <a:srgbClr val="a1a1a1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27640" y="2819520"/>
              <a:ext cx="4105080" cy="43164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9280" y="2819520"/>
              <a:ext cx="1620720" cy="43164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0720" y="1811160"/>
              <a:ext cx="1619280" cy="432000"/>
            </a:xfrm>
            <a:prstGeom prst="rect">
              <a:avLst/>
            </a:prstGeom>
            <a:gradFill rotWithShape="0">
              <a:gsLst>
                <a:gs pos="0">
                  <a:srgbClr val="a1a1a1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08560" y="2479680"/>
              <a:ext cx="133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L2 Hand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40240" y="292428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  <a:ea typeface="HGP創英角ﾎﾟｯﾌﾟ体"/>
                </a:rPr>
                <a:t>Del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62320" y="182880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19720" y="2819520"/>
              <a:ext cx="3276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62320" y="2819520"/>
              <a:ext cx="2057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419720" y="281916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212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19720" y="3284640"/>
              <a:ext cx="68580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9880" y="15638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Times New Roman"/>
                </a:rPr>
                <a:t>L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1440" y="26100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Times New Roman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85760" y="316548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62320" y="182880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96080" y="182880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705720" y="1773000"/>
              <a:ext cx="0" cy="173196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83840" y="1384200"/>
              <a:ext cx="133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L3 Hand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05720" y="182880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05520" y="182880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59600" y="126828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  <a:ea typeface="HGP創英角ﾎﾟｯﾌﾟ体"/>
                </a:rPr>
                <a:t>L3 Hand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  <a:ea typeface="HGP創英角ﾎﾟｯﾌﾟ体"/>
                </a:rPr>
                <a:t>Prepa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105520" y="1844280"/>
              <a:ext cx="0" cy="16606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86480" y="2328840"/>
              <a:ext cx="2046240" cy="379440"/>
            </a:xfrm>
            <a:prstGeom prst="wedgeRoundRectCallout">
              <a:avLst>
                <a:gd name="adj1" fmla="val -47981"/>
                <a:gd name="adj2" fmla="val 1077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imes New Roman"/>
                </a:rPr>
                <a:t>more than 1.5 s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69040" y="836640"/>
              <a:ext cx="2048040" cy="422280"/>
            </a:xfrm>
            <a:prstGeom prst="wedgeRoundRectCallout">
              <a:avLst>
                <a:gd name="adj1" fmla="val -49921"/>
                <a:gd name="adj2" fmla="val 763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imes New Roman"/>
                </a:rPr>
                <a:t>more than 1 s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40000" y="3645000"/>
              <a:ext cx="532764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63640" y="359712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  <a:ea typeface="HGP創英角ﾎﾟｯﾌﾟ体"/>
                </a:rPr>
                <a:t>Disrup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81440" y="4324320"/>
            <a:ext cx="8736120" cy="2466360"/>
            <a:chOff x="181440" y="4324320"/>
            <a:chExt cx="8736120" cy="2466360"/>
          </a:xfrm>
        </p:grpSpPr>
        <p:sp>
          <p:nvSpPr>
            <p:cNvPr id="125" name=""/>
            <p:cNvSpPr/>
            <p:nvPr/>
          </p:nvSpPr>
          <p:spPr>
            <a:xfrm>
              <a:off x="7236000" y="4703760"/>
              <a:ext cx="1296720" cy="431640"/>
            </a:xfrm>
            <a:prstGeom prst="rect">
              <a:avLst/>
            </a:prstGeom>
            <a:gradFill rotWithShape="0">
              <a:gsLst>
                <a:gs pos="0">
                  <a:srgbClr val="a1a1a1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27640" y="5711760"/>
              <a:ext cx="2305080" cy="43200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9280" y="5711760"/>
              <a:ext cx="3492360" cy="43200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4360" y="4703760"/>
              <a:ext cx="3527280" cy="431640"/>
            </a:xfrm>
            <a:prstGeom prst="rect">
              <a:avLst/>
            </a:prstGeom>
            <a:gradFill rotWithShape="0">
              <a:gsLst>
                <a:gs pos="0">
                  <a:srgbClr val="a1a1a1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38880" y="472428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91120" y="472428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91120" y="47242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12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9880" y="44593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Times New Roman"/>
                </a:rPr>
                <a:t>L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1440" y="55054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Times New Roman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66680" y="4724280"/>
              <a:ext cx="0" cy="9907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219320" y="4724280"/>
              <a:ext cx="0" cy="990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1120" y="4724280"/>
              <a:ext cx="0" cy="9907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29000" y="4724280"/>
              <a:ext cx="0" cy="990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567160" y="4724280"/>
              <a:ext cx="0" cy="990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230880" y="4724280"/>
              <a:ext cx="0" cy="990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55680" y="5059440"/>
              <a:ext cx="90324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66"/>
                  </a:solidFill>
                  <a:latin typeface="Times New Roman"/>
                </a:rPr>
                <a:t>L2-Link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66"/>
                  </a:solidFill>
                  <a:latin typeface="Times New Roman"/>
                </a:rPr>
                <a:t>BeD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35640" y="5099040"/>
              <a:ext cx="1265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Times New Roman"/>
                </a:rPr>
                <a:t>L2-Link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78360" y="5099040"/>
              <a:ext cx="919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L2-Lin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90920" y="472428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48520" y="5715000"/>
              <a:ext cx="990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48520" y="472428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3800" y="5423040"/>
              <a:ext cx="133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L2 Hand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3560" y="4324320"/>
              <a:ext cx="243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L3 Handover Prepa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4000" y="4324320"/>
              <a:ext cx="133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L3 Hand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1120" y="5715000"/>
              <a:ext cx="2057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85760" y="604512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11640" y="6524640"/>
              <a:ext cx="302436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43320" y="645336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  <a:ea typeface="HGP創英角ﾎﾟｯﾌﾟ体"/>
                </a:rPr>
                <a:t>Disrup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403280" y="4724280"/>
              <a:ext cx="0" cy="990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9600" y="5013360"/>
              <a:ext cx="17229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50021"/>
                  </a:solidFill>
                  <a:latin typeface="Times New Roman"/>
                </a:rPr>
                <a:t>L2-LinkStatus/PeerL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L2-PeerFound/Lo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144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85680" y="2671920"/>
            <a:ext cx="7763040" cy="43164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84240" y="3654360"/>
            <a:ext cx="2795760" cy="432000"/>
          </a:xfrm>
          <a:prstGeom prst="rect">
            <a:avLst/>
          </a:prstGeom>
          <a:gradFill rotWithShape="0">
            <a:gsLst>
              <a:gs pos="0">
                <a:srgbClr val="d4d4d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B: L3-Driven Vertical Hand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8920" y="5506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Times New Roman"/>
              </a:rPr>
              <a:t>L2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640" y="35258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Times New Roman"/>
              </a:rPr>
              <a:t>L2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640" y="45165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Times New Roman"/>
              </a:rPr>
              <a:t>L2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9920" y="2533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Times New Roman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19600" y="3733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2743200"/>
            <a:ext cx="0" cy="99072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447920" y="2742840"/>
            <a:ext cx="0" cy="2971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733920"/>
            <a:ext cx="0" cy="99036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4724280"/>
            <a:ext cx="0" cy="99072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600200" y="2742840"/>
            <a:ext cx="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752480" y="2743200"/>
            <a:ext cx="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57960" y="3033720"/>
            <a:ext cx="1131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Times New Roman"/>
              </a:rPr>
              <a:t>L2-Link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116520" y="2070000"/>
            <a:ext cx="3184200" cy="4000680"/>
            <a:chOff x="3116520" y="2070000"/>
            <a:chExt cx="3184200" cy="4000680"/>
          </a:xfrm>
        </p:grpSpPr>
        <p:sp>
          <p:nvSpPr>
            <p:cNvPr id="175" name=""/>
            <p:cNvSpPr/>
            <p:nvPr/>
          </p:nvSpPr>
          <p:spPr>
            <a:xfrm>
              <a:off x="3811680" y="5638680"/>
              <a:ext cx="2489040" cy="43200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16520" y="2070000"/>
              <a:ext cx="133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L3 Hand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13120" y="23940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9880" y="2781360"/>
              <a:ext cx="0" cy="29336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64400" y="4235400"/>
              <a:ext cx="1265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50021"/>
                  </a:solidFill>
                  <a:latin typeface="Times New Roman"/>
                </a:rPr>
                <a:t>L2-Link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643720" y="2070000"/>
            <a:ext cx="3105000" cy="3000600"/>
            <a:chOff x="5643720" y="2070000"/>
            <a:chExt cx="3105000" cy="3000600"/>
          </a:xfrm>
        </p:grpSpPr>
        <p:sp>
          <p:nvSpPr>
            <p:cNvPr id="181" name=""/>
            <p:cNvSpPr/>
            <p:nvPr/>
          </p:nvSpPr>
          <p:spPr>
            <a:xfrm>
              <a:off x="6326280" y="4638600"/>
              <a:ext cx="2422440" cy="43200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43720" y="2070000"/>
              <a:ext cx="133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L3 Hand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24480" y="23940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24480" y="2781360"/>
              <a:ext cx="0" cy="19429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81880" y="3946680"/>
              <a:ext cx="1265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50021"/>
                  </a:solidFill>
                  <a:latin typeface="Times New Roman"/>
                </a:rPr>
                <a:t>L2-Link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069440" y="2742840"/>
            <a:ext cx="3141720" cy="2434680"/>
            <a:chOff x="4069440" y="2742840"/>
            <a:chExt cx="3141720" cy="2434680"/>
          </a:xfrm>
        </p:grpSpPr>
        <p:sp>
          <p:nvSpPr>
            <p:cNvPr id="187" name=""/>
            <p:cNvSpPr/>
            <p:nvPr/>
          </p:nvSpPr>
          <p:spPr>
            <a:xfrm flipV="1">
              <a:off x="5638680" y="2742840"/>
              <a:ext cx="0" cy="198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63840" y="3033720"/>
              <a:ext cx="919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Times New Roman"/>
                </a:rPr>
                <a:t>L2-Lin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69440" y="4840200"/>
              <a:ext cx="314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Communication quality improv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760760" y="2743200"/>
            <a:ext cx="3550320" cy="1443960"/>
            <a:chOff x="1760760" y="2743200"/>
            <a:chExt cx="3550320" cy="1443960"/>
          </a:xfrm>
        </p:grpSpPr>
        <p:sp>
          <p:nvSpPr>
            <p:cNvPr id="191" name=""/>
            <p:cNvSpPr/>
            <p:nvPr/>
          </p:nvSpPr>
          <p:spPr>
            <a:xfrm flipV="1">
              <a:off x="3024360" y="2743200"/>
              <a:ext cx="0" cy="990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11200" y="3033720"/>
              <a:ext cx="14533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Times New Roman"/>
                </a:rPr>
                <a:t>L2-LinkToBeD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60760" y="3849840"/>
              <a:ext cx="35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Continuous communication is difficul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8462160" y="6021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608760" y="1089000"/>
            <a:ext cx="7923960" cy="3747960"/>
            <a:chOff x="608760" y="1089000"/>
            <a:chExt cx="7923960" cy="3747960"/>
          </a:xfrm>
        </p:grpSpPr>
        <p:sp>
          <p:nvSpPr>
            <p:cNvPr id="196" name=""/>
            <p:cNvSpPr/>
            <p:nvPr/>
          </p:nvSpPr>
          <p:spPr>
            <a:xfrm>
              <a:off x="681120" y="2386080"/>
              <a:ext cx="7345440" cy="115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aeaea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26200" y="1089000"/>
              <a:ext cx="1081080" cy="108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12960" y="1287360"/>
              <a:ext cx="95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bs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45120" y="3754440"/>
              <a:ext cx="1081080" cy="1081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26200" y="3753000"/>
              <a:ext cx="1081080" cy="108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8200" y="1809720"/>
              <a:ext cx="195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Layer 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ice User 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8760" y="3465360"/>
              <a:ext cx="230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ice Provider 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Layer N-m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8920" y="2608200"/>
              <a:ext cx="122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-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19280" y="4013280"/>
              <a:ext cx="95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12960" y="3970440"/>
              <a:ext cx="95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bs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45120" y="1090440"/>
              <a:ext cx="1081080" cy="1081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96960" y="1311120"/>
              <a:ext cx="95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76600" y="1090440"/>
              <a:ext cx="1081080" cy="1081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63360" y="1289160"/>
              <a:ext cx="95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bs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96960" y="3755880"/>
              <a:ext cx="1081440" cy="1081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6600" y="3754440"/>
              <a:ext cx="1081080" cy="108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71120" y="4014720"/>
              <a:ext cx="95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63360" y="3971880"/>
              <a:ext cx="95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bs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6960" y="1092240"/>
              <a:ext cx="1081440" cy="1081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71120" y="1312920"/>
              <a:ext cx="95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5280" y="2386080"/>
              <a:ext cx="305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65680" y="2170080"/>
              <a:ext cx="0" cy="158436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370400" y="2169720"/>
              <a:ext cx="0" cy="1584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14760" y="2386080"/>
              <a:ext cx="18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10040" y="238608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515280" y="2169720"/>
              <a:ext cx="0" cy="15843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20000" y="2170080"/>
              <a:ext cx="0" cy="15843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62920" y="2386080"/>
              <a:ext cx="136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59640" y="238608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5280" y="3538440"/>
              <a:ext cx="305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14760" y="3538440"/>
              <a:ext cx="18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10040" y="35384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62920" y="3538440"/>
              <a:ext cx="136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59640" y="35384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28360" y="249228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a50021"/>
                  </a:solidFill>
                  <a:latin typeface="Times New Roman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29720" y="297180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Times New Roman"/>
                </a:rPr>
                <a:t>Confi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32720" y="2517840"/>
              <a:ext cx="148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8000"/>
                  </a:solidFill>
                  <a:latin typeface="Times New Roman"/>
                </a:rPr>
                <a:t>Ind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20000" y="29718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660066"/>
                  </a:solidFill>
                  <a:latin typeface="Times New Roman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68560" y="3754440"/>
              <a:ext cx="0" cy="2160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373640" y="3754440"/>
              <a:ext cx="0" cy="2160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68560" y="3970440"/>
              <a:ext cx="50508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516720" y="1954080"/>
              <a:ext cx="0" cy="2160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021440" y="1954080"/>
              <a:ext cx="0" cy="2160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16720" y="1954080"/>
              <a:ext cx="5047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e for Control Information Ex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4240" y="5084640"/>
            <a:ext cx="426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Requ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the acquisition reque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ower layer information or a regist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conditions for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Indic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response,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Confi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96400" y="5084640"/>
            <a:ext cx="4307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Indic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synchronously deli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n upper layer when an event which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be notified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response,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age Types of Prim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Type 1. Provide L2 information to upper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a50021"/>
                </a:solidFill>
                <a:latin typeface="Times New Roman"/>
              </a:rPr>
              <a:t>request:</a:t>
            </a:r>
            <a:r>
              <a:rPr b="0" lang="ja-JP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cquisition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66"/>
                </a:solidFill>
                <a:latin typeface="Times New Roman"/>
              </a:rPr>
              <a:t>confirm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L2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Type 2. Notify upper layers of L2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a50021"/>
                </a:solidFill>
                <a:latin typeface="Times New Roman"/>
              </a:rPr>
              <a:t>request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Registration for no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66"/>
                </a:solidFill>
                <a:latin typeface="Times New Roman"/>
              </a:rPr>
              <a:t>confirm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Valid or in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indication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Asynchronous no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Type 3. Control L2 actions from upper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a50021"/>
                </a:solidFill>
                <a:latin typeface="Times New Roman"/>
              </a:rPr>
              <a:t>request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66"/>
                </a:solidFill>
                <a:latin typeface="Times New Roman"/>
              </a:rPr>
              <a:t>confirm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Ack or n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754680" y="1627200"/>
            <a:ext cx="2209680" cy="1450440"/>
            <a:chOff x="6754680" y="1627200"/>
            <a:chExt cx="2209680" cy="1450440"/>
          </a:xfrm>
        </p:grpSpPr>
        <p:sp>
          <p:nvSpPr>
            <p:cNvPr id="246" name=""/>
            <p:cNvSpPr/>
            <p:nvPr/>
          </p:nvSpPr>
          <p:spPr>
            <a:xfrm>
              <a:off x="6754680" y="2292480"/>
              <a:ext cx="220968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40480" y="267336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77800" y="162720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40480" y="2063880"/>
              <a:ext cx="0" cy="60948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8202240" y="2063520"/>
              <a:ext cx="0" cy="6094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39200" y="261792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onfi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499000" y="3565440"/>
            <a:ext cx="3696840" cy="1450440"/>
            <a:chOff x="5499000" y="3565440"/>
            <a:chExt cx="3696840" cy="1450440"/>
          </a:xfrm>
        </p:grpSpPr>
        <p:sp>
          <p:nvSpPr>
            <p:cNvPr id="253" name=""/>
            <p:cNvSpPr/>
            <p:nvPr/>
          </p:nvSpPr>
          <p:spPr>
            <a:xfrm>
              <a:off x="7709040" y="4556160"/>
              <a:ext cx="148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ind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85000" y="4230720"/>
              <a:ext cx="121896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42200" y="4230720"/>
              <a:ext cx="30456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8394480" y="4001760"/>
              <a:ext cx="0" cy="6094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99000" y="4230720"/>
              <a:ext cx="220968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84800" y="46116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22120" y="356544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84800" y="4002120"/>
              <a:ext cx="0" cy="60948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6946560" y="4001760"/>
              <a:ext cx="0" cy="6094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83520" y="4556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onfi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754680" y="5437080"/>
            <a:ext cx="2209680" cy="1450440"/>
            <a:chOff x="6754680" y="5437080"/>
            <a:chExt cx="2209680" cy="1450440"/>
          </a:xfrm>
        </p:grpSpPr>
        <p:sp>
          <p:nvSpPr>
            <p:cNvPr id="264" name=""/>
            <p:cNvSpPr/>
            <p:nvPr/>
          </p:nvSpPr>
          <p:spPr>
            <a:xfrm>
              <a:off x="6754680" y="6102360"/>
              <a:ext cx="220968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40480" y="648324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77800" y="543708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40480" y="5873760"/>
              <a:ext cx="0" cy="60948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8202240" y="5873400"/>
              <a:ext cx="0" cy="6094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39200" y="64278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onfi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886520" y="146196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813440" y="347184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821360" y="519912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0676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L2-Link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sition request for the current link sta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L2-Peer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sition request for the list of possible access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2-PeerFound / L2-Peer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ion of discovery/missing of candidate access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2-LinkUp / L2-Link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fication that a new link is brought up / an existing link is brought d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2-LinkToBe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fication that the existing link is bringing d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L2-LinkConnect / L2-LinkDisconn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for connection/disconnection of the specific lin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0" y="-1764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2 Primitives for L3-driven Fast Hand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4920" y="4916520"/>
            <a:ext cx="4427640" cy="1897200"/>
            <a:chOff x="34920" y="4916520"/>
            <a:chExt cx="4427640" cy="1897200"/>
          </a:xfrm>
        </p:grpSpPr>
        <p:sp>
          <p:nvSpPr>
            <p:cNvPr id="276" name=""/>
            <p:cNvSpPr/>
            <p:nvPr/>
          </p:nvSpPr>
          <p:spPr>
            <a:xfrm>
              <a:off x="34920" y="4941720"/>
              <a:ext cx="4427640" cy="1872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6120" y="6404040"/>
              <a:ext cx="216000" cy="216000"/>
            </a:xfrm>
            <a:prstGeom prst="rect">
              <a:avLst/>
            </a:prstGeom>
            <a:solidFill>
              <a:srgbClr val="ff505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6120" y="6116760"/>
              <a:ext cx="216000" cy="2156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6120" y="5834160"/>
              <a:ext cx="216000" cy="215640"/>
            </a:xfrm>
            <a:prstGeom prst="rect">
              <a:avLst/>
            </a:prstGeom>
            <a:solidFill>
              <a:srgbClr val="ffe83b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6120" y="5540400"/>
              <a:ext cx="216000" cy="216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6120" y="5234040"/>
              <a:ext cx="216000" cy="21600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10360" y="5213520"/>
              <a:ext cx="23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ERY GOOD : high qu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29080" y="5518080"/>
              <a:ext cx="353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OOD             : available (high watermark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2320" y="5805360"/>
              <a:ext cx="265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AIR               : adequate qu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31600" y="6094440"/>
              <a:ext cx="358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D                 : low quality (low watermark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680" y="6381720"/>
              <a:ext cx="22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ERY BAD    : unavail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160" y="4916520"/>
              <a:ext cx="182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ink Quality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4200" y="5229360"/>
              <a:ext cx="0" cy="865080"/>
            </a:xfrm>
            <a:prstGeom prst="line">
              <a:avLst/>
            </a:prstGeom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57120" y="5733720"/>
              <a:ext cx="0" cy="93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57120" y="5229360"/>
              <a:ext cx="0" cy="504720"/>
            </a:xfrm>
            <a:prstGeom prst="line">
              <a:avLst/>
            </a:prstGeom>
            <a:ln w="381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4200" y="6094440"/>
              <a:ext cx="0" cy="5745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8091360" y="54936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TYP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091360" y="8380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YP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091360" y="112536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YP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L2 Abstractions for L3-driven Fast Hand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Goals of L3-driven fast hand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rchitecture for control information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L2 Primitives for L3-driven fast hand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of Primitives and Wireless LAN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L3-Driven Fast Handover on FM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L3-Driven Fast Handover on Predictive-LIN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139240" y="3429000"/>
            <a:ext cx="536400" cy="406440"/>
          </a:xfrm>
          <a:prstGeom prst="leftArrow">
            <a:avLst>
              <a:gd name="adj1" fmla="val 50000"/>
              <a:gd name="adj2" fmla="val 32994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2 Primitives for Link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L2-Link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Interfa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Qua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219640" y="1197000"/>
            <a:ext cx="3600360" cy="2736720"/>
            <a:chOff x="5219640" y="1197000"/>
            <a:chExt cx="3600360" cy="2736720"/>
          </a:xfrm>
        </p:grpSpPr>
        <p:grpSp>
          <p:nvGrpSpPr>
            <p:cNvPr id="301" name=""/>
            <p:cNvGrpSpPr/>
            <p:nvPr/>
          </p:nvGrpSpPr>
          <p:grpSpPr>
            <a:xfrm>
              <a:off x="5219640" y="1197000"/>
              <a:ext cx="3600360" cy="2736720"/>
              <a:chOff x="5219640" y="1197000"/>
              <a:chExt cx="3600360" cy="2736720"/>
            </a:xfrm>
          </p:grpSpPr>
          <p:sp>
            <p:nvSpPr>
              <p:cNvPr id="302" name=""/>
              <p:cNvSpPr/>
              <p:nvPr/>
            </p:nvSpPr>
            <p:spPr>
              <a:xfrm>
                <a:off x="5219640" y="1197000"/>
                <a:ext cx="3600360" cy="27367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d2d2d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90920" y="1269720"/>
                <a:ext cx="338400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L2-LinkStat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i/f id:</a:t>
                </a:r>
                <a:r>
                  <a:rPr b="1" lang="ja-JP" sz="1800" spc="-1" strike="noStrike">
                    <a:solidFill>
                      <a:srgbClr val="a50021"/>
                    </a:solidFill>
                    <a:latin typeface="Times New Roman"/>
                  </a:rPr>
                  <a:t> ath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a50021"/>
                    </a:solidFill>
                    <a:latin typeface="Times New Roman"/>
                  </a:rPr>
                  <a:t> 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peer {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MACaddr:  </a:t>
                </a:r>
                <a:r>
                  <a:rPr b="1" lang="ja-JP" sz="1800" spc="-1" strike="noStrike">
                    <a:solidFill>
                      <a:srgbClr val="a50021"/>
                    </a:solidFill>
                    <a:latin typeface="Times New Roman"/>
                  </a:rPr>
                  <a:t>01:23:45:67:89:a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a50021"/>
                    </a:solidFill>
                    <a:latin typeface="Times New Roman"/>
                  </a:rPr>
                  <a:t> 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condition {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bw: </a:t>
                </a:r>
                <a:r>
                  <a:rPr b="1" lang="ja-JP" sz="1800" spc="-1" strike="noStrike">
                    <a:solidFill>
                      <a:srgbClr val="a50021"/>
                    </a:solidFill>
                    <a:latin typeface="Times New Roman"/>
                  </a:rPr>
                  <a:t>2Mbp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quality: </a:t>
                </a:r>
                <a:r>
                  <a:rPr b="1" lang="ja-JP" sz="1800" spc="-1" strike="noStrike">
                    <a:solidFill>
                      <a:srgbClr val="a50021"/>
                    </a:solidFill>
                    <a:latin typeface="Times New Roman"/>
                  </a:rPr>
                  <a:t>GOO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a50021"/>
                    </a:solidFill>
                    <a:latin typeface="Times New Roman"/>
                  </a:rPr>
                  <a:t>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7164360" y="3284640"/>
              <a:ext cx="216000" cy="21564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44360" y="4581360"/>
            <a:ext cx="5364360" cy="2205360"/>
            <a:chOff x="144360" y="4581360"/>
            <a:chExt cx="5364360" cy="2205360"/>
          </a:xfrm>
        </p:grpSpPr>
        <p:sp>
          <p:nvSpPr>
            <p:cNvPr id="306" name=""/>
            <p:cNvSpPr/>
            <p:nvPr/>
          </p:nvSpPr>
          <p:spPr>
            <a:xfrm>
              <a:off x="144360" y="4581360"/>
              <a:ext cx="5364360" cy="22053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5560" y="6381720"/>
              <a:ext cx="216000" cy="216000"/>
            </a:xfrm>
            <a:prstGeom prst="rect">
              <a:avLst/>
            </a:prstGeom>
            <a:solidFill>
              <a:srgbClr val="ff505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5560" y="6021360"/>
              <a:ext cx="216000" cy="2160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5560" y="5661000"/>
              <a:ext cx="216000" cy="216000"/>
            </a:xfrm>
            <a:prstGeom prst="rect">
              <a:avLst/>
            </a:prstGeom>
            <a:solidFill>
              <a:srgbClr val="ffe83b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5560" y="5300640"/>
              <a:ext cx="216000" cy="216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5560" y="4940280"/>
              <a:ext cx="216000" cy="21600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23040" y="4870440"/>
              <a:ext cx="29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ERY GOOD : high qua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36720" y="5229360"/>
              <a:ext cx="44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OOD             : available (high watermark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38880" y="5583240"/>
              <a:ext cx="33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IR               : adequate qua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37080" y="5950080"/>
              <a:ext cx="457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D                 : low quality (low watermark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43200" y="6310440"/>
              <a:ext cx="286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ERY BAD    : unavail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9280" y="458136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nk Quality 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4000" y="4941720"/>
              <a:ext cx="0" cy="1079640"/>
            </a:xfrm>
            <a:prstGeom prst="line">
              <a:avLst/>
            </a:prstGeom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66560" y="5518080"/>
              <a:ext cx="0" cy="11527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66560" y="4941360"/>
              <a:ext cx="0" cy="576360"/>
            </a:xfrm>
            <a:prstGeom prst="line">
              <a:avLst/>
            </a:prstGeom>
            <a:ln w="381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4000" y="6021360"/>
              <a:ext cx="0" cy="64944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47:08Z</dcterms:created>
  <dc:creator>koki</dc:creator>
  <dc:description/>
  <dc:language>en-US</dc:language>
  <cp:lastModifiedBy>koki</cp:lastModifiedBy>
  <dcterms:modified xsi:type="dcterms:W3CDTF">2005-03-14T15:57:04Z</dcterms:modified>
  <cp:revision>211</cp:revision>
  <dc:subject/>
  <dc:title>Unified L2 Abstractions for L3-Driven Fast Handover draft-koki-mobopts-l2-abstractions-02.txt</dc:title>
</cp:coreProperties>
</file>