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BD1-A989-4479-BEBA-2809D962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129-A438-40BF-B61A-9B446A2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BE9-4E11-4063-ABA5-2B9921D3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BD3-AD81-4C64-A05A-56E53CD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8AA-59F7-4300-AB96-3A5377C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030-9687-4354-933E-5E02A6C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248-A86C-4756-B53A-1C032A0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E8-2CC0-4C1A-AED4-CA944CE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867-1A7F-42E6-AAF6-82FE80B5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DFE-EA74-4916-AEFA-C73D8984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907-584E-4356-A201-4D0EA35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28A-03FD-4805-8FBF-DBB4CD2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rch 8,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ETF 62 - Minneapolis,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jay Rajkumar, Chair IEEE 802.21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6608-B408-4AAC-AF33-EF14406BA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304920"/>
            <a:ext cx="198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N: 21-05-0239-00-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mllieee" descr=""/>
          <p:cNvPicPr/>
          <p:nvPr/>
        </p:nvPicPr>
        <p:blipFill>
          <a:blip r:embed="rId2"/>
          <a:stretch/>
        </p:blipFill>
        <p:spPr>
          <a:xfrm>
            <a:off x="228600" y="0"/>
            <a:ext cx="754200" cy="857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" name="802logo" descr=""/>
          <p:cNvPicPr/>
          <p:nvPr/>
        </p:nvPicPr>
        <p:blipFill>
          <a:blip r:embed="rId3"/>
          <a:stretch/>
        </p:blipFill>
        <p:spPr>
          <a:xfrm>
            <a:off x="8313840" y="76320"/>
            <a:ext cx="75384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dia Independent Handover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vices and Interoper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jay Rajku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ir, IEEE 802.21 W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formation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Link access para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curity mechanis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Neighbor ma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Provider and other Access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st of l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2A6-E2DE-41F5-A5C2-CE3D50AA6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l for Proposals -Time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FP Issued on September 28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t to Propose deadline was October 10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submissions deadline was November 8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l presentations during November Plen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d submissions deadline, January 10,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proposal presentations during January Inter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presentations comp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going harmonization and evaluation of propos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draft text scheduled for May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8A7-5309-43CF-85D6-A426C3D51E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nk You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and Feedbac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CD2-9B34-4C24-9F23-1613DDB55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enarios considered by 802.21 W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xx and 802.y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xx and Cell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GPP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GPP2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11 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5F7-7CDC-45DD-9561-D2512A1C7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es Heterogeneous Handover Mea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sion Continuity at the IP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ation to new link at layer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continuity at layer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 Continuity at the Application layer(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772-5EC3-4B43-8644-C42F3091D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nctional Requi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rvice Continu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바탕"/>
              </a:rPr>
              <a:t>Independent of Architectural Deployment of individual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lass of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Quality of Service (QoS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Network Disco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Information Discovery (Network Selectio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Power Manage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over Policy shall not be defin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010-203A-4CE0-8DE7-0F9E85C7BF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Work It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a Independent Handover (MIH)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/Trigger service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ADC-F812-4AE0-B669-FB2A17360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H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going Discussion iss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it be a lay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an API be 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transport be 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Remote tri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6B6-B0D2-47B5-88C9-A5221B9749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H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H Reference Model: 802.xx to 802.y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2057400"/>
          <a:ext cx="67867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7867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74B-D4A0-42F9-BF4D-2B1F9FE116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EEE 802.xx to Cell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82412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12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4280" y="1881360"/>
          <a:ext cx="67867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81360"/>
                    <a:ext cx="67867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219320" y="126036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1C0-8E80-42F7-9848-37F200596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nt/Trigger service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Trig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/to M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-to-peer Remote Trigg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ross access interfaces as MIH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ross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modes of trans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dia specific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ba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 ba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2.21 specific Ethertyp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7F4-F8D2-46F6-B2A1-98D2621AC9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jayrajkumar</cp:lastModifiedBy>
  <dcterms:modified xsi:type="dcterms:W3CDTF">2005-03-08T19:31:15Z</dcterms:modified>
  <cp:revision>36</cp:revision>
  <dc:subject/>
  <dc:title>PowerPoint Presentation</dc:title>
</cp:coreProperties>
</file>