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322-79FA-4718-B6EF-F091A0DE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272-D47A-4BEE-9E26-EF8FFA79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810-DFB8-4A52-A2DB-65AD6796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305-3BF5-47EF-9179-0D00B7CF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4B0-B151-46AC-A92E-A2DAEE9F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DAD-09D3-4A24-BA4A-3575E14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688-0E69-4CCF-B2E3-EF73163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155-AA13-41F5-B7DA-D1D05206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B59-7E9A-46B6-ADF7-2C66BE78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3AF-1242-41CC-9AE5-68496E6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C57-51DF-490A-8F65-6DCBDCF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BD5-973B-4241-9E0F-CB370A3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rch 7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ETF 62 - Minneapolis,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jay Rajkumar, Chair IEEE 802.21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C94B-CBDC-4EB8-BC4E-797BF9FF6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304920"/>
            <a:ext cx="198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N: 21-05-0238-00-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mllieee" descr=""/>
          <p:cNvPicPr/>
          <p:nvPr/>
        </p:nvPicPr>
        <p:blipFill>
          <a:blip r:embed="rId2"/>
          <a:stretch/>
        </p:blipFill>
        <p:spPr>
          <a:xfrm>
            <a:off x="228600" y="0"/>
            <a:ext cx="754200" cy="857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" name="802logo" descr=""/>
          <p:cNvPicPr/>
          <p:nvPr/>
        </p:nvPicPr>
        <p:blipFill>
          <a:blip r:embed="rId3"/>
          <a:stretch/>
        </p:blipFill>
        <p:spPr>
          <a:xfrm>
            <a:off x="8313840" y="76320"/>
            <a:ext cx="75384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dia Independent Handover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vices and Interoper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jay Rajkum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ir, IEEE 802.21 W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formation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Link access para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Security mechanis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Neighbor ma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Provider and other Access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ost of l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85A-E611-4DA3-A601-51B391ADE4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l for Proposals -Time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FP Issued on September 28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t to Propose deadline was October 10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submissions deadline was November 8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l presentations during November Plen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d submissions deadline, January 10,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proposal presentations during January Inter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presentations comp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going harmonization and evaluation of propos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 draft text scheduled for May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8E9-3BEE-4676-8991-1B53E68A0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ank You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s and Feedback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3A9-9B23-4102-913D-8214724546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enarios considered by 802.21 W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802.xx and 802.y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802.xx and Cell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GPP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GPP2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ween 802.11 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D89-DE8E-45BC-A936-8CF738FAD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es Heterogeneous Handover Mea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ssion Continuity at the IP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ation to new link at layer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continuity at layer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ice Continuity at the Application layer(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4AC-E690-425F-A0B7-5E926C2F31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nctional Requi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Service Continu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바탕"/>
              </a:rPr>
              <a:t>Independent of Architectural Deployment of individual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Class of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Quality of Service (QoS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Network Discove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Information Discovery (Network Selectio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바탕"/>
              </a:rPr>
              <a:t>Power Manage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over Policy shall not be defin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F91-136A-4942-8315-B61F87250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e Work Ite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a Independent Handover (MIH)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/Trigger service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C08-4971-426F-A5A6-B2A79C3F7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H Mod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it be a 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an API be def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transport be defi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emote trig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Local trig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199-83ED-4AB9-A583-F713BFB6B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H Mod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H Reference Model: 802.xx to 802.y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2057400"/>
          <a:ext cx="67867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7867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04B-F975-4BB6-8CA9-19EFFDD713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EEE 802.xx to Cellu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82412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12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4280" y="1881360"/>
          <a:ext cx="67867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81360"/>
                    <a:ext cx="67867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219320" y="126036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B73-8517-42C6-8277-4971A141E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nt/Trigger service mod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Trig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/to M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-to-peer Remote Trigg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ross access interfaces as MIH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ross network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modes of trans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dia specific trans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ba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 ba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2.21 specific Ethertyp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BC6-93B4-4FEB-B9C2-B5CA014786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jayrajkumar</cp:lastModifiedBy>
  <dcterms:modified xsi:type="dcterms:W3CDTF">2005-03-07T23:03:48Z</dcterms:modified>
  <cp:revision>35</cp:revision>
  <dc:subject/>
  <dc:title>PowerPoint Presentation</dc:title>
</cp:coreProperties>
</file>