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762-06CE-4057-8329-77864F0D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05C-0F32-4E93-B06A-13B699A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811-6508-4B4E-9E1C-FDB4DB0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5EA-D47C-4838-8275-374B11D9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C79-3D52-4E20-95E3-5934B11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D3F-48C7-4785-8768-CB58C16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195-706C-4C42-9278-D4D01AE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4CC-9BF6-4833-82F2-6031F25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448-F015-4772-B758-7F3B580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D3E-9C57-4DB6-BF9F-E75F386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761-BDF0-4F25-A5FF-FCD0D9F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DD-17F1-45F3-860E-292D1CB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jay Rajkumar, Chair 802.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F37-ADC7-4B15-9850-A6D0CBC5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57240"/>
            <a:ext cx="753840" cy="857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81880" y="60480"/>
            <a:ext cx="75420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ee802.org/21/index%20d2.html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int Opening Plenary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EEE 802.21 Session #7</a:t>
            </a:r>
            <a:br>
              <a:rPr sz="40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dia Independent Handover Service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lanta, Geor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jay Rajku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jayrajkumar@lucen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y Rajku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jayrajkumar@lucen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-Ch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.G.Williams@noki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yu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iaoyu.liu@samsu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vek G. Gup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vek.g.gupta@in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G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Server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ver Server IP addres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0.1.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Name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websit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eee802.org/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ite meeting website: http://10.0.1.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ite alternate website name: http://handove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ite web porta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ieee802.facetoface-events.com/plenary/attend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lectronic attendance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attendance with signup sheets circulated during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Members have 802.21 indication on their ba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VM badge problems please send email to Michael Williams, Vice-Chair with cc to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Time and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cation: Hyatt Regency, Atlanta,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um Tower Ballroom Level, Regenc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noon: 1.30 pm – 6.00 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to Thurs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ning: 8.00 am – 12.00 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noon: 1.00 pm – 6.00 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14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attendance credit towards voting membership for this interim, one would require 75% attendance in 11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enda Summary - Session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contributions evaluation of proposals with more explanations. This is in response to Call for Proposals on the following wor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Independent Handover (MIH)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/Trigger Servic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of Updated Proposals during this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Harmonized proposals with text explaining the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discussion 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Differences/Similarities between proposed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Criteria and Down Selec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ison/Interaction with other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Joint Session with 802.11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802.16g (NET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IETF link indication d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DNA WG Chai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im: May 15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– 2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irns, Australia. Meeting co-located with 802.11/15/18/19/20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nary: July 17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 2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att Re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n Francisco, CA, USA. Co-located with all 802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im: September 18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– 2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Hyatt Re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range County, CA, USA. Meeting co-located with 802.11/15/18/19/20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nary: November 1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 18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att Re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ncouver, BC, Canada. Co-located with all 802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0:21:57Z</dcterms:created>
  <dc:creator>Ajay Rajkumar</dc:creator>
  <dc:description/>
  <dc:language>en-US</dc:language>
  <cp:lastModifiedBy>ajayrajkumar</cp:lastModifiedBy>
  <dcterms:modified xsi:type="dcterms:W3CDTF">2005-03-13T03:35:07Z</dcterms:modified>
  <cp:revision>70</cp:revision>
  <dc:subject/>
  <dc:title>Joint Opening Plenary IEEE 802.21 Session #2</dc:title>
</cp:coreProperties>
</file>