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E75-FB71-4214-AEAD-EC3E556A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5F7-DDFE-4C93-B152-5D6774CD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672-AA93-46FD-9F41-482CF9EC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D3D-0E76-4426-82D9-D8DCE271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F49-32D8-4460-B457-E1B95985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B51-2497-4F16-9C8A-C637BBA1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331-465F-46C4-AD25-6B9CCE3F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43F-239C-40D7-BE89-50066D0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5C7-41C3-40BA-8CD7-F2285F82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2F0-C5BA-4FB9-8CD3-A97DEE72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B1F-CD3A-49D4-BA79-E13DEDB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332-A6B0-4288-95C2-B1419F37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2193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02400" y="6474960"/>
            <a:ext cx="2908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Hunter, Vetronix / ETAS / Robert Bo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6640" y="6474960"/>
            <a:ext cx="528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9B1803-CF2C-45E0-8A4A-2D4DEDFA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21-05/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026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6160" y="6475320"/>
            <a:ext cx="91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aison Repor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EEE 802.11 work related to 802.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71280" y="3428640"/>
            <a:ext cx="701676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H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tronix / ETAS / Robert Bo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nter@timefacto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Siemens Roke Ma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3C5-AD9F-459E-91F2-B0F17B76943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2.11 Groups related to 802.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hernet Residential (proposed new 802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iously requested 802.11, 802.15 to help with 802.3 interface, hand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2.11r – Fast BSS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ween BSSes within the same 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2.11u – Wireless Interworking with Extern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 changes to accommodate, among others, 802.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hen McCann, Chair, is coordinating with 802.21:  reviewed 11-05-0279-00 earlier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2.11v – Wireless Network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 protocol for 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st meeting as a TG in January 2005; just beginning work 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candidate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k – Performance Measurement (runtime metrics useful for decision mak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p – Automotive (note MAC address anonymity and rapid handover iss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Siemens Roke Ma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14F-2661-40BE-AA44-031DF67F61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dential Eth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8686800" cy="46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etu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 association init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ng toward standard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ing parameterized QoS over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status; working on PAR and 5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esting coordination, help from 802 wireless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nt to enable handoff of 802.3+QoS with 802.11, 802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chael Teener was going to coordinate 802.21 interface with Aj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of 802.3-related handover in the two current 802.21 proposa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support of this handover a requir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Siemens Roke Ma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322-5B50-4B70-8382-6DD4C8016B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2.11r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8686800" cy="46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ical importance for 802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ever 11r creates will definitely be required for 802.21's su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ed on 8 proposals at the end of Januar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two proposals reached 50% appro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P and J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the others are excluded as standalone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ough content can come back if merged with one of winning propos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P:  Transition Accelera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T:  Just In Tim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Siemens Roke Ma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3A1-D3BA-4AE8-8118-5ADF88CFDD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2.11r Curren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8686800" cy="46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poned vote on proposed merged text until Ma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ging specific areas:  identified about a dozen work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ree of these are critical to the oth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e-roam negotiations – Over The Air  vs. Over The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source pre-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ey Hierarchy and Key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eated ad-hoc groups to work on merging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st of work this week in these three ad-ho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rst two mergers now complete: 11-05-0239-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ey hierarchy is a major continuing work topic:  11-05-0250-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Siemens Roke Ma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DEB-31EF-4021-A71B-429A4D24D3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2.11r Current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8686800" cy="46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05-0239-00 covers both delivery mech and pre-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 vs OT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 is yes:  technology needs to support 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 advertises whether it supports O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ing a concept of a "Mobility Domai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et of the Security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of all other 802.11 APs to which a STA can roam right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pre-allocation of re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h direct to the next AP and through a proxy/bro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laid out message types and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Siemens Roke Ma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32C-6C0E-446C-8B44-DCE87457F5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2.11r Time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8686800" cy="46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ecemeal merging of TAP and J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il 20-22, 200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im ad-hoc in To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200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ged draft and vote to ad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i-weekly teleconferences May 25 –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ing additional detail proposals after Draf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ill expect to go to letter ballot before 802.21 draft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Siemens Roke Man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17D-C5C4-496D-9FEA-02D85632D7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6:21:26Z</dcterms:created>
  <dc:creator>David Hunter</dc:creator>
  <dc:description>David Hunter, Vetronix / ETAS / Robert Bosch</dc:description>
  <cp:keywords>November 2004</cp:keywords>
  <dc:language>en-US</dc:language>
  <cp:lastModifiedBy>hunter</cp:lastModifiedBy>
  <cp:lastPrinted>1998-02-10T13:28:06Z</cp:lastPrinted>
  <dcterms:modified xsi:type="dcterms:W3CDTF">2005-03-17T18:25:36Z</dcterms:modified>
  <cp:revision>155</cp:revision>
  <dc:subject>802.11 Liaison</dc:subject>
  <dc:title>doc.: IEEE 802.21-04/xxxr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November 2004</vt:lpwstr>
  </property>
</Properties>
</file>