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8E3-E512-489F-951B-8C267931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BF3-5306-4ADD-9453-8CF7A673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6CD-DEB7-4742-8D4C-C1FC28D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60E-D834-49B1-BE63-CE389140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7B1-7676-4A20-BA54-0D1F1E9E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885-4634-4B29-8B5F-8ECDE0D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041-D56D-45DC-836B-A07FB2D4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65A-71BF-4B6E-89E1-33AA4464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F5E-B30C-479B-A81E-8CCAA1BC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E0C-E8BE-4FE0-A163-6A40849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687-1712-46C3-8A17-745E24C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72C-AE64-4DD9-9141-55BF35E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D936-E6C0-4C3D-825D-9D0D67E7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posal for IEEE 802.21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ric.njedjou@franceteleco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H function at UMTS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pending on the coupling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importance of the HMH function between terminal and network side will 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HMC entity at terminal side will be able to connect to its network peer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andard should be coupling type agnost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eneral cases will be describr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802.11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placement in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To be figured out by IEEE 802.11 Project Task Group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ests from IEEE 802.21 are to be addressed to IEEE 802.11 according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iremen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QoS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Security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 to provide services to upper layers as an L3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802.11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placement in protocol stack on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est from 802.21 of services to the HM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802.11 MAC, that per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sociation/Re-associ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oS provisionning (defined by 11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urity functions as part of 11i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802.11 PHY,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tion Measurements of Signal Str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020000" y="3429000"/>
            <a:ext cx="1366920" cy="2487600"/>
            <a:chOff x="7020000" y="3429000"/>
            <a:chExt cx="1366920" cy="2487600"/>
          </a:xfrm>
        </p:grpSpPr>
        <p:sp>
          <p:nvSpPr>
            <p:cNvPr id="81" name=""/>
            <p:cNvSpPr/>
            <p:nvPr/>
          </p:nvSpPr>
          <p:spPr>
            <a:xfrm>
              <a:off x="7307280" y="4292640"/>
              <a:ext cx="914400" cy="89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07280" y="4726080"/>
              <a:ext cx="914400" cy="46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7280" y="5187960"/>
              <a:ext cx="914400" cy="339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65880" y="5618160"/>
              <a:ext cx="102888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802.11 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6000" y="3429000"/>
              <a:ext cx="10792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M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70920" y="35733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6920" y="3573360"/>
              <a:ext cx="0" cy="136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170920" y="4941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20000" y="4005360"/>
              <a:ext cx="0" cy="136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20000" y="537372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020000" y="3644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3645000"/>
              <a:ext cx="358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C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stablishment/Rele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f the Heterogeneous Media Convergence connection between HMC peers (station and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Request for handov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o a particular link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for instan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ing from applications and relayed to the HMH function in the networ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ch a request would be also locally adressed (within the HMH function in the term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Instruction to Mobility layers to switc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ta flows between links according to the handover decision made in the HMH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Acknowledgement of  the handover comple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o HMC peer in the net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MH interaction with upper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rtant 802.21 requi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Higher layer mobility protocols shall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between an L3MP and the HMH 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MC messages arrived from the network should be formatted for use for example by the Mobile IP layer for care-of address re-se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ort for IETF recommendations document will have to be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between Applications and the MIH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s should be able to generate handover requests messages to the HMH function: these resquests would be either processed locally or sent to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plementation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C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 be determined during protocol desig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for HMC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G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RC (UM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ed extensions to be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LC (GP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ed extensions to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fine Heterogeneous Media subtype of the Management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GPP station at station/network s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MTS station has attached to the network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Station_attach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cell an routeing area identity, ciphering algorithm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MTS station has detached from the network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Station_detach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station/SGSN to HMC layer, r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GPP at station/network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nge in the Mobility Management state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Mobility_Management_State_Chang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recedent MM state, new MM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P context has been activated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PDPcontext_is_activ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DP type, PDP state, QoS profile requested, QoS profile negotiated, A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GPP at station/network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P context has been modified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MM/SM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PDPcontext_is_modifi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DP type, PDP state, QoS profile requested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new QoS profile negoti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A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P context has been de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PDPcontext_is_deactiv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station/SGSN to HMC layer, PDP type, PDP state, QoS profile requested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new QoS profile negotiat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A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eded modifications to the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onents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H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ent In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cuss endorsement of changes to the Requiremen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GPP at station/network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ysical Layer Measurement report available (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RRC lay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Measurement_report_availab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station/RNC to HMC layer, re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: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EE 802.11 at s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eived Signal Strentgh Indicator value reaches low threshold (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PHY lay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RSSI_reaches_low_threso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tion to HMC layer in network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/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EE 802.11 at network side (optionally 11e/11i compl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 has associated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Station_associa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tion/network to HMC layer, BSSID of AP, SSID, RSN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 has de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gnal the event to the HMC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Station_deassocia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tion/network to HMC layer,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 on receip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may want event indication also from 11k, 11u, WNM whose standards are not yet avail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vent Indication to H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802.11 at station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eived Signal Quality Indicator value reaches low threshold (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PHY lay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RSQI_reaches_low_thresol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station to HMC layer in networ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mote HM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EE 802.11e at network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oS BSS load information reaches high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QoSBSS_load_reaches_high_thresold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network to HMC layer, BSSID of 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 on recei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ipient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ocal HM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vent Indication to the HMH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HMC layer receives event indications from specific link layers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 transcodes them into abstracted events parameters to be used by the HMH function in the handover decision mak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HMC layer relays the formatted event indications to HMH through an event service to be def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gher Layer Mobility Protocols will be consumers of the HMH function provid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MH function messages to Higher Layer Mobility Protocols are implemention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red access links/networks for the station (link type with provider IDs -PLMN/SSIDs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red access networks (associated provider IDs -PLMN/SSIDs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QoS required by differ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cription type (roaming profile, billing ability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s of the radio access network at particular locations (cell size and capacity, Access Point capabilitie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ferred and/or forbidden SSID/PLM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eeded modifications to the Requirements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ction 2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twork Sel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urrent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he process by which a mobile terminal collects appropriate information and select an L2 link for higher layer communication is called Network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Required for the sake of being policy agnostic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he process by which a mobile terminal 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or an entity within the networ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llects appropriate information and selects an L2 link for higher layer communication is called Network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equired modifications to the Requirements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ction 4: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tion 4.1: Intended handover function should be everything but Media Independan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Reas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the handover decision making process should take into account the diversity of attributes between links to perform the best sele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Sugges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Change from Media Independent (MIH) to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Heterogeneous Media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ndover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HM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equired Modifications to the Requirements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ction 4: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H function is intended to provide services at network mobility and applications lay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H function is also intended to request services from link layers via appropriate S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This defines a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ually what has to be standardized within 802.21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 Heterogeneous/Inter Media Convergence (HMC/IMC)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quires time and har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 Heterogeneous Media Handove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 specification should be let at the discretion of Equipment vendors and Oper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ndardized parameters to achieve that function should be available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onents of th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H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ent in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ndover scenarios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single 802.11 interface going across ES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in Phase 1 propo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ndover between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M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802.1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ologies affected by the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uple of GPRS/UMTS Specifications in Relea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EEE Std 802.11-1999, IEEE Draft 802.11i-2004, IEEE Draft 802.11e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H Archite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6559560"/>
            <a:ext cx="205740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ulti Access Mobil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847800"/>
            <a:ext cx="74296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UMTS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 placement in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To be eventually figured out by 3GP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quests from IEEE 802.21 are to be adressed to 3GPP according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irements 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oS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curity attributes mapping betwee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 to provide services to upper layers as an L3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MC layer at UMTS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hitecture placement in protocol stack on station/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quest from 802.21 of services to HMC lay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om GMM/SM, that per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ment to the UMTS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bility Management states hand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dures to activate, deactivat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ify a PDP con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om RRC, that per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ion measurements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dio Resources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quested Qo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gin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ial cell selection/re-selection in id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093080" y="2997360"/>
            <a:ext cx="1657080" cy="2992320"/>
            <a:chOff x="7093080" y="2997360"/>
            <a:chExt cx="1657080" cy="2992320"/>
          </a:xfrm>
        </p:grpSpPr>
        <p:sp>
          <p:nvSpPr>
            <p:cNvPr id="61" name=""/>
            <p:cNvSpPr/>
            <p:nvPr/>
          </p:nvSpPr>
          <p:spPr>
            <a:xfrm>
              <a:off x="7308720" y="3862440"/>
              <a:ext cx="1150920" cy="361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MM/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08720" y="4186080"/>
              <a:ext cx="1150920" cy="36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Times New Roman"/>
                  <a:ea typeface="MS Mincho"/>
                </a:rPr>
                <a:t>R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4510080"/>
              <a:ext cx="115092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8720" y="4834080"/>
              <a:ext cx="115092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08720" y="5157720"/>
              <a:ext cx="115092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Times New Roman"/>
                  <a:ea typeface="MS Mincho"/>
                </a:rPr>
                <a:t>   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Times New Roman"/>
                  <a:ea typeface="MS Mincho"/>
                </a:rPr>
                <a:t>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93080" y="5589720"/>
              <a:ext cx="165708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UMTS Control plane protocol sta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8720" y="2997360"/>
              <a:ext cx="115092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M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3080" y="3141720"/>
              <a:ext cx="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04360" y="3213000"/>
              <a:ext cx="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8360" y="321300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388360" y="436572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93080" y="400536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93080" y="314172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05:17:56Z</dcterms:created>
  <dc:creator>NJEDJOU Eric</dc:creator>
  <dc:description/>
  <dc:language>en-US</dc:language>
  <cp:lastModifiedBy>NJEDJOU Eric</cp:lastModifiedBy>
  <dcterms:modified xsi:type="dcterms:W3CDTF">2004-11-09T02:07:25Z</dcterms:modified>
  <cp:revision>26</cp:revision>
  <dc:subject/>
  <dc:title>Proposal for 802.21 solution</dc:title>
</cp:coreProperties>
</file>