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34560" y="4430880"/>
            <a:ext cx="5140440" cy="42033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333080" y="808200"/>
            <a:ext cx="4343400" cy="3257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333440" y="808200"/>
            <a:ext cx="4343400" cy="32572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34560" y="4430880"/>
            <a:ext cx="5140440" cy="42033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1.) Shows an 802.X session in progress – a rough view of the data path is shown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2.) 802.3 PHY is detected I.E. the combo Station is plugged in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3.) Results in a MIH_PHY_EVENT sent to the MIH function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4.) A decision is made by some policy function to begin a handover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5.) MIH enters the HO Prepare State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6.) The “Make” process is started by sending a MIH_HO_PREPARE trigger to the HL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7.) This trigger contains routing info that the MIH function collected when it first accessed the system. This facilitates the acquisition of the new CoA.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8.) Similarly, HO_PREPARE is sent to prepare the new LL entity 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9.) A new IP tunnel is established 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10.) This example assumes “Multiple CoA registration” so at this point two IP streams are in place.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8B99F-E9A3-4407-BB77-B4D251AE18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829944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2280" y="3849120"/>
            <a:ext cx="829944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71768-36E0-41EA-94F9-05631CE061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22280" y="384912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5320" y="384912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EDC91-365C-4332-9318-765FC76274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8480" y="114264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4680" y="114264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22280" y="384912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28480" y="384912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4680" y="384912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4C919-F3F0-4692-8EA1-61B5029634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3BFBB-17C4-4B63-B7F9-0FE99E926A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947BD-D8D6-415B-9782-015C9CB231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E3BB3-9FBF-4F87-8298-C7543C6F56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9E169-68B2-4374-A82B-F3DEBEB4CF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21920" y="228240"/>
            <a:ext cx="8271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D0803-0BA9-4815-875C-3029B10F8C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22280" y="384912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BE0B8-87FF-4803-8B1F-A51A8FC772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5320" y="384912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B9812-73E4-4CE2-B509-3D53EEACF9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22280" y="3849120"/>
            <a:ext cx="829944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19B2B-03D3-4916-AEA0-0A8C98CD28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768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05040" indent="-277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80880" y="6400440"/>
            <a:ext cx="1981440" cy="4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-04-00xx-00-0021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924320" y="6324120"/>
            <a:ext cx="685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0805-AAB9-408A-9717-3AD2E7C90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706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scussion Item for Tuesday Morning Teleconferenc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smllieee" descr=""/>
          <p:cNvPicPr/>
          <p:nvPr/>
        </p:nvPicPr>
        <p:blipFill>
          <a:blip r:embed="rId1"/>
          <a:stretch/>
        </p:blipFill>
        <p:spPr>
          <a:xfrm>
            <a:off x="457200" y="57240"/>
            <a:ext cx="754200" cy="857160"/>
          </a:xfrm>
          <a:prstGeom prst="rect">
            <a:avLst/>
          </a:prstGeom>
          <a:ln w="0">
            <a:noFill/>
          </a:ln>
        </p:spPr>
      </p:pic>
      <p:pic>
        <p:nvPicPr>
          <p:cNvPr id="45" name="802logo" descr=""/>
          <p:cNvPicPr/>
          <p:nvPr/>
        </p:nvPicPr>
        <p:blipFill>
          <a:blip r:embed="rId2"/>
          <a:stretch/>
        </p:blipFill>
        <p:spPr>
          <a:xfrm>
            <a:off x="8161200" y="152280"/>
            <a:ext cx="754200" cy="77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2A6E5-B9B8-4070-A5CE-70E243485DF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mllieee" descr=""/>
          <p:cNvPicPr/>
          <p:nvPr/>
        </p:nvPicPr>
        <p:blipFill>
          <a:blip r:embed="rId1"/>
          <a:stretch/>
        </p:blipFill>
        <p:spPr>
          <a:xfrm>
            <a:off x="457200" y="57240"/>
            <a:ext cx="754200" cy="857160"/>
          </a:xfrm>
          <a:prstGeom prst="rect">
            <a:avLst/>
          </a:prstGeom>
          <a:ln w="0">
            <a:noFill/>
          </a:ln>
        </p:spPr>
      </p:pic>
      <p:pic>
        <p:nvPicPr>
          <p:cNvPr id="47" name="802logo" descr=""/>
          <p:cNvPicPr/>
          <p:nvPr/>
        </p:nvPicPr>
        <p:blipFill>
          <a:blip r:embed="rId2"/>
          <a:stretch/>
        </p:blipFill>
        <p:spPr>
          <a:xfrm>
            <a:off x="8161200" y="152280"/>
            <a:ext cx="754200" cy="777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19320" y="228600"/>
            <a:ext cx="6553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edia Independent Handover  Proposal Scope Matrix for Discussion</a:t>
            </a:r>
            <a:endParaRPr b="0" lang="en-US" sz="2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-990720" y="1600200"/>
          <a:ext cx="10769760" cy="4102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990720" y="1600200"/>
                    <a:ext cx="10769760" cy="41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A26CE-F454-4022-B2B2-67497576E7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edia Independent Handover Call Flow Template for discuss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smllieee" descr=""/>
          <p:cNvPicPr/>
          <p:nvPr/>
        </p:nvPicPr>
        <p:blipFill>
          <a:blip r:embed="rId1"/>
          <a:stretch/>
        </p:blipFill>
        <p:spPr>
          <a:xfrm>
            <a:off x="457200" y="57240"/>
            <a:ext cx="754200" cy="857160"/>
          </a:xfrm>
          <a:prstGeom prst="rect">
            <a:avLst/>
          </a:prstGeom>
          <a:ln w="0">
            <a:noFill/>
          </a:ln>
        </p:spPr>
      </p:pic>
      <p:pic>
        <p:nvPicPr>
          <p:cNvPr id="53" name="802logo" descr=""/>
          <p:cNvPicPr/>
          <p:nvPr/>
        </p:nvPicPr>
        <p:blipFill>
          <a:blip r:embed="rId2"/>
          <a:stretch/>
        </p:blipFill>
        <p:spPr>
          <a:xfrm>
            <a:off x="8161200" y="152280"/>
            <a:ext cx="754200" cy="777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352680" y="1066680"/>
            <a:ext cx="243864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ld Point of Attachment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066680"/>
            <a:ext cx="243864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 Narrow"/>
              </a:rPr>
              <a:t>Multimode STA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" name=""/>
          <p:cNvSpPr/>
          <p:nvPr/>
        </p:nvSpPr>
        <p:spPr>
          <a:xfrm>
            <a:off x="6324480" y="1066680"/>
            <a:ext cx="243864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ew Point of Attachment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" name=""/>
          <p:cNvSpPr/>
          <p:nvPr/>
        </p:nvSpPr>
        <p:spPr>
          <a:xfrm>
            <a:off x="7543800" y="1523880"/>
            <a:ext cx="0" cy="4724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1523880"/>
            <a:ext cx="0" cy="4724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1523880"/>
            <a:ext cx="0" cy="4724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523880"/>
            <a:ext cx="0" cy="472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1523880"/>
            <a:ext cx="0" cy="472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0" cy="472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" name=""/>
          <p:cNvSpPr/>
          <p:nvPr/>
        </p:nvSpPr>
        <p:spPr>
          <a:xfrm>
            <a:off x="2743200" y="1523880"/>
            <a:ext cx="0" cy="472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4" name=""/>
          <p:cNvSpPr/>
          <p:nvPr/>
        </p:nvSpPr>
        <p:spPr>
          <a:xfrm>
            <a:off x="5707080" y="1523880"/>
            <a:ext cx="0" cy="4724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5" name=""/>
          <p:cNvSpPr/>
          <p:nvPr/>
        </p:nvSpPr>
        <p:spPr>
          <a:xfrm>
            <a:off x="8686800" y="1523880"/>
            <a:ext cx="0" cy="472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1776240"/>
            <a:ext cx="609840" cy="2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 Narrow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1693800"/>
            <a:ext cx="76176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 Narrow"/>
              </a:rPr>
              <a:t>MIH Function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8" name=""/>
          <p:cNvSpPr/>
          <p:nvPr/>
        </p:nvSpPr>
        <p:spPr>
          <a:xfrm>
            <a:off x="2324160" y="1776240"/>
            <a:ext cx="838080" cy="2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 Narrow"/>
              </a:rPr>
              <a:t>LL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9" name=""/>
          <p:cNvSpPr/>
          <p:nvPr/>
        </p:nvSpPr>
        <p:spPr>
          <a:xfrm>
            <a:off x="3009960" y="1776240"/>
            <a:ext cx="838080" cy="2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 Narrow"/>
              </a:rPr>
              <a:t>LL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0" name=""/>
          <p:cNvSpPr/>
          <p:nvPr/>
        </p:nvSpPr>
        <p:spPr>
          <a:xfrm>
            <a:off x="5410080" y="1776240"/>
            <a:ext cx="609840" cy="2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 Narrow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" name=""/>
          <p:cNvSpPr/>
          <p:nvPr/>
        </p:nvSpPr>
        <p:spPr>
          <a:xfrm>
            <a:off x="4191120" y="1693800"/>
            <a:ext cx="76176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 Narrow"/>
              </a:rPr>
              <a:t>MIH Function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2" name=""/>
          <p:cNvSpPr/>
          <p:nvPr/>
        </p:nvSpPr>
        <p:spPr>
          <a:xfrm>
            <a:off x="6019920" y="1776240"/>
            <a:ext cx="838080" cy="2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 Narrow"/>
              </a:rPr>
              <a:t>LL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" name=""/>
          <p:cNvSpPr/>
          <p:nvPr/>
        </p:nvSpPr>
        <p:spPr>
          <a:xfrm>
            <a:off x="8267760" y="1776240"/>
            <a:ext cx="838080" cy="2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 Narrow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" name=""/>
          <p:cNvSpPr/>
          <p:nvPr/>
        </p:nvSpPr>
        <p:spPr>
          <a:xfrm>
            <a:off x="7162920" y="1693800"/>
            <a:ext cx="76176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 Narrow"/>
              </a:rPr>
              <a:t>MIH Function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" name=""/>
          <p:cNvSpPr/>
          <p:nvPr/>
        </p:nvSpPr>
        <p:spPr>
          <a:xfrm>
            <a:off x="495360" y="2362320"/>
            <a:ext cx="990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cal Triggers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56840" y="266688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599840" y="312408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2819520"/>
            <a:ext cx="9903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cal Triggers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599840" y="3962520"/>
            <a:ext cx="2971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3657600"/>
            <a:ext cx="12193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Remote Triggers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1" name=""/>
          <p:cNvSpPr/>
          <p:nvPr/>
        </p:nvSpPr>
        <p:spPr>
          <a:xfrm>
            <a:off x="895320" y="4191120"/>
            <a:ext cx="1542960" cy="58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escription of MIH Actions /Processing if any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2" name=""/>
          <p:cNvSpPr/>
          <p:nvPr/>
        </p:nvSpPr>
        <p:spPr>
          <a:xfrm>
            <a:off x="876240" y="5105520"/>
            <a:ext cx="1562040" cy="58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Establishment and Release of Old/New Resources Description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84B23-0A88-407E-99C1-FD5EBFC21C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2T03:24:18Z</dcterms:created>
  <dc:creator>michaewi</dc:creator>
  <dc:description>Nokia Standard Presentation Template - LTR
v. 4 2000/01/05 Eric Beasley
Fixed RGB values for Nokia logo
NO Security Label</dc:description>
  <dc:language>en-US</dc:language>
  <cp:lastModifiedBy>carltoag</cp:lastModifiedBy>
  <cp:lastPrinted>1999-04-27T06:51:51Z</cp:lastPrinted>
  <dcterms:modified xsi:type="dcterms:W3CDTF">2004-12-05T21:47:50Z</dcterms:modified>
  <cp:revision>129</cp:revision>
  <dc:subject/>
  <dc:title>PowerPoint Presentation</dc:title>
</cp:coreProperties>
</file>