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333080" y="808200"/>
            <a:ext cx="4343400" cy="32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33440" y="808200"/>
            <a:ext cx="4343400" cy="3257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560" y="4430880"/>
            <a:ext cx="5140440" cy="4203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.) Shows an 802.X session in progress – a rough view of the data path is show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2.) 802.3 PHY is detected I.E. the combo Station is plugged i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3.) Results in a MIH_PHY_EVENT sent to the MIH functio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4.) A decision is made by some policy function to begin a handov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5.) MIH enters the HO Prepare Stat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6.) The “Make” process is started by sending a MIH_HO_PREPARE trigger to the H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7.) This trigger contains routing info that the MIH function collected when it first accessed the system. This facilitates the acquisition of the new CoA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8.) Similarly, HO_PREPARE is sent to prepare the new LL entity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9.) A new IP tunnel is established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10.) This example assumes “Multiple CoA registration” so at this point two IP streams are in plac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4973-CA0C-48FC-B5D8-470BBC4CF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7DC7-4D35-42CD-A7D0-6E7E2DFF8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B7D6-9716-413C-A0FE-4F174A7F1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873A-C34C-4FC6-8189-7601CFA2E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B806-3D03-4B0D-96EF-6BD26F880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4AE5-41FE-4B7C-AF51-99702A4B4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6117-2881-418F-A729-1CA56D16C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0664-615B-497D-9864-D85BEC943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E06C-9D23-4093-9C98-FC14E6283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DCBE-CC00-4A5C-BF31-D735302E6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3776-24D1-409B-8127-AF5DEF1D1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35B2-B3D2-4A0A-8C0B-094700C6B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-04-00xx-00-002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32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F153-72D8-4329-9D1D-892AAAF6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70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Item for Tuesday Morning Teleconfere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B14E-4B9C-48A6-83FA-EA0FFC842A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19320" y="2286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 Proposal Scope Matrix for Discussion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990720" y="1600200"/>
          <a:ext cx="10769760" cy="410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600200"/>
                    <a:ext cx="1076976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BD2C-2CC1-45ED-8FAF-E725AB757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a Independent Handover Call Flow Template for discu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mllieee" descr=""/>
          <p:cNvPicPr/>
          <p:nvPr/>
        </p:nvPicPr>
        <p:blipFill>
          <a:blip r:embed="rId1"/>
          <a:stretch/>
        </p:blipFill>
        <p:spPr>
          <a:xfrm>
            <a:off x="457200" y="57240"/>
            <a:ext cx="75420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802logo" descr=""/>
          <p:cNvPicPr/>
          <p:nvPr/>
        </p:nvPicPr>
        <p:blipFill>
          <a:blip r:embed="rId2"/>
          <a:stretch/>
        </p:blipFill>
        <p:spPr>
          <a:xfrm>
            <a:off x="8161200" y="152280"/>
            <a:ext cx="75420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526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ld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 Narrow"/>
              </a:rPr>
              <a:t>Multimode ST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066680"/>
            <a:ext cx="24386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w Point of Attachmen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5238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5707080" y="1523880"/>
            <a:ext cx="0" cy="472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8686800" y="1523880"/>
            <a:ext cx="0" cy="472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30099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776240"/>
            <a:ext cx="6098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8267760" y="177624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693800"/>
            <a:ext cx="7617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MIH Func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495360" y="2362320"/>
            <a:ext cx="990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5684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9984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819520"/>
            <a:ext cx="990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cal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99840" y="39625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3657600"/>
            <a:ext cx="121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mote Trigge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895320" y="4191120"/>
            <a:ext cx="154296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scription of MIH Actions /Processing if an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876240" y="5105520"/>
            <a:ext cx="1562040" cy="5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stablishment and Release of Old/New Resources Descrip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DC38-834F-44C5-856D-E0C5FD477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dc:language>en-US</dc:language>
  <cp:lastModifiedBy>carltoag</cp:lastModifiedBy>
  <cp:lastPrinted>1999-04-27T06:51:51Z</cp:lastPrinted>
  <dcterms:modified xsi:type="dcterms:W3CDTF">2004-12-05T21:47:50Z</dcterms:modified>
  <cp:revision>129</cp:revision>
  <dc:subject/>
  <dc:title>PowerPoint Presentation</dc:title>
</cp:coreProperties>
</file>