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D2E21-C633-4CC5-B69F-4EA0F8449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9A6D7-B87D-492A-9908-1F0300F71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040F-2DEE-4E18-A434-B2BF62410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84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46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22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84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46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B48D3-85AD-4A58-A522-4ED5325B65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7908F-05B4-477A-8716-6756E1D495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7FB0E-6508-45A8-8B59-DF8B46768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05DB5-B366-449F-8F25-1FD6139EF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4971B-99DB-48DD-97DB-28366DA46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21920" y="228240"/>
            <a:ext cx="827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CED8D-1AA3-47AE-9569-CB5C7BAA0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45872-B66B-445E-8D5F-2225A550F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2843D-7E51-4545-AF10-177D9BCFB6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03116-8AAD-469F-993C-D51C9A29F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400440"/>
            <a:ext cx="19814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040" y="64008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0D9A-61F0-4DF8-85AE-5DE4189A4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Purpose of Check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major components of contrib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ssist the working group in categorizing propos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elp authors in the harmonization and motion crafting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0">
              <a:lnSpc>
                <a:spcPct val="9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identify normative and informative sections of the overall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identify different media specific technologies the proposal addres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such technology identify specific amendments to the respective media specific technology 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E6880-9203-403A-BFB2-3D430A1C22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fc0128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Proposal Check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0">
              <a:lnSpc>
                <a:spcPct val="8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H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Ind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nformation [placeholder for authors to disclose additional materia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8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ver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 Family: 3, 11, 15,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ular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Extended Service Set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8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AutoNum type="alphaLcParenR" startAt="3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ndments to technology specific standards covered in above Handover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the technologies affected by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changes to each technology or technology specific elements affected by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A521D-0D47-46C1-9DB9-BD775E8772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Proposal Checklist (cont’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H Func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refer to Call for Proposal document #21-04-0151-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e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the network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P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and from upper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and from lower layers/sub-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machine definition and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H 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normalization proced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P registration procedures with other la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 other elements involved in handovers (if not covered above) and show complete handover functionality/scenario from a system persp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al results or any performance related metrics from simulations or other prototype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0">
              <a:lnSpc>
                <a:spcPct val="9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66BA7-72FB-46CB-826A-8E034961EB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0666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. Proposal Checklist (cont’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Ind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refer to Call for Proposal document #21-04-0151-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evel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908000" indent="-3808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(Source, Destination, …)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Gene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ect on Recei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/Media Speci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/Rem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 Speci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to MAC Fra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actions by other layers on receiving these events/ind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9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other side effects of these events/ind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0">
              <a:lnSpc>
                <a:spcPct val="9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FEA44-AEA1-4D6C-8015-8F748B4747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120" y="10663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1. Proposal Checklist (cont’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Servic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refer to Call for Proposal document #21-04-0151-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8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8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y 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-457200">
              <a:lnSpc>
                <a:spcPct val="8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media specific information elements and access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42720">
              <a:lnSpc>
                <a:spcPct val="80000"/>
              </a:lnSpc>
              <a:buClr>
                <a:srgbClr val="000099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as on how the information database could be deploy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8800" indent="0">
              <a:lnSpc>
                <a:spcPct val="9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FCA60-4546-410C-AC2A-46FF3E70E9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3:24:18Z</dcterms:created>
  <dc:creator>Nada Golmie</dc:creator>
  <dc:description/>
  <cp:keywords/>
  <dc:language>en-US</dc:language>
  <cp:lastModifiedBy>Intel Corporation</cp:lastModifiedBy>
  <cp:lastPrinted>1999-04-27T06:51:51Z</cp:lastPrinted>
  <dcterms:modified xsi:type="dcterms:W3CDTF">2004-12-27T20:08:04Z</dcterms:modified>
  <cp:revision>69</cp:revision>
  <dc:subject/>
  <dc:title>PowerPoint Presentation</dc:title>
</cp:coreProperties>
</file>