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B1CC-4223-43FD-9F67-010CC063B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4BC7-8B88-4099-963A-2E41E8066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74B8-4F3F-44E0-ABBB-9BDCFF406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53E5-7337-4CFF-B483-87D452154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7C92-2DFC-4AA5-90E3-0E5BEE3A2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9FF1-D3FE-4252-AA85-5845E1FFD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542E-74E9-430E-84BF-AA8DE232D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E10A-0CEA-4C89-9B7C-83203BC14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2003-4788-48FF-B291-D57D62ECD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7666-61B3-445A-953E-9D7AA0EEA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B7BE-7315-40A1-A592-05DFB6DED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0705-159D-4A9F-8E52-F88788B74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228-D9C0-4E80-82BE-43297F767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urpose of 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major components of contrib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sist the working group in categorizing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authors in the harmonization and motion crafting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normative and informative sections of the overall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different media specific technologies the proposal addr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such technology identify specific amendments to the respective media specific technology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CEF1-A6A6-4D53-BE0E-FD9845D517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fc0128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oposal 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8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H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Ind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[placeholder for authors to disclose additional materia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Family: 3, 11, 15,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Extended Service Set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AutoNum type="alphaLcParenR" startAt="3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technology specific standards covered in above Handover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he technologies affected by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hanges to each technology or technology specific elements affected by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CF2C-8B0A-4882-A3AB-D1ACC00DE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oposal Checklist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H Fun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fer to Call for Proposal document #21-04-0151-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network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nd from upper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nd from lower layers/sub-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achine definition and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H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rmalization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 registration procedures with oth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other elements involved in handovers (if not covered above) and show complete handover functionality/scenario from a system persp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l results or any performance related metrics from simulations or other prototype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5A9D-7D84-4E47-AD2C-BFFD740A2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. Proposal Checklist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Ind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fer to Call for Proposal document #21-04-0151-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evel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08000" indent="-380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(Source, Destination, …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 on Rece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/Media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/Rem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to MAC Fr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actions by other layers on receiving these events/ind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side effects of these events/ind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D1B9-8158-4E7B-A8BF-A220FD3242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. Proposal Checklist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ervi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fer to Call for Proposal document #21-04-0151-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media specific information elements and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as on how the information database could be deplo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1658-9979-4C20-AC28-A93E64BEE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Nada Golmie</dc:creator>
  <dc:description/>
  <cp:keywords/>
  <dc:language>en-US</dc:language>
  <cp:lastModifiedBy>Intel Corporation</cp:lastModifiedBy>
  <cp:lastPrinted>1999-04-27T06:51:51Z</cp:lastPrinted>
  <dcterms:modified xsi:type="dcterms:W3CDTF">2004-12-27T20:08:04Z</dcterms:modified>
  <cp:revision>69</cp:revision>
  <dc:subject/>
  <dc:title>PowerPoint Presentation</dc:title>
</cp:coreProperties>
</file>