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333080" y="808200"/>
            <a:ext cx="4343400" cy="32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33440" y="808200"/>
            <a:ext cx="4343400" cy="3257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.) Shows an 802.X session in progress – a rough view of the data path is show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2.) 802.3 PHY is detected I.E. the combo Station is plugged i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3.) Results in a MIH_PHY_EVENT sent to the MIH functio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4.) A decision is made by some policy function to begin a handov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5.) MIH enters the HO Prepare Stat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6.) The “Make” process is started by sending a MIH_HO_PREPARE trigger to the H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7.) This trigger contains routing info that the MIH function collected when it first accessed the system. This facilitates the acquisition of the new CoA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8.) Similarly, HO_PREPARE is sent to prepare the new LL entity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9.) A new IP tunnel is established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0.) This example assumes “Multiple CoA registration” so at this point two IP streams are in plac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121C-9C11-427E-8D04-3A282B792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4417-45D4-4BBD-B101-5172ABC69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1492A-1582-4439-9528-0C72B1B7B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7E98-ABB0-40D2-8A4A-FC9592AD8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0855-932F-4F58-B9B5-5A405D293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EA24-F9F6-440D-9B30-85F0722E4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1206-0E00-4E4C-875D-9E69FA646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4403-CF68-45E8-AED3-AD4B90598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1FFB-B8B7-4AC6-8F2F-086AFA4D6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CCD9-5245-4420-8167-3C37D3D0E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EE87-73BE-4381-89E6-5F613D7B4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E1EB-61B9-4D69-89C8-CB4DD9C09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-04-00xx-00-002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32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3E5C-97CF-4C88-912B-F2F6D330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70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ion Item for 802.21 Morning Teleconference (Rev .0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4CB4-1B3C-4BDC-AC52-14C65F3D0D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 Proposal Scope Matrix for Discussion Part I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-812880" y="1600200"/>
          <a:ext cx="10769760" cy="410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12880" y="1600200"/>
                    <a:ext cx="1076976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EF2A-F0D0-4A04-9578-49541A05D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 Proposal Scope Matrix for Discussion Part II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5920" y="1295280"/>
          <a:ext cx="8372160" cy="393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1295280"/>
                    <a:ext cx="837216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2280" y="5410080"/>
            <a:ext cx="8839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 a Proposal to be considered a FULL PROPOSAL at least one entry in each row must be set to “SUPPORTED” 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A227-32C4-431C-85BC-8C34156728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Call Flow Template for discu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9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26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ld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 Narrow"/>
              </a:rPr>
              <a:t>Multimode ST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w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5707080" y="1523880"/>
            <a:ext cx="0" cy="472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" name=""/>
          <p:cNvSpPr/>
          <p:nvPr/>
        </p:nvSpPr>
        <p:spPr>
          <a:xfrm>
            <a:off x="23241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82677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2362320"/>
            <a:ext cx="99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684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599840" y="312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819520"/>
            <a:ext cx="990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599840" y="39625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657600"/>
            <a:ext cx="121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mote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895320" y="4191120"/>
            <a:ext cx="154296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scription of MIH Actions /Processing if an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876240" y="5105520"/>
            <a:ext cx="156204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stablishment and Release of Old/New Resources Descrip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178F-1478-472E-AFEF-118016D82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osed Minimum Set of Call Flow Scenarios for discussion (FULL PROPOSAL)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90" name="802logo" descr=""/>
          <p:cNvPicPr/>
          <p:nvPr/>
        </p:nvPicPr>
        <p:blipFill>
          <a:blip r:embed="rId1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pic>
        <p:nvPicPr>
          <p:cNvPr id="91" name="smllieee" descr=""/>
          <p:cNvPicPr/>
          <p:nvPr/>
        </p:nvPicPr>
        <p:blipFill>
          <a:blip r:embed="rId2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85920" y="1271520"/>
          <a:ext cx="8372160" cy="431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1271520"/>
                    <a:ext cx="83721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2BE5-9244-4825-992E-2D450A8BDD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dc:language>en-US</dc:language>
  <cp:lastModifiedBy>carltoag</cp:lastModifiedBy>
  <cp:lastPrinted>1999-04-27T06:51:51Z</cp:lastPrinted>
  <dcterms:modified xsi:type="dcterms:W3CDTF">2005-01-05T00:30:07Z</dcterms:modified>
  <cp:revision>131</cp:revision>
  <dc:subject/>
  <dc:title>PowerPoint Presentation</dc:title>
</cp:coreProperties>
</file>