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34560" y="4430880"/>
            <a:ext cx="5140440" cy="42033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333080" y="808200"/>
            <a:ext cx="4343400" cy="325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33440" y="808200"/>
            <a:ext cx="4343400" cy="32572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34560" y="4430880"/>
            <a:ext cx="5140440" cy="42033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1.) Shows an 802.X session in progress – a rough view of the data path is shown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2.) 802.3 PHY is detected I.E. the combo Station is plugged in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3.) Results in a MIH_PHY_EVENT sent to the MIH function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4.) A decision is made by some policy function to begin a handover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5.) MIH enters the HO Prepare State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6.) The “Make” process is started by sending a MIH_HO_PREPARE trigger to the HL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7.) This trigger contains routing info that the MIH function collected when it first accessed the system. This facilitates the acquisition of the new CoA.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8.) Similarly, HO_PREPARE is sent to prepare the new LL entity 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9.) A new IP tunnel is established 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10.) This example assumes “Multiple CoA registration” so at this point two IP streams are in place.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AAC58-8A92-4664-9440-96AC2DBA0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2280" y="384912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2753F-3437-4762-9DD4-F4E62AD95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532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D0D84-3EA1-41A0-97C1-45D3652BEB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84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46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22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84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46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1DD26-B7A2-4B02-A9EE-948D4358BA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1ADCE-E3B5-4B9A-BB83-A4FF861AE7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A0A4C-5C48-4D92-AF95-38CDBD455F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6945A-D2AA-4C69-A7A1-179676BA6B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A8870-F303-470E-ACFF-7AD32098CB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21920" y="228240"/>
            <a:ext cx="827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0F7E9-3137-4DDC-B469-08FFCF5A26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F3B9C-5D68-40E2-AAA5-7BAC22465E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532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32E96-7E55-4CA4-BF93-AA9C92FAD2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C4BC3-161C-4E0B-B55D-46E8D16111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768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05040" indent="-277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80880" y="6400440"/>
            <a:ext cx="1981440" cy="4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-04-00xx-00-0021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924320" y="6324120"/>
            <a:ext cx="685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0A44-7B87-4375-BF77-96DCFC9BA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706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scussion Item for 802.21 Morning Teleconference (Rev .0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smllieee" descr=""/>
          <p:cNvPicPr/>
          <p:nvPr/>
        </p:nvPicPr>
        <p:blipFill>
          <a:blip r:embed="rId1"/>
          <a:stretch/>
        </p:blipFill>
        <p:spPr>
          <a:xfrm>
            <a:off x="457200" y="57240"/>
            <a:ext cx="754200" cy="857160"/>
          </a:xfrm>
          <a:prstGeom prst="rect">
            <a:avLst/>
          </a:prstGeom>
          <a:ln w="0">
            <a:noFill/>
          </a:ln>
        </p:spPr>
      </p:pic>
      <p:pic>
        <p:nvPicPr>
          <p:cNvPr id="45" name="802logo" descr=""/>
          <p:cNvPicPr/>
          <p:nvPr/>
        </p:nvPicPr>
        <p:blipFill>
          <a:blip r:embed="rId2"/>
          <a:stretch/>
        </p:blipFill>
        <p:spPr>
          <a:xfrm>
            <a:off x="8161200" y="152280"/>
            <a:ext cx="754200" cy="77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5AFE8-8B10-46A4-AD18-A823FB4A54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228600"/>
            <a:ext cx="655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edia Independent Handover  Proposal Scope Matrix for Discussion Part I</a:t>
            </a:r>
            <a:endParaRPr b="0" lang="en-US" sz="2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47" name="smllieee" descr=""/>
          <p:cNvPicPr/>
          <p:nvPr/>
        </p:nvPicPr>
        <p:blipFill>
          <a:blip r:embed="rId1"/>
          <a:stretch/>
        </p:blipFill>
        <p:spPr>
          <a:xfrm>
            <a:off x="457200" y="57240"/>
            <a:ext cx="754200" cy="857160"/>
          </a:xfrm>
          <a:prstGeom prst="rect">
            <a:avLst/>
          </a:prstGeom>
          <a:ln w="0">
            <a:noFill/>
          </a:ln>
        </p:spPr>
      </p:pic>
      <p:pic>
        <p:nvPicPr>
          <p:cNvPr id="48" name="802logo" descr=""/>
          <p:cNvPicPr/>
          <p:nvPr/>
        </p:nvPicPr>
        <p:blipFill>
          <a:blip r:embed="rId2"/>
          <a:stretch/>
        </p:blipFill>
        <p:spPr>
          <a:xfrm>
            <a:off x="8161200" y="152280"/>
            <a:ext cx="754200" cy="77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-812880" y="1600200"/>
          <a:ext cx="10769760" cy="4102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812880" y="1600200"/>
                    <a:ext cx="10769760" cy="41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ACC93-FC9B-406F-9C47-29E392B769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llieee" descr=""/>
          <p:cNvPicPr/>
          <p:nvPr/>
        </p:nvPicPr>
        <p:blipFill>
          <a:blip r:embed="rId1"/>
          <a:stretch/>
        </p:blipFill>
        <p:spPr>
          <a:xfrm>
            <a:off x="457200" y="57240"/>
            <a:ext cx="754200" cy="857160"/>
          </a:xfrm>
          <a:prstGeom prst="rect">
            <a:avLst/>
          </a:prstGeom>
          <a:ln w="0">
            <a:noFill/>
          </a:ln>
        </p:spPr>
      </p:pic>
      <p:pic>
        <p:nvPicPr>
          <p:cNvPr id="52" name="802logo" descr=""/>
          <p:cNvPicPr/>
          <p:nvPr/>
        </p:nvPicPr>
        <p:blipFill>
          <a:blip r:embed="rId2"/>
          <a:stretch/>
        </p:blipFill>
        <p:spPr>
          <a:xfrm>
            <a:off x="8161200" y="152280"/>
            <a:ext cx="754200" cy="777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19320" y="228600"/>
            <a:ext cx="655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edia Independent Handover  Proposal Scope Matrix for Discussion Part II</a:t>
            </a:r>
            <a:endParaRPr b="0" lang="en-US" sz="2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5920" y="1295280"/>
          <a:ext cx="8372160" cy="3930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920" y="1295280"/>
                    <a:ext cx="837216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152280" y="5410080"/>
            <a:ext cx="88394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r a Proposal to be considered a FULL PROPOSAL at least one entry in each row must be set to “SUPPORTED” </a:t>
            </a:r>
            <a:endParaRPr b="0" lang="en-US" sz="2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EAC9A-9111-4ADC-9D5D-813B5EEB56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edia Independent Handover Call Flow Template for discuss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mllieee" descr=""/>
          <p:cNvPicPr/>
          <p:nvPr/>
        </p:nvPicPr>
        <p:blipFill>
          <a:blip r:embed="rId1"/>
          <a:stretch/>
        </p:blipFill>
        <p:spPr>
          <a:xfrm>
            <a:off x="457200" y="57240"/>
            <a:ext cx="754200" cy="857160"/>
          </a:xfrm>
          <a:prstGeom prst="rect">
            <a:avLst/>
          </a:prstGeom>
          <a:ln w="0">
            <a:noFill/>
          </a:ln>
        </p:spPr>
      </p:pic>
      <p:pic>
        <p:nvPicPr>
          <p:cNvPr id="59" name="802logo" descr=""/>
          <p:cNvPicPr/>
          <p:nvPr/>
        </p:nvPicPr>
        <p:blipFill>
          <a:blip r:embed="rId2"/>
          <a:stretch/>
        </p:blipFill>
        <p:spPr>
          <a:xfrm>
            <a:off x="8161200" y="152280"/>
            <a:ext cx="754200" cy="777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352680" y="1066680"/>
            <a:ext cx="243864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ld Point of Attachment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066680"/>
            <a:ext cx="243864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 Narrow"/>
              </a:rPr>
              <a:t>Multimode STA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1066680"/>
            <a:ext cx="243864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ew Point of Attachment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" name=""/>
          <p:cNvSpPr/>
          <p:nvPr/>
        </p:nvSpPr>
        <p:spPr>
          <a:xfrm>
            <a:off x="7543800" y="15238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15238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15238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523880"/>
            <a:ext cx="0" cy="472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523880"/>
            <a:ext cx="0" cy="472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1523880"/>
            <a:ext cx="0" cy="472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9" name=""/>
          <p:cNvSpPr/>
          <p:nvPr/>
        </p:nvSpPr>
        <p:spPr>
          <a:xfrm>
            <a:off x="2743200" y="1523880"/>
            <a:ext cx="0" cy="472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" name=""/>
          <p:cNvSpPr/>
          <p:nvPr/>
        </p:nvSpPr>
        <p:spPr>
          <a:xfrm>
            <a:off x="5707080" y="1523880"/>
            <a:ext cx="0" cy="472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" name=""/>
          <p:cNvSpPr/>
          <p:nvPr/>
        </p:nvSpPr>
        <p:spPr>
          <a:xfrm>
            <a:off x="8686800" y="1523880"/>
            <a:ext cx="0" cy="472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776240"/>
            <a:ext cx="609840" cy="2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 Narrow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1693800"/>
            <a:ext cx="7617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 Narrow"/>
              </a:rPr>
              <a:t>MIH Functio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" name=""/>
          <p:cNvSpPr/>
          <p:nvPr/>
        </p:nvSpPr>
        <p:spPr>
          <a:xfrm>
            <a:off x="2324160" y="1776240"/>
            <a:ext cx="838080" cy="2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 Narrow"/>
              </a:rPr>
              <a:t>LL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" name=""/>
          <p:cNvSpPr/>
          <p:nvPr/>
        </p:nvSpPr>
        <p:spPr>
          <a:xfrm>
            <a:off x="3009960" y="1776240"/>
            <a:ext cx="838080" cy="2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 Narrow"/>
              </a:rPr>
              <a:t>LL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1776240"/>
            <a:ext cx="609840" cy="2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 Narrow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" name=""/>
          <p:cNvSpPr/>
          <p:nvPr/>
        </p:nvSpPr>
        <p:spPr>
          <a:xfrm>
            <a:off x="4191120" y="1693800"/>
            <a:ext cx="7617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 Narrow"/>
              </a:rPr>
              <a:t>MIH Functio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1776240"/>
            <a:ext cx="838080" cy="2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 Narrow"/>
              </a:rPr>
              <a:t>LL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9" name=""/>
          <p:cNvSpPr/>
          <p:nvPr/>
        </p:nvSpPr>
        <p:spPr>
          <a:xfrm>
            <a:off x="8267760" y="1776240"/>
            <a:ext cx="838080" cy="2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 Narrow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0" name=""/>
          <p:cNvSpPr/>
          <p:nvPr/>
        </p:nvSpPr>
        <p:spPr>
          <a:xfrm>
            <a:off x="7162920" y="1693800"/>
            <a:ext cx="7617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 Narrow"/>
              </a:rPr>
              <a:t>MIH Functio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1" name=""/>
          <p:cNvSpPr/>
          <p:nvPr/>
        </p:nvSpPr>
        <p:spPr>
          <a:xfrm>
            <a:off x="495360" y="2362320"/>
            <a:ext cx="990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cal Triggers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56840" y="266688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1599840" y="312408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819520"/>
            <a:ext cx="9903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cal Triggers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599840" y="396252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3657600"/>
            <a:ext cx="12193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mote Triggers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7" name=""/>
          <p:cNvSpPr/>
          <p:nvPr/>
        </p:nvSpPr>
        <p:spPr>
          <a:xfrm>
            <a:off x="895320" y="4191120"/>
            <a:ext cx="1542960" cy="58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escription of MIH Actions /Processing if any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8" name=""/>
          <p:cNvSpPr/>
          <p:nvPr/>
        </p:nvSpPr>
        <p:spPr>
          <a:xfrm>
            <a:off x="876240" y="5105520"/>
            <a:ext cx="1562040" cy="58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stablishment and Release of Old/New Resources Descriptio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0D08B-EFAA-4819-A258-68DECB0F82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19320" y="228600"/>
            <a:ext cx="655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posed Minimum Set of Call Flow Scenarios for discussion (FULL PROPOSAL)</a:t>
            </a:r>
            <a:endParaRPr b="0" lang="en-US" sz="2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90" name="802logo" descr=""/>
          <p:cNvPicPr/>
          <p:nvPr/>
        </p:nvPicPr>
        <p:blipFill>
          <a:blip r:embed="rId1"/>
          <a:stretch/>
        </p:blipFill>
        <p:spPr>
          <a:xfrm>
            <a:off x="8161200" y="152280"/>
            <a:ext cx="754200" cy="777960"/>
          </a:xfrm>
          <a:prstGeom prst="rect">
            <a:avLst/>
          </a:prstGeom>
          <a:ln w="0">
            <a:noFill/>
          </a:ln>
        </p:spPr>
      </p:pic>
      <p:pic>
        <p:nvPicPr>
          <p:cNvPr id="91" name="smllieee" descr=""/>
          <p:cNvPicPr/>
          <p:nvPr/>
        </p:nvPicPr>
        <p:blipFill>
          <a:blip r:embed="rId2"/>
          <a:stretch/>
        </p:blipFill>
        <p:spPr>
          <a:xfrm>
            <a:off x="457200" y="57240"/>
            <a:ext cx="754200" cy="85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385920" y="1271520"/>
          <a:ext cx="8372160" cy="4314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920" y="1271520"/>
                    <a:ext cx="837216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75CEA-A5D8-44AD-88ED-6EC8882371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03:24:18Z</dcterms:created>
  <dc:creator>michaewi</dc:creator>
  <dc:description>Nokia Standard Presentation Template - LTR
v. 4 2000/01/05 Eric Beasley
Fixed RGB values for Nokia logo
NO Security Label</dc:description>
  <dc:language>en-US</dc:language>
  <cp:lastModifiedBy>carltoag</cp:lastModifiedBy>
  <cp:lastPrinted>1999-04-27T06:51:51Z</cp:lastPrinted>
  <dcterms:modified xsi:type="dcterms:W3CDTF">2005-01-05T00:30:07Z</dcterms:modified>
  <cp:revision>131</cp:revision>
  <dc:subject/>
  <dc:title>PowerPoint Presentation</dc:title>
</cp:coreProperties>
</file>