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E6E9-2F19-4881-89A0-2504469D9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95A4-6C02-44FA-A843-5EE193D62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54D3-5671-468B-8A79-4C960076E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08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3652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08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3652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CF2C-AC8A-4DD7-874E-FBB65DF3D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1AAB7-63D2-428D-BBBC-3195C310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E6788-5A3F-4939-90B8-0D1994DB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D5FA8-FD7B-4BCB-BEBD-625C3D2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63C67-1F86-4519-AAE6-E5B4B0F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D10A4-A4C9-4B28-B4D6-2E80C8E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16FF2-51CC-4B17-9C97-B9CF68B3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D8F7-39DE-4D82-8F22-2366197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60CF-F668-4022-8E55-0F5DA7629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A25EB-2A7A-4631-87E1-0A83E65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A5F89-3BE7-4E0B-ADC7-2D56B4E6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D7BCB-9A54-4927-991C-FFBFC8B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E6056-F77F-4770-8E70-AED99F2D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888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36520" y="99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888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36520" y="377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FFA5A-A344-48CE-9818-FB34A8EC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B74A-6E7B-4F16-A68A-2E6F69F49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C401-F498-49C8-B8F6-65DC435B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09C6-AFC5-400C-B0A6-0C07D1CBA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ac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C877-3B8A-4AD5-8559-270B30DEA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1B47-6850-4560-ADEB-60B90AEB5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63560" y="377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FEF2-4618-4A89-9838-4D3D36A3C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9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3560" y="99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7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391C-AF88-41D5-A2D0-A09FBE256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773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5E33-14B7-4DB2-BFF0-B5B91263586D}" type="slidenum"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03080d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29158f"/>
          </a:solidFill>
          <a:ln w="9360">
            <a:solidFill>
              <a:srgbClr val="29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c9ddf1"/>
          </a:solidFill>
          <a:ln w="9360">
            <a:solidFill>
              <a:srgbClr val="29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33920" y="36572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  <a:ea typeface="굴림"/>
              </a:rPr>
              <a:t>&lt;date/time&gt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April 11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C5B4-FA68-4F38-9921-66900B73C708}" type="slidenum">
              <a:rPr b="0" lang="ko-KR" sz="1400" spc="-1" strike="noStrike">
                <a:solidFill>
                  <a:srgbClr val="2a3d7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90920"/>
            <a:ext cx="914400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c16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ac16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3080d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3080d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3080d"/>
              </a:buClr>
              <a:buSzPct val="6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80d"/>
                </a:solidFill>
                <a:latin typeface="Arial"/>
                <a:ea typeface="굴림"/>
              </a:rPr>
              <a:t>CARD Protocol for 802.21 Information Service</a:t>
            </a:r>
            <a:br>
              <a:rPr sz="2800"/>
            </a:br>
            <a:endParaRPr b="0" lang="en-US" sz="28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581280"/>
            <a:ext cx="5029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July 18, 2005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Ajoy Singh (Motorola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164"/>
                </a:solidFill>
                <a:latin typeface="Arial"/>
                <a:ea typeface="굴림"/>
              </a:rPr>
              <a:t>Marco Liebsch   (NEC Europe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50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3080d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3080d"/>
                </a:solidFill>
                <a:latin typeface="Arial"/>
                <a:ea typeface="굴림"/>
              </a:rPr>
              <a:t>Candidate Access Router Discovery Protocol Overview</a:t>
            </a:r>
            <a:endParaRPr b="0" lang="en-US" sz="24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: Candidate Access Router (access routers of neighboring cells) or neighboring access routers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D: Candidate Access Router Discovery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CARD Protocol in IETF: RFC 4066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Basic functionality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Collect and distribute information about the (wireless) access network, in particular, information about the current and neighboring access routers and access points (base stations)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Information is distributed from the CARD network entity (assumed to be located in access routers) to the mobile nodes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Information distribution modes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Request/Reply (Solicited) Mode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Broadcast or multicast (Unsolicited) Mode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080d"/>
                </a:solidFill>
                <a:latin typeface="Times New Roman"/>
                <a:ea typeface="굴림"/>
              </a:rPr>
              <a:t>Requirements considered for CARD</a:t>
            </a:r>
            <a:endParaRPr b="0" lang="en-US" sz="16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Can translate L2 address of a neighboring access point to the IP address of the CAR (i.e., candidate NAR)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Access point can be separate from CAR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Enables obtaining of information about the relevant information (called capabilities) of CAR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E.g., access point channel numbers, access router load, … 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support inter-technology handovers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Should avoid unnecessary transmissions to MN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not depend on any particular mobility management protocol.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3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80d"/>
                </a:solidFill>
                <a:latin typeface="Times New Roman"/>
                <a:ea typeface="굴림"/>
              </a:rPr>
              <a:t>Must work with variable topology</a:t>
            </a: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2" marL="1356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  <a:p>
            <a:pPr lvl="1" marL="1016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941A-B670-4E9F-B416-2EE450654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80d"/>
                </a:solidFill>
                <a:latin typeface="Arial"/>
                <a:ea typeface="굴림"/>
              </a:rPr>
              <a:t>Candidate Access Router Discovery Protocol Overview</a:t>
            </a:r>
            <a:endParaRPr b="0" lang="en-US" sz="24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Possible applications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Fast handoff (seamless handoff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Load balancing between AR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Bandwidth-intensive application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Minimization of cost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Inter-technology handover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Adaptability to changing topology without Ad hoc routing schemes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CARD messages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Defined for AR (CARD network entity) &lt;-&gt; Mobile Node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Use ICMP for transport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Defined for (CARD network entity) &lt;-&gt; AR (CARD network entity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Use SCTP or UDP for transport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Information query options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Preferences: same as filters (specify what type of information is needed) (eg. I am interested in Link Type.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Requirements : specify the conditions which are information types and required values (eg. Link type should be 802.11.)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7C4F-26AB-454B-9504-2BDC7A28B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solidFill>
            <a:srgbClr val="c1cef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080d"/>
                </a:solidFill>
                <a:latin typeface="Arial"/>
              </a:rPr>
              <a:t>Proposal to 802.21</a:t>
            </a:r>
            <a:endParaRPr b="0" lang="en-US" sz="4000" spc="-1" strike="noStrike">
              <a:solidFill>
                <a:srgbClr val="03080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IP-based protocol is a good alternative solution for IEEE 802.21 Information Service (IS) for Media Independent Handoff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Can be used where MAC layer changes is difficult to make? 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Media independent by definition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Easy to implement and deploy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Flexible location of information source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Existing IETF protocols should be investigated with respect to IS requirements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CARD is the primary candidate IETF protocol to be considered for IS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Basically same target functionality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Output of 4 years of IETF work and already published as RFC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AR is a physical entity. CARD network entity can be separate from AR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080d"/>
                </a:solidFill>
                <a:latin typeface="Times New Roman"/>
              </a:rPr>
              <a:t>Extensions or modification of CARD to meet IS requirements is possible.</a:t>
            </a:r>
            <a:endParaRPr b="0" lang="en-US" sz="2000" spc="-1" strike="noStrike">
              <a:solidFill>
                <a:srgbClr val="03080d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080d"/>
                </a:solidFill>
                <a:latin typeface="Times New Roman"/>
              </a:rPr>
              <a:t>New RFC (standard track) for revised CARD can be pursued.</a:t>
            </a:r>
            <a:endParaRPr b="0" lang="en-US" sz="1800" spc="-1" strike="noStrike">
              <a:solidFill>
                <a:srgbClr val="03080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2D52-4AA8-46A5-9AEC-24DE0DEF6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2:59:56Z</dcterms:created>
  <dc:creator>eunsoo</dc:creator>
  <dc:description/>
  <dc:language>en-US</dc:language>
  <cp:lastModifiedBy>Ajoy Kumar Singh</cp:lastModifiedBy>
  <cp:lastPrinted>2001-02-26T05:56:10Z</cp:lastPrinted>
  <dcterms:modified xsi:type="dcterms:W3CDTF">2005-07-15T18:54:50Z</dcterms:modified>
  <cp:revision>456</cp:revision>
  <dc:subject/>
  <dc:title>A Fast Handoff Mechanism Using The Neighbor FA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2392225</vt:r8>
  </property>
  <property fmtid="{D5CDD505-2E9C-101B-9397-08002B2CF9AE}" pid="3" name="_AuthorEmail">
    <vt:lpwstr>ASINGH1@motorola.com</vt:lpwstr>
  </property>
  <property fmtid="{D5CDD505-2E9C-101B-9397-08002B2CF9AE}" pid="4" name="_AuthorEmailDisplayName">
    <vt:lpwstr>Singh Ajoy-ASINGH1</vt:lpwstr>
  </property>
  <property fmtid="{D5CDD505-2E9C-101B-9397-08002B2CF9AE}" pid="5" name="_EmailSubject">
    <vt:lpwstr>[802.21] Discussion on transport protocol selection for MIH!</vt:lpwstr>
  </property>
  <property fmtid="{D5CDD505-2E9C-101B-9397-08002B2CF9AE}" pid="6" name="_NewReviewCycle">
    <vt:lpwstr/>
  </property>
</Properties>
</file>