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C706D-A46B-47D8-8280-9AF4796207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7767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5344-FDFF-435E-9A25-8E9753668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63560" y="99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7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363560" y="377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85AED-BB37-49CD-BCE1-D66026DF8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08880" y="99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36520" y="99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77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08880" y="377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36520" y="377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9FF5-5608-48F8-8202-5C11FF25D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F4FA5-5301-4306-AF0A-0D8E284D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c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91CC6-7AF1-4412-97E5-65F6F305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1ABD6-F2F6-485D-B474-2AB7F32F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63560" y="9907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E575D-3C02-4C6F-902D-3F0D6598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6E615-F160-4843-AF6E-8393D025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ac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3575B-CDC7-4D00-98C8-03D3C2F3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3560" y="9907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377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2F3D7-F9EB-4D6A-BC6C-B0C068AD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c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478D1-EC58-468E-9770-7476DB17BC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3560" y="99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63560" y="377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21ADD-F6DA-473F-96A1-B41AA1B7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63560" y="99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7767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91ED7-B92E-4A3A-A6B9-34CC3C5C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37767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65888-AC34-4947-8155-2B3FEA1C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63560" y="99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77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363560" y="377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E6E1F-D753-4DD4-B5C5-F5E59B2A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08880" y="99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36520" y="99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377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08880" y="377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36520" y="377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E834B-A5D5-43B4-98CB-FE51DDDE0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6E33-D44E-4F35-B2A4-1346D9943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363560" y="9907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9976D-08DA-45F5-9C20-5A22CA94F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D7D31-A709-4C64-97D4-D17225D3D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ac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AE8C4-C55A-490C-BCC4-D97868DF13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63560" y="9907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77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20461-E578-4BA5-9012-E1AFEFCB0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3560" y="99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63560" y="377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C44CB-C62B-4D65-ACF0-64D50EA69E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3560" y="99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767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5BB23-10AC-409E-AD91-D17563DC1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solidFill>
            <a:srgbClr val="c1cef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080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0773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a3d7a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52E3-A2E0-4828-B287-D5DEA7E69A33}" type="slidenum">
              <a:rPr b="0" lang="ko-KR" sz="1400" spc="-1" strike="noStrike">
                <a:solidFill>
                  <a:srgbClr val="2a3d7a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8088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80d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80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80d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  <a:p>
            <a:pPr lvl="3" marL="1712880" indent="-228600">
              <a:spcBef>
                <a:spcPts val="700"/>
              </a:spcBef>
              <a:buClr>
                <a:srgbClr val="03080d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80d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80d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80d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80d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29158f"/>
          </a:solidFill>
          <a:ln w="9360">
            <a:solidFill>
              <a:srgbClr val="2915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9144000" cy="2743200"/>
          </a:xfrm>
          <a:prstGeom prst="rect">
            <a:avLst/>
          </a:prstGeom>
          <a:solidFill>
            <a:srgbClr val="c9ddf1"/>
          </a:solidFill>
          <a:ln w="9360">
            <a:solidFill>
              <a:srgbClr val="2915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080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733920" y="365724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Arial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  <a:ea typeface="굴림"/>
              </a:rPr>
              <a:t>&lt;date/time&gt;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April 11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a3d7a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a3d7a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a3d7a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5263-BE0C-4B76-84D7-D3246597298E}" type="slidenum">
              <a:rPr b="0" lang="ko-KR" sz="1400" spc="-1" strike="noStrike">
                <a:solidFill>
                  <a:srgbClr val="2a3d7a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590920"/>
            <a:ext cx="9144000" cy="8380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c16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ac164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80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3080d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Times New Roman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80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3080d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03080d"/>
              </a:buClr>
              <a:buSzPct val="6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80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3080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80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3080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80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3080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80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3080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80d"/>
                </a:solidFill>
                <a:latin typeface="Arial"/>
                <a:ea typeface="굴림"/>
              </a:rPr>
              <a:t>CARD Protocol for 802.21 Information Service</a:t>
            </a:r>
            <a:br>
              <a:rPr sz="2800"/>
            </a:br>
            <a:endParaRPr b="0" lang="en-US" sz="28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3581280"/>
            <a:ext cx="50292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c164"/>
                </a:solidFill>
                <a:latin typeface="Arial"/>
                <a:ea typeface="굴림"/>
              </a:rPr>
              <a:t>July 18, 2005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c164"/>
                </a:solidFill>
                <a:latin typeface="Arial"/>
                <a:ea typeface="굴림"/>
              </a:rPr>
              <a:t>Ajoy Singh (Motorola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c164"/>
                </a:solidFill>
                <a:latin typeface="Arial"/>
                <a:ea typeface="굴림"/>
              </a:rPr>
              <a:t>Marco Liebsch   (NEC Europe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3500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solidFill>
            <a:srgbClr val="c1cef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3080d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3080d"/>
                </a:solidFill>
                <a:latin typeface="Arial"/>
                <a:ea typeface="굴림"/>
              </a:rPr>
              <a:t>Candidate Access Router Discovery Protocol Overview</a:t>
            </a:r>
            <a:endParaRPr b="0" lang="en-US" sz="24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3080d"/>
                </a:solidFill>
                <a:latin typeface="Times New Roman"/>
                <a:ea typeface="굴림"/>
              </a:rPr>
              <a:t>CAR: Candidate Access Router (access routers of neighboring cells) or neighboring access routers</a:t>
            </a:r>
            <a:endParaRPr b="0" lang="en-US" sz="1600" spc="-1" strike="noStrike">
              <a:solidFill>
                <a:srgbClr val="03080d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3080d"/>
                </a:solidFill>
                <a:latin typeface="Times New Roman"/>
                <a:ea typeface="굴림"/>
              </a:rPr>
              <a:t>CARD: Candidate Access Router Discovery</a:t>
            </a:r>
            <a:endParaRPr b="0" lang="en-US" sz="1600" spc="-1" strike="noStrike">
              <a:solidFill>
                <a:srgbClr val="03080d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3080d"/>
                </a:solidFill>
                <a:latin typeface="Times New Roman"/>
                <a:ea typeface="굴림"/>
              </a:rPr>
              <a:t>CARD Protocol in IETF: RFC 4066</a:t>
            </a:r>
            <a:endParaRPr b="0" lang="en-US" sz="1600" spc="-1" strike="noStrike">
              <a:solidFill>
                <a:srgbClr val="03080d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3080d"/>
                </a:solidFill>
                <a:latin typeface="Times New Roman"/>
                <a:ea typeface="굴림"/>
              </a:rPr>
              <a:t>Basic functionality</a:t>
            </a:r>
            <a:endParaRPr b="0" lang="en-US" sz="1600" spc="-1" strike="noStrike">
              <a:solidFill>
                <a:srgbClr val="03080d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3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080d"/>
                </a:solidFill>
                <a:latin typeface="Times New Roman"/>
                <a:ea typeface="굴림"/>
              </a:rPr>
              <a:t>Collect and distribute information about the (wireless) access network, in particular, information about the current and neighboring access routers and access points (base stations).</a:t>
            </a:r>
            <a:endParaRPr b="0" lang="en-US" sz="1400" spc="-1" strike="noStrike">
              <a:solidFill>
                <a:srgbClr val="03080d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3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080d"/>
                </a:solidFill>
                <a:latin typeface="Times New Roman"/>
                <a:ea typeface="굴림"/>
              </a:rPr>
              <a:t>Information is distributed from the CARD network entity (assumed to be located in access routers) to the mobile nodes.</a:t>
            </a:r>
            <a:endParaRPr b="0" lang="en-US" sz="1400" spc="-1" strike="noStrike">
              <a:solidFill>
                <a:srgbClr val="03080d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3080d"/>
                </a:solidFill>
                <a:latin typeface="Times New Roman"/>
                <a:ea typeface="굴림"/>
              </a:rPr>
              <a:t>Information distribution modes</a:t>
            </a:r>
            <a:endParaRPr b="0" lang="en-US" sz="1600" spc="-1" strike="noStrike">
              <a:solidFill>
                <a:srgbClr val="03080d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3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080d"/>
                </a:solidFill>
                <a:latin typeface="Times New Roman"/>
                <a:ea typeface="굴림"/>
              </a:rPr>
              <a:t>Request/Reply (Solicited) Mode</a:t>
            </a:r>
            <a:endParaRPr b="0" lang="en-US" sz="1400" spc="-1" strike="noStrike">
              <a:solidFill>
                <a:srgbClr val="03080d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3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080d"/>
                </a:solidFill>
                <a:latin typeface="Times New Roman"/>
                <a:ea typeface="굴림"/>
              </a:rPr>
              <a:t>Broadcast or multicast (Unsolicited) Mode</a:t>
            </a:r>
            <a:endParaRPr b="0" lang="en-US" sz="1400" spc="-1" strike="noStrike">
              <a:solidFill>
                <a:srgbClr val="03080d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3080d"/>
                </a:solidFill>
                <a:latin typeface="Times New Roman"/>
                <a:ea typeface="굴림"/>
              </a:rPr>
              <a:t>Requirements considered for CARD</a:t>
            </a:r>
            <a:endParaRPr b="0" lang="en-US" sz="1600" spc="-1" strike="noStrike">
              <a:solidFill>
                <a:srgbClr val="03080d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3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080d"/>
                </a:solidFill>
                <a:latin typeface="Times New Roman"/>
                <a:ea typeface="굴림"/>
              </a:rPr>
              <a:t>Can translate L2 address of a neighboring access point to the IP address of the CAR (i.e., candidate NAR).</a:t>
            </a:r>
            <a:endParaRPr b="0" lang="en-US" sz="1400" spc="-1" strike="noStrike">
              <a:solidFill>
                <a:srgbClr val="03080d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70000"/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080d"/>
                </a:solidFill>
                <a:latin typeface="Times New Roman"/>
                <a:ea typeface="굴림"/>
              </a:rPr>
              <a:t>Access point can be separate from CAR.</a:t>
            </a:r>
            <a:endParaRPr b="0" lang="en-US" sz="1400" spc="-1" strike="noStrike">
              <a:solidFill>
                <a:srgbClr val="03080d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3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080d"/>
                </a:solidFill>
                <a:latin typeface="Times New Roman"/>
                <a:ea typeface="굴림"/>
              </a:rPr>
              <a:t>Enables obtaining of information about the relevant information (called capabilities) of CAR.</a:t>
            </a:r>
            <a:endParaRPr b="0" lang="en-US" sz="1400" spc="-1" strike="noStrike">
              <a:solidFill>
                <a:srgbClr val="03080d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70000"/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080d"/>
                </a:solidFill>
                <a:latin typeface="Times New Roman"/>
                <a:ea typeface="굴림"/>
              </a:rPr>
              <a:t>E.g., access point channel numbers, access router load, … </a:t>
            </a:r>
            <a:endParaRPr b="0" lang="en-US" sz="1400" spc="-1" strike="noStrike">
              <a:solidFill>
                <a:srgbClr val="03080d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3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080d"/>
                </a:solidFill>
                <a:latin typeface="Times New Roman"/>
                <a:ea typeface="굴림"/>
              </a:rPr>
              <a:t>Must support inter-technology handovers.</a:t>
            </a:r>
            <a:endParaRPr b="0" lang="en-US" sz="1400" spc="-1" strike="noStrike">
              <a:solidFill>
                <a:srgbClr val="03080d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3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080d"/>
                </a:solidFill>
                <a:latin typeface="Times New Roman"/>
                <a:ea typeface="굴림"/>
              </a:rPr>
              <a:t>Should avoid unnecessary transmissions to MN.</a:t>
            </a:r>
            <a:endParaRPr b="0" lang="en-US" sz="1400" spc="-1" strike="noStrike">
              <a:solidFill>
                <a:srgbClr val="03080d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3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080d"/>
                </a:solidFill>
                <a:latin typeface="Times New Roman"/>
                <a:ea typeface="굴림"/>
              </a:rPr>
              <a:t>Must not depend on any particular mobility management protocol.</a:t>
            </a:r>
            <a:endParaRPr b="0" lang="en-US" sz="1400" spc="-1" strike="noStrike">
              <a:solidFill>
                <a:srgbClr val="03080d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3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080d"/>
                </a:solidFill>
                <a:latin typeface="Times New Roman"/>
                <a:ea typeface="굴림"/>
              </a:rPr>
              <a:t>Must work with variable topology</a:t>
            </a:r>
            <a:endParaRPr b="0" lang="en-US" sz="1400" spc="-1" strike="noStrike">
              <a:solidFill>
                <a:srgbClr val="03080d"/>
              </a:solidFill>
              <a:latin typeface="Times New Roman"/>
            </a:endParaRPr>
          </a:p>
          <a:p>
            <a:pPr lvl="2" marL="1356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3080d"/>
              </a:solidFill>
              <a:latin typeface="Times New Roman"/>
            </a:endParaRPr>
          </a:p>
          <a:p>
            <a:pPr lvl="1" marL="1016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F514F-E88E-488E-81DE-D28D936A7A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solidFill>
            <a:srgbClr val="c1cef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80d"/>
                </a:solidFill>
                <a:latin typeface="Arial"/>
                <a:ea typeface="굴림"/>
              </a:rPr>
              <a:t>Candidate Access Router Discovery Protocol Overview</a:t>
            </a:r>
            <a:endParaRPr b="0" lang="en-US" sz="24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80d"/>
                </a:solidFill>
                <a:latin typeface="Times New Roman"/>
              </a:rPr>
              <a:t>Possible applications</a:t>
            </a:r>
            <a:endParaRPr b="0" lang="en-US" sz="20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Fast handoff (seamless handoff)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Load balancing between ARs.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Bandwidth-intensive applications.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Minimization of cost.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Inter-technology handovers.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Adaptability to changing topology without Ad hoc routing schemes.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80d"/>
                </a:solidFill>
                <a:latin typeface="Times New Roman"/>
              </a:rPr>
              <a:t>CARD messages</a:t>
            </a:r>
            <a:endParaRPr b="0" lang="en-US" sz="20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Defined for AR (CARD network entity) &lt;-&gt; Mobile Node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0000"/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Use ICMP for transport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Defined for (CARD network entity) &lt;-&gt; AR (CARD network entity)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0000"/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Use SCTP or UDP for transport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Information query options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0000"/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Preferences: same as filters (specify what type of information is needed) (eg. I am interested in Link Type.)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0000"/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Requirements : specify the conditions which are information types and required values (eg. Link type should be 802.11.)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3365F-AC26-4E22-809D-7E236CD236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solidFill>
            <a:srgbClr val="c1cef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080d"/>
                </a:solidFill>
                <a:latin typeface="Arial"/>
              </a:rPr>
              <a:t>Proposal to 802.21</a:t>
            </a: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80d"/>
                </a:solidFill>
                <a:latin typeface="Times New Roman"/>
              </a:rPr>
              <a:t>IP-based protocol is a good alternative solution for IEEE 802.21 Information Service (IS) for Media Independent Handoff.</a:t>
            </a:r>
            <a:endParaRPr b="0" lang="en-US" sz="20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Can be used where MAC layer changes is difficult to make? 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Media independent by definition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Easy to implement and deploy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Flexible location of information source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80d"/>
                </a:solidFill>
                <a:latin typeface="Times New Roman"/>
              </a:rPr>
              <a:t>Existing IETF protocols should be investigated with respect to IS requirements.</a:t>
            </a:r>
            <a:endParaRPr b="0" lang="en-US" sz="2000" spc="-1" strike="noStrike">
              <a:solidFill>
                <a:srgbClr val="03080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80d"/>
                </a:solidFill>
                <a:latin typeface="Times New Roman"/>
              </a:rPr>
              <a:t>CARD is the primary candidate IETF protocol to be considered for IS.</a:t>
            </a:r>
            <a:endParaRPr b="0" lang="en-US" sz="20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Basically same target functionality.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Output of 4 years of IETF work and already published as RFC.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80d"/>
                </a:solidFill>
                <a:latin typeface="Times New Roman"/>
              </a:rPr>
              <a:t>AR is a physical entity. CARD network entity can be separate from AR.</a:t>
            </a:r>
            <a:endParaRPr b="0" lang="en-US" sz="2000" spc="-1" strike="noStrike">
              <a:solidFill>
                <a:srgbClr val="03080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80d"/>
                </a:solidFill>
                <a:latin typeface="Times New Roman"/>
              </a:rPr>
              <a:t>Extensions or modification of CARD to meet IS requirements is possible.</a:t>
            </a:r>
            <a:endParaRPr b="0" lang="en-US" sz="20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New RFC (standard track) for revised CARD can be pursued.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7EE9-05F5-4935-BC62-C90EF45BD8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02:59:56Z</dcterms:created>
  <dc:creator>eunsoo</dc:creator>
  <dc:description/>
  <dc:language>en-US</dc:language>
  <cp:lastModifiedBy>Ajoy Kumar Singh</cp:lastModifiedBy>
  <cp:lastPrinted>2001-02-26T05:56:10Z</cp:lastPrinted>
  <dcterms:modified xsi:type="dcterms:W3CDTF">2005-07-15T18:54:50Z</dcterms:modified>
  <cp:revision>456</cp:revision>
  <dc:subject/>
  <dc:title>A Fast Handoff Mechanism Using The Neighbor FA 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92392225</vt:r8>
  </property>
  <property fmtid="{D5CDD505-2E9C-101B-9397-08002B2CF9AE}" pid="3" name="_AuthorEmail">
    <vt:lpwstr>ASINGH1@motorola.com</vt:lpwstr>
  </property>
  <property fmtid="{D5CDD505-2E9C-101B-9397-08002B2CF9AE}" pid="4" name="_AuthorEmailDisplayName">
    <vt:lpwstr>Singh Ajoy-ASINGH1</vt:lpwstr>
  </property>
  <property fmtid="{D5CDD505-2E9C-101B-9397-08002B2CF9AE}" pid="5" name="_EmailSubject">
    <vt:lpwstr>[802.21] Discussion on transport protocol selection for MIH!</vt:lpwstr>
  </property>
  <property fmtid="{D5CDD505-2E9C-101B-9397-08002B2CF9AE}" pid="6" name="_NewReviewCycle">
    <vt:lpwstr/>
  </property>
</Properties>
</file>