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2320" y="228240"/>
            <a:ext cx="7680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1120" y="0"/>
            <a:ext cx="59785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174080" y="6124680"/>
            <a:ext cx="1591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2320" y="228240"/>
            <a:ext cx="7680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1" lang="en-US" sz="36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12680" y="228600"/>
            <a:ext cx="768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12680" y="228600"/>
            <a:ext cx="768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12680" y="228600"/>
            <a:ext cx="768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12680" y="228600"/>
            <a:ext cx="768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2680" y="228600"/>
            <a:ext cx="768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okia Sans Title SemiBold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57440" y="2143080"/>
            <a:ext cx="3247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5:44:37Z</dcterms:created>
  <dc:creator>test</dc:creator>
  <dc:description>test</dc:description>
  <dc:language>en-US</dc:language>
  <cp:lastModifiedBy>sfaccin</cp:lastModifiedBy>
  <cp:lastPrinted>2000-03-20T15:35:04Z</cp:lastPrinted>
  <dcterms:modified xsi:type="dcterms:W3CDTF">2005-08-02T15:46:36Z</dcterms:modified>
  <cp:revision>2</cp:revision>
  <dc:subject>test</dc:subject>
  <dc:title>TEST</dc:title>
</cp:coreProperties>
</file>