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33F8-3BFF-4EFA-B0D7-7B8896AAC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E8F8-6D84-4FF4-A0E0-FD19433E4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2046-118A-470C-B1A1-2B74CAC33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C8F7-DCCF-4CDC-A45F-503597CCB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1052-E44A-4103-9D58-73443CD90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28C3-B8FC-40DA-8076-C66671368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03A9-AF90-4E9F-B1B1-299B73AD3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BE6B-B5BD-4A4D-83A9-E40B03817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92AA-61F1-4CD3-AE7E-E68B432C7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E00F-F592-4C1F-B628-398D8AC64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9F68-F6EB-47CE-B121-B39F8F3F5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0A49-7AF1-456A-BE10-7933A24B6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21-05-0314-00-0000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040" y="64008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0585-CF62-433B-B5C5-BE00BC79376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39560" y="990720"/>
            <a:ext cx="83995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 algn="just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is document specifies how MAC management frames of IEEE 802.16e can be mapped to the link layer events that are described in P802-21-D00-01.pd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EEE 802.16e MAC Management Fra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B_MSHO-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MS may transmit an MOB-_MSHO-REQ message when it wants to initiate an 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B_BSHO-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BS may transmit a MOB_BSHO-REQ message when it wants to initiate an 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B_BSHO-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BS shall transmit an MOB_BSHO-RSP message upon reception of MOB_MSHO-REQ mes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B_HO-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n MS shall transmit a MOB_HO-IND message for final indication that it is about to perform a 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0b00 : serving BS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G-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mobile subscribers in normal operation, when the information is available to create CID update TLV, the target BS shall include the CID_update and SAID_update TLVs in the REG-RSP for an MS recognized by the target BS as performing HO or Network Re-entry from Idl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4078440" cy="3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SS initi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1960" y="1557360"/>
          <a:ext cx="31590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57360"/>
                    <a:ext cx="31590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148360" y="1616040"/>
          <a:ext cx="3744720" cy="450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616040"/>
                    <a:ext cx="374472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022720" y="1052640"/>
            <a:ext cx="4121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initiate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"/>
          <p:cNvSpPr/>
          <p:nvPr/>
        </p:nvSpPr>
        <p:spPr>
          <a:xfrm>
            <a:off x="422280" y="228600"/>
            <a:ext cx="827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L2 Handover in IEEE 802.16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Link Layer Events M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Link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G-R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Link Handoff Imm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B_HO-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Link Going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SS initiated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MOB_BSHO-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or MOB_BS-HO-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initiated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_BS-REQ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MOB_BSHO-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cp:keywords/>
  <dc:language>en-US</dc:language>
  <cp:lastModifiedBy>admin</cp:lastModifiedBy>
  <cp:lastPrinted>1999-04-27T06:51:51Z</cp:lastPrinted>
  <dcterms:modified xsi:type="dcterms:W3CDTF">2005-08-09T02:09:24Z</dcterms:modified>
  <cp:revision>160</cp:revision>
  <dc:subject/>
  <dc:title>PowerPoint Presentation</dc:title>
</cp:coreProperties>
</file>