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1C603-1C59-4ECC-8245-EB013BE42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2280" y="384912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D523E-CD3A-4BBF-A569-4825EF8F2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532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79FFF-27E3-414A-8419-15A5317F8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84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46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22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84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46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71BC0-7672-4910-8FDA-FD8C1E12ED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F5CDB-A6A2-40B1-8E13-4746585DC2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1015E-EF86-4535-ABB9-0B0E5302A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7E240-917F-42AF-B630-55961A71C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F27AB-E785-45A7-887C-DA109B5E8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21920" y="228240"/>
            <a:ext cx="827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EFC54-A67D-44F5-8191-1269C4F22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1E282-68AC-459D-B317-D37C6265D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532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8246F-3C37-42BD-B0DA-BA44F19B5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F3289-27DA-4377-AD16-12702CFD80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0880" y="6400440"/>
            <a:ext cx="198144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21-05-0314-00-0000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040" y="64008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68A2-3D73-4900-9E81-1377C9CDAC8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39560" y="990720"/>
            <a:ext cx="839952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 algn="just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his document specifies how MAC management frames of IEEE 802.16e can be mapped to the link layer events that are described in P802-21-D00-01.pd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IEEE 802.16e MAC Management Fram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OB_MSHO-R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he MS may transmit an MOB-_MSHO-REQ message when it wants to initiate an H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OB_BSHO-R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he BS may transmit a MOB_BSHO-REQ message when it wants to initiate an H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OB_BSHO-R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he BS shall transmit an MOB_BSHO-RSP message upon reception of MOB_MSHO-REQ mess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OB_HO-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An MS shall transmit a MOB_HO-IND message for final indication that it is about to perform a H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0b00 : serving BS re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EG-R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For mobile subscribers in normal operation, when the information is available to create CID update TLV, the target BS shall include the CID_update and SAID_update TLVs in the REG-RSP for an MS recognized by the target BS as performing HO or Network Re-entry from Idle M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4078440" cy="36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SS initi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831960" y="1557360"/>
          <a:ext cx="31590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57360"/>
                    <a:ext cx="31590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5148360" y="1616040"/>
          <a:ext cx="3744720" cy="450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1616040"/>
                    <a:ext cx="374472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5022720" y="1052640"/>
            <a:ext cx="41212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Network initiated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9" name=""/>
          <p:cNvSpPr/>
          <p:nvPr/>
        </p:nvSpPr>
        <p:spPr>
          <a:xfrm>
            <a:off x="422280" y="228600"/>
            <a:ext cx="827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L2 Handover in IEEE 802.16e</a:t>
            </a:r>
            <a:endParaRPr b="0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Link Layer Events Mapp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100000"/>
              </a:lnSpc>
              <a:spcBef>
                <a:spcPts val="1400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Link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G-RS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400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Link Handoff Imm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OB_HO-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400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Link Going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SS initiated hand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MOB_BSHO-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or MOB_BS-HO-R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Network initiated hand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195120">
              <a:lnSpc>
                <a:spcPct val="100000"/>
              </a:lnSpc>
              <a:buClr>
                <a:srgbClr val="618ffd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B_BS-REQ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MOB_BSHO-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03:24:18Z</dcterms:created>
  <dc:creator>michaewi</dc:creator>
  <dc:description>Nokia Standard Presentation Template - LTR
v. 4 2000/01/05 Eric Beasley
Fixed RGB values for Nokia logo
NO Security Label</dc:description>
  <cp:keywords/>
  <dc:language>en-US</dc:language>
  <cp:lastModifiedBy>admin</cp:lastModifiedBy>
  <cp:lastPrinted>1999-04-27T06:51:51Z</cp:lastPrinted>
  <dcterms:modified xsi:type="dcterms:W3CDTF">2005-08-09T02:09:24Z</dcterms:modified>
  <cp:revision>160</cp:revision>
  <dc:subject/>
  <dc:title>PowerPoint Presentation</dc:title>
</cp:coreProperties>
</file>