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954AB-2E94-4199-B625-A124B4C3E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5FB3-3D5E-48E3-A27A-451B10E64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C72D0-56F1-41DC-AD5B-B9E10776B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84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46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22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84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46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845C3-9CB1-44CC-8EF4-D821CC6A52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6984-F1EA-46B4-A95B-30CA62C368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2B8C-F2A4-4227-9DC3-BAD5620F8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BBA6-5299-4568-9619-866880B41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EB752-3149-4F3B-8EF9-AEBE662CB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21920" y="228240"/>
            <a:ext cx="827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A67B-B6C0-42FD-9699-5C38A4D19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324EE-6039-4CB3-9239-1C0253158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1D3E-3FB3-4BF2-B322-96B020D00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855F4-22A8-468A-8582-3BC211443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772040" y="64008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2FFD-74A1-4B4E-AFC8-27AE05AFAC4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02.16g Primitives for HO (BS side only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primitive is used by a serving BS to inform the mobility control entity in NCMS of an HO request from an M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 ind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primitive is used by the mobility control entity in NCMS to inform target 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 of the pending H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mobility control entity in NCMS responds to the serving BS with the list of recommended target 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 confi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primitive is used by the target BS to reponds to the HO indicaion primitive from the serving BS or the mobility control entity in NC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case of HO, this primitive is used to indicate the starting of the actual H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 canc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case of HO, this primitive indicates the cancellation of the pending H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 dir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primitive is generated by the mobility control entity in NCMS to induce the handover of a particular MSS. Transmission of MOB_BSHO-REQ message is triggered by this primiti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s of 802.16g HO primi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0" y="912960"/>
            <a:ext cx="4572000" cy="2803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4572000" cy="3003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12680" y="762120"/>
            <a:ext cx="453564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16g Query MAC Management Messag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IE Request (QRY_IE_RE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S uses the QRY_IE_REQ message to query information on the SS by describing by one or more 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. The QRY_IE_REQ message is sent from the BS to the SS on the SS’s primary management conne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0">
              <a:lnSpc>
                <a:spcPct val="10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IE Response (QRY_IE_R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10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QRY_IE_RSP message is sent by the SS in response to QRY_IE_REQ containing the results of the information elements sent in the corresponding QRY_IE_REQ. 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h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QRY_IE_RSP message is sent from the SS to the BS on the SS’s primary management CI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IE Request (SET_IE_RE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IE Response (SET_IE_R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68640" y="990720"/>
            <a:ext cx="5175360" cy="1730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4886280" cy="2270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0040" y="6210360"/>
            <a:ext cx="54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IEs are left as TBD in the .16g baseline document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02.16 Primitive example (Scanning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15328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16 MAC Management messages for MI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5520" y="990720"/>
          <a:ext cx="8836200" cy="1373040"/>
        </p:xfrm>
        <a:graphic>
          <a:graphicData uri="http://schemas.openxmlformats.org/drawingml/2006/table">
            <a:tbl>
              <a:tblPr/>
              <a:tblGrid>
                <a:gridCol w="4417920"/>
                <a:gridCol w="1473480"/>
                <a:gridCol w="2944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ynt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B_MSMIH-REQ_Message_Format( 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anagement Message Type = 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TLV Encoded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vari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pecific T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55520" y="2438280"/>
          <a:ext cx="8836200" cy="1384560"/>
        </p:xfrm>
        <a:graphic>
          <a:graphicData uri="http://schemas.openxmlformats.org/drawingml/2006/table">
            <a:tbl>
              <a:tblPr/>
              <a:tblGrid>
                <a:gridCol w="4416480"/>
                <a:gridCol w="1474920"/>
                <a:gridCol w="2944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ynt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B_MSMIH-RSP_Message_Format( 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anagement Message Type = 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TLV Encoded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vari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pecific T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55520" y="3886200"/>
          <a:ext cx="8836200" cy="1365120"/>
        </p:xfrm>
        <a:graphic>
          <a:graphicData uri="http://schemas.openxmlformats.org/drawingml/2006/table">
            <a:tbl>
              <a:tblPr/>
              <a:tblGrid>
                <a:gridCol w="4416480"/>
                <a:gridCol w="1474920"/>
                <a:gridCol w="2944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ynt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B_BSMIH-REQ_Message_Format( 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anagement Message Type = 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TLV Encoded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vari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pecific T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52280" y="5340240"/>
          <a:ext cx="8839440" cy="1441440"/>
        </p:xfrm>
        <a:graphic>
          <a:graphicData uri="http://schemas.openxmlformats.org/drawingml/2006/table">
            <a:tbl>
              <a:tblPr/>
              <a:tblGrid>
                <a:gridCol w="4419720"/>
                <a:gridCol w="1474920"/>
                <a:gridCol w="2944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ynt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B_BSMIH-RSP_Message_Format( 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anagement Message Type = 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TLV Encoded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vari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pecific T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L2 requirements for 802.16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2280" y="914400"/>
            <a:ext cx="849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rotocol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rim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380880">
              <a:lnSpc>
                <a:spcPct val="8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rimitives in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380880">
              <a:lnSpc>
                <a:spcPct val="8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rimitives in 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04920">
              <a:lnSpc>
                <a:spcPct val="8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Primitives for inside 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04920">
              <a:lnSpc>
                <a:spcPct val="8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Primitives for Inter PoA Communication (I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020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 Sans Serif for Nokia"/>
                <a:ea typeface="굴림"/>
              </a:rPr>
              <a:t>Most primitives in the 802.16g baseline document fall into this category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7020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 Sans Serif for Nokia"/>
                <a:ea typeface="굴림"/>
              </a:rPr>
              <a:t>Dependency with 802.21WG about Ib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IH Capability Delivery through broadcast message (DL-MAP) like beacon in 802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380880">
              <a:lnSpc>
                <a:spcPct val="8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What kind of information should be delive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04920">
              <a:lnSpc>
                <a:spcPct val="8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nformation should be as small as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eighbor advertisement 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380880">
              <a:lnSpc>
                <a:spcPct val="8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What kind of .21 specific information should be includ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Remote MIH Message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380880">
              <a:lnSpc>
                <a:spcPct val="8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ntrol Plane (with Basic C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04920">
              <a:lnSpc>
                <a:spcPct val="8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MAC management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380880">
              <a:lnSpc>
                <a:spcPct val="8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04920">
              <a:lnSpc>
                <a:spcPct val="80000"/>
              </a:lnSpc>
              <a:buClr>
                <a:srgbClr val="618ffd"/>
              </a:buClr>
              <a:buSzPct val="75000"/>
              <a:buFont typeface="Time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CS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3:24:18Z</dcterms:created>
  <dc:creator>michaewi</dc:creator>
  <dc:description>Nokia Standard Presentation Template - LTR
v. 4 2000/01/05 Eric Beasley
Fixed RGB values for Nokia logo
NO Security Label</dc:description>
  <cp:keywords/>
  <dc:language>en-US</dc:language>
  <cp:lastModifiedBy>Ronny Kim</cp:lastModifiedBy>
  <cp:lastPrinted>1999-04-27T06:51:51Z</cp:lastPrinted>
  <dcterms:modified xsi:type="dcterms:W3CDTF">2005-08-09T11:56:28Z</dcterms:modified>
  <cp:revision>85</cp:revision>
  <dc:subject/>
  <dc:title>PowerPoint Presentation</dc:title>
</cp:coreProperties>
</file>