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02BF-1469-4A64-B5DC-65D5E9992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A79D-2788-4BDC-949E-BC49A3092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D052-CCA8-4729-AE95-54443E297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84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46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22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84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46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CDC8-2B72-46F1-9461-E96D0E7567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B2E0-7173-45FA-9D9C-6DBD36242A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A672-8E0B-493B-B8AA-416810FF76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40A4-2980-4D3A-970E-DEE4F808C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332F9-D29F-4E7F-A8E5-D57BB850F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21920" y="228240"/>
            <a:ext cx="827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A6CA-F2D7-4CF0-B410-48C34E57F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BEC8-A79C-4A29-AD9A-22F9CC326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FF5B-578F-44EF-8C87-9A83DCF70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FCB7-678A-42C6-9D3D-8666E2134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772040" y="64008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EB1A-0417-4D70-8FFE-D178378AB43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02.16g Primitives for HO (BS side only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primitive is used by a serving BS to inform the mobility control entity in NCMS of an HO request from an M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 ind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primitive is used by the mobility control entity in NCMS to inform target 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 of the pending H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obility control entity in NCMS responds to the serving BS with the list of recommended target 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 confi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primitive is used by the target BS to reponds to the HO indicaion primitive from the serving BS or the mobility control entity in NC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case of HO, this primitive is used to indicate the starting of the actual H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 canc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case of HO, this primitive indicates the cancellation of the pending H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 dir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primitive is generated by the mobility control entity in NCMS to induce the handover of a particular MSS. Transmission of MOB_BSHO-REQ message is triggered by this primiti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s of 802.16g HO primi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0" y="912960"/>
            <a:ext cx="4572000" cy="2803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4572000" cy="3003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12680" y="762120"/>
            <a:ext cx="453564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16g Query MAC Management Messag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IE Request (QRY_IE_RE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S uses the QRY_IE_REQ message to query information on the SS by describing by one or more 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. The QRY_IE_REQ message is sent from the BS to the SS on the SS’s primary management conne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0">
              <a:lnSpc>
                <a:spcPct val="10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IE Response (QRY_IE_R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QRY_IE_RSP message is sent by the SS in response to QRY_IE_REQ containing the results of the information elements sent in the corresponding QRY_IE_REQ. 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QRY_IE_RSP message is sent from the SS to the BS on the SS’s primary management CI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IE Request (SET_IE_RE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IE Response (SET_IE_R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68640" y="990720"/>
            <a:ext cx="5175360" cy="1730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4886280" cy="227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0040" y="6210360"/>
            <a:ext cx="54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IEs are left as TBD in the .16g baseline document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02.16 Primitive example (Scanning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5328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16 MAC Management messages for MI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5520" y="990720"/>
          <a:ext cx="8836200" cy="1373040"/>
        </p:xfrm>
        <a:graphic>
          <a:graphicData uri="http://schemas.openxmlformats.org/drawingml/2006/table">
            <a:tbl>
              <a:tblPr/>
              <a:tblGrid>
                <a:gridCol w="4417920"/>
                <a:gridCol w="1473480"/>
                <a:gridCol w="2944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ynt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B_MSMIH-REQ_Message_Format( 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anagement Message Type = 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TLV Encoded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ari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pecific T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55520" y="2438280"/>
          <a:ext cx="8836200" cy="1384560"/>
        </p:xfrm>
        <a:graphic>
          <a:graphicData uri="http://schemas.openxmlformats.org/drawingml/2006/table">
            <a:tbl>
              <a:tblPr/>
              <a:tblGrid>
                <a:gridCol w="4416480"/>
                <a:gridCol w="1474920"/>
                <a:gridCol w="2944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ynt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B_MSMIH-RSP_Message_Format( 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anagement Message Type = 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TLV Encoded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ari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pecific T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55520" y="3886200"/>
          <a:ext cx="8836200" cy="1365120"/>
        </p:xfrm>
        <a:graphic>
          <a:graphicData uri="http://schemas.openxmlformats.org/drawingml/2006/table">
            <a:tbl>
              <a:tblPr/>
              <a:tblGrid>
                <a:gridCol w="4416480"/>
                <a:gridCol w="1474920"/>
                <a:gridCol w="2944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ynt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B_BSMIH-REQ_Message_Format( 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anagement Message Type = 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TLV Encoded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ari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pecific T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52280" y="5340240"/>
          <a:ext cx="8839440" cy="1441440"/>
        </p:xfrm>
        <a:graphic>
          <a:graphicData uri="http://schemas.openxmlformats.org/drawingml/2006/table">
            <a:tbl>
              <a:tblPr/>
              <a:tblGrid>
                <a:gridCol w="4419720"/>
                <a:gridCol w="1474920"/>
                <a:gridCol w="2944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ynt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B_BSMIH-RSP_Message_Format( 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anagement Message Type = 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TLV Encoded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ari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pecific T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L2 requirements for 802.16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2280" y="914400"/>
            <a:ext cx="849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rotocol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rim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80880">
              <a:lnSpc>
                <a:spcPct val="8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rimitives in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80880">
              <a:lnSpc>
                <a:spcPct val="8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rimitives in 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04920">
              <a:lnSpc>
                <a:spcPct val="8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Primitives for inside 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04920">
              <a:lnSpc>
                <a:spcPct val="8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Primitives for Inter PoA Communication (I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020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  <a:ea typeface="굴림"/>
              </a:rPr>
              <a:t>Most primitives in the 802.16g baseline document fall into this category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7020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  <a:ea typeface="굴림"/>
              </a:rPr>
              <a:t>Dependency with 802.21WG about Ib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IH Capability Delivery through broadcast message (DL-MAP) like beacon in 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80880">
              <a:lnSpc>
                <a:spcPct val="8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What kind of information should be delive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04920">
              <a:lnSpc>
                <a:spcPct val="8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nformation should be as small a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eighbor advertisement 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80880">
              <a:lnSpc>
                <a:spcPct val="8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What kind of .21 specific information should be includ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emote MIH Message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80880">
              <a:lnSpc>
                <a:spcPct val="8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ntrol Plane (with Basic 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04920">
              <a:lnSpc>
                <a:spcPct val="8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MAC management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80880">
              <a:lnSpc>
                <a:spcPct val="8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04920">
              <a:lnSpc>
                <a:spcPct val="8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CS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3:24:18Z</dcterms:created>
  <dc:creator>michaewi</dc:creator>
  <dc:description>Nokia Standard Presentation Template - LTR
v. 4 2000/01/05 Eric Beasley
Fixed RGB values for Nokia logo
NO Security Label</dc:description>
  <cp:keywords/>
  <dc:language>en-US</dc:language>
  <cp:lastModifiedBy>Ronny Kim</cp:lastModifiedBy>
  <cp:lastPrinted>1999-04-27T06:51:51Z</cp:lastPrinted>
  <dcterms:modified xsi:type="dcterms:W3CDTF">2005-08-09T11:56:28Z</dcterms:modified>
  <cp:revision>85</cp:revision>
  <dc:subject/>
  <dc:title>PowerPoint Presentation</dc:title>
</cp:coreProperties>
</file>