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3" name="PlaceHolder 1"/>
          <p:cNvSpPr>
            <a:spLocks noGrp="1"/>
          </p:cNvSpPr>
          <p:nvPr>
            <p:ph type="body"/>
          </p:nvPr>
        </p:nvSpPr>
        <p:spPr>
          <a:xfrm>
            <a:off x="934560" y="4430880"/>
            <a:ext cx="5140440" cy="420336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4" name="PlaceHolder 2"/>
          <p:cNvSpPr>
            <a:spLocks noGrp="1"/>
          </p:cNvSpPr>
          <p:nvPr>
            <p:ph type="sldImg"/>
          </p:nvPr>
        </p:nvSpPr>
        <p:spPr>
          <a:xfrm>
            <a:off x="1333080" y="808200"/>
            <a:ext cx="4343400" cy="32572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81160" y="696960"/>
            <a:ext cx="4648320" cy="3486240"/>
          </a:xfrm>
          <a:prstGeom prst="rect">
            <a:avLst/>
          </a:prstGeom>
          <a:ln w="0">
            <a:noFill/>
          </a:ln>
        </p:spPr>
      </p:sp>
      <p:sp>
        <p:nvSpPr>
          <p:cNvPr id="70" name="PlaceHolder 2"/>
          <p:cNvSpPr>
            <a:spLocks noGrp="1"/>
          </p:cNvSpPr>
          <p:nvPr>
            <p:ph type="body"/>
          </p:nvPr>
        </p:nvSpPr>
        <p:spPr>
          <a:xfrm>
            <a:off x="934560" y="4416120"/>
            <a:ext cx="5140440" cy="418284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formation services can be provided either over-the-air or by accessing information servers over the internet. Information services provide information such as neighbor lists and network capabilities that can be useful for the detection and selection of an alternate network. Note that when information is not access over 802 technologies, 802.21 does not address the procedures that allow a client to access the information server but only the content of the information.</a:t>
            </a:r>
            <a:endParaRPr b="0" lang="en-US" sz="1000" spc="-1" strike="noStrike">
              <a:solidFill>
                <a:srgbClr val="000000"/>
              </a:solidFill>
              <a:latin typeface="Rotis Sans Serif for Nok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command service allows 802.21 users to request commands on the underlying layers on their behave. One user command (what is referred to as MIH command) might generate multiple commands from the 802.21 MIH layer to the relevant link layer interfaces. Note however that commands do not replace existing mobility management protocols. Command might propagate locally or remotely, however commands do not flow from once access technology to the other.</a:t>
            </a: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81160" y="696960"/>
            <a:ext cx="4648320" cy="3486240"/>
          </a:xfrm>
          <a:prstGeom prst="rect">
            <a:avLst/>
          </a:prstGeom>
          <a:ln w="0">
            <a:noFill/>
          </a:ln>
        </p:spPr>
      </p:sp>
      <p:sp>
        <p:nvSpPr>
          <p:cNvPr id="66" name="PlaceHolder 2"/>
          <p:cNvSpPr>
            <a:spLocks noGrp="1"/>
          </p:cNvSpPr>
          <p:nvPr>
            <p:ph type="body"/>
          </p:nvPr>
        </p:nvSpPr>
        <p:spPr>
          <a:xfrm>
            <a:off x="934560" y="4416120"/>
            <a:ext cx="5140440" cy="418284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n 802.21 user is able to access 802.21 services through well defined service access points. Thus information commands an events are delivered through these SAPs using 802.21 services primitives. Services are available simultaneously to one or more users. An actual implementation however is likely to provide a single mobility management function availing of 802.21 services an requesting operations on underlying link layer interfaces. 802.21 itself however does not replace existing mobility management technologies and does not have any impact on the handling of intra-technology handovers.</a:t>
            </a:r>
            <a:endParaRPr b="0" lang="en-US" sz="1000" spc="-1" strike="noStrike">
              <a:solidFill>
                <a:srgbClr val="000000"/>
              </a:solidFill>
              <a:latin typeface="Rotis Sans Serif for Nok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81160" y="696960"/>
            <a:ext cx="4648320" cy="3486240"/>
          </a:xfrm>
          <a:prstGeom prst="rect">
            <a:avLst/>
          </a:prstGeom>
          <a:ln w="0">
            <a:noFill/>
          </a:ln>
        </p:spPr>
      </p:sp>
      <p:sp>
        <p:nvSpPr>
          <p:cNvPr id="68" name="PlaceHolder 2"/>
          <p:cNvSpPr>
            <a:spLocks noGrp="1"/>
          </p:cNvSpPr>
          <p:nvPr>
            <p:ph type="body"/>
          </p:nvPr>
        </p:nvSpPr>
        <p:spPr>
          <a:xfrm>
            <a:off x="934560" y="4416120"/>
            <a:ext cx="5140440" cy="418284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next set of slides address the three services provided by 802.21 and what their dos and don’ts. The Event Service primarily provide information with regards to possible changes in behavior such as poor radio conditions or low throughput. Changes in administrative state (disable devices) might also trigger a 802.21 event. Note however that 802.21 events do not propagate across heterogeneous technologies. E.g., radio environment measurements are not passed from 8025o Cellular. The information provided by 802.21 event is informative in nature as does not enforce any particular procedure on receipt of these events. Rather 802.21 are suggestions that can be used by 802.21 user to decide whether a link layer interface switch should take place.</a:t>
            </a: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497DC7-A364-49D6-B8F9-096D70ABD2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56272D-3C34-4E6F-8804-C67773B24D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3A4400-6684-4737-BEEC-615000F021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E3E69A-59E1-4C6A-AD78-B5975979E9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013071-2D0C-4FAE-ADA4-2D5454BFB6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2333E2-D96B-40C4-A6F3-5D9D209CFC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05F1FF-DFAC-481E-9781-F1B3B56E05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B7AAFD-68D7-4330-B3B5-6DE09EE5C2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C4CECC-7309-4C00-A178-6B2DA460E3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8B5330-1C32-4FAF-8F2A-DC129F8B91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FED3B9-720F-4BDD-BB7E-957461DF51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EE779D-9FA0-4C36-8D7C-67D6CF7A82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152280" y="6381360"/>
            <a:ext cx="1981440" cy="47700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21-05-0300-04-0000</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924320" y="6324120"/>
            <a:ext cx="685800" cy="38124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C824C-BE92-4104-AF90-0E5413589107}"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pic>
        <p:nvPicPr>
          <p:cNvPr id="4" name="" descr=""/>
          <p:cNvPicPr/>
          <p:nvPr/>
        </p:nvPicPr>
        <p:blipFill>
          <a:blip r:embed="rId2"/>
          <a:stretch/>
        </p:blipFill>
        <p:spPr>
          <a:xfrm>
            <a:off x="228600" y="57240"/>
            <a:ext cx="754200" cy="857160"/>
          </a:xfrm>
          <a:prstGeom prst="rect">
            <a:avLst/>
          </a:prstGeom>
          <a:ln w="0">
            <a:noFill/>
          </a:ln>
        </p:spPr>
      </p:pic>
      <p:pic>
        <p:nvPicPr>
          <p:cNvPr id="5" name="" descr=""/>
          <p:cNvPicPr/>
          <p:nvPr/>
        </p:nvPicPr>
        <p:blipFill>
          <a:blip r:embed="rId3"/>
          <a:stretch/>
        </p:blipFill>
        <p:spPr>
          <a:xfrm>
            <a:off x="8381880" y="0"/>
            <a:ext cx="754200" cy="77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tandards.ieee.org/board/pat/guid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5-0300-03-0000</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Times New Roman"/>
              </a:rPr>
              <a:t>Proposed 802.21 Presentation for 3GPP</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August, 11</a:t>
            </a:r>
            <a:r>
              <a:rPr b="0" lang="en-US" sz="2400" spc="-1" strike="noStrike" baseline="30000">
                <a:solidFill>
                  <a:srgbClr val="000000"/>
                </a:solidFill>
                <a:latin typeface="Times New Roman"/>
                <a:ea typeface="Times New Roman"/>
              </a:rPr>
              <a:t>th</a:t>
            </a:r>
            <a:r>
              <a:rPr b="0" lang="en-US" sz="2400" spc="-1" strike="noStrike">
                <a:solidFill>
                  <a:srgbClr val="000000"/>
                </a:solidFill>
                <a:latin typeface="Times New Roman"/>
                <a:ea typeface="Times New Roman"/>
              </a:rPr>
              <a:t>, 2005</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first 802.21-3GPP Teleconference</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 Ulises Olvera, Alan Carlton</a:t>
            </a:r>
            <a:endParaRPr b="0" lang="en-US" sz="2400" spc="-1" strike="noStrike">
              <a:solidFill>
                <a:srgbClr val="000000"/>
              </a:solidFill>
              <a:latin typeface="Times New Roman"/>
            </a:endParaRPr>
          </a:p>
          <a:p>
            <a:pPr marL="281160" indent="-281160" algn="just">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a:t>
            </a:r>
            <a:endParaRPr b="0" lang="en-US" sz="2400" spc="-1" strike="noStrike">
              <a:solidFill>
                <a:srgbClr val="000000"/>
              </a:solidFill>
              <a:latin typeface="Times New Roman"/>
            </a:endParaRPr>
          </a:p>
          <a:p>
            <a:pPr marL="281160" indent="-281160" algn="just">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ovide 3GPP community with a high lever description of the -802.21 specificatio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E6D6B34-5C15-4A07-AADF-982E91ED4F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76320"/>
            <a:ext cx="8534520" cy="990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Times New Roman"/>
                <a:ea typeface="Times New Roman"/>
              </a:rPr>
              <a:t>Media Independent Services (cont’d</a:t>
            </a:r>
            <a:r>
              <a:rPr b="1" lang="en-US" sz="4800" spc="-1" strike="noStrike">
                <a:solidFill>
                  <a:srgbClr val="000000"/>
                </a:solidFill>
                <a:latin typeface="Times New Roman"/>
                <a:ea typeface="Times New Roman"/>
              </a:rPr>
              <a:t>)</a:t>
            </a:r>
            <a:endParaRPr b="0" lang="en-US" sz="4800" spc="-1" strike="noStrike">
              <a:solidFill>
                <a:srgbClr val="000000"/>
              </a:solidFill>
              <a:latin typeface="Rotis Sans Serif for Nokia"/>
            </a:endParaRPr>
          </a:p>
        </p:txBody>
      </p:sp>
      <p:sp>
        <p:nvSpPr>
          <p:cNvPr id="62" name=""/>
          <p:cNvSpPr/>
          <p:nvPr/>
        </p:nvSpPr>
        <p:spPr>
          <a:xfrm>
            <a:off x="25560" y="1371600"/>
            <a:ext cx="8966160" cy="4864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dia Independent Services:</a:t>
            </a:r>
            <a:endParaRPr b="0" lang="en-US" sz="40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nformation Service Dos</a:t>
            </a:r>
            <a:endParaRPr b="0" lang="en-US" sz="30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Provides heterogeneous network information within a particular geographical area</a:t>
            </a:r>
            <a:endParaRPr b="0" lang="en-US" sz="24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ormation might be delivered through access technology broadcast/multicast procedures or through data base queries at a remote server</a:t>
            </a:r>
            <a:endParaRPr b="0" lang="en-US" sz="24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ormation services might be dynamic or static</a:t>
            </a:r>
            <a:endParaRPr b="0" lang="en-US" sz="24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nformation Service Don’ts</a:t>
            </a:r>
            <a:endParaRPr b="0" lang="en-US" sz="30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802.21 does not define how the information server is accessed, but only what information is required</a:t>
            </a:r>
            <a:endParaRPr b="0" lang="en-US" sz="24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02.21 does not specify how the information service might be implemented in a particular technology</a:t>
            </a:r>
            <a:endParaRPr b="0" lang="en-US" sz="24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FA4BC2C6-0726-4917-8D55-9314BC695C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066680" y="304920"/>
            <a:ext cx="7315200" cy="6094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Times New Roman"/>
                <a:ea typeface="Times New Roman"/>
              </a:rPr>
              <a:t>Media Independent Services (cont’d</a:t>
            </a:r>
            <a:r>
              <a:rPr b="1" lang="en-US" sz="4800" spc="-1" strike="noStrike">
                <a:solidFill>
                  <a:srgbClr val="000000"/>
                </a:solidFill>
                <a:latin typeface="Times New Roman"/>
                <a:ea typeface="Times New Roman"/>
              </a:rPr>
              <a:t>)</a:t>
            </a:r>
            <a:endParaRPr b="0" lang="en-US" sz="4800" spc="-1" strike="noStrike">
              <a:solidFill>
                <a:srgbClr val="000000"/>
              </a:solidFill>
              <a:latin typeface="Rotis Sans Serif for Nokia"/>
            </a:endParaRPr>
          </a:p>
        </p:txBody>
      </p:sp>
      <p:sp>
        <p:nvSpPr>
          <p:cNvPr id="64" name=""/>
          <p:cNvSpPr/>
          <p:nvPr/>
        </p:nvSpPr>
        <p:spPr>
          <a:xfrm>
            <a:off x="304920" y="1295280"/>
            <a:ext cx="8610480" cy="5193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dia Independent Services:</a:t>
            </a:r>
            <a:endParaRPr b="0" lang="en-US" sz="40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mmand Service Dos</a:t>
            </a:r>
            <a:endParaRPr b="0" lang="en-US" sz="30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Commands might flow from the 802.21 MIH user to 802.21 MIH and from 802.21 MIH to link layer entities</a:t>
            </a:r>
            <a:endParaRPr b="0" lang="en-US" sz="24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mands might convey 802.21MIH user decision to switch from one access technology to the other.</a:t>
            </a:r>
            <a:endParaRPr b="0" lang="en-US" sz="24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mands have both remote and local scope</a:t>
            </a:r>
            <a:endParaRPr b="0" lang="en-US" sz="24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mands might optimized existing handover mechanisms</a:t>
            </a:r>
            <a:endParaRPr b="0" lang="en-US" sz="24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mmand Service Don’ts</a:t>
            </a:r>
            <a:endParaRPr b="0" lang="en-US" sz="30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Commands do not flow directly from one access technology to other</a:t>
            </a:r>
            <a:endParaRPr b="0" lang="en-US" sz="24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mands do not replace existing mobility management protocols and procedures.</a:t>
            </a:r>
            <a:endParaRPr b="0" lang="en-US" sz="24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23D8AB04-B4EF-4EE6-AB9D-360769D619A2}"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222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1"/>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opman/sect6.html#6.3&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2"/>
              </a:rPr>
              <a:t>http://standards.ieee.org/board/pat/guide.html</a:t>
            </a:r>
            <a:r>
              <a:rPr b="0" lang="en-US" sz="2000" spc="-1" strike="noStrike" u="sng">
                <a:solidFill>
                  <a:srgbClr val="000000"/>
                </a:solidFill>
                <a:uFillTx/>
                <a:latin typeface="Times New Roman"/>
                <a:ea typeface="Times New Roman"/>
              </a:rPr>
              <a:t>&gt; </a:t>
            </a: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AEE52DEB-8EEA-4C86-BA3D-F86EB1AE486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828800" y="228600"/>
            <a:ext cx="5562720" cy="6094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0" spc="-1" strike="noStrike">
                <a:solidFill>
                  <a:srgbClr val="000000"/>
                </a:solidFill>
                <a:latin typeface="Times New Roman"/>
                <a:ea typeface="Times New Roman"/>
              </a:rPr>
              <a:t>Motivation</a:t>
            </a:r>
            <a:endParaRPr b="0" lang="en-US" sz="6000" spc="-1" strike="noStrike">
              <a:solidFill>
                <a:srgbClr val="000000"/>
              </a:solidFill>
              <a:latin typeface="Rotis Sans Serif for Nokia"/>
            </a:endParaRPr>
          </a:p>
        </p:txBody>
      </p:sp>
      <p:sp>
        <p:nvSpPr>
          <p:cNvPr id="48" name=""/>
          <p:cNvSpPr/>
          <p:nvPr/>
        </p:nvSpPr>
        <p:spPr>
          <a:xfrm>
            <a:off x="76320" y="1295280"/>
            <a:ext cx="8915400" cy="4864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ain Goals:</a:t>
            </a:r>
            <a:endParaRPr b="0" lang="en-US" sz="48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id 3GPP in the realization of Interworking Scenario 4 and 5 (ref.TR 22.934)</a:t>
            </a:r>
            <a:endParaRPr b="0" lang="en-US" sz="36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nsure that 802.21 requirements be considered within other standard bodies</a:t>
            </a:r>
            <a:endParaRPr b="0" lang="en-US" sz="36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Update relevant 3GPP groups with latest development in 802.21 standards</a:t>
            </a:r>
            <a:endParaRPr b="0" lang="en-US" sz="36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B8535DAB-C7BD-4C5C-B22E-779A3C210D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8600" y="152280"/>
            <a:ext cx="868680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IH Model</a:t>
            </a:r>
            <a:endParaRPr b="0" lang="en-US" sz="3600" spc="-1" strike="noStrike">
              <a:solidFill>
                <a:srgbClr val="000000"/>
              </a:solidFill>
              <a:latin typeface="Rotis Sans Serif for Nokia"/>
            </a:endParaRPr>
          </a:p>
        </p:txBody>
      </p:sp>
      <p:pic>
        <p:nvPicPr>
          <p:cNvPr id="50" name="" descr=""/>
          <p:cNvPicPr/>
          <p:nvPr/>
        </p:nvPicPr>
        <p:blipFill>
          <a:blip r:embed="rId1"/>
          <a:stretch/>
        </p:blipFill>
        <p:spPr>
          <a:xfrm>
            <a:off x="1066680" y="838080"/>
            <a:ext cx="7239240" cy="5550120"/>
          </a:xfrm>
          <a:prstGeom prst="rect">
            <a:avLst/>
          </a:prstGeom>
          <a:ln w="0">
            <a:noFill/>
          </a:ln>
        </p:spPr>
      </p:pic>
      <p:sp>
        <p:nvSpPr>
          <p:cNvPr id="2" name="PlaceHolder 1"/>
          <p:cNvSpPr>
            <a:spLocks noGrp="1"/>
          </p:cNvSpPr>
          <p:nvPr>
            <p:ph type="sldNum" idx="2"/>
          </p:nvPr>
        </p:nvSpPr>
        <p:spPr/>
        <p:txBody>
          <a:bodyPr/>
          <a:p>
            <a:fld id="{357AF3FB-7A75-472A-A12D-74BCD1B21C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295280" y="228600"/>
            <a:ext cx="6477120" cy="6094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800" spc="-1" strike="noStrike">
                <a:solidFill>
                  <a:srgbClr val="000000"/>
                </a:solidFill>
                <a:latin typeface="Times New Roman"/>
                <a:ea typeface="Times New Roman"/>
              </a:rPr>
              <a:t>Current 802.21 Scope</a:t>
            </a:r>
            <a:endParaRPr b="0" lang="en-US" sz="4800" spc="-1" strike="noStrike">
              <a:solidFill>
                <a:srgbClr val="000000"/>
              </a:solidFill>
              <a:latin typeface="Rotis Sans Serif for Nokia"/>
            </a:endParaRPr>
          </a:p>
        </p:txBody>
      </p:sp>
      <p:sp>
        <p:nvSpPr>
          <p:cNvPr id="52" name=""/>
          <p:cNvSpPr/>
          <p:nvPr/>
        </p:nvSpPr>
        <p:spPr>
          <a:xfrm>
            <a:off x="254160" y="1676520"/>
            <a:ext cx="8584920" cy="4206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urrent Draft defines:</a:t>
            </a:r>
            <a:endParaRPr b="0" lang="en-US" sz="48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Media Independent Handover Principles and Design Assumptions</a:t>
            </a:r>
            <a:endParaRPr b="0" lang="en-US" sz="36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ported Media Independent Services</a:t>
            </a:r>
            <a:endParaRPr b="0" lang="en-US" sz="36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rvice Access Points and their Primitives</a:t>
            </a:r>
            <a:endParaRPr b="0" lang="en-US" sz="36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Media Independent Handover Protocol</a:t>
            </a:r>
            <a:endParaRPr b="0" lang="en-US" sz="3600" spc="-1" strike="noStrike">
              <a:solidFill>
                <a:srgbClr val="000000"/>
              </a:solidFill>
              <a:latin typeface="Rotis Sans Serif for Nokia"/>
            </a:endParaRPr>
          </a:p>
          <a:p>
            <a:pPr lvl="1" marL="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9FFB464B-B555-495A-A65B-BF8FF21E15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152280"/>
            <a:ext cx="8089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Times New Roman"/>
                <a:ea typeface="Times New Roman"/>
              </a:rPr>
              <a:t>MIH Principles</a:t>
            </a:r>
            <a:endParaRPr b="0" lang="en-US" sz="4400" spc="-1" strike="noStrike">
              <a:solidFill>
                <a:srgbClr val="000000"/>
              </a:solidFill>
              <a:latin typeface="Rotis Sans Serif for Nokia"/>
            </a:endParaRPr>
          </a:p>
        </p:txBody>
      </p:sp>
      <p:sp>
        <p:nvSpPr>
          <p:cNvPr id="54" name=""/>
          <p:cNvSpPr/>
          <p:nvPr/>
        </p:nvSpPr>
        <p:spPr>
          <a:xfrm>
            <a:off x="0" y="762120"/>
            <a:ext cx="8915400" cy="5714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IH Principles Dos:</a:t>
            </a:r>
            <a:endParaRPr b="0" lang="en-US" sz="36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02.21 specifies procedures that </a:t>
            </a:r>
            <a:r>
              <a:rPr b="1" lang="en-US" sz="2600" spc="-1" strike="noStrike">
                <a:solidFill>
                  <a:srgbClr val="000000"/>
                </a:solidFill>
                <a:latin typeface="Times New Roman"/>
              </a:rPr>
              <a:t>aid</a:t>
            </a:r>
            <a:r>
              <a:rPr b="0" lang="en-US" sz="2600" spc="-1" strike="noStrike">
                <a:solidFill>
                  <a:srgbClr val="000000"/>
                </a:solidFill>
                <a:latin typeface="Times New Roman"/>
              </a:rPr>
              <a:t> in the handover decision making, providing ling layer state information to MIH users.</a:t>
            </a:r>
            <a:endParaRPr b="0" lang="en-US" sz="26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02.21 specifies procedures that </a:t>
            </a:r>
            <a:r>
              <a:rPr b="1" lang="en-US" sz="2600" spc="-1" strike="noStrike">
                <a:solidFill>
                  <a:srgbClr val="000000"/>
                </a:solidFill>
                <a:latin typeface="Times New Roman"/>
              </a:rPr>
              <a:t>aid</a:t>
            </a:r>
            <a:r>
              <a:rPr b="0" lang="en-US" sz="2600" spc="-1" strike="noStrike">
                <a:solidFill>
                  <a:srgbClr val="000000"/>
                </a:solidFill>
                <a:latin typeface="Times New Roman"/>
              </a:rPr>
              <a:t> in the provisioning of network information and the basic content of the this information</a:t>
            </a:r>
            <a:endParaRPr b="0" lang="en-US" sz="26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02.21 specifies command procedures that allow service continuity across heterogeneous networks</a:t>
            </a:r>
            <a:endParaRPr b="0" lang="en-US" sz="26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IH Principles Don’ts</a:t>
            </a:r>
            <a:endParaRPr b="0" lang="en-US" sz="36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02.21 neither controls handover selection nor defines handover policies</a:t>
            </a:r>
            <a:endParaRPr b="0" lang="en-US" sz="26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02.21 neither controls network detection nor specifies network selection procedures nor network information provisioning</a:t>
            </a:r>
            <a:endParaRPr b="0" lang="en-US" sz="26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28C2CE60-E487-4735-A735-614E61CAF7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152280"/>
            <a:ext cx="868680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Times New Roman"/>
                <a:ea typeface="Times New Roman"/>
              </a:rPr>
              <a:t>Design Assumptions</a:t>
            </a:r>
            <a:endParaRPr b="0" lang="en-US" sz="4400" spc="-1" strike="noStrike">
              <a:solidFill>
                <a:srgbClr val="000000"/>
              </a:solidFill>
              <a:latin typeface="Rotis Sans Serif for Nokia"/>
            </a:endParaRPr>
          </a:p>
        </p:txBody>
      </p:sp>
      <p:sp>
        <p:nvSpPr>
          <p:cNvPr id="56" name=""/>
          <p:cNvSpPr/>
          <p:nvPr/>
        </p:nvSpPr>
        <p:spPr>
          <a:xfrm>
            <a:off x="0" y="990720"/>
            <a:ext cx="9144000" cy="5028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sign Assumptions Dos:</a:t>
            </a:r>
            <a:endParaRPr b="0" lang="en-US" sz="40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21 cross-layer entity interacting with multiple layers. </a:t>
            </a:r>
            <a:endParaRPr b="0" lang="en-US" sz="28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21 Facilitates handover determination</a:t>
            </a:r>
            <a:endParaRPr b="0" lang="en-US" sz="28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21 Provides a technology-independent unified interface to upper layers and MIH users</a:t>
            </a:r>
            <a:endParaRPr b="0" lang="en-US" sz="28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21 facilitates both station initiated and network initiated handover determination. Both local and remote triggers are supported</a:t>
            </a:r>
            <a:endParaRPr b="0" lang="en-US" sz="28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sign Assumptions Don’ts</a:t>
            </a:r>
            <a:endParaRPr b="0" lang="en-US" sz="40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21 does not modify existing handover principles</a:t>
            </a:r>
            <a:endParaRPr b="0" lang="en-US" sz="28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21 does not mandate handover determination based on 802.21 events. Events are informational in nature</a:t>
            </a:r>
            <a:r>
              <a:rPr b="0" lang="en-US" sz="2800" spc="-1" strike="noStrike">
                <a:solidFill>
                  <a:srgbClr val="fc0128"/>
                </a:solidFill>
                <a:latin typeface="Times New Roman"/>
              </a:rPr>
              <a:t> </a:t>
            </a:r>
            <a:r>
              <a:rPr b="1" lang="en-US" sz="2800" spc="-1" strike="noStrike">
                <a:solidFill>
                  <a:srgbClr val="0066ff"/>
                </a:solidFill>
                <a:latin typeface="Times New Roman"/>
              </a:rPr>
              <a:t> </a:t>
            </a:r>
            <a:endParaRPr b="0" lang="en-US" sz="28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761CE7DA-55A6-42F8-830E-30E1CC0AC6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16000" y="76320"/>
            <a:ext cx="8750160" cy="6094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Times New Roman"/>
                <a:ea typeface="Times New Roman"/>
              </a:rPr>
              <a:t>Media Independent Services</a:t>
            </a:r>
            <a:endParaRPr b="0" lang="en-US" sz="4400" spc="-1" strike="noStrike">
              <a:solidFill>
                <a:srgbClr val="000000"/>
              </a:solidFill>
              <a:latin typeface="Rotis Sans Serif for Nokia"/>
            </a:endParaRPr>
          </a:p>
        </p:txBody>
      </p:sp>
      <p:sp>
        <p:nvSpPr>
          <p:cNvPr id="58" name=""/>
          <p:cNvSpPr/>
          <p:nvPr/>
        </p:nvSpPr>
        <p:spPr>
          <a:xfrm>
            <a:off x="304920" y="1219320"/>
            <a:ext cx="8991360" cy="5301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dia Independent Services Dos:</a:t>
            </a:r>
            <a:endParaRPr b="0" lang="en-US" sz="40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obility Management Entities access 802.21 services through well defined SAPs</a:t>
            </a:r>
            <a:endParaRPr b="0" lang="en-US" sz="30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ore than one user can have access to 802.21 services in order to integrate multiple mobility protocols (E.g., Cellular –MIP)</a:t>
            </a:r>
            <a:endParaRPr b="0" lang="en-US" sz="30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802.21 services could be invoked to request operations on underlying resources</a:t>
            </a:r>
            <a:endParaRPr b="0" lang="en-US" sz="30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dia Independent Services Don’ts</a:t>
            </a:r>
            <a:endParaRPr b="0" lang="en-US" sz="40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802.21 does not replaces existing mobility management function and protocols already in place</a:t>
            </a:r>
            <a:endParaRPr b="0" lang="en-US" sz="3000" spc="-1" strike="noStrike">
              <a:solidFill>
                <a:srgbClr val="000000"/>
              </a:solidFill>
              <a:latin typeface="Rotis Sans Serif for Nokia"/>
            </a:endParaRPr>
          </a:p>
          <a:p>
            <a:pPr lvl="1" marL="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E0B779BE-EBC1-414D-A30C-F947AC38BA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914400" y="304920"/>
            <a:ext cx="7467480" cy="6094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Times New Roman"/>
                <a:ea typeface="Times New Roman"/>
              </a:rPr>
              <a:t>Media Independent Services (cont’d</a:t>
            </a:r>
            <a:r>
              <a:rPr b="1" lang="en-US" sz="4800" spc="-1" strike="noStrike">
                <a:solidFill>
                  <a:srgbClr val="000000"/>
                </a:solidFill>
                <a:latin typeface="Times New Roman"/>
                <a:ea typeface="Times New Roman"/>
              </a:rPr>
              <a:t>)</a:t>
            </a:r>
            <a:endParaRPr b="0" lang="en-US" sz="4800" spc="-1" strike="noStrike">
              <a:solidFill>
                <a:srgbClr val="000000"/>
              </a:solidFill>
              <a:latin typeface="Rotis Sans Serif for Nokia"/>
            </a:endParaRPr>
          </a:p>
        </p:txBody>
      </p:sp>
      <p:sp>
        <p:nvSpPr>
          <p:cNvPr id="60" name=""/>
          <p:cNvSpPr/>
          <p:nvPr/>
        </p:nvSpPr>
        <p:spPr>
          <a:xfrm>
            <a:off x="0" y="1219320"/>
            <a:ext cx="9296280" cy="5027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dia Independent Services:</a:t>
            </a:r>
            <a:endParaRPr b="0" lang="en-US" sz="40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Event Service Dos</a:t>
            </a:r>
            <a:endParaRPr b="0" lang="en-US" sz="34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Local and Remote Events are supported</a:t>
            </a:r>
            <a:endParaRPr b="0" lang="en-US" sz="28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vents indicate changes in state behavior</a:t>
            </a:r>
            <a:endParaRPr b="0" lang="en-US" sz="28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vents indicate administrative state change</a:t>
            </a:r>
            <a:endParaRPr b="0" lang="en-US" sz="28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vents facilitate handover detection</a:t>
            </a:r>
            <a:endParaRPr b="0" lang="en-US" sz="28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vents are delivered according to 802.21 users preferences</a:t>
            </a:r>
            <a:endParaRPr b="0" lang="en-US" sz="28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Events Service Don’ts</a:t>
            </a:r>
            <a:endParaRPr b="0" lang="en-US" sz="34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vents do not propagate directly between heterogeneous stacks</a:t>
            </a:r>
            <a:endParaRPr b="0" lang="en-US" sz="28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vents do not enforce actions but rather suggest them</a:t>
            </a:r>
            <a:endParaRPr b="0" lang="en-US" sz="28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1B1EFD1F-64CB-4DDE-B6B1-C39BB05A39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wi</dc:creator>
  <dc:description>Nokia Standard Presentation Template - LTR
v. 4 2000/01/05 Eric Beasley
Fixed RGB values for Nokia logo
NO Security Label</dc:description>
  <cp:keywords/>
  <dc:language>en-US</dc:language>
  <cp:lastModifiedBy>olveraux</cp:lastModifiedBy>
  <cp:lastPrinted>1999-04-27T06:51:51Z</cp:lastPrinted>
  <dcterms:modified xsi:type="dcterms:W3CDTF">2005-08-10T15:59:57Z</dcterms:modified>
  <cp:revision>164</cp:revision>
  <dc:subject/>
  <dc:title>PowerPoint Presentation</dc:title>
</cp:coreProperties>
</file>