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0560" y="6381720"/>
            <a:ext cx="1981080" cy="2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-05-0336-00-0000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643280" y="3141720"/>
            <a:ext cx="216000" cy="143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se5b: UE Collocated IS interfacing to remote Information Datab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87640" y="3716280"/>
            <a:ext cx="37450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284640"/>
            <a:ext cx="2881440" cy="265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1097280" y="2900520"/>
            <a:ext cx="462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6737400" y="3575160"/>
            <a:ext cx="85896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3286080"/>
            <a:ext cx="1731960" cy="1224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800600"/>
            <a:ext cx="86220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.21 I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1667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.21 I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 layer proxy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 rot="18418200">
            <a:off x="4908240" y="4555440"/>
            <a:ext cx="336600" cy="720720"/>
          </a:xfrm>
          <a:custGeom>
            <a:avLst/>
            <a:gdLst/>
            <a:ahLst/>
            <a:rect l="l" t="t" r="r" b="b"/>
            <a:pathLst>
              <a:path w="212" h="273">
                <a:moveTo>
                  <a:pt x="121" y="0"/>
                </a:moveTo>
                <a:cubicBezTo>
                  <a:pt x="83" y="34"/>
                  <a:pt x="45" y="68"/>
                  <a:pt x="30" y="91"/>
                </a:cubicBezTo>
                <a:cubicBezTo>
                  <a:pt x="15" y="114"/>
                  <a:pt x="0" y="107"/>
                  <a:pt x="30" y="137"/>
                </a:cubicBezTo>
                <a:cubicBezTo>
                  <a:pt x="60" y="167"/>
                  <a:pt x="136" y="220"/>
                  <a:pt x="212" y="2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3087360" y="1628640"/>
            <a:ext cx="2094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work IS Provider 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724280"/>
            <a:ext cx="1224000" cy="57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4869000"/>
            <a:ext cx="1150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TF Scop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?) 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6136560" y="2852640"/>
            <a:ext cx="204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twork IS Provider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"/>
          <p:cNvSpPr/>
          <p:nvPr/>
        </p:nvSpPr>
        <p:spPr>
          <a:xfrm>
            <a:off x="2184120" y="6165720"/>
            <a:ext cx="518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ace between UE and Networ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: Interface between  IS Function and Information Databas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362320" y="4190760"/>
            <a:ext cx="0" cy="6094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09320" y="4419720"/>
            <a:ext cx="2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2324160" y="2438280"/>
            <a:ext cx="2643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mply the MIH_SAP IS primitive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572000"/>
            <a:ext cx="2286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914760" y="4952520"/>
            <a:ext cx="1076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l MIH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2515320" y="4267080"/>
            <a:ext cx="330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819520"/>
            <a:ext cx="914400" cy="1650960"/>
          </a:xfrm>
          <a:custGeom>
            <a:avLst/>
            <a:gdLst/>
            <a:ahLst/>
            <a:rect l="l" t="t" r="r" b="b"/>
            <a:pathLst>
              <a:path w="576" h="1040">
                <a:moveTo>
                  <a:pt x="576" y="0"/>
                </a:moveTo>
                <a:cubicBezTo>
                  <a:pt x="540" y="44"/>
                  <a:pt x="504" y="88"/>
                  <a:pt x="480" y="240"/>
                </a:cubicBezTo>
                <a:cubicBezTo>
                  <a:pt x="456" y="392"/>
                  <a:pt x="512" y="784"/>
                  <a:pt x="432" y="912"/>
                </a:cubicBezTo>
                <a:cubicBezTo>
                  <a:pt x="352" y="1040"/>
                  <a:pt x="176" y="1024"/>
                  <a:pt x="0" y="10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3:24:18Z</dcterms:created>
  <dc:creator>michaewi</dc:creator>
  <dc:description>Nokia Standard Presentation Template - LTR
v. 4 2000/01/05 Eric Beasley
Fixed RGB values for Nokia logo
NO Security Label</dc:description>
  <dc:language>en-US</dc:language>
  <cp:lastModifiedBy>Qiaobing Xie</cp:lastModifiedBy>
  <cp:lastPrinted>1999-04-27T06:51:51Z</cp:lastPrinted>
  <dcterms:modified xsi:type="dcterms:W3CDTF">2005-08-23T13:52:42Z</dcterms:modified>
  <cp:revision>180</cp:revision>
  <dc:subject/>
  <dc:title>PowerPoint Presentation</dc:title>
</cp:coreProperties>
</file>