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524"/>
              </a:spcBef>
              <a:spcAft>
                <a:spcPts val="52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524"/>
              </a:spcBef>
              <a:spcAft>
                <a:spcPts val="52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524"/>
              </a:spcBef>
              <a:spcAft>
                <a:spcPts val="52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524"/>
              </a:spcBef>
              <a:spcAft>
                <a:spcPts val="52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C455B943-E489-4DD4-B7A8-CA755304568F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255160" y="76320"/>
            <a:ext cx="753840" cy="7048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9034560" y="76320"/>
            <a:ext cx="75384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4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594D23C-966E-45D7-85A0-61A0482480CE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2006640"/>
            <a:ext cx="80596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IEEE 802.21 Media Independent Hand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Overview of services and scenarios for 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39960" y="40989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tefano M. Fac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802.21 Liaison officer to 3GP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IEEE-802-Top-Bgrnd-Image" descr=""/>
          <p:cNvPicPr/>
          <p:nvPr/>
        </p:nvPicPr>
        <p:blipFill>
          <a:blip r:embed="rId1"/>
          <a:stretch/>
        </p:blipFill>
        <p:spPr>
          <a:xfrm>
            <a:off x="5581800" y="4486320"/>
            <a:ext cx="3682800" cy="1380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Design Assumption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88"/>
              </a:spcBef>
              <a:spcAft>
                <a:spcPts val="488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Nokia Sans Wide"/>
              </a:rPr>
              <a:t>Cross-layer entity interaction with multiple layers</a:t>
            </a:r>
            <a:endParaRPr b="0" lang="en-US" sz="2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88"/>
              </a:spcBef>
              <a:spcAft>
                <a:spcPts val="488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Nokia Sans Wide"/>
              </a:rPr>
              <a:t>Facilitate handover determination through a technology-independent unified interface to MIH users</a:t>
            </a:r>
            <a:endParaRPr b="0" lang="en-US" sz="2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88"/>
              </a:spcBef>
              <a:spcAft>
                <a:spcPts val="488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Nokia Sans Wide"/>
              </a:rPr>
              <a:t>Facilitate both station initiated and network initiated handover determination</a:t>
            </a:r>
            <a:endParaRPr b="0" lang="en-US" sz="26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N’T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88"/>
              </a:spcBef>
              <a:spcAft>
                <a:spcPts val="488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Nokia Sans Wide"/>
              </a:rPr>
              <a:t>Does not modify existing handover principles</a:t>
            </a:r>
            <a:endParaRPr b="0" lang="en-US" sz="2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88"/>
              </a:spcBef>
              <a:spcAft>
                <a:spcPts val="488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Nokia Sans Wide"/>
              </a:rPr>
              <a:t>Does not mandate handover determination based on IEEE 802.21 events</a:t>
            </a:r>
            <a:endParaRPr b="0" lang="en-US" sz="26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IEEE 802.21 Model Terminal Side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6" name=""/>
          <p:cNvSpPr/>
          <p:nvPr/>
        </p:nvSpPr>
        <p:spPr>
          <a:xfrm>
            <a:off x="1476360" y="3951360"/>
            <a:ext cx="6823080" cy="217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76360" y="3951360"/>
            <a:ext cx="6823080" cy="217800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81200" y="4873680"/>
            <a:ext cx="2770200" cy="806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81200" y="4873680"/>
            <a:ext cx="2770200" cy="80640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13280" y="4044960"/>
            <a:ext cx="3181320" cy="1611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13280" y="4044960"/>
            <a:ext cx="3181320" cy="161136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1392120"/>
            <a:ext cx="6772320" cy="104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76360" y="1392120"/>
            <a:ext cx="6772320" cy="104328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84520" y="2987640"/>
            <a:ext cx="5827680" cy="352440"/>
          </a:xfrm>
          <a:custGeom>
            <a:avLst/>
            <a:gdLst/>
            <a:ahLst/>
            <a:rect l="l" t="t" r="r" b="b"/>
            <a:pathLst>
              <a:path w="3671" h="222">
                <a:moveTo>
                  <a:pt x="0" y="0"/>
                </a:moveTo>
                <a:lnTo>
                  <a:pt x="0" y="222"/>
                </a:lnTo>
                <a:lnTo>
                  <a:pt x="3671" y="222"/>
                </a:lnTo>
                <a:lnTo>
                  <a:pt x="367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84520" y="2987640"/>
            <a:ext cx="5827680" cy="35244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28520" y="3029040"/>
            <a:ext cx="4681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dia Independent Handover Func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23080" y="3029040"/>
            <a:ext cx="89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16320" y="3029040"/>
            <a:ext cx="489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I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31120" y="3029040"/>
            <a:ext cx="89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81360" y="4989600"/>
            <a:ext cx="696600" cy="311040"/>
          </a:xfrm>
          <a:custGeom>
            <a:avLst/>
            <a:gdLst/>
            <a:ahLst/>
            <a:rect l="l" t="t" r="r" b="b"/>
            <a:pathLst>
              <a:path w="439" h="196">
                <a:moveTo>
                  <a:pt x="0" y="0"/>
                </a:moveTo>
                <a:lnTo>
                  <a:pt x="0" y="196"/>
                </a:lnTo>
                <a:lnTo>
                  <a:pt x="439" y="196"/>
                </a:lnTo>
                <a:lnTo>
                  <a:pt x="43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81360" y="4989600"/>
            <a:ext cx="696600" cy="31104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16360" y="504360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24880" y="504360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76000" y="504360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06840" y="4989600"/>
            <a:ext cx="720720" cy="311040"/>
          </a:xfrm>
          <a:custGeom>
            <a:avLst/>
            <a:gdLst/>
            <a:ahLst/>
            <a:rect l="l" t="t" r="r" b="b"/>
            <a:pathLst>
              <a:path w="454" h="196">
                <a:moveTo>
                  <a:pt x="0" y="0"/>
                </a:moveTo>
                <a:lnTo>
                  <a:pt x="0" y="196"/>
                </a:lnTo>
                <a:lnTo>
                  <a:pt x="454" y="196"/>
                </a:lnTo>
                <a:lnTo>
                  <a:pt x="45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06840" y="4989600"/>
            <a:ext cx="720720" cy="31104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37160" y="504360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45680" y="504360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96440" y="504360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67240" y="4989600"/>
            <a:ext cx="718920" cy="311040"/>
          </a:xfrm>
          <a:custGeom>
            <a:avLst/>
            <a:gdLst/>
            <a:ahLst/>
            <a:rect l="l" t="t" r="r" b="b"/>
            <a:pathLst>
              <a:path w="453" h="196">
                <a:moveTo>
                  <a:pt x="0" y="0"/>
                </a:moveTo>
                <a:lnTo>
                  <a:pt x="0" y="196"/>
                </a:lnTo>
                <a:lnTo>
                  <a:pt x="453" y="196"/>
                </a:lnTo>
                <a:lnTo>
                  <a:pt x="45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67240" y="4989600"/>
            <a:ext cx="718920" cy="31104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960" y="504360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6480" y="504360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17240" y="504360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50320" y="5483160"/>
            <a:ext cx="24624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25360" y="5483160"/>
            <a:ext cx="7596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K 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98800" y="49500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75480" y="4950000"/>
            <a:ext cx="1814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PP2 LIN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49800" y="5864400"/>
            <a:ext cx="10828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ink Lay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15720" y="2130480"/>
            <a:ext cx="35607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edia Independent Handover Us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10800" y="2712960"/>
            <a:ext cx="838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55960" y="254808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1400" y="2705040"/>
            <a:ext cx="831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257796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03000" y="2736720"/>
            <a:ext cx="50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3414600"/>
            <a:ext cx="3574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0640" y="3573360"/>
            <a:ext cx="50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38680" y="3494160"/>
            <a:ext cx="3574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21400" y="3645000"/>
            <a:ext cx="831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8080" y="3462480"/>
            <a:ext cx="838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47840" y="1538280"/>
            <a:ext cx="267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62360" y="2419200"/>
            <a:ext cx="290520" cy="546120"/>
          </a:xfrm>
          <a:custGeom>
            <a:avLst/>
            <a:gdLst/>
            <a:ahLst/>
            <a:rect l="l" t="t" r="r" b="b"/>
            <a:pathLst>
              <a:path w="183" h="344">
                <a:moveTo>
                  <a:pt x="92" y="0"/>
                </a:moveTo>
                <a:lnTo>
                  <a:pt x="183" y="69"/>
                </a:lnTo>
                <a:lnTo>
                  <a:pt x="137" y="69"/>
                </a:lnTo>
                <a:lnTo>
                  <a:pt x="137" y="275"/>
                </a:lnTo>
                <a:lnTo>
                  <a:pt x="183" y="275"/>
                </a:lnTo>
                <a:lnTo>
                  <a:pt x="92" y="344"/>
                </a:lnTo>
                <a:lnTo>
                  <a:pt x="0" y="275"/>
                </a:lnTo>
                <a:lnTo>
                  <a:pt x="46" y="275"/>
                </a:lnTo>
                <a:lnTo>
                  <a:pt x="46" y="69"/>
                </a:lnTo>
                <a:lnTo>
                  <a:pt x="0" y="69"/>
                </a:lnTo>
                <a:lnTo>
                  <a:pt x="9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62360" y="2419200"/>
            <a:ext cx="290520" cy="546120"/>
          </a:xfrm>
          <a:custGeom>
            <a:avLst/>
            <a:gdLst/>
            <a:ahLst/>
            <a:rect l="l" t="t" r="r" b="b"/>
            <a:pathLst>
              <a:path w="183" h="344">
                <a:moveTo>
                  <a:pt x="92" y="0"/>
                </a:moveTo>
                <a:lnTo>
                  <a:pt x="183" y="69"/>
                </a:lnTo>
                <a:lnTo>
                  <a:pt x="137" y="69"/>
                </a:lnTo>
                <a:lnTo>
                  <a:pt x="137" y="275"/>
                </a:lnTo>
                <a:lnTo>
                  <a:pt x="183" y="275"/>
                </a:lnTo>
                <a:lnTo>
                  <a:pt x="92" y="344"/>
                </a:lnTo>
                <a:lnTo>
                  <a:pt x="0" y="275"/>
                </a:lnTo>
                <a:lnTo>
                  <a:pt x="46" y="275"/>
                </a:lnTo>
                <a:lnTo>
                  <a:pt x="46" y="69"/>
                </a:lnTo>
                <a:lnTo>
                  <a:pt x="0" y="69"/>
                </a:lnTo>
                <a:lnTo>
                  <a:pt x="92" y="0"/>
                </a:lnTo>
                <a:close/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62360" y="3362400"/>
            <a:ext cx="290520" cy="588960"/>
          </a:xfrm>
          <a:custGeom>
            <a:avLst/>
            <a:gdLst/>
            <a:ahLst/>
            <a:rect l="l" t="t" r="r" b="b"/>
            <a:pathLst>
              <a:path w="183" h="371">
                <a:moveTo>
                  <a:pt x="92" y="0"/>
                </a:moveTo>
                <a:lnTo>
                  <a:pt x="183" y="74"/>
                </a:lnTo>
                <a:lnTo>
                  <a:pt x="137" y="74"/>
                </a:lnTo>
                <a:lnTo>
                  <a:pt x="137" y="296"/>
                </a:lnTo>
                <a:lnTo>
                  <a:pt x="183" y="296"/>
                </a:lnTo>
                <a:lnTo>
                  <a:pt x="92" y="371"/>
                </a:lnTo>
                <a:lnTo>
                  <a:pt x="0" y="296"/>
                </a:lnTo>
                <a:lnTo>
                  <a:pt x="46" y="296"/>
                </a:lnTo>
                <a:lnTo>
                  <a:pt x="46" y="74"/>
                </a:lnTo>
                <a:lnTo>
                  <a:pt x="0" y="74"/>
                </a:lnTo>
                <a:lnTo>
                  <a:pt x="9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62360" y="3362400"/>
            <a:ext cx="290520" cy="588960"/>
          </a:xfrm>
          <a:custGeom>
            <a:avLst/>
            <a:gdLst/>
            <a:ahLst/>
            <a:rect l="l" t="t" r="r" b="b"/>
            <a:pathLst>
              <a:path w="183" h="371">
                <a:moveTo>
                  <a:pt x="92" y="0"/>
                </a:moveTo>
                <a:lnTo>
                  <a:pt x="183" y="74"/>
                </a:lnTo>
                <a:lnTo>
                  <a:pt x="137" y="74"/>
                </a:lnTo>
                <a:lnTo>
                  <a:pt x="137" y="296"/>
                </a:lnTo>
                <a:lnTo>
                  <a:pt x="183" y="296"/>
                </a:lnTo>
                <a:lnTo>
                  <a:pt x="92" y="371"/>
                </a:lnTo>
                <a:lnTo>
                  <a:pt x="0" y="296"/>
                </a:lnTo>
                <a:lnTo>
                  <a:pt x="46" y="296"/>
                </a:lnTo>
                <a:lnTo>
                  <a:pt x="46" y="74"/>
                </a:lnTo>
                <a:lnTo>
                  <a:pt x="0" y="74"/>
                </a:lnTo>
                <a:lnTo>
                  <a:pt x="92" y="0"/>
                </a:lnTo>
                <a:close/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69040" y="2430360"/>
            <a:ext cx="290520" cy="546120"/>
          </a:xfrm>
          <a:custGeom>
            <a:avLst/>
            <a:gdLst/>
            <a:ahLst/>
            <a:rect l="l" t="t" r="r" b="b"/>
            <a:pathLst>
              <a:path w="183" h="344">
                <a:moveTo>
                  <a:pt x="92" y="0"/>
                </a:moveTo>
                <a:lnTo>
                  <a:pt x="183" y="69"/>
                </a:lnTo>
                <a:lnTo>
                  <a:pt x="138" y="69"/>
                </a:lnTo>
                <a:lnTo>
                  <a:pt x="138" y="275"/>
                </a:lnTo>
                <a:lnTo>
                  <a:pt x="183" y="275"/>
                </a:lnTo>
                <a:lnTo>
                  <a:pt x="92" y="344"/>
                </a:lnTo>
                <a:lnTo>
                  <a:pt x="0" y="275"/>
                </a:lnTo>
                <a:lnTo>
                  <a:pt x="46" y="275"/>
                </a:lnTo>
                <a:lnTo>
                  <a:pt x="46" y="69"/>
                </a:lnTo>
                <a:lnTo>
                  <a:pt x="0" y="69"/>
                </a:lnTo>
                <a:lnTo>
                  <a:pt x="9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69040" y="2430360"/>
            <a:ext cx="290520" cy="546120"/>
          </a:xfrm>
          <a:custGeom>
            <a:avLst/>
            <a:gdLst/>
            <a:ahLst/>
            <a:rect l="l" t="t" r="r" b="b"/>
            <a:pathLst>
              <a:path w="183" h="344">
                <a:moveTo>
                  <a:pt x="92" y="0"/>
                </a:moveTo>
                <a:lnTo>
                  <a:pt x="183" y="69"/>
                </a:lnTo>
                <a:lnTo>
                  <a:pt x="138" y="69"/>
                </a:lnTo>
                <a:lnTo>
                  <a:pt x="138" y="275"/>
                </a:lnTo>
                <a:lnTo>
                  <a:pt x="183" y="275"/>
                </a:lnTo>
                <a:lnTo>
                  <a:pt x="92" y="344"/>
                </a:lnTo>
                <a:lnTo>
                  <a:pt x="0" y="275"/>
                </a:lnTo>
                <a:lnTo>
                  <a:pt x="46" y="275"/>
                </a:lnTo>
                <a:lnTo>
                  <a:pt x="46" y="69"/>
                </a:lnTo>
                <a:lnTo>
                  <a:pt x="0" y="69"/>
                </a:lnTo>
                <a:lnTo>
                  <a:pt x="92" y="0"/>
                </a:lnTo>
                <a:close/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30440" y="2435400"/>
            <a:ext cx="285840" cy="552240"/>
          </a:xfrm>
          <a:custGeom>
            <a:avLst/>
            <a:gdLst/>
            <a:ahLst/>
            <a:rect l="l" t="t" r="r" b="b"/>
            <a:pathLst>
              <a:path w="180" h="348">
                <a:moveTo>
                  <a:pt x="0" y="61"/>
                </a:moveTo>
                <a:lnTo>
                  <a:pt x="38" y="61"/>
                </a:lnTo>
                <a:lnTo>
                  <a:pt x="38" y="348"/>
                </a:lnTo>
                <a:lnTo>
                  <a:pt x="142" y="348"/>
                </a:lnTo>
                <a:lnTo>
                  <a:pt x="142" y="61"/>
                </a:lnTo>
                <a:lnTo>
                  <a:pt x="180" y="61"/>
                </a:lnTo>
                <a:lnTo>
                  <a:pt x="90" y="0"/>
                </a:lnTo>
                <a:lnTo>
                  <a:pt x="0" y="61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30440" y="2435400"/>
            <a:ext cx="285840" cy="552240"/>
          </a:xfrm>
          <a:custGeom>
            <a:avLst/>
            <a:gdLst/>
            <a:ahLst/>
            <a:rect l="l" t="t" r="r" b="b"/>
            <a:pathLst>
              <a:path w="180" h="348">
                <a:moveTo>
                  <a:pt x="0" y="61"/>
                </a:moveTo>
                <a:lnTo>
                  <a:pt x="38" y="61"/>
                </a:lnTo>
                <a:lnTo>
                  <a:pt x="38" y="348"/>
                </a:lnTo>
                <a:lnTo>
                  <a:pt x="142" y="348"/>
                </a:lnTo>
                <a:lnTo>
                  <a:pt x="142" y="61"/>
                </a:lnTo>
                <a:lnTo>
                  <a:pt x="180" y="61"/>
                </a:lnTo>
                <a:lnTo>
                  <a:pt x="90" y="0"/>
                </a:lnTo>
                <a:lnTo>
                  <a:pt x="0" y="61"/>
                </a:lnTo>
                <a:close/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30440" y="3348000"/>
            <a:ext cx="285840" cy="603360"/>
          </a:xfrm>
          <a:custGeom>
            <a:avLst/>
            <a:gdLst/>
            <a:ahLst/>
            <a:rect l="l" t="t" r="r" b="b"/>
            <a:pathLst>
              <a:path w="180" h="380">
                <a:moveTo>
                  <a:pt x="0" y="67"/>
                </a:moveTo>
                <a:lnTo>
                  <a:pt x="38" y="67"/>
                </a:lnTo>
                <a:lnTo>
                  <a:pt x="38" y="380"/>
                </a:lnTo>
                <a:lnTo>
                  <a:pt x="142" y="380"/>
                </a:lnTo>
                <a:lnTo>
                  <a:pt x="142" y="67"/>
                </a:lnTo>
                <a:lnTo>
                  <a:pt x="180" y="67"/>
                </a:lnTo>
                <a:lnTo>
                  <a:pt x="90" y="0"/>
                </a:lnTo>
                <a:lnTo>
                  <a:pt x="0" y="6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30440" y="3348000"/>
            <a:ext cx="285840" cy="603360"/>
          </a:xfrm>
          <a:custGeom>
            <a:avLst/>
            <a:gdLst/>
            <a:ahLst/>
            <a:rect l="l" t="t" r="r" b="b"/>
            <a:pathLst>
              <a:path w="180" h="380">
                <a:moveTo>
                  <a:pt x="0" y="67"/>
                </a:moveTo>
                <a:lnTo>
                  <a:pt x="38" y="67"/>
                </a:lnTo>
                <a:lnTo>
                  <a:pt x="38" y="380"/>
                </a:lnTo>
                <a:lnTo>
                  <a:pt x="142" y="380"/>
                </a:lnTo>
                <a:lnTo>
                  <a:pt x="142" y="67"/>
                </a:lnTo>
                <a:lnTo>
                  <a:pt x="180" y="67"/>
                </a:lnTo>
                <a:lnTo>
                  <a:pt x="90" y="0"/>
                </a:lnTo>
                <a:lnTo>
                  <a:pt x="0" y="67"/>
                </a:lnTo>
                <a:close/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30440" y="1560600"/>
            <a:ext cx="1665360" cy="353880"/>
          </a:xfrm>
          <a:custGeom>
            <a:avLst/>
            <a:gdLst/>
            <a:ahLst/>
            <a:rect l="l" t="t" r="r" b="b"/>
            <a:pathLst>
              <a:path w="1049" h="223">
                <a:moveTo>
                  <a:pt x="0" y="0"/>
                </a:moveTo>
                <a:lnTo>
                  <a:pt x="0" y="223"/>
                </a:lnTo>
                <a:lnTo>
                  <a:pt x="1049" y="223"/>
                </a:lnTo>
                <a:lnTo>
                  <a:pt x="10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30440" y="1560600"/>
            <a:ext cx="1665360" cy="35388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72800" y="1663560"/>
            <a:ext cx="823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H Us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37880" y="166356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04120" y="1560600"/>
            <a:ext cx="1436400" cy="353880"/>
          </a:xfrm>
          <a:custGeom>
            <a:avLst/>
            <a:gdLst/>
            <a:ahLst/>
            <a:rect l="l" t="t" r="r" b="b"/>
            <a:pathLst>
              <a:path w="905" h="223">
                <a:moveTo>
                  <a:pt x="0" y="0"/>
                </a:moveTo>
                <a:lnTo>
                  <a:pt x="0" y="223"/>
                </a:lnTo>
                <a:lnTo>
                  <a:pt x="905" y="223"/>
                </a:lnTo>
                <a:lnTo>
                  <a:pt x="90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04120" y="1560600"/>
            <a:ext cx="1436400" cy="35388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34880" y="1657440"/>
            <a:ext cx="9320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H User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57680" y="4087800"/>
            <a:ext cx="9720" cy="1579680"/>
          </a:xfrm>
          <a:custGeom>
            <a:avLst/>
            <a:gdLst/>
            <a:ahLst/>
            <a:rect l="l" t="t" r="r" b="b"/>
            <a:pathLst>
              <a:path w="16" h="3200">
                <a:moveTo>
                  <a:pt x="0" y="3192"/>
                </a:moveTo>
                <a:lnTo>
                  <a:pt x="0" y="3080"/>
                </a:lnTo>
                <a:cubicBezTo>
                  <a:pt x="0" y="3075"/>
                  <a:pt x="4" y="3072"/>
                  <a:pt x="8" y="3072"/>
                </a:cubicBezTo>
                <a:cubicBezTo>
                  <a:pt x="12" y="3072"/>
                  <a:pt x="16" y="3075"/>
                  <a:pt x="16" y="3080"/>
                </a:cubicBezTo>
                <a:lnTo>
                  <a:pt x="16" y="3192"/>
                </a:lnTo>
                <a:cubicBezTo>
                  <a:pt x="16" y="3196"/>
                  <a:pt x="12" y="3200"/>
                  <a:pt x="8" y="3200"/>
                </a:cubicBezTo>
                <a:cubicBezTo>
                  <a:pt x="4" y="3200"/>
                  <a:pt x="0" y="3196"/>
                  <a:pt x="0" y="3192"/>
                </a:cubicBezTo>
                <a:close/>
                <a:moveTo>
                  <a:pt x="0" y="3000"/>
                </a:moveTo>
                <a:lnTo>
                  <a:pt x="0" y="2888"/>
                </a:lnTo>
                <a:cubicBezTo>
                  <a:pt x="0" y="2883"/>
                  <a:pt x="4" y="2880"/>
                  <a:pt x="8" y="2880"/>
                </a:cubicBezTo>
                <a:cubicBezTo>
                  <a:pt x="12" y="2880"/>
                  <a:pt x="16" y="2883"/>
                  <a:pt x="16" y="2888"/>
                </a:cubicBezTo>
                <a:lnTo>
                  <a:pt x="16" y="3000"/>
                </a:lnTo>
                <a:cubicBezTo>
                  <a:pt x="16" y="3004"/>
                  <a:pt x="12" y="3008"/>
                  <a:pt x="8" y="3008"/>
                </a:cubicBezTo>
                <a:cubicBezTo>
                  <a:pt x="4" y="3008"/>
                  <a:pt x="0" y="3004"/>
                  <a:pt x="0" y="3000"/>
                </a:cubicBezTo>
                <a:close/>
                <a:moveTo>
                  <a:pt x="0" y="2808"/>
                </a:moveTo>
                <a:lnTo>
                  <a:pt x="0" y="2696"/>
                </a:lnTo>
                <a:cubicBezTo>
                  <a:pt x="0" y="2691"/>
                  <a:pt x="4" y="2688"/>
                  <a:pt x="8" y="2688"/>
                </a:cubicBezTo>
                <a:cubicBezTo>
                  <a:pt x="12" y="2688"/>
                  <a:pt x="16" y="2691"/>
                  <a:pt x="16" y="2696"/>
                </a:cubicBezTo>
                <a:lnTo>
                  <a:pt x="16" y="2808"/>
                </a:lnTo>
                <a:cubicBezTo>
                  <a:pt x="16" y="2812"/>
                  <a:pt x="12" y="2816"/>
                  <a:pt x="8" y="2816"/>
                </a:cubicBezTo>
                <a:cubicBezTo>
                  <a:pt x="4" y="2816"/>
                  <a:pt x="0" y="2812"/>
                  <a:pt x="0" y="2808"/>
                </a:cubicBezTo>
                <a:close/>
                <a:moveTo>
                  <a:pt x="0" y="2616"/>
                </a:moveTo>
                <a:lnTo>
                  <a:pt x="0" y="2504"/>
                </a:lnTo>
                <a:cubicBezTo>
                  <a:pt x="0" y="2499"/>
                  <a:pt x="4" y="2496"/>
                  <a:pt x="8" y="2496"/>
                </a:cubicBezTo>
                <a:cubicBezTo>
                  <a:pt x="12" y="2496"/>
                  <a:pt x="16" y="2499"/>
                  <a:pt x="16" y="2504"/>
                </a:cubicBezTo>
                <a:lnTo>
                  <a:pt x="16" y="2616"/>
                </a:lnTo>
                <a:cubicBezTo>
                  <a:pt x="16" y="2620"/>
                  <a:pt x="12" y="2624"/>
                  <a:pt x="8" y="2624"/>
                </a:cubicBezTo>
                <a:cubicBezTo>
                  <a:pt x="4" y="2624"/>
                  <a:pt x="0" y="2620"/>
                  <a:pt x="0" y="2616"/>
                </a:cubicBezTo>
                <a:close/>
                <a:moveTo>
                  <a:pt x="0" y="2424"/>
                </a:moveTo>
                <a:lnTo>
                  <a:pt x="0" y="2312"/>
                </a:lnTo>
                <a:cubicBezTo>
                  <a:pt x="0" y="2307"/>
                  <a:pt x="4" y="2304"/>
                  <a:pt x="8" y="2304"/>
                </a:cubicBezTo>
                <a:cubicBezTo>
                  <a:pt x="12" y="2304"/>
                  <a:pt x="16" y="2307"/>
                  <a:pt x="16" y="2312"/>
                </a:cubicBezTo>
                <a:lnTo>
                  <a:pt x="16" y="2424"/>
                </a:lnTo>
                <a:cubicBezTo>
                  <a:pt x="16" y="2428"/>
                  <a:pt x="12" y="2432"/>
                  <a:pt x="8" y="2432"/>
                </a:cubicBezTo>
                <a:cubicBezTo>
                  <a:pt x="4" y="2432"/>
                  <a:pt x="0" y="2428"/>
                  <a:pt x="0" y="2424"/>
                </a:cubicBezTo>
                <a:close/>
                <a:moveTo>
                  <a:pt x="0" y="2232"/>
                </a:moveTo>
                <a:lnTo>
                  <a:pt x="0" y="2120"/>
                </a:lnTo>
                <a:cubicBezTo>
                  <a:pt x="0" y="2115"/>
                  <a:pt x="4" y="2112"/>
                  <a:pt x="8" y="2112"/>
                </a:cubicBezTo>
                <a:cubicBezTo>
                  <a:pt x="12" y="2112"/>
                  <a:pt x="16" y="2115"/>
                  <a:pt x="16" y="2120"/>
                </a:cubicBezTo>
                <a:lnTo>
                  <a:pt x="16" y="2232"/>
                </a:lnTo>
                <a:cubicBezTo>
                  <a:pt x="16" y="2236"/>
                  <a:pt x="12" y="2240"/>
                  <a:pt x="8" y="2240"/>
                </a:cubicBezTo>
                <a:cubicBezTo>
                  <a:pt x="4" y="2240"/>
                  <a:pt x="0" y="2236"/>
                  <a:pt x="0" y="2232"/>
                </a:cubicBezTo>
                <a:close/>
                <a:moveTo>
                  <a:pt x="0" y="2040"/>
                </a:moveTo>
                <a:lnTo>
                  <a:pt x="0" y="1928"/>
                </a:lnTo>
                <a:cubicBezTo>
                  <a:pt x="0" y="1923"/>
                  <a:pt x="4" y="1920"/>
                  <a:pt x="8" y="1920"/>
                </a:cubicBezTo>
                <a:cubicBezTo>
                  <a:pt x="12" y="1920"/>
                  <a:pt x="16" y="1923"/>
                  <a:pt x="16" y="1928"/>
                </a:cubicBezTo>
                <a:lnTo>
                  <a:pt x="16" y="2040"/>
                </a:lnTo>
                <a:cubicBezTo>
                  <a:pt x="16" y="2044"/>
                  <a:pt x="12" y="2048"/>
                  <a:pt x="8" y="2048"/>
                </a:cubicBezTo>
                <a:cubicBezTo>
                  <a:pt x="4" y="2048"/>
                  <a:pt x="0" y="2044"/>
                  <a:pt x="0" y="2040"/>
                </a:cubicBezTo>
                <a:close/>
                <a:moveTo>
                  <a:pt x="0" y="1848"/>
                </a:moveTo>
                <a:lnTo>
                  <a:pt x="0" y="1736"/>
                </a:lnTo>
                <a:cubicBezTo>
                  <a:pt x="0" y="1731"/>
                  <a:pt x="4" y="1728"/>
                  <a:pt x="8" y="1728"/>
                </a:cubicBezTo>
                <a:cubicBezTo>
                  <a:pt x="12" y="1728"/>
                  <a:pt x="16" y="1731"/>
                  <a:pt x="16" y="1736"/>
                </a:cubicBezTo>
                <a:lnTo>
                  <a:pt x="16" y="1848"/>
                </a:lnTo>
                <a:cubicBezTo>
                  <a:pt x="16" y="1852"/>
                  <a:pt x="12" y="1856"/>
                  <a:pt x="8" y="1856"/>
                </a:cubicBezTo>
                <a:cubicBezTo>
                  <a:pt x="4" y="1856"/>
                  <a:pt x="0" y="1852"/>
                  <a:pt x="0" y="1848"/>
                </a:cubicBezTo>
                <a:close/>
                <a:moveTo>
                  <a:pt x="0" y="1656"/>
                </a:moveTo>
                <a:lnTo>
                  <a:pt x="0" y="1544"/>
                </a:lnTo>
                <a:cubicBezTo>
                  <a:pt x="0" y="1539"/>
                  <a:pt x="4" y="1536"/>
                  <a:pt x="8" y="1536"/>
                </a:cubicBezTo>
                <a:cubicBezTo>
                  <a:pt x="12" y="1536"/>
                  <a:pt x="16" y="1539"/>
                  <a:pt x="16" y="1544"/>
                </a:cubicBezTo>
                <a:lnTo>
                  <a:pt x="16" y="1656"/>
                </a:lnTo>
                <a:cubicBezTo>
                  <a:pt x="16" y="1660"/>
                  <a:pt x="12" y="1664"/>
                  <a:pt x="8" y="1664"/>
                </a:cubicBezTo>
                <a:cubicBezTo>
                  <a:pt x="4" y="1664"/>
                  <a:pt x="0" y="1660"/>
                  <a:pt x="0" y="1656"/>
                </a:cubicBezTo>
                <a:close/>
                <a:moveTo>
                  <a:pt x="0" y="1464"/>
                </a:moveTo>
                <a:lnTo>
                  <a:pt x="0" y="1352"/>
                </a:lnTo>
                <a:cubicBezTo>
                  <a:pt x="0" y="1347"/>
                  <a:pt x="4" y="1344"/>
                  <a:pt x="8" y="1344"/>
                </a:cubicBezTo>
                <a:cubicBezTo>
                  <a:pt x="12" y="1344"/>
                  <a:pt x="16" y="1347"/>
                  <a:pt x="16" y="1352"/>
                </a:cubicBezTo>
                <a:lnTo>
                  <a:pt x="16" y="1464"/>
                </a:lnTo>
                <a:cubicBezTo>
                  <a:pt x="16" y="1468"/>
                  <a:pt x="12" y="1472"/>
                  <a:pt x="8" y="1472"/>
                </a:cubicBezTo>
                <a:cubicBezTo>
                  <a:pt x="4" y="1472"/>
                  <a:pt x="0" y="1468"/>
                  <a:pt x="0" y="1464"/>
                </a:cubicBezTo>
                <a:close/>
                <a:moveTo>
                  <a:pt x="0" y="1272"/>
                </a:moveTo>
                <a:lnTo>
                  <a:pt x="0" y="1160"/>
                </a:lnTo>
                <a:cubicBezTo>
                  <a:pt x="0" y="1155"/>
                  <a:pt x="4" y="1152"/>
                  <a:pt x="8" y="1152"/>
                </a:cubicBezTo>
                <a:cubicBezTo>
                  <a:pt x="12" y="1152"/>
                  <a:pt x="16" y="1155"/>
                  <a:pt x="16" y="1160"/>
                </a:cubicBezTo>
                <a:lnTo>
                  <a:pt x="16" y="1272"/>
                </a:lnTo>
                <a:cubicBezTo>
                  <a:pt x="16" y="1276"/>
                  <a:pt x="12" y="1280"/>
                  <a:pt x="8" y="1280"/>
                </a:cubicBezTo>
                <a:cubicBezTo>
                  <a:pt x="4" y="1280"/>
                  <a:pt x="0" y="1276"/>
                  <a:pt x="0" y="1272"/>
                </a:cubicBezTo>
                <a:close/>
                <a:moveTo>
                  <a:pt x="0" y="1080"/>
                </a:moveTo>
                <a:lnTo>
                  <a:pt x="0" y="968"/>
                </a:lnTo>
                <a:cubicBezTo>
                  <a:pt x="0" y="963"/>
                  <a:pt x="4" y="960"/>
                  <a:pt x="8" y="960"/>
                </a:cubicBezTo>
                <a:cubicBezTo>
                  <a:pt x="12" y="960"/>
                  <a:pt x="16" y="963"/>
                  <a:pt x="16" y="968"/>
                </a:cubicBezTo>
                <a:lnTo>
                  <a:pt x="16" y="1080"/>
                </a:lnTo>
                <a:cubicBezTo>
                  <a:pt x="16" y="1084"/>
                  <a:pt x="12" y="1088"/>
                  <a:pt x="8" y="1088"/>
                </a:cubicBezTo>
                <a:cubicBezTo>
                  <a:pt x="4" y="1088"/>
                  <a:pt x="0" y="1084"/>
                  <a:pt x="0" y="1080"/>
                </a:cubicBezTo>
                <a:close/>
                <a:moveTo>
                  <a:pt x="0" y="888"/>
                </a:moveTo>
                <a:lnTo>
                  <a:pt x="0" y="776"/>
                </a:lnTo>
                <a:cubicBezTo>
                  <a:pt x="0" y="771"/>
                  <a:pt x="4" y="768"/>
                  <a:pt x="8" y="768"/>
                </a:cubicBezTo>
                <a:cubicBezTo>
                  <a:pt x="12" y="768"/>
                  <a:pt x="16" y="771"/>
                  <a:pt x="16" y="776"/>
                </a:cubicBezTo>
                <a:lnTo>
                  <a:pt x="16" y="888"/>
                </a:lnTo>
                <a:cubicBezTo>
                  <a:pt x="16" y="892"/>
                  <a:pt x="12" y="896"/>
                  <a:pt x="8" y="896"/>
                </a:cubicBezTo>
                <a:cubicBezTo>
                  <a:pt x="4" y="896"/>
                  <a:pt x="0" y="892"/>
                  <a:pt x="0" y="888"/>
                </a:cubicBezTo>
                <a:close/>
                <a:moveTo>
                  <a:pt x="0" y="696"/>
                </a:moveTo>
                <a:lnTo>
                  <a:pt x="0" y="584"/>
                </a:lnTo>
                <a:cubicBezTo>
                  <a:pt x="0" y="579"/>
                  <a:pt x="4" y="576"/>
                  <a:pt x="8" y="576"/>
                </a:cubicBezTo>
                <a:cubicBezTo>
                  <a:pt x="12" y="576"/>
                  <a:pt x="16" y="579"/>
                  <a:pt x="16" y="584"/>
                </a:cubicBezTo>
                <a:lnTo>
                  <a:pt x="16" y="696"/>
                </a:lnTo>
                <a:cubicBezTo>
                  <a:pt x="16" y="700"/>
                  <a:pt x="12" y="704"/>
                  <a:pt x="8" y="704"/>
                </a:cubicBezTo>
                <a:cubicBezTo>
                  <a:pt x="4" y="704"/>
                  <a:pt x="0" y="700"/>
                  <a:pt x="0" y="696"/>
                </a:cubicBezTo>
                <a:close/>
                <a:moveTo>
                  <a:pt x="0" y="504"/>
                </a:moveTo>
                <a:lnTo>
                  <a:pt x="0" y="392"/>
                </a:lnTo>
                <a:cubicBezTo>
                  <a:pt x="0" y="387"/>
                  <a:pt x="4" y="384"/>
                  <a:pt x="8" y="384"/>
                </a:cubicBezTo>
                <a:cubicBezTo>
                  <a:pt x="12" y="384"/>
                  <a:pt x="16" y="387"/>
                  <a:pt x="16" y="392"/>
                </a:cubicBezTo>
                <a:lnTo>
                  <a:pt x="16" y="504"/>
                </a:lnTo>
                <a:cubicBezTo>
                  <a:pt x="16" y="508"/>
                  <a:pt x="12" y="512"/>
                  <a:pt x="8" y="512"/>
                </a:cubicBezTo>
                <a:cubicBezTo>
                  <a:pt x="4" y="512"/>
                  <a:pt x="0" y="508"/>
                  <a:pt x="0" y="504"/>
                </a:cubicBezTo>
                <a:close/>
                <a:moveTo>
                  <a:pt x="0" y="312"/>
                </a:moveTo>
                <a:lnTo>
                  <a:pt x="0" y="200"/>
                </a:lnTo>
                <a:cubicBezTo>
                  <a:pt x="0" y="195"/>
                  <a:pt x="4" y="192"/>
                  <a:pt x="8" y="192"/>
                </a:cubicBezTo>
                <a:cubicBezTo>
                  <a:pt x="12" y="192"/>
                  <a:pt x="16" y="195"/>
                  <a:pt x="16" y="200"/>
                </a:cubicBezTo>
                <a:lnTo>
                  <a:pt x="16" y="312"/>
                </a:lnTo>
                <a:cubicBezTo>
                  <a:pt x="16" y="316"/>
                  <a:pt x="12" y="320"/>
                  <a:pt x="8" y="320"/>
                </a:cubicBezTo>
                <a:cubicBezTo>
                  <a:pt x="4" y="320"/>
                  <a:pt x="0" y="316"/>
                  <a:pt x="0" y="312"/>
                </a:cubicBezTo>
                <a:close/>
                <a:moveTo>
                  <a:pt x="0" y="120"/>
                </a:moveTo>
                <a:lnTo>
                  <a:pt x="0" y="8"/>
                </a:lnTo>
                <a:cubicBezTo>
                  <a:pt x="0" y="3"/>
                  <a:pt x="4" y="0"/>
                  <a:pt x="8" y="0"/>
                </a:cubicBezTo>
                <a:cubicBezTo>
                  <a:pt x="12" y="0"/>
                  <a:pt x="16" y="3"/>
                  <a:pt x="16" y="8"/>
                </a:cubicBezTo>
                <a:lnTo>
                  <a:pt x="16" y="120"/>
                </a:lnTo>
                <a:cubicBezTo>
                  <a:pt x="16" y="124"/>
                  <a:pt x="12" y="128"/>
                  <a:pt x="8" y="128"/>
                </a:cubicBezTo>
                <a:cubicBezTo>
                  <a:pt x="4" y="128"/>
                  <a:pt x="0" y="124"/>
                  <a:pt x="0" y="120"/>
                </a:cubicBez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30600" y="1560600"/>
            <a:ext cx="1665360" cy="353880"/>
          </a:xfrm>
          <a:custGeom>
            <a:avLst/>
            <a:gdLst/>
            <a:ahLst/>
            <a:rect l="l" t="t" r="r" b="b"/>
            <a:pathLst>
              <a:path w="1049" h="223">
                <a:moveTo>
                  <a:pt x="0" y="0"/>
                </a:moveTo>
                <a:lnTo>
                  <a:pt x="0" y="223"/>
                </a:lnTo>
                <a:lnTo>
                  <a:pt x="1049" y="223"/>
                </a:lnTo>
                <a:lnTo>
                  <a:pt x="10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30600" y="1560600"/>
            <a:ext cx="1665360" cy="353880"/>
          </a:xfrm>
          <a:prstGeom prst="rect">
            <a:avLst/>
          </a:pr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82320" y="1663560"/>
            <a:ext cx="823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H Us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39840" y="166356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80200" y="3362400"/>
            <a:ext cx="290520" cy="588960"/>
          </a:xfrm>
          <a:custGeom>
            <a:avLst/>
            <a:gdLst/>
            <a:ahLst/>
            <a:rect l="l" t="t" r="r" b="b"/>
            <a:pathLst>
              <a:path w="183" h="371">
                <a:moveTo>
                  <a:pt x="91" y="0"/>
                </a:moveTo>
                <a:lnTo>
                  <a:pt x="183" y="74"/>
                </a:lnTo>
                <a:lnTo>
                  <a:pt x="137" y="74"/>
                </a:lnTo>
                <a:lnTo>
                  <a:pt x="137" y="296"/>
                </a:lnTo>
                <a:lnTo>
                  <a:pt x="183" y="296"/>
                </a:lnTo>
                <a:lnTo>
                  <a:pt x="91" y="371"/>
                </a:lnTo>
                <a:lnTo>
                  <a:pt x="0" y="296"/>
                </a:lnTo>
                <a:lnTo>
                  <a:pt x="45" y="296"/>
                </a:lnTo>
                <a:lnTo>
                  <a:pt x="45" y="74"/>
                </a:lnTo>
                <a:lnTo>
                  <a:pt x="0" y="74"/>
                </a:lnTo>
                <a:lnTo>
                  <a:pt x="91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80200" y="3362400"/>
            <a:ext cx="290520" cy="588960"/>
          </a:xfrm>
          <a:custGeom>
            <a:avLst/>
            <a:gdLst/>
            <a:ahLst/>
            <a:rect l="l" t="t" r="r" b="b"/>
            <a:pathLst>
              <a:path w="183" h="371">
                <a:moveTo>
                  <a:pt x="91" y="0"/>
                </a:moveTo>
                <a:lnTo>
                  <a:pt x="183" y="74"/>
                </a:lnTo>
                <a:lnTo>
                  <a:pt x="137" y="74"/>
                </a:lnTo>
                <a:lnTo>
                  <a:pt x="137" y="296"/>
                </a:lnTo>
                <a:lnTo>
                  <a:pt x="183" y="296"/>
                </a:lnTo>
                <a:lnTo>
                  <a:pt x="91" y="371"/>
                </a:lnTo>
                <a:lnTo>
                  <a:pt x="0" y="296"/>
                </a:lnTo>
                <a:lnTo>
                  <a:pt x="45" y="296"/>
                </a:lnTo>
                <a:lnTo>
                  <a:pt x="45" y="74"/>
                </a:lnTo>
                <a:lnTo>
                  <a:pt x="0" y="74"/>
                </a:lnTo>
                <a:lnTo>
                  <a:pt x="91" y="0"/>
                </a:lnTo>
                <a:close/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69880" y="1387440"/>
            <a:ext cx="6850080" cy="4759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IEEE 802.21 Model Network Side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8" name=""/>
          <p:cNvSpPr/>
          <p:nvPr/>
        </p:nvSpPr>
        <p:spPr>
          <a:xfrm>
            <a:off x="1484280" y="5256360"/>
            <a:ext cx="3889440" cy="1171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84280" y="5256360"/>
            <a:ext cx="3889440" cy="117144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58880" y="1457280"/>
            <a:ext cx="6767640" cy="115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8880" y="1457280"/>
            <a:ext cx="6767640" cy="115884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05640" y="5256360"/>
            <a:ext cx="2869920" cy="1160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05640" y="5256360"/>
            <a:ext cx="2869920" cy="116028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3402000"/>
            <a:ext cx="5337360" cy="239760"/>
          </a:xfrm>
          <a:custGeom>
            <a:avLst/>
            <a:gdLst/>
            <a:ahLst/>
            <a:rect l="l" t="t" r="r" b="b"/>
            <a:pathLst>
              <a:path w="3362" h="151">
                <a:moveTo>
                  <a:pt x="0" y="0"/>
                </a:moveTo>
                <a:lnTo>
                  <a:pt x="0" y="151"/>
                </a:lnTo>
                <a:lnTo>
                  <a:pt x="3362" y="151"/>
                </a:lnTo>
                <a:lnTo>
                  <a:pt x="336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3402000"/>
            <a:ext cx="5337360" cy="239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28520" y="3427560"/>
            <a:ext cx="3281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a Independent Handover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30240" y="5656320"/>
            <a:ext cx="473400" cy="210960"/>
          </a:xfrm>
          <a:custGeom>
            <a:avLst/>
            <a:gdLst/>
            <a:ahLst/>
            <a:rect l="l" t="t" r="r" b="b"/>
            <a:pathLst>
              <a:path w="298" h="133">
                <a:moveTo>
                  <a:pt x="0" y="0"/>
                </a:moveTo>
                <a:lnTo>
                  <a:pt x="0" y="133"/>
                </a:lnTo>
                <a:lnTo>
                  <a:pt x="298" y="133"/>
                </a:lnTo>
                <a:lnTo>
                  <a:pt x="29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2320" y="5656320"/>
            <a:ext cx="474840" cy="2109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7200" y="5692680"/>
            <a:ext cx="1926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85560" y="569268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21920" y="5692680"/>
            <a:ext cx="648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81240" y="5656320"/>
            <a:ext cx="490680" cy="210960"/>
          </a:xfrm>
          <a:custGeom>
            <a:avLst/>
            <a:gdLst/>
            <a:ahLst/>
            <a:rect l="l" t="t" r="r" b="b"/>
            <a:pathLst>
              <a:path w="309" h="133">
                <a:moveTo>
                  <a:pt x="0" y="0"/>
                </a:moveTo>
                <a:lnTo>
                  <a:pt x="0" y="133"/>
                </a:lnTo>
                <a:lnTo>
                  <a:pt x="309" y="133"/>
                </a:lnTo>
                <a:lnTo>
                  <a:pt x="30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81240" y="5656320"/>
            <a:ext cx="490680" cy="2109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73040" y="5692680"/>
            <a:ext cx="1926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66720" y="569268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11360" y="5692680"/>
            <a:ext cx="1288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8480" y="5665680"/>
            <a:ext cx="490320" cy="211320"/>
          </a:xfrm>
          <a:custGeom>
            <a:avLst/>
            <a:gdLst/>
            <a:ahLst/>
            <a:rect l="l" t="t" r="r" b="b"/>
            <a:pathLst>
              <a:path w="309" h="133">
                <a:moveTo>
                  <a:pt x="0" y="0"/>
                </a:moveTo>
                <a:lnTo>
                  <a:pt x="0" y="133"/>
                </a:lnTo>
                <a:lnTo>
                  <a:pt x="309" y="133"/>
                </a:lnTo>
                <a:lnTo>
                  <a:pt x="30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8480" y="5665680"/>
            <a:ext cx="490320" cy="21132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90800" y="5703840"/>
            <a:ext cx="1926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90600" y="570384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35240" y="5703840"/>
            <a:ext cx="1288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6960" y="602136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87120" y="6021360"/>
            <a:ext cx="196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78000" y="5548320"/>
            <a:ext cx="14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28840" y="5548320"/>
            <a:ext cx="74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PP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77720" y="5859360"/>
            <a:ext cx="100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41760" y="3668760"/>
            <a:ext cx="198360" cy="1587600"/>
          </a:xfrm>
          <a:custGeom>
            <a:avLst/>
            <a:gdLst/>
            <a:ahLst/>
            <a:rect l="l" t="t" r="r" b="b"/>
            <a:pathLst>
              <a:path w="125" h="1000">
                <a:moveTo>
                  <a:pt x="62" y="0"/>
                </a:moveTo>
                <a:lnTo>
                  <a:pt x="125" y="200"/>
                </a:lnTo>
                <a:lnTo>
                  <a:pt x="94" y="200"/>
                </a:lnTo>
                <a:lnTo>
                  <a:pt x="94" y="800"/>
                </a:lnTo>
                <a:lnTo>
                  <a:pt x="125" y="800"/>
                </a:lnTo>
                <a:lnTo>
                  <a:pt x="62" y="1000"/>
                </a:lnTo>
                <a:lnTo>
                  <a:pt x="0" y="800"/>
                </a:lnTo>
                <a:lnTo>
                  <a:pt x="31" y="800"/>
                </a:lnTo>
                <a:lnTo>
                  <a:pt x="31" y="200"/>
                </a:lnTo>
                <a:lnTo>
                  <a:pt x="0" y="200"/>
                </a:lnTo>
                <a:lnTo>
                  <a:pt x="6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32440" y="2301840"/>
            <a:ext cx="232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H Network 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92720" y="3048120"/>
            <a:ext cx="69876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56320" y="2951280"/>
            <a:ext cx="2674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0080" y="3063960"/>
            <a:ext cx="6912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52840" y="2908440"/>
            <a:ext cx="2674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84160" y="3036960"/>
            <a:ext cx="4150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50360" y="4738680"/>
            <a:ext cx="2962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40920" y="4846680"/>
            <a:ext cx="4150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50520" y="4749840"/>
            <a:ext cx="2962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21280" y="4851360"/>
            <a:ext cx="6912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63800" y="4835520"/>
            <a:ext cx="69876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62120" y="1727280"/>
            <a:ext cx="1515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2616120"/>
            <a:ext cx="198360" cy="773280"/>
          </a:xfrm>
          <a:custGeom>
            <a:avLst/>
            <a:gdLst/>
            <a:ahLst/>
            <a:rect l="l" t="t" r="r" b="b"/>
            <a:pathLst>
              <a:path w="125" h="487">
                <a:moveTo>
                  <a:pt x="62" y="0"/>
                </a:moveTo>
                <a:lnTo>
                  <a:pt x="125" y="97"/>
                </a:lnTo>
                <a:lnTo>
                  <a:pt x="94" y="97"/>
                </a:lnTo>
                <a:lnTo>
                  <a:pt x="94" y="389"/>
                </a:lnTo>
                <a:lnTo>
                  <a:pt x="125" y="389"/>
                </a:lnTo>
                <a:lnTo>
                  <a:pt x="62" y="487"/>
                </a:lnTo>
                <a:lnTo>
                  <a:pt x="0" y="389"/>
                </a:lnTo>
                <a:lnTo>
                  <a:pt x="31" y="389"/>
                </a:lnTo>
                <a:lnTo>
                  <a:pt x="31" y="97"/>
                </a:lnTo>
                <a:lnTo>
                  <a:pt x="0" y="97"/>
                </a:lnTo>
                <a:lnTo>
                  <a:pt x="6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67400" y="2616120"/>
            <a:ext cx="198360" cy="773280"/>
          </a:xfrm>
          <a:custGeom>
            <a:avLst/>
            <a:gdLst/>
            <a:ahLst/>
            <a:rect l="l" t="t" r="r" b="b"/>
            <a:pathLst>
              <a:path w="125" h="487">
                <a:moveTo>
                  <a:pt x="62" y="0"/>
                </a:moveTo>
                <a:lnTo>
                  <a:pt x="125" y="97"/>
                </a:lnTo>
                <a:lnTo>
                  <a:pt x="94" y="97"/>
                </a:lnTo>
                <a:lnTo>
                  <a:pt x="94" y="389"/>
                </a:lnTo>
                <a:lnTo>
                  <a:pt x="125" y="389"/>
                </a:lnTo>
                <a:lnTo>
                  <a:pt x="62" y="487"/>
                </a:lnTo>
                <a:lnTo>
                  <a:pt x="0" y="389"/>
                </a:lnTo>
                <a:lnTo>
                  <a:pt x="31" y="389"/>
                </a:lnTo>
                <a:lnTo>
                  <a:pt x="31" y="97"/>
                </a:lnTo>
                <a:lnTo>
                  <a:pt x="0" y="97"/>
                </a:lnTo>
                <a:lnTo>
                  <a:pt x="62" y="0"/>
                </a:lnTo>
                <a:close/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35160" y="3662280"/>
            <a:ext cx="196920" cy="1594080"/>
          </a:xfrm>
          <a:custGeom>
            <a:avLst/>
            <a:gdLst/>
            <a:ahLst/>
            <a:rect l="l" t="t" r="r" b="b"/>
            <a:pathLst>
              <a:path w="124" h="1004">
                <a:moveTo>
                  <a:pt x="62" y="0"/>
                </a:moveTo>
                <a:lnTo>
                  <a:pt x="124" y="201"/>
                </a:lnTo>
                <a:lnTo>
                  <a:pt x="93" y="201"/>
                </a:lnTo>
                <a:lnTo>
                  <a:pt x="93" y="804"/>
                </a:lnTo>
                <a:lnTo>
                  <a:pt x="124" y="804"/>
                </a:lnTo>
                <a:lnTo>
                  <a:pt x="62" y="1004"/>
                </a:lnTo>
                <a:lnTo>
                  <a:pt x="0" y="804"/>
                </a:lnTo>
                <a:lnTo>
                  <a:pt x="31" y="804"/>
                </a:lnTo>
                <a:lnTo>
                  <a:pt x="31" y="201"/>
                </a:lnTo>
                <a:lnTo>
                  <a:pt x="0" y="201"/>
                </a:lnTo>
                <a:lnTo>
                  <a:pt x="6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35160" y="3662280"/>
            <a:ext cx="196920" cy="1594080"/>
          </a:xfrm>
          <a:custGeom>
            <a:avLst/>
            <a:gdLst/>
            <a:ahLst/>
            <a:rect l="l" t="t" r="r" b="b"/>
            <a:pathLst>
              <a:path w="124" h="1004">
                <a:moveTo>
                  <a:pt x="62" y="0"/>
                </a:moveTo>
                <a:lnTo>
                  <a:pt x="124" y="201"/>
                </a:lnTo>
                <a:lnTo>
                  <a:pt x="93" y="201"/>
                </a:lnTo>
                <a:lnTo>
                  <a:pt x="93" y="804"/>
                </a:lnTo>
                <a:lnTo>
                  <a:pt x="124" y="804"/>
                </a:lnTo>
                <a:lnTo>
                  <a:pt x="62" y="1004"/>
                </a:lnTo>
                <a:lnTo>
                  <a:pt x="0" y="804"/>
                </a:lnTo>
                <a:lnTo>
                  <a:pt x="31" y="804"/>
                </a:lnTo>
                <a:lnTo>
                  <a:pt x="31" y="201"/>
                </a:lnTo>
                <a:lnTo>
                  <a:pt x="0" y="201"/>
                </a:lnTo>
                <a:lnTo>
                  <a:pt x="62" y="0"/>
                </a:lnTo>
                <a:close/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95520" y="2616120"/>
            <a:ext cx="193680" cy="773280"/>
          </a:xfrm>
          <a:custGeom>
            <a:avLst/>
            <a:gdLst/>
            <a:ahLst/>
            <a:rect l="l" t="t" r="r" b="b"/>
            <a:pathLst>
              <a:path w="122" h="487">
                <a:moveTo>
                  <a:pt x="0" y="86"/>
                </a:moveTo>
                <a:lnTo>
                  <a:pt x="26" y="86"/>
                </a:lnTo>
                <a:lnTo>
                  <a:pt x="26" y="487"/>
                </a:lnTo>
                <a:lnTo>
                  <a:pt x="96" y="487"/>
                </a:lnTo>
                <a:lnTo>
                  <a:pt x="96" y="86"/>
                </a:lnTo>
                <a:lnTo>
                  <a:pt x="122" y="86"/>
                </a:lnTo>
                <a:lnTo>
                  <a:pt x="61" y="0"/>
                </a:lnTo>
                <a:lnTo>
                  <a:pt x="0" y="86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95520" y="2616120"/>
            <a:ext cx="193680" cy="773280"/>
          </a:xfrm>
          <a:custGeom>
            <a:avLst/>
            <a:gdLst/>
            <a:ahLst/>
            <a:rect l="l" t="t" r="r" b="b"/>
            <a:pathLst>
              <a:path w="122" h="487">
                <a:moveTo>
                  <a:pt x="0" y="86"/>
                </a:moveTo>
                <a:lnTo>
                  <a:pt x="26" y="86"/>
                </a:lnTo>
                <a:lnTo>
                  <a:pt x="26" y="487"/>
                </a:lnTo>
                <a:lnTo>
                  <a:pt x="96" y="487"/>
                </a:lnTo>
                <a:lnTo>
                  <a:pt x="96" y="86"/>
                </a:lnTo>
                <a:lnTo>
                  <a:pt x="122" y="86"/>
                </a:lnTo>
                <a:lnTo>
                  <a:pt x="61" y="0"/>
                </a:lnTo>
                <a:lnTo>
                  <a:pt x="0" y="86"/>
                </a:lnTo>
                <a:close/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44640" y="3652920"/>
            <a:ext cx="193680" cy="1603440"/>
          </a:xfrm>
          <a:custGeom>
            <a:avLst/>
            <a:gdLst/>
            <a:ahLst/>
            <a:rect l="l" t="t" r="r" b="b"/>
            <a:pathLst>
              <a:path w="122" h="1010">
                <a:moveTo>
                  <a:pt x="0" y="178"/>
                </a:moveTo>
                <a:lnTo>
                  <a:pt x="26" y="178"/>
                </a:lnTo>
                <a:lnTo>
                  <a:pt x="26" y="1010"/>
                </a:lnTo>
                <a:lnTo>
                  <a:pt x="96" y="1010"/>
                </a:lnTo>
                <a:lnTo>
                  <a:pt x="96" y="178"/>
                </a:lnTo>
                <a:lnTo>
                  <a:pt x="122" y="178"/>
                </a:lnTo>
                <a:lnTo>
                  <a:pt x="61" y="0"/>
                </a:lnTo>
                <a:lnTo>
                  <a:pt x="0" y="178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44640" y="3652920"/>
            <a:ext cx="193680" cy="1603440"/>
          </a:xfrm>
          <a:custGeom>
            <a:avLst/>
            <a:gdLst/>
            <a:ahLst/>
            <a:rect l="l" t="t" r="r" b="b"/>
            <a:pathLst>
              <a:path w="122" h="1010">
                <a:moveTo>
                  <a:pt x="0" y="178"/>
                </a:moveTo>
                <a:lnTo>
                  <a:pt x="26" y="178"/>
                </a:lnTo>
                <a:lnTo>
                  <a:pt x="26" y="1010"/>
                </a:lnTo>
                <a:lnTo>
                  <a:pt x="96" y="1010"/>
                </a:lnTo>
                <a:lnTo>
                  <a:pt x="96" y="178"/>
                </a:lnTo>
                <a:lnTo>
                  <a:pt x="122" y="178"/>
                </a:lnTo>
                <a:lnTo>
                  <a:pt x="61" y="0"/>
                </a:lnTo>
                <a:lnTo>
                  <a:pt x="0" y="178"/>
                </a:lnTo>
                <a:close/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3000" y="2616120"/>
            <a:ext cx="196560" cy="773280"/>
          </a:xfrm>
          <a:custGeom>
            <a:avLst/>
            <a:gdLst/>
            <a:ahLst/>
            <a:rect l="l" t="t" r="r" b="b"/>
            <a:pathLst>
              <a:path w="124" h="487">
                <a:moveTo>
                  <a:pt x="62" y="0"/>
                </a:moveTo>
                <a:lnTo>
                  <a:pt x="124" y="97"/>
                </a:lnTo>
                <a:lnTo>
                  <a:pt x="93" y="97"/>
                </a:lnTo>
                <a:lnTo>
                  <a:pt x="93" y="389"/>
                </a:lnTo>
                <a:lnTo>
                  <a:pt x="124" y="389"/>
                </a:lnTo>
                <a:lnTo>
                  <a:pt x="62" y="487"/>
                </a:lnTo>
                <a:lnTo>
                  <a:pt x="0" y="389"/>
                </a:lnTo>
                <a:lnTo>
                  <a:pt x="31" y="389"/>
                </a:lnTo>
                <a:lnTo>
                  <a:pt x="31" y="97"/>
                </a:lnTo>
                <a:lnTo>
                  <a:pt x="0" y="97"/>
                </a:lnTo>
                <a:lnTo>
                  <a:pt x="62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3000" y="2616120"/>
            <a:ext cx="196560" cy="773280"/>
          </a:xfrm>
          <a:custGeom>
            <a:avLst/>
            <a:gdLst/>
            <a:ahLst/>
            <a:rect l="l" t="t" r="r" b="b"/>
            <a:pathLst>
              <a:path w="124" h="487">
                <a:moveTo>
                  <a:pt x="62" y="0"/>
                </a:moveTo>
                <a:lnTo>
                  <a:pt x="124" y="97"/>
                </a:lnTo>
                <a:lnTo>
                  <a:pt x="93" y="97"/>
                </a:lnTo>
                <a:lnTo>
                  <a:pt x="93" y="389"/>
                </a:lnTo>
                <a:lnTo>
                  <a:pt x="124" y="389"/>
                </a:lnTo>
                <a:lnTo>
                  <a:pt x="62" y="487"/>
                </a:lnTo>
                <a:lnTo>
                  <a:pt x="0" y="389"/>
                </a:lnTo>
                <a:lnTo>
                  <a:pt x="31" y="389"/>
                </a:lnTo>
                <a:lnTo>
                  <a:pt x="31" y="97"/>
                </a:lnTo>
                <a:lnTo>
                  <a:pt x="0" y="97"/>
                </a:lnTo>
                <a:lnTo>
                  <a:pt x="62" y="0"/>
                </a:lnTo>
                <a:close/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94640" y="2616120"/>
            <a:ext cx="395280" cy="2640240"/>
          </a:xfrm>
          <a:custGeom>
            <a:avLst/>
            <a:gdLst/>
            <a:ahLst/>
            <a:rect l="l" t="t" r="r" b="b"/>
            <a:pathLst>
              <a:path w="249" h="1663">
                <a:moveTo>
                  <a:pt x="124" y="0"/>
                </a:moveTo>
                <a:lnTo>
                  <a:pt x="249" y="333"/>
                </a:lnTo>
                <a:lnTo>
                  <a:pt x="187" y="333"/>
                </a:lnTo>
                <a:lnTo>
                  <a:pt x="187" y="1331"/>
                </a:lnTo>
                <a:lnTo>
                  <a:pt x="249" y="1331"/>
                </a:lnTo>
                <a:lnTo>
                  <a:pt x="124" y="1663"/>
                </a:lnTo>
                <a:lnTo>
                  <a:pt x="0" y="1331"/>
                </a:lnTo>
                <a:lnTo>
                  <a:pt x="62" y="1331"/>
                </a:lnTo>
                <a:lnTo>
                  <a:pt x="62" y="333"/>
                </a:lnTo>
                <a:lnTo>
                  <a:pt x="0" y="333"/>
                </a:lnTo>
                <a:lnTo>
                  <a:pt x="12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94640" y="2616120"/>
            <a:ext cx="395280" cy="2640240"/>
          </a:xfrm>
          <a:custGeom>
            <a:avLst/>
            <a:gdLst/>
            <a:ahLst/>
            <a:rect l="l" t="t" r="r" b="b"/>
            <a:pathLst>
              <a:path w="249" h="1663">
                <a:moveTo>
                  <a:pt x="124" y="0"/>
                </a:moveTo>
                <a:lnTo>
                  <a:pt x="249" y="333"/>
                </a:lnTo>
                <a:lnTo>
                  <a:pt x="187" y="333"/>
                </a:lnTo>
                <a:lnTo>
                  <a:pt x="187" y="1331"/>
                </a:lnTo>
                <a:lnTo>
                  <a:pt x="249" y="1331"/>
                </a:lnTo>
                <a:lnTo>
                  <a:pt x="124" y="1663"/>
                </a:lnTo>
                <a:lnTo>
                  <a:pt x="0" y="1331"/>
                </a:lnTo>
                <a:lnTo>
                  <a:pt x="62" y="1331"/>
                </a:lnTo>
                <a:lnTo>
                  <a:pt x="62" y="333"/>
                </a:lnTo>
                <a:lnTo>
                  <a:pt x="0" y="333"/>
                </a:lnTo>
                <a:lnTo>
                  <a:pt x="124" y="0"/>
                </a:lnTo>
                <a:close/>
              </a:path>
            </a:pathLst>
          </a:custGeom>
          <a:noFill/>
          <a:ln cap="rnd"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47760" y="1595520"/>
            <a:ext cx="1036800" cy="666720"/>
          </a:xfrm>
          <a:custGeom>
            <a:avLst/>
            <a:gdLst/>
            <a:ahLst/>
            <a:rect l="l" t="t" r="r" b="b"/>
            <a:pathLst>
              <a:path w="653" h="420">
                <a:moveTo>
                  <a:pt x="0" y="0"/>
                </a:moveTo>
                <a:lnTo>
                  <a:pt x="0" y="420"/>
                </a:lnTo>
                <a:lnTo>
                  <a:pt x="653" y="420"/>
                </a:lnTo>
                <a:lnTo>
                  <a:pt x="65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47760" y="1595520"/>
            <a:ext cx="1036800" cy="66672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47840" y="162072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46280" y="162072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06400" y="1620720"/>
            <a:ext cx="24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74240" y="1620720"/>
            <a:ext cx="377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78160" y="1830240"/>
            <a:ext cx="753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77520" y="2033640"/>
            <a:ext cx="496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98760" y="340848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00880" y="4129200"/>
            <a:ext cx="2965320" cy="387360"/>
          </a:xfrm>
          <a:custGeom>
            <a:avLst/>
            <a:gdLst/>
            <a:ahLst/>
            <a:rect l="l" t="t" r="r" b="b"/>
            <a:pathLst>
              <a:path w="8160" h="1152">
                <a:moveTo>
                  <a:pt x="576" y="1152"/>
                </a:moveTo>
                <a:lnTo>
                  <a:pt x="7584" y="1152"/>
                </a:lnTo>
                <a:cubicBezTo>
                  <a:pt x="7902" y="1152"/>
                  <a:pt x="8160" y="894"/>
                  <a:pt x="8160" y="576"/>
                </a:cubicBezTo>
                <a:cubicBezTo>
                  <a:pt x="8160" y="258"/>
                  <a:pt x="7902" y="0"/>
                  <a:pt x="7584" y="0"/>
                </a:cubicBezTo>
                <a:cubicBezTo>
                  <a:pt x="7584" y="0"/>
                  <a:pt x="7584" y="0"/>
                  <a:pt x="7584" y="0"/>
                </a:cubicBezTo>
                <a:lnTo>
                  <a:pt x="7584" y="0"/>
                </a:lnTo>
                <a:lnTo>
                  <a:pt x="576" y="0"/>
                </a:lnTo>
                <a:cubicBezTo>
                  <a:pt x="258" y="0"/>
                  <a:pt x="0" y="258"/>
                  <a:pt x="0" y="576"/>
                </a:cubicBezTo>
                <a:cubicBezTo>
                  <a:pt x="0" y="894"/>
                  <a:pt x="258" y="1152"/>
                  <a:pt x="576" y="1152"/>
                </a:cubicBezTo>
                <a:close/>
              </a:path>
            </a:pathLst>
          </a:cu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00880" y="4129200"/>
            <a:ext cx="2965320" cy="387360"/>
          </a:xfrm>
          <a:custGeom>
            <a:avLst/>
            <a:gdLst/>
            <a:ahLst/>
            <a:rect l="l" t="t" r="r" b="b"/>
            <a:pathLst>
              <a:path w="8160" h="1152">
                <a:moveTo>
                  <a:pt x="576" y="1152"/>
                </a:moveTo>
                <a:lnTo>
                  <a:pt x="7584" y="1152"/>
                </a:lnTo>
                <a:cubicBezTo>
                  <a:pt x="7902" y="1152"/>
                  <a:pt x="8160" y="894"/>
                  <a:pt x="8160" y="576"/>
                </a:cubicBezTo>
                <a:cubicBezTo>
                  <a:pt x="8160" y="258"/>
                  <a:pt x="7902" y="0"/>
                  <a:pt x="7584" y="0"/>
                </a:cubicBezTo>
                <a:cubicBezTo>
                  <a:pt x="7584" y="0"/>
                  <a:pt x="7584" y="0"/>
                  <a:pt x="7584" y="0"/>
                </a:cubicBezTo>
                <a:lnTo>
                  <a:pt x="7584" y="0"/>
                </a:lnTo>
                <a:lnTo>
                  <a:pt x="576" y="0"/>
                </a:lnTo>
                <a:cubicBezTo>
                  <a:pt x="258" y="0"/>
                  <a:pt x="0" y="258"/>
                  <a:pt x="0" y="576"/>
                </a:cubicBezTo>
                <a:cubicBezTo>
                  <a:pt x="0" y="894"/>
                  <a:pt x="258" y="1152"/>
                  <a:pt x="576" y="1152"/>
                </a:cubicBez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60520" y="4211640"/>
            <a:ext cx="23932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igher Layer Transpo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46200" y="4129200"/>
            <a:ext cx="3489480" cy="387360"/>
          </a:xfrm>
          <a:custGeom>
            <a:avLst/>
            <a:gdLst/>
            <a:ahLst/>
            <a:rect l="l" t="t" r="r" b="b"/>
            <a:pathLst>
              <a:path w="9600" h="1152">
                <a:moveTo>
                  <a:pt x="576" y="1152"/>
                </a:moveTo>
                <a:lnTo>
                  <a:pt x="9024" y="1152"/>
                </a:lnTo>
                <a:cubicBezTo>
                  <a:pt x="9342" y="1152"/>
                  <a:pt x="9600" y="894"/>
                  <a:pt x="9600" y="576"/>
                </a:cubicBezTo>
                <a:cubicBezTo>
                  <a:pt x="9600" y="258"/>
                  <a:pt x="9342" y="0"/>
                  <a:pt x="9024" y="0"/>
                </a:cubicBezTo>
                <a:cubicBezTo>
                  <a:pt x="9024" y="0"/>
                  <a:pt x="9024" y="0"/>
                  <a:pt x="9024" y="0"/>
                </a:cubicBezTo>
                <a:lnTo>
                  <a:pt x="9024" y="0"/>
                </a:lnTo>
                <a:lnTo>
                  <a:pt x="576" y="0"/>
                </a:lnTo>
                <a:cubicBezTo>
                  <a:pt x="258" y="0"/>
                  <a:pt x="0" y="258"/>
                  <a:pt x="0" y="576"/>
                </a:cubicBezTo>
                <a:cubicBezTo>
                  <a:pt x="0" y="894"/>
                  <a:pt x="258" y="1152"/>
                  <a:pt x="576" y="1152"/>
                </a:cubicBezTo>
                <a:close/>
              </a:path>
            </a:pathLst>
          </a:cu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46200" y="4129200"/>
            <a:ext cx="3489480" cy="387360"/>
          </a:xfrm>
          <a:custGeom>
            <a:avLst/>
            <a:gdLst/>
            <a:ahLst/>
            <a:rect l="l" t="t" r="r" b="b"/>
            <a:pathLst>
              <a:path w="9600" h="1152">
                <a:moveTo>
                  <a:pt x="576" y="1152"/>
                </a:moveTo>
                <a:lnTo>
                  <a:pt x="9024" y="1152"/>
                </a:lnTo>
                <a:cubicBezTo>
                  <a:pt x="9342" y="1152"/>
                  <a:pt x="9600" y="894"/>
                  <a:pt x="9600" y="576"/>
                </a:cubicBezTo>
                <a:cubicBezTo>
                  <a:pt x="9600" y="258"/>
                  <a:pt x="9342" y="0"/>
                  <a:pt x="9024" y="0"/>
                </a:cubicBezTo>
                <a:cubicBezTo>
                  <a:pt x="9024" y="0"/>
                  <a:pt x="9024" y="0"/>
                  <a:pt x="9024" y="0"/>
                </a:cubicBezTo>
                <a:lnTo>
                  <a:pt x="9024" y="0"/>
                </a:lnTo>
                <a:lnTo>
                  <a:pt x="576" y="0"/>
                </a:lnTo>
                <a:cubicBezTo>
                  <a:pt x="258" y="0"/>
                  <a:pt x="0" y="258"/>
                  <a:pt x="0" y="576"/>
                </a:cubicBezTo>
                <a:cubicBezTo>
                  <a:pt x="0" y="894"/>
                  <a:pt x="258" y="1152"/>
                  <a:pt x="576" y="1152"/>
                </a:cubicBez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21680" y="4191120"/>
            <a:ext cx="132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igher Lay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00480" y="4191120"/>
            <a:ext cx="601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65280" y="4191120"/>
            <a:ext cx="1332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6760" y="4191120"/>
            <a:ext cx="180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35360" y="4191120"/>
            <a:ext cx="10112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00680" y="1585800"/>
            <a:ext cx="1037880" cy="665280"/>
          </a:xfrm>
          <a:custGeom>
            <a:avLst/>
            <a:gdLst/>
            <a:ahLst/>
            <a:rect l="l" t="t" r="r" b="b"/>
            <a:pathLst>
              <a:path w="654" h="419">
                <a:moveTo>
                  <a:pt x="0" y="0"/>
                </a:moveTo>
                <a:lnTo>
                  <a:pt x="0" y="419"/>
                </a:lnTo>
                <a:lnTo>
                  <a:pt x="654" y="419"/>
                </a:lnTo>
                <a:lnTo>
                  <a:pt x="65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00680" y="1585800"/>
            <a:ext cx="1037880" cy="66528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02200" y="160956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2080" y="160956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62200" y="1609560"/>
            <a:ext cx="24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23560" y="1609560"/>
            <a:ext cx="377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32520" y="1819440"/>
            <a:ext cx="753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33320" y="2022480"/>
            <a:ext cx="496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00920" y="1595520"/>
            <a:ext cx="1038240" cy="666720"/>
          </a:xfrm>
          <a:custGeom>
            <a:avLst/>
            <a:gdLst/>
            <a:ahLst/>
            <a:rect l="l" t="t" r="r" b="b"/>
            <a:pathLst>
              <a:path w="654" h="420">
                <a:moveTo>
                  <a:pt x="0" y="0"/>
                </a:moveTo>
                <a:lnTo>
                  <a:pt x="0" y="420"/>
                </a:lnTo>
                <a:lnTo>
                  <a:pt x="654" y="420"/>
                </a:lnTo>
                <a:lnTo>
                  <a:pt x="65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00920" y="1595520"/>
            <a:ext cx="1038240" cy="66672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13160" y="163836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16120" y="1638360"/>
            <a:ext cx="902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PP2 MI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32760" y="1830240"/>
            <a:ext cx="753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33920" y="2033640"/>
            <a:ext cx="496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166760" y="1452600"/>
            <a:ext cx="7419960" cy="498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Overall 802.21 Model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67" name=""/>
          <p:cNvSpPr/>
          <p:nvPr/>
        </p:nvSpPr>
        <p:spPr>
          <a:xfrm>
            <a:off x="217440" y="2252520"/>
            <a:ext cx="3973680" cy="3990960"/>
          </a:xfrm>
          <a:custGeom>
            <a:avLst/>
            <a:gdLst/>
            <a:ahLst/>
            <a:rect l="l" t="t" r="r" b="b"/>
            <a:pathLst>
              <a:path w="9792" h="10656">
                <a:moveTo>
                  <a:pt x="9490" y="10656"/>
                </a:moveTo>
                <a:cubicBezTo>
                  <a:pt x="9657" y="10656"/>
                  <a:pt x="9792" y="10521"/>
                  <a:pt x="9792" y="10354"/>
                </a:cubicBezTo>
                <a:lnTo>
                  <a:pt x="9792" y="302"/>
                </a:lnTo>
                <a:cubicBezTo>
                  <a:pt x="9792" y="135"/>
                  <a:pt x="9657" y="0"/>
                  <a:pt x="9490" y="0"/>
                </a:cubicBezTo>
                <a:lnTo>
                  <a:pt x="9490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10354"/>
                </a:lnTo>
                <a:cubicBezTo>
                  <a:pt x="0" y="10521"/>
                  <a:pt x="135" y="10656"/>
                  <a:pt x="302" y="10656"/>
                </a:cubicBezTo>
                <a:lnTo>
                  <a:pt x="302" y="10656"/>
                </a:lnTo>
                <a:lnTo>
                  <a:pt x="9490" y="10656"/>
                </a:lnTo>
                <a:close/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7440" y="2252520"/>
            <a:ext cx="3973680" cy="3990960"/>
          </a:xfrm>
          <a:custGeom>
            <a:avLst/>
            <a:gdLst/>
            <a:ahLst/>
            <a:rect l="l" t="t" r="r" b="b"/>
            <a:pathLst>
              <a:path w="9792" h="10656">
                <a:moveTo>
                  <a:pt x="9490" y="10656"/>
                </a:moveTo>
                <a:cubicBezTo>
                  <a:pt x="9657" y="10656"/>
                  <a:pt x="9792" y="10521"/>
                  <a:pt x="9792" y="10354"/>
                </a:cubicBezTo>
                <a:lnTo>
                  <a:pt x="9792" y="302"/>
                </a:lnTo>
                <a:cubicBezTo>
                  <a:pt x="9792" y="135"/>
                  <a:pt x="9657" y="0"/>
                  <a:pt x="9490" y="0"/>
                </a:cubicBezTo>
                <a:lnTo>
                  <a:pt x="9490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10354"/>
                </a:lnTo>
                <a:cubicBezTo>
                  <a:pt x="0" y="10521"/>
                  <a:pt x="135" y="10656"/>
                  <a:pt x="302" y="10656"/>
                </a:cubicBezTo>
                <a:lnTo>
                  <a:pt x="302" y="10656"/>
                </a:lnTo>
                <a:lnTo>
                  <a:pt x="9490" y="10656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68560" y="4552920"/>
            <a:ext cx="1654200" cy="1401840"/>
          </a:xfrm>
          <a:custGeom>
            <a:avLst/>
            <a:gdLst/>
            <a:ahLst/>
            <a:rect l="l" t="t" r="r" b="b"/>
            <a:pathLst>
              <a:path w="4080" h="3744">
                <a:moveTo>
                  <a:pt x="3778" y="3744"/>
                </a:moveTo>
                <a:cubicBezTo>
                  <a:pt x="3945" y="3744"/>
                  <a:pt x="4080" y="3609"/>
                  <a:pt x="4080" y="3442"/>
                </a:cubicBezTo>
                <a:lnTo>
                  <a:pt x="4080" y="302"/>
                </a:lnTo>
                <a:cubicBezTo>
                  <a:pt x="4080" y="135"/>
                  <a:pt x="3945" y="0"/>
                  <a:pt x="3778" y="0"/>
                </a:cubicBezTo>
                <a:lnTo>
                  <a:pt x="3778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3442"/>
                </a:lnTo>
                <a:cubicBezTo>
                  <a:pt x="0" y="3609"/>
                  <a:pt x="135" y="3744"/>
                  <a:pt x="302" y="3744"/>
                </a:cubicBezTo>
                <a:lnTo>
                  <a:pt x="302" y="3744"/>
                </a:lnTo>
                <a:lnTo>
                  <a:pt x="3778" y="3744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68560" y="4552920"/>
            <a:ext cx="1654200" cy="1401840"/>
          </a:xfrm>
          <a:custGeom>
            <a:avLst/>
            <a:gdLst/>
            <a:ahLst/>
            <a:rect l="l" t="t" r="r" b="b"/>
            <a:pathLst>
              <a:path w="4080" h="3744">
                <a:moveTo>
                  <a:pt x="3778" y="3744"/>
                </a:moveTo>
                <a:cubicBezTo>
                  <a:pt x="3945" y="3744"/>
                  <a:pt x="4080" y="3609"/>
                  <a:pt x="4080" y="3442"/>
                </a:cubicBezTo>
                <a:lnTo>
                  <a:pt x="4080" y="302"/>
                </a:lnTo>
                <a:cubicBezTo>
                  <a:pt x="4080" y="135"/>
                  <a:pt x="3945" y="0"/>
                  <a:pt x="3778" y="0"/>
                </a:cubicBezTo>
                <a:lnTo>
                  <a:pt x="3778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3442"/>
                </a:lnTo>
                <a:cubicBezTo>
                  <a:pt x="0" y="3609"/>
                  <a:pt x="135" y="3744"/>
                  <a:pt x="302" y="3744"/>
                </a:cubicBezTo>
                <a:lnTo>
                  <a:pt x="302" y="3744"/>
                </a:lnTo>
                <a:lnTo>
                  <a:pt x="3778" y="3744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8480" y="3438360"/>
            <a:ext cx="30006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8480" y="3438360"/>
            <a:ext cx="3000600" cy="64800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45120" y="4518000"/>
            <a:ext cx="1674720" cy="1725480"/>
          </a:xfrm>
          <a:custGeom>
            <a:avLst/>
            <a:gdLst/>
            <a:ahLst/>
            <a:rect l="l" t="t" r="r" b="b"/>
            <a:pathLst>
              <a:path w="4128" h="4608">
                <a:moveTo>
                  <a:pt x="3826" y="4608"/>
                </a:moveTo>
                <a:cubicBezTo>
                  <a:pt x="3993" y="4608"/>
                  <a:pt x="4128" y="4473"/>
                  <a:pt x="4128" y="4306"/>
                </a:cubicBezTo>
                <a:lnTo>
                  <a:pt x="4128" y="302"/>
                </a:lnTo>
                <a:cubicBezTo>
                  <a:pt x="4128" y="135"/>
                  <a:pt x="3993" y="0"/>
                  <a:pt x="3826" y="0"/>
                </a:cubicBezTo>
                <a:lnTo>
                  <a:pt x="3826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4306"/>
                </a:lnTo>
                <a:cubicBezTo>
                  <a:pt x="0" y="4473"/>
                  <a:pt x="135" y="4608"/>
                  <a:pt x="302" y="4608"/>
                </a:cubicBezTo>
                <a:lnTo>
                  <a:pt x="3826" y="4608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45120" y="4518000"/>
            <a:ext cx="1674720" cy="1725480"/>
          </a:xfrm>
          <a:custGeom>
            <a:avLst/>
            <a:gdLst/>
            <a:ahLst/>
            <a:rect l="l" t="t" r="r" b="b"/>
            <a:pathLst>
              <a:path w="4128" h="4608">
                <a:moveTo>
                  <a:pt x="3826" y="4608"/>
                </a:moveTo>
                <a:cubicBezTo>
                  <a:pt x="3993" y="4608"/>
                  <a:pt x="4128" y="4473"/>
                  <a:pt x="4128" y="4306"/>
                </a:cubicBezTo>
                <a:lnTo>
                  <a:pt x="4128" y="302"/>
                </a:lnTo>
                <a:cubicBezTo>
                  <a:pt x="4128" y="135"/>
                  <a:pt x="3993" y="0"/>
                  <a:pt x="3826" y="0"/>
                </a:cubicBezTo>
                <a:lnTo>
                  <a:pt x="3826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4306"/>
                </a:lnTo>
                <a:cubicBezTo>
                  <a:pt x="0" y="4473"/>
                  <a:pt x="135" y="4608"/>
                  <a:pt x="302" y="4608"/>
                </a:cubicBezTo>
                <a:lnTo>
                  <a:pt x="3826" y="4608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1640" y="4572000"/>
            <a:ext cx="1500480" cy="1401840"/>
          </a:xfrm>
          <a:custGeom>
            <a:avLst/>
            <a:gdLst/>
            <a:ahLst/>
            <a:rect l="l" t="t" r="r" b="b"/>
            <a:pathLst>
              <a:path w="3696" h="3744">
                <a:moveTo>
                  <a:pt x="3394" y="3744"/>
                </a:moveTo>
                <a:cubicBezTo>
                  <a:pt x="3561" y="3744"/>
                  <a:pt x="3696" y="3609"/>
                  <a:pt x="3696" y="3442"/>
                </a:cubicBezTo>
                <a:lnTo>
                  <a:pt x="3696" y="302"/>
                </a:lnTo>
                <a:cubicBezTo>
                  <a:pt x="3696" y="135"/>
                  <a:pt x="3561" y="0"/>
                  <a:pt x="3394" y="0"/>
                </a:cubicBezTo>
                <a:lnTo>
                  <a:pt x="3394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442"/>
                </a:lnTo>
                <a:cubicBezTo>
                  <a:pt x="0" y="3609"/>
                  <a:pt x="135" y="3744"/>
                  <a:pt x="302" y="3744"/>
                </a:cubicBezTo>
                <a:lnTo>
                  <a:pt x="302" y="3744"/>
                </a:lnTo>
                <a:lnTo>
                  <a:pt x="3394" y="3744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1640" y="4572000"/>
            <a:ext cx="1500480" cy="1401840"/>
          </a:xfrm>
          <a:custGeom>
            <a:avLst/>
            <a:gdLst/>
            <a:ahLst/>
            <a:rect l="l" t="t" r="r" b="b"/>
            <a:pathLst>
              <a:path w="3696" h="3744">
                <a:moveTo>
                  <a:pt x="3394" y="3744"/>
                </a:moveTo>
                <a:cubicBezTo>
                  <a:pt x="3561" y="3744"/>
                  <a:pt x="3696" y="3609"/>
                  <a:pt x="3696" y="3442"/>
                </a:cubicBezTo>
                <a:lnTo>
                  <a:pt x="3696" y="302"/>
                </a:lnTo>
                <a:cubicBezTo>
                  <a:pt x="3696" y="135"/>
                  <a:pt x="3561" y="0"/>
                  <a:pt x="3394" y="0"/>
                </a:cubicBezTo>
                <a:lnTo>
                  <a:pt x="3394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442"/>
                </a:lnTo>
                <a:cubicBezTo>
                  <a:pt x="0" y="3609"/>
                  <a:pt x="135" y="3744"/>
                  <a:pt x="302" y="3744"/>
                </a:cubicBezTo>
                <a:lnTo>
                  <a:pt x="302" y="3744"/>
                </a:lnTo>
                <a:lnTo>
                  <a:pt x="3394" y="3744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65960" y="4518000"/>
            <a:ext cx="2200320" cy="1725480"/>
          </a:xfrm>
          <a:custGeom>
            <a:avLst/>
            <a:gdLst/>
            <a:ahLst/>
            <a:rect l="l" t="t" r="r" b="b"/>
            <a:pathLst>
              <a:path w="5424" h="4608">
                <a:moveTo>
                  <a:pt x="5122" y="4608"/>
                </a:moveTo>
                <a:cubicBezTo>
                  <a:pt x="5289" y="4608"/>
                  <a:pt x="5424" y="4473"/>
                  <a:pt x="5424" y="4306"/>
                </a:cubicBezTo>
                <a:lnTo>
                  <a:pt x="5424" y="302"/>
                </a:lnTo>
                <a:cubicBezTo>
                  <a:pt x="5424" y="135"/>
                  <a:pt x="5289" y="0"/>
                  <a:pt x="5122" y="0"/>
                </a:cubicBezTo>
                <a:lnTo>
                  <a:pt x="5122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4306"/>
                </a:lnTo>
                <a:cubicBezTo>
                  <a:pt x="0" y="4473"/>
                  <a:pt x="135" y="4608"/>
                  <a:pt x="302" y="4608"/>
                </a:cubicBezTo>
                <a:lnTo>
                  <a:pt x="5122" y="4608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365960" y="4518000"/>
            <a:ext cx="2200320" cy="1725480"/>
          </a:xfrm>
          <a:custGeom>
            <a:avLst/>
            <a:gdLst/>
            <a:ahLst/>
            <a:rect l="l" t="t" r="r" b="b"/>
            <a:pathLst>
              <a:path w="5424" h="4608">
                <a:moveTo>
                  <a:pt x="5122" y="4608"/>
                </a:moveTo>
                <a:cubicBezTo>
                  <a:pt x="5289" y="4608"/>
                  <a:pt x="5424" y="4473"/>
                  <a:pt x="5424" y="4306"/>
                </a:cubicBezTo>
                <a:lnTo>
                  <a:pt x="5424" y="302"/>
                </a:lnTo>
                <a:cubicBezTo>
                  <a:pt x="5424" y="135"/>
                  <a:pt x="5289" y="0"/>
                  <a:pt x="5122" y="0"/>
                </a:cubicBezTo>
                <a:lnTo>
                  <a:pt x="5122" y="0"/>
                </a:lnTo>
                <a:lnTo>
                  <a:pt x="302" y="0"/>
                </a:lnTo>
                <a:cubicBezTo>
                  <a:pt x="135" y="0"/>
                  <a:pt x="0" y="135"/>
                  <a:pt x="0" y="302"/>
                </a:cubicBezTo>
                <a:lnTo>
                  <a:pt x="0" y="302"/>
                </a:lnTo>
                <a:lnTo>
                  <a:pt x="0" y="4306"/>
                </a:lnTo>
                <a:cubicBezTo>
                  <a:pt x="0" y="4473"/>
                  <a:pt x="135" y="4608"/>
                  <a:pt x="302" y="4608"/>
                </a:cubicBezTo>
                <a:lnTo>
                  <a:pt x="5122" y="4608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24080" y="5056200"/>
            <a:ext cx="13240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24080" y="5056200"/>
            <a:ext cx="1324080" cy="28728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57360" y="4840200"/>
            <a:ext cx="10908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57360" y="4840200"/>
            <a:ext cx="1090800" cy="21276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08360" y="4626000"/>
            <a:ext cx="739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08360" y="4626000"/>
            <a:ext cx="739800" cy="21420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65400" y="4086360"/>
            <a:ext cx="311040" cy="969840"/>
          </a:xfrm>
          <a:custGeom>
            <a:avLst/>
            <a:gdLst/>
            <a:ahLst/>
            <a:rect l="l" t="t" r="r" b="b"/>
            <a:pathLst>
              <a:path w="196" h="611">
                <a:moveTo>
                  <a:pt x="98" y="0"/>
                </a:moveTo>
                <a:lnTo>
                  <a:pt x="0" y="52"/>
                </a:lnTo>
                <a:lnTo>
                  <a:pt x="65" y="52"/>
                </a:lnTo>
                <a:lnTo>
                  <a:pt x="65" y="611"/>
                </a:lnTo>
                <a:lnTo>
                  <a:pt x="132" y="611"/>
                </a:lnTo>
                <a:lnTo>
                  <a:pt x="132" y="52"/>
                </a:lnTo>
                <a:lnTo>
                  <a:pt x="196" y="52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65400" y="4086360"/>
            <a:ext cx="311040" cy="969840"/>
          </a:xfrm>
          <a:custGeom>
            <a:avLst/>
            <a:gdLst/>
            <a:ahLst/>
            <a:rect l="l" t="t" r="r" b="b"/>
            <a:pathLst>
              <a:path w="196" h="611">
                <a:moveTo>
                  <a:pt x="98" y="0"/>
                </a:moveTo>
                <a:lnTo>
                  <a:pt x="0" y="52"/>
                </a:lnTo>
                <a:lnTo>
                  <a:pt x="65" y="52"/>
                </a:lnTo>
                <a:lnTo>
                  <a:pt x="65" y="611"/>
                </a:lnTo>
                <a:lnTo>
                  <a:pt x="132" y="611"/>
                </a:lnTo>
                <a:lnTo>
                  <a:pt x="132" y="52"/>
                </a:lnTo>
                <a:lnTo>
                  <a:pt x="196" y="52"/>
                </a:lnTo>
                <a:lnTo>
                  <a:pt x="98" y="0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96960" y="4086360"/>
            <a:ext cx="311400" cy="755640"/>
          </a:xfrm>
          <a:custGeom>
            <a:avLst/>
            <a:gdLst/>
            <a:ahLst/>
            <a:rect l="l" t="t" r="r" b="b"/>
            <a:pathLst>
              <a:path w="196" h="476">
                <a:moveTo>
                  <a:pt x="98" y="0"/>
                </a:moveTo>
                <a:lnTo>
                  <a:pt x="0" y="53"/>
                </a:lnTo>
                <a:lnTo>
                  <a:pt x="65" y="52"/>
                </a:lnTo>
                <a:lnTo>
                  <a:pt x="68" y="476"/>
                </a:lnTo>
                <a:lnTo>
                  <a:pt x="135" y="475"/>
                </a:lnTo>
                <a:lnTo>
                  <a:pt x="131" y="52"/>
                </a:lnTo>
                <a:lnTo>
                  <a:pt x="196" y="51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96960" y="4086360"/>
            <a:ext cx="311400" cy="755640"/>
          </a:xfrm>
          <a:custGeom>
            <a:avLst/>
            <a:gdLst/>
            <a:ahLst/>
            <a:rect l="l" t="t" r="r" b="b"/>
            <a:pathLst>
              <a:path w="196" h="476">
                <a:moveTo>
                  <a:pt x="98" y="0"/>
                </a:moveTo>
                <a:lnTo>
                  <a:pt x="0" y="53"/>
                </a:lnTo>
                <a:lnTo>
                  <a:pt x="65" y="52"/>
                </a:lnTo>
                <a:lnTo>
                  <a:pt x="68" y="476"/>
                </a:lnTo>
                <a:lnTo>
                  <a:pt x="135" y="475"/>
                </a:lnTo>
                <a:lnTo>
                  <a:pt x="131" y="52"/>
                </a:lnTo>
                <a:lnTo>
                  <a:pt x="196" y="51"/>
                </a:lnTo>
                <a:lnTo>
                  <a:pt x="98" y="0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81560" y="5056200"/>
            <a:ext cx="13446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281560" y="5056200"/>
            <a:ext cx="1344600" cy="28728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54800" y="4843440"/>
            <a:ext cx="107136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54800" y="4843440"/>
            <a:ext cx="1071360" cy="21132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05440" y="4626000"/>
            <a:ext cx="72072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05440" y="4626000"/>
            <a:ext cx="720720" cy="21420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86440" y="2630520"/>
            <a:ext cx="327348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86440" y="2630520"/>
            <a:ext cx="3273480" cy="45252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03800" y="3083040"/>
            <a:ext cx="351000" cy="1973160"/>
          </a:xfrm>
          <a:custGeom>
            <a:avLst/>
            <a:gdLst/>
            <a:ahLst/>
            <a:rect l="l" t="t" r="r" b="b"/>
            <a:pathLst>
              <a:path w="221" h="1243">
                <a:moveTo>
                  <a:pt x="110" y="0"/>
                </a:moveTo>
                <a:lnTo>
                  <a:pt x="0" y="59"/>
                </a:lnTo>
                <a:lnTo>
                  <a:pt x="73" y="59"/>
                </a:lnTo>
                <a:lnTo>
                  <a:pt x="73" y="1243"/>
                </a:lnTo>
                <a:lnTo>
                  <a:pt x="148" y="1243"/>
                </a:lnTo>
                <a:lnTo>
                  <a:pt x="148" y="59"/>
                </a:lnTo>
                <a:lnTo>
                  <a:pt x="221" y="59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03800" y="3083040"/>
            <a:ext cx="351000" cy="1973160"/>
          </a:xfrm>
          <a:custGeom>
            <a:avLst/>
            <a:gdLst/>
            <a:ahLst/>
            <a:rect l="l" t="t" r="r" b="b"/>
            <a:pathLst>
              <a:path w="221" h="1243">
                <a:moveTo>
                  <a:pt x="110" y="0"/>
                </a:moveTo>
                <a:lnTo>
                  <a:pt x="0" y="59"/>
                </a:lnTo>
                <a:lnTo>
                  <a:pt x="73" y="59"/>
                </a:lnTo>
                <a:lnTo>
                  <a:pt x="73" y="1243"/>
                </a:lnTo>
                <a:lnTo>
                  <a:pt x="148" y="1243"/>
                </a:lnTo>
                <a:lnTo>
                  <a:pt x="148" y="59"/>
                </a:lnTo>
                <a:lnTo>
                  <a:pt x="221" y="59"/>
                </a:lnTo>
                <a:lnTo>
                  <a:pt x="110" y="0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73880" y="3083040"/>
            <a:ext cx="350640" cy="1760400"/>
          </a:xfrm>
          <a:custGeom>
            <a:avLst/>
            <a:gdLst/>
            <a:ahLst/>
            <a:rect l="l" t="t" r="r" b="b"/>
            <a:pathLst>
              <a:path w="221" h="1109">
                <a:moveTo>
                  <a:pt x="110" y="0"/>
                </a:moveTo>
                <a:lnTo>
                  <a:pt x="0" y="59"/>
                </a:lnTo>
                <a:lnTo>
                  <a:pt x="73" y="59"/>
                </a:lnTo>
                <a:lnTo>
                  <a:pt x="73" y="1109"/>
                </a:lnTo>
                <a:lnTo>
                  <a:pt x="148" y="1109"/>
                </a:lnTo>
                <a:lnTo>
                  <a:pt x="148" y="59"/>
                </a:lnTo>
                <a:lnTo>
                  <a:pt x="221" y="59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73880" y="3083040"/>
            <a:ext cx="350640" cy="1760400"/>
          </a:xfrm>
          <a:custGeom>
            <a:avLst/>
            <a:gdLst/>
            <a:ahLst/>
            <a:rect l="l" t="t" r="r" b="b"/>
            <a:pathLst>
              <a:path w="221" h="1109">
                <a:moveTo>
                  <a:pt x="110" y="0"/>
                </a:moveTo>
                <a:lnTo>
                  <a:pt x="0" y="59"/>
                </a:lnTo>
                <a:lnTo>
                  <a:pt x="73" y="59"/>
                </a:lnTo>
                <a:lnTo>
                  <a:pt x="73" y="1109"/>
                </a:lnTo>
                <a:lnTo>
                  <a:pt x="148" y="1109"/>
                </a:lnTo>
                <a:lnTo>
                  <a:pt x="148" y="59"/>
                </a:lnTo>
                <a:lnTo>
                  <a:pt x="221" y="59"/>
                </a:lnTo>
                <a:lnTo>
                  <a:pt x="110" y="0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12680" y="2863800"/>
            <a:ext cx="239760" cy="574560"/>
          </a:xfrm>
          <a:custGeom>
            <a:avLst/>
            <a:gdLst/>
            <a:ahLst/>
            <a:rect l="l" t="t" r="r" b="b"/>
            <a:pathLst>
              <a:path w="151" h="362">
                <a:moveTo>
                  <a:pt x="113" y="34"/>
                </a:moveTo>
                <a:lnTo>
                  <a:pt x="151" y="34"/>
                </a:lnTo>
                <a:lnTo>
                  <a:pt x="76" y="0"/>
                </a:lnTo>
                <a:lnTo>
                  <a:pt x="0" y="34"/>
                </a:lnTo>
                <a:lnTo>
                  <a:pt x="38" y="34"/>
                </a:lnTo>
                <a:lnTo>
                  <a:pt x="38" y="327"/>
                </a:lnTo>
                <a:lnTo>
                  <a:pt x="0" y="327"/>
                </a:lnTo>
                <a:lnTo>
                  <a:pt x="76" y="362"/>
                </a:lnTo>
                <a:lnTo>
                  <a:pt x="151" y="327"/>
                </a:lnTo>
                <a:lnTo>
                  <a:pt x="113" y="327"/>
                </a:lnTo>
                <a:lnTo>
                  <a:pt x="113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12680" y="2863800"/>
            <a:ext cx="239760" cy="574560"/>
          </a:xfrm>
          <a:custGeom>
            <a:avLst/>
            <a:gdLst/>
            <a:ahLst/>
            <a:rect l="l" t="t" r="r" b="b"/>
            <a:pathLst>
              <a:path w="151" h="362">
                <a:moveTo>
                  <a:pt x="113" y="34"/>
                </a:moveTo>
                <a:lnTo>
                  <a:pt x="151" y="34"/>
                </a:lnTo>
                <a:lnTo>
                  <a:pt x="76" y="0"/>
                </a:lnTo>
                <a:lnTo>
                  <a:pt x="0" y="34"/>
                </a:lnTo>
                <a:lnTo>
                  <a:pt x="38" y="34"/>
                </a:lnTo>
                <a:lnTo>
                  <a:pt x="38" y="327"/>
                </a:lnTo>
                <a:lnTo>
                  <a:pt x="0" y="327"/>
                </a:lnTo>
                <a:lnTo>
                  <a:pt x="76" y="362"/>
                </a:lnTo>
                <a:lnTo>
                  <a:pt x="151" y="327"/>
                </a:lnTo>
                <a:lnTo>
                  <a:pt x="113" y="327"/>
                </a:lnTo>
                <a:lnTo>
                  <a:pt x="113" y="34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2720" y="4657680"/>
            <a:ext cx="2232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89120" y="4871880"/>
            <a:ext cx="259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68440" y="5106960"/>
            <a:ext cx="235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79480" y="5072040"/>
            <a:ext cx="921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76320" y="5072040"/>
            <a:ext cx="4395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PP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92360" y="5280120"/>
            <a:ext cx="68652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2277720" y="4636800"/>
            <a:ext cx="69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2283840" y="45756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2283840" y="45216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2280600" y="4471560"/>
            <a:ext cx="63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6200000">
            <a:off x="2295360" y="4424040"/>
            <a:ext cx="342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2283840" y="437868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2620440" y="4576320"/>
            <a:ext cx="69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2626560" y="45216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2626560" y="44676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23320" y="4411440"/>
            <a:ext cx="63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2638080" y="4365360"/>
            <a:ext cx="342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16200000">
            <a:off x="2626560" y="432468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05640" y="4890960"/>
            <a:ext cx="259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25920" y="5124600"/>
            <a:ext cx="235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19360" y="2770200"/>
            <a:ext cx="2585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dia Independent Handover Fun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1101240" y="32918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6200000">
            <a:off x="1101240" y="32378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1116000" y="319788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1099080" y="3158280"/>
            <a:ext cx="5544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1101240" y="310608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16200000">
            <a:off x="1116000" y="306612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1116000" y="304236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1101240" y="300456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5335200" y="4559040"/>
            <a:ext cx="69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5341320" y="449784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5341320" y="444384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5338080" y="4387680"/>
            <a:ext cx="63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5352840" y="4341240"/>
            <a:ext cx="342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5341320" y="430092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5704920" y="4535280"/>
            <a:ext cx="69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5711040" y="44802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5711040" y="44262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5707800" y="4370040"/>
            <a:ext cx="63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16200000">
            <a:off x="5722560" y="4322520"/>
            <a:ext cx="342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5711040" y="428184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06240" y="5418000"/>
            <a:ext cx="2340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10400" y="5591160"/>
            <a:ext cx="58608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33960" y="2355840"/>
            <a:ext cx="5842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69160" y="2584440"/>
            <a:ext cx="64692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93200" y="5880240"/>
            <a:ext cx="2736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02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0320" y="6053040"/>
            <a:ext cx="55404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69040" y="5357880"/>
            <a:ext cx="7534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57680" y="1566720"/>
            <a:ext cx="1090800" cy="1063800"/>
          </a:xfrm>
          <a:custGeom>
            <a:avLst/>
            <a:gdLst/>
            <a:ahLst/>
            <a:rect l="l" t="t" r="r" b="b"/>
            <a:pathLst>
              <a:path w="687" h="670">
                <a:moveTo>
                  <a:pt x="0" y="82"/>
                </a:moveTo>
                <a:lnTo>
                  <a:pt x="570" y="82"/>
                </a:lnTo>
                <a:lnTo>
                  <a:pt x="570" y="602"/>
                </a:lnTo>
                <a:lnTo>
                  <a:pt x="540" y="602"/>
                </a:lnTo>
                <a:lnTo>
                  <a:pt x="614" y="670"/>
                </a:lnTo>
                <a:lnTo>
                  <a:pt x="687" y="602"/>
                </a:lnTo>
                <a:lnTo>
                  <a:pt x="658" y="602"/>
                </a:lnTo>
                <a:lnTo>
                  <a:pt x="658" y="0"/>
                </a:lnTo>
                <a:lnTo>
                  <a:pt x="0" y="0"/>
                </a:lnTo>
                <a:lnTo>
                  <a:pt x="0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57680" y="1566720"/>
            <a:ext cx="1090800" cy="1063800"/>
          </a:xfrm>
          <a:custGeom>
            <a:avLst/>
            <a:gdLst/>
            <a:ahLst/>
            <a:rect l="l" t="t" r="r" b="b"/>
            <a:pathLst>
              <a:path w="687" h="670">
                <a:moveTo>
                  <a:pt x="0" y="82"/>
                </a:moveTo>
                <a:lnTo>
                  <a:pt x="570" y="82"/>
                </a:lnTo>
                <a:lnTo>
                  <a:pt x="570" y="602"/>
                </a:lnTo>
                <a:lnTo>
                  <a:pt x="540" y="602"/>
                </a:lnTo>
                <a:lnTo>
                  <a:pt x="614" y="670"/>
                </a:lnTo>
                <a:lnTo>
                  <a:pt x="687" y="602"/>
                </a:lnTo>
                <a:lnTo>
                  <a:pt x="658" y="602"/>
                </a:lnTo>
                <a:lnTo>
                  <a:pt x="658" y="0"/>
                </a:lnTo>
                <a:lnTo>
                  <a:pt x="0" y="0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56280" y="1353960"/>
            <a:ext cx="2687760" cy="702000"/>
          </a:xfrm>
          <a:custGeom>
            <a:avLst/>
            <a:gdLst/>
            <a:ahLst/>
            <a:rect l="l" t="t" r="r" b="b"/>
            <a:pathLst>
              <a:path w="6624" h="1874">
                <a:moveTo>
                  <a:pt x="6432" y="1874"/>
                </a:moveTo>
                <a:cubicBezTo>
                  <a:pt x="6538" y="1874"/>
                  <a:pt x="6624" y="1788"/>
                  <a:pt x="6624" y="1682"/>
                </a:cubicBezTo>
                <a:lnTo>
                  <a:pt x="6624" y="1682"/>
                </a:lnTo>
                <a:lnTo>
                  <a:pt x="6624" y="192"/>
                </a:lnTo>
                <a:cubicBezTo>
                  <a:pt x="6624" y="86"/>
                  <a:pt x="6538" y="0"/>
                  <a:pt x="6432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682"/>
                </a:lnTo>
                <a:cubicBezTo>
                  <a:pt x="0" y="1788"/>
                  <a:pt x="86" y="1874"/>
                  <a:pt x="192" y="1874"/>
                </a:cubicBezTo>
                <a:lnTo>
                  <a:pt x="192" y="1874"/>
                </a:lnTo>
                <a:lnTo>
                  <a:pt x="6432" y="187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956280" y="1353960"/>
            <a:ext cx="2687760" cy="702000"/>
          </a:xfrm>
          <a:custGeom>
            <a:avLst/>
            <a:gdLst/>
            <a:ahLst/>
            <a:rect l="l" t="t" r="r" b="b"/>
            <a:pathLst>
              <a:path w="6624" h="1874">
                <a:moveTo>
                  <a:pt x="6432" y="1874"/>
                </a:moveTo>
                <a:cubicBezTo>
                  <a:pt x="6538" y="1874"/>
                  <a:pt x="6624" y="1788"/>
                  <a:pt x="6624" y="1682"/>
                </a:cubicBezTo>
                <a:lnTo>
                  <a:pt x="6624" y="1682"/>
                </a:lnTo>
                <a:lnTo>
                  <a:pt x="6624" y="192"/>
                </a:lnTo>
                <a:cubicBezTo>
                  <a:pt x="6624" y="86"/>
                  <a:pt x="6538" y="0"/>
                  <a:pt x="6432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682"/>
                </a:lnTo>
                <a:cubicBezTo>
                  <a:pt x="0" y="1788"/>
                  <a:pt x="86" y="1874"/>
                  <a:pt x="192" y="1874"/>
                </a:cubicBezTo>
                <a:lnTo>
                  <a:pt x="192" y="1874"/>
                </a:lnTo>
                <a:lnTo>
                  <a:pt x="6432" y="1874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12440" y="1565280"/>
            <a:ext cx="2434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dia Independent Handover Network Ent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490880" y="1697040"/>
            <a:ext cx="388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29040" y="1697040"/>
            <a:ext cx="770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14720" y="169704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46760" y="1697040"/>
            <a:ext cx="70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718040" y="169704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755840" y="1697040"/>
            <a:ext cx="648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20640" y="1697040"/>
            <a:ext cx="11772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IH Server Contr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069120" y="1697040"/>
            <a:ext cx="70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74920" y="4086360"/>
            <a:ext cx="1568520" cy="1492200"/>
          </a:xfrm>
          <a:custGeom>
            <a:avLst/>
            <a:gdLst/>
            <a:ahLst/>
            <a:rect l="l" t="t" r="r" b="b"/>
            <a:pathLst>
              <a:path w="988" h="940">
                <a:moveTo>
                  <a:pt x="988" y="872"/>
                </a:moveTo>
                <a:lnTo>
                  <a:pt x="98" y="872"/>
                </a:lnTo>
                <a:lnTo>
                  <a:pt x="98" y="56"/>
                </a:lnTo>
                <a:lnTo>
                  <a:pt x="123" y="56"/>
                </a:lnTo>
                <a:lnTo>
                  <a:pt x="62" y="0"/>
                </a:lnTo>
                <a:lnTo>
                  <a:pt x="0" y="56"/>
                </a:lnTo>
                <a:lnTo>
                  <a:pt x="25" y="56"/>
                </a:lnTo>
                <a:lnTo>
                  <a:pt x="25" y="940"/>
                </a:lnTo>
                <a:lnTo>
                  <a:pt x="988" y="940"/>
                </a:lnTo>
                <a:lnTo>
                  <a:pt x="988" y="8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74920" y="4086360"/>
            <a:ext cx="1568520" cy="1492200"/>
          </a:xfrm>
          <a:custGeom>
            <a:avLst/>
            <a:gdLst/>
            <a:ahLst/>
            <a:rect l="l" t="t" r="r" b="b"/>
            <a:pathLst>
              <a:path w="988" h="940">
                <a:moveTo>
                  <a:pt x="988" y="872"/>
                </a:moveTo>
                <a:lnTo>
                  <a:pt x="98" y="872"/>
                </a:lnTo>
                <a:lnTo>
                  <a:pt x="98" y="56"/>
                </a:lnTo>
                <a:lnTo>
                  <a:pt x="123" y="56"/>
                </a:lnTo>
                <a:lnTo>
                  <a:pt x="62" y="0"/>
                </a:lnTo>
                <a:lnTo>
                  <a:pt x="0" y="56"/>
                </a:lnTo>
                <a:lnTo>
                  <a:pt x="25" y="56"/>
                </a:lnTo>
                <a:lnTo>
                  <a:pt x="25" y="940"/>
                </a:lnTo>
                <a:lnTo>
                  <a:pt x="988" y="940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44720" y="3571920"/>
            <a:ext cx="180216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a Independent Handov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19000" y="3727440"/>
            <a:ext cx="53712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91240" y="1500120"/>
            <a:ext cx="1265040" cy="263520"/>
          </a:xfrm>
          <a:custGeom>
            <a:avLst/>
            <a:gdLst/>
            <a:ahLst/>
            <a:rect l="l" t="t" r="r" b="b"/>
            <a:pathLst>
              <a:path w="797" h="166">
                <a:moveTo>
                  <a:pt x="0" y="125"/>
                </a:moveTo>
                <a:lnTo>
                  <a:pt x="752" y="125"/>
                </a:lnTo>
                <a:lnTo>
                  <a:pt x="752" y="166"/>
                </a:lnTo>
                <a:lnTo>
                  <a:pt x="797" y="83"/>
                </a:lnTo>
                <a:lnTo>
                  <a:pt x="752" y="0"/>
                </a:lnTo>
                <a:lnTo>
                  <a:pt x="752" y="42"/>
                </a:lnTo>
                <a:lnTo>
                  <a:pt x="0" y="42"/>
                </a:lnTo>
                <a:lnTo>
                  <a:pt x="0" y="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10320" y="1500120"/>
            <a:ext cx="1245960" cy="263520"/>
          </a:xfrm>
          <a:custGeom>
            <a:avLst/>
            <a:gdLst/>
            <a:ahLst/>
            <a:rect l="l" t="t" r="r" b="b"/>
            <a:pathLst>
              <a:path w="785" h="166">
                <a:moveTo>
                  <a:pt x="0" y="125"/>
                </a:moveTo>
                <a:lnTo>
                  <a:pt x="740" y="125"/>
                </a:lnTo>
                <a:lnTo>
                  <a:pt x="740" y="166"/>
                </a:lnTo>
                <a:lnTo>
                  <a:pt x="785" y="83"/>
                </a:lnTo>
                <a:lnTo>
                  <a:pt x="740" y="0"/>
                </a:lnTo>
                <a:lnTo>
                  <a:pt x="740" y="42"/>
                </a:lnTo>
                <a:lnTo>
                  <a:pt x="0" y="42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03840" y="1568520"/>
            <a:ext cx="4680" cy="127080"/>
          </a:xfrm>
          <a:prstGeom prst="rect">
            <a:avLst/>
          </a:prstGeom>
          <a:noFill/>
          <a:ln cap="rnd"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2600" y="1332000"/>
            <a:ext cx="9720" cy="5138640"/>
          </a:xfrm>
          <a:custGeom>
            <a:avLst/>
            <a:gdLst/>
            <a:ahLst/>
            <a:rect l="l" t="t" r="r" b="b"/>
            <a:pathLst>
              <a:path w="26" h="13722">
                <a:moveTo>
                  <a:pt x="26" y="13"/>
                </a:moveTo>
                <a:lnTo>
                  <a:pt x="26" y="192"/>
                </a:lnTo>
                <a:cubicBezTo>
                  <a:pt x="26" y="200"/>
                  <a:pt x="20" y="205"/>
                  <a:pt x="13" y="205"/>
                </a:cubicBezTo>
                <a:cubicBezTo>
                  <a:pt x="6" y="205"/>
                  <a:pt x="0" y="200"/>
                  <a:pt x="0" y="192"/>
                </a:cubicBezTo>
                <a:lnTo>
                  <a:pt x="0" y="13"/>
                </a:lnTo>
                <a:cubicBezTo>
                  <a:pt x="0" y="6"/>
                  <a:pt x="6" y="0"/>
                  <a:pt x="13" y="0"/>
                </a:cubicBezTo>
                <a:cubicBezTo>
                  <a:pt x="20" y="0"/>
                  <a:pt x="26" y="6"/>
                  <a:pt x="26" y="13"/>
                </a:cubicBezTo>
                <a:close/>
                <a:moveTo>
                  <a:pt x="26" y="320"/>
                </a:moveTo>
                <a:lnTo>
                  <a:pt x="26" y="500"/>
                </a:lnTo>
                <a:cubicBezTo>
                  <a:pt x="26" y="507"/>
                  <a:pt x="20" y="512"/>
                  <a:pt x="13" y="512"/>
                </a:cubicBezTo>
                <a:cubicBezTo>
                  <a:pt x="6" y="512"/>
                  <a:pt x="0" y="507"/>
                  <a:pt x="0" y="500"/>
                </a:cubicBezTo>
                <a:lnTo>
                  <a:pt x="0" y="320"/>
                </a:lnTo>
                <a:cubicBezTo>
                  <a:pt x="0" y="313"/>
                  <a:pt x="6" y="308"/>
                  <a:pt x="13" y="308"/>
                </a:cubicBezTo>
                <a:cubicBezTo>
                  <a:pt x="20" y="308"/>
                  <a:pt x="26" y="313"/>
                  <a:pt x="26" y="320"/>
                </a:cubicBezTo>
                <a:close/>
                <a:moveTo>
                  <a:pt x="26" y="628"/>
                </a:moveTo>
                <a:lnTo>
                  <a:pt x="26" y="807"/>
                </a:lnTo>
                <a:cubicBezTo>
                  <a:pt x="26" y="814"/>
                  <a:pt x="20" y="820"/>
                  <a:pt x="13" y="820"/>
                </a:cubicBezTo>
                <a:cubicBezTo>
                  <a:pt x="6" y="820"/>
                  <a:pt x="0" y="814"/>
                  <a:pt x="0" y="807"/>
                </a:cubicBezTo>
                <a:lnTo>
                  <a:pt x="0" y="628"/>
                </a:lnTo>
                <a:cubicBezTo>
                  <a:pt x="0" y="621"/>
                  <a:pt x="6" y="615"/>
                  <a:pt x="13" y="615"/>
                </a:cubicBezTo>
                <a:cubicBezTo>
                  <a:pt x="20" y="615"/>
                  <a:pt x="26" y="621"/>
                  <a:pt x="26" y="628"/>
                </a:cubicBezTo>
                <a:close/>
                <a:moveTo>
                  <a:pt x="26" y="935"/>
                </a:moveTo>
                <a:lnTo>
                  <a:pt x="26" y="1114"/>
                </a:lnTo>
                <a:cubicBezTo>
                  <a:pt x="26" y="1121"/>
                  <a:pt x="20" y="1127"/>
                  <a:pt x="13" y="1127"/>
                </a:cubicBezTo>
                <a:cubicBezTo>
                  <a:pt x="6" y="1127"/>
                  <a:pt x="0" y="1121"/>
                  <a:pt x="0" y="1114"/>
                </a:cubicBezTo>
                <a:lnTo>
                  <a:pt x="0" y="935"/>
                </a:lnTo>
                <a:cubicBezTo>
                  <a:pt x="0" y="928"/>
                  <a:pt x="6" y="922"/>
                  <a:pt x="13" y="922"/>
                </a:cubicBezTo>
                <a:cubicBezTo>
                  <a:pt x="20" y="922"/>
                  <a:pt x="26" y="928"/>
                  <a:pt x="26" y="935"/>
                </a:cubicBezTo>
                <a:close/>
                <a:moveTo>
                  <a:pt x="26" y="1242"/>
                </a:moveTo>
                <a:lnTo>
                  <a:pt x="26" y="1421"/>
                </a:lnTo>
                <a:cubicBezTo>
                  <a:pt x="26" y="1428"/>
                  <a:pt x="20" y="1434"/>
                  <a:pt x="13" y="1434"/>
                </a:cubicBezTo>
                <a:cubicBezTo>
                  <a:pt x="6" y="1434"/>
                  <a:pt x="0" y="1428"/>
                  <a:pt x="0" y="1421"/>
                </a:cubicBezTo>
                <a:lnTo>
                  <a:pt x="0" y="1242"/>
                </a:lnTo>
                <a:cubicBezTo>
                  <a:pt x="0" y="1235"/>
                  <a:pt x="6" y="1229"/>
                  <a:pt x="13" y="1229"/>
                </a:cubicBezTo>
                <a:cubicBezTo>
                  <a:pt x="20" y="1229"/>
                  <a:pt x="26" y="1235"/>
                  <a:pt x="26" y="1242"/>
                </a:cubicBezTo>
                <a:close/>
                <a:moveTo>
                  <a:pt x="26" y="1549"/>
                </a:moveTo>
                <a:lnTo>
                  <a:pt x="26" y="1728"/>
                </a:lnTo>
                <a:cubicBezTo>
                  <a:pt x="26" y="1736"/>
                  <a:pt x="20" y="1741"/>
                  <a:pt x="13" y="1741"/>
                </a:cubicBezTo>
                <a:cubicBezTo>
                  <a:pt x="6" y="1741"/>
                  <a:pt x="0" y="1736"/>
                  <a:pt x="0" y="1728"/>
                </a:cubicBezTo>
                <a:lnTo>
                  <a:pt x="0" y="1549"/>
                </a:lnTo>
                <a:cubicBezTo>
                  <a:pt x="0" y="1542"/>
                  <a:pt x="6" y="1536"/>
                  <a:pt x="13" y="1536"/>
                </a:cubicBezTo>
                <a:cubicBezTo>
                  <a:pt x="20" y="1536"/>
                  <a:pt x="26" y="1542"/>
                  <a:pt x="26" y="1549"/>
                </a:cubicBezTo>
                <a:close/>
                <a:moveTo>
                  <a:pt x="26" y="1856"/>
                </a:moveTo>
                <a:lnTo>
                  <a:pt x="26" y="2036"/>
                </a:lnTo>
                <a:cubicBezTo>
                  <a:pt x="26" y="2043"/>
                  <a:pt x="20" y="2048"/>
                  <a:pt x="13" y="2048"/>
                </a:cubicBezTo>
                <a:cubicBezTo>
                  <a:pt x="6" y="2048"/>
                  <a:pt x="0" y="2043"/>
                  <a:pt x="0" y="2036"/>
                </a:cubicBezTo>
                <a:lnTo>
                  <a:pt x="0" y="1856"/>
                </a:lnTo>
                <a:cubicBezTo>
                  <a:pt x="0" y="1849"/>
                  <a:pt x="6" y="1844"/>
                  <a:pt x="13" y="1844"/>
                </a:cubicBezTo>
                <a:cubicBezTo>
                  <a:pt x="20" y="1844"/>
                  <a:pt x="26" y="1849"/>
                  <a:pt x="26" y="1856"/>
                </a:cubicBezTo>
                <a:close/>
                <a:moveTo>
                  <a:pt x="26" y="2164"/>
                </a:moveTo>
                <a:lnTo>
                  <a:pt x="26" y="2343"/>
                </a:lnTo>
                <a:cubicBezTo>
                  <a:pt x="26" y="2350"/>
                  <a:pt x="20" y="2356"/>
                  <a:pt x="13" y="2356"/>
                </a:cubicBezTo>
                <a:cubicBezTo>
                  <a:pt x="6" y="2356"/>
                  <a:pt x="0" y="2350"/>
                  <a:pt x="0" y="2343"/>
                </a:cubicBezTo>
                <a:lnTo>
                  <a:pt x="0" y="2164"/>
                </a:lnTo>
                <a:cubicBezTo>
                  <a:pt x="0" y="2157"/>
                  <a:pt x="6" y="2151"/>
                  <a:pt x="13" y="2151"/>
                </a:cubicBezTo>
                <a:cubicBezTo>
                  <a:pt x="20" y="2151"/>
                  <a:pt x="26" y="2157"/>
                  <a:pt x="26" y="2164"/>
                </a:cubicBezTo>
                <a:close/>
                <a:moveTo>
                  <a:pt x="26" y="2471"/>
                </a:moveTo>
                <a:lnTo>
                  <a:pt x="26" y="2650"/>
                </a:lnTo>
                <a:cubicBezTo>
                  <a:pt x="26" y="2657"/>
                  <a:pt x="20" y="2663"/>
                  <a:pt x="13" y="2663"/>
                </a:cubicBezTo>
                <a:cubicBezTo>
                  <a:pt x="6" y="2663"/>
                  <a:pt x="0" y="2657"/>
                  <a:pt x="0" y="2650"/>
                </a:cubicBezTo>
                <a:lnTo>
                  <a:pt x="0" y="2471"/>
                </a:lnTo>
                <a:cubicBezTo>
                  <a:pt x="0" y="2464"/>
                  <a:pt x="6" y="2458"/>
                  <a:pt x="13" y="2458"/>
                </a:cubicBezTo>
                <a:cubicBezTo>
                  <a:pt x="20" y="2458"/>
                  <a:pt x="26" y="2464"/>
                  <a:pt x="26" y="2471"/>
                </a:cubicBezTo>
                <a:close/>
                <a:moveTo>
                  <a:pt x="26" y="2778"/>
                </a:moveTo>
                <a:lnTo>
                  <a:pt x="26" y="2957"/>
                </a:lnTo>
                <a:cubicBezTo>
                  <a:pt x="26" y="2964"/>
                  <a:pt x="20" y="2970"/>
                  <a:pt x="13" y="2970"/>
                </a:cubicBezTo>
                <a:cubicBezTo>
                  <a:pt x="6" y="2970"/>
                  <a:pt x="0" y="2964"/>
                  <a:pt x="0" y="2957"/>
                </a:cubicBezTo>
                <a:lnTo>
                  <a:pt x="0" y="2778"/>
                </a:lnTo>
                <a:cubicBezTo>
                  <a:pt x="0" y="2771"/>
                  <a:pt x="6" y="2765"/>
                  <a:pt x="13" y="2765"/>
                </a:cubicBezTo>
                <a:cubicBezTo>
                  <a:pt x="20" y="2765"/>
                  <a:pt x="26" y="2771"/>
                  <a:pt x="26" y="2778"/>
                </a:cubicBezTo>
                <a:close/>
                <a:moveTo>
                  <a:pt x="26" y="3085"/>
                </a:moveTo>
                <a:lnTo>
                  <a:pt x="26" y="3264"/>
                </a:lnTo>
                <a:cubicBezTo>
                  <a:pt x="26" y="3272"/>
                  <a:pt x="20" y="3277"/>
                  <a:pt x="13" y="3277"/>
                </a:cubicBezTo>
                <a:cubicBezTo>
                  <a:pt x="6" y="3277"/>
                  <a:pt x="0" y="3272"/>
                  <a:pt x="0" y="3264"/>
                </a:cubicBezTo>
                <a:lnTo>
                  <a:pt x="0" y="3085"/>
                </a:lnTo>
                <a:cubicBezTo>
                  <a:pt x="0" y="3078"/>
                  <a:pt x="6" y="3072"/>
                  <a:pt x="13" y="3072"/>
                </a:cubicBezTo>
                <a:cubicBezTo>
                  <a:pt x="20" y="3072"/>
                  <a:pt x="26" y="3078"/>
                  <a:pt x="26" y="3085"/>
                </a:cubicBezTo>
                <a:close/>
                <a:moveTo>
                  <a:pt x="26" y="3392"/>
                </a:moveTo>
                <a:lnTo>
                  <a:pt x="26" y="3572"/>
                </a:lnTo>
                <a:cubicBezTo>
                  <a:pt x="26" y="3579"/>
                  <a:pt x="20" y="3584"/>
                  <a:pt x="13" y="3584"/>
                </a:cubicBezTo>
                <a:cubicBezTo>
                  <a:pt x="6" y="3584"/>
                  <a:pt x="0" y="3579"/>
                  <a:pt x="0" y="3572"/>
                </a:cubicBezTo>
                <a:lnTo>
                  <a:pt x="0" y="3392"/>
                </a:lnTo>
                <a:cubicBezTo>
                  <a:pt x="0" y="3385"/>
                  <a:pt x="6" y="3380"/>
                  <a:pt x="13" y="3380"/>
                </a:cubicBezTo>
                <a:cubicBezTo>
                  <a:pt x="20" y="3380"/>
                  <a:pt x="26" y="3385"/>
                  <a:pt x="26" y="3392"/>
                </a:cubicBezTo>
                <a:close/>
                <a:moveTo>
                  <a:pt x="26" y="3700"/>
                </a:moveTo>
                <a:lnTo>
                  <a:pt x="26" y="3879"/>
                </a:lnTo>
                <a:cubicBezTo>
                  <a:pt x="26" y="3886"/>
                  <a:pt x="20" y="3892"/>
                  <a:pt x="13" y="3892"/>
                </a:cubicBezTo>
                <a:cubicBezTo>
                  <a:pt x="6" y="3892"/>
                  <a:pt x="0" y="3886"/>
                  <a:pt x="0" y="3879"/>
                </a:cubicBezTo>
                <a:lnTo>
                  <a:pt x="0" y="3700"/>
                </a:lnTo>
                <a:cubicBezTo>
                  <a:pt x="0" y="3693"/>
                  <a:pt x="6" y="3687"/>
                  <a:pt x="13" y="3687"/>
                </a:cubicBezTo>
                <a:cubicBezTo>
                  <a:pt x="20" y="3687"/>
                  <a:pt x="26" y="3693"/>
                  <a:pt x="26" y="3700"/>
                </a:cubicBezTo>
                <a:close/>
                <a:moveTo>
                  <a:pt x="26" y="4007"/>
                </a:moveTo>
                <a:lnTo>
                  <a:pt x="26" y="4186"/>
                </a:lnTo>
                <a:cubicBezTo>
                  <a:pt x="26" y="4193"/>
                  <a:pt x="20" y="4199"/>
                  <a:pt x="13" y="4199"/>
                </a:cubicBezTo>
                <a:cubicBezTo>
                  <a:pt x="6" y="4199"/>
                  <a:pt x="0" y="4193"/>
                  <a:pt x="0" y="4186"/>
                </a:cubicBezTo>
                <a:lnTo>
                  <a:pt x="0" y="4007"/>
                </a:lnTo>
                <a:cubicBezTo>
                  <a:pt x="0" y="4000"/>
                  <a:pt x="6" y="3994"/>
                  <a:pt x="13" y="3994"/>
                </a:cubicBezTo>
                <a:cubicBezTo>
                  <a:pt x="20" y="3994"/>
                  <a:pt x="26" y="4000"/>
                  <a:pt x="26" y="4007"/>
                </a:cubicBezTo>
                <a:close/>
                <a:moveTo>
                  <a:pt x="26" y="4314"/>
                </a:moveTo>
                <a:lnTo>
                  <a:pt x="26" y="4493"/>
                </a:lnTo>
                <a:cubicBezTo>
                  <a:pt x="26" y="4500"/>
                  <a:pt x="20" y="4506"/>
                  <a:pt x="13" y="4506"/>
                </a:cubicBezTo>
                <a:cubicBezTo>
                  <a:pt x="6" y="4506"/>
                  <a:pt x="0" y="4500"/>
                  <a:pt x="0" y="4493"/>
                </a:cubicBezTo>
                <a:lnTo>
                  <a:pt x="0" y="4314"/>
                </a:lnTo>
                <a:cubicBezTo>
                  <a:pt x="0" y="4307"/>
                  <a:pt x="6" y="4301"/>
                  <a:pt x="13" y="4301"/>
                </a:cubicBezTo>
                <a:cubicBezTo>
                  <a:pt x="20" y="4301"/>
                  <a:pt x="26" y="4307"/>
                  <a:pt x="26" y="4314"/>
                </a:cubicBezTo>
                <a:close/>
                <a:moveTo>
                  <a:pt x="26" y="4621"/>
                </a:moveTo>
                <a:lnTo>
                  <a:pt x="26" y="4800"/>
                </a:lnTo>
                <a:cubicBezTo>
                  <a:pt x="26" y="4808"/>
                  <a:pt x="20" y="4813"/>
                  <a:pt x="13" y="4813"/>
                </a:cubicBezTo>
                <a:cubicBezTo>
                  <a:pt x="6" y="4813"/>
                  <a:pt x="0" y="4808"/>
                  <a:pt x="0" y="4800"/>
                </a:cubicBezTo>
                <a:lnTo>
                  <a:pt x="0" y="4621"/>
                </a:lnTo>
                <a:cubicBezTo>
                  <a:pt x="0" y="4614"/>
                  <a:pt x="6" y="4608"/>
                  <a:pt x="13" y="4608"/>
                </a:cubicBezTo>
                <a:cubicBezTo>
                  <a:pt x="20" y="4608"/>
                  <a:pt x="26" y="4614"/>
                  <a:pt x="26" y="4621"/>
                </a:cubicBezTo>
                <a:close/>
                <a:moveTo>
                  <a:pt x="26" y="4928"/>
                </a:moveTo>
                <a:lnTo>
                  <a:pt x="26" y="5108"/>
                </a:lnTo>
                <a:cubicBezTo>
                  <a:pt x="26" y="5115"/>
                  <a:pt x="20" y="5120"/>
                  <a:pt x="13" y="5120"/>
                </a:cubicBezTo>
                <a:cubicBezTo>
                  <a:pt x="6" y="5120"/>
                  <a:pt x="0" y="5115"/>
                  <a:pt x="0" y="5108"/>
                </a:cubicBezTo>
                <a:lnTo>
                  <a:pt x="0" y="4928"/>
                </a:lnTo>
                <a:cubicBezTo>
                  <a:pt x="0" y="4921"/>
                  <a:pt x="6" y="4916"/>
                  <a:pt x="13" y="4916"/>
                </a:cubicBezTo>
                <a:cubicBezTo>
                  <a:pt x="20" y="4916"/>
                  <a:pt x="26" y="4921"/>
                  <a:pt x="26" y="4928"/>
                </a:cubicBezTo>
                <a:close/>
                <a:moveTo>
                  <a:pt x="26" y="5236"/>
                </a:moveTo>
                <a:lnTo>
                  <a:pt x="26" y="5415"/>
                </a:lnTo>
                <a:cubicBezTo>
                  <a:pt x="26" y="5422"/>
                  <a:pt x="20" y="5428"/>
                  <a:pt x="13" y="5428"/>
                </a:cubicBezTo>
                <a:cubicBezTo>
                  <a:pt x="6" y="5428"/>
                  <a:pt x="0" y="5422"/>
                  <a:pt x="0" y="5415"/>
                </a:cubicBezTo>
                <a:lnTo>
                  <a:pt x="0" y="5236"/>
                </a:lnTo>
                <a:cubicBezTo>
                  <a:pt x="0" y="5229"/>
                  <a:pt x="6" y="5223"/>
                  <a:pt x="13" y="5223"/>
                </a:cubicBezTo>
                <a:cubicBezTo>
                  <a:pt x="20" y="5223"/>
                  <a:pt x="26" y="5229"/>
                  <a:pt x="26" y="5236"/>
                </a:cubicBezTo>
                <a:close/>
                <a:moveTo>
                  <a:pt x="26" y="5543"/>
                </a:moveTo>
                <a:lnTo>
                  <a:pt x="26" y="5722"/>
                </a:lnTo>
                <a:cubicBezTo>
                  <a:pt x="26" y="5729"/>
                  <a:pt x="20" y="5735"/>
                  <a:pt x="13" y="5735"/>
                </a:cubicBezTo>
                <a:cubicBezTo>
                  <a:pt x="6" y="5735"/>
                  <a:pt x="0" y="5729"/>
                  <a:pt x="0" y="5722"/>
                </a:cubicBezTo>
                <a:lnTo>
                  <a:pt x="0" y="5543"/>
                </a:lnTo>
                <a:cubicBezTo>
                  <a:pt x="0" y="5536"/>
                  <a:pt x="6" y="5530"/>
                  <a:pt x="13" y="5530"/>
                </a:cubicBezTo>
                <a:cubicBezTo>
                  <a:pt x="20" y="5530"/>
                  <a:pt x="26" y="5536"/>
                  <a:pt x="26" y="5543"/>
                </a:cubicBezTo>
                <a:close/>
                <a:moveTo>
                  <a:pt x="26" y="5850"/>
                </a:moveTo>
                <a:lnTo>
                  <a:pt x="26" y="6029"/>
                </a:lnTo>
                <a:cubicBezTo>
                  <a:pt x="26" y="6036"/>
                  <a:pt x="20" y="6042"/>
                  <a:pt x="13" y="6042"/>
                </a:cubicBezTo>
                <a:cubicBezTo>
                  <a:pt x="6" y="6042"/>
                  <a:pt x="0" y="6036"/>
                  <a:pt x="0" y="6029"/>
                </a:cubicBezTo>
                <a:lnTo>
                  <a:pt x="0" y="5850"/>
                </a:lnTo>
                <a:cubicBezTo>
                  <a:pt x="0" y="5843"/>
                  <a:pt x="6" y="5837"/>
                  <a:pt x="13" y="5837"/>
                </a:cubicBezTo>
                <a:cubicBezTo>
                  <a:pt x="20" y="5837"/>
                  <a:pt x="26" y="5843"/>
                  <a:pt x="26" y="5850"/>
                </a:cubicBezTo>
                <a:close/>
                <a:moveTo>
                  <a:pt x="26" y="6157"/>
                </a:moveTo>
                <a:lnTo>
                  <a:pt x="26" y="6336"/>
                </a:lnTo>
                <a:cubicBezTo>
                  <a:pt x="26" y="6344"/>
                  <a:pt x="20" y="6349"/>
                  <a:pt x="13" y="6349"/>
                </a:cubicBezTo>
                <a:cubicBezTo>
                  <a:pt x="6" y="6349"/>
                  <a:pt x="0" y="6344"/>
                  <a:pt x="0" y="6336"/>
                </a:cubicBezTo>
                <a:lnTo>
                  <a:pt x="0" y="6157"/>
                </a:lnTo>
                <a:cubicBezTo>
                  <a:pt x="0" y="6150"/>
                  <a:pt x="6" y="6144"/>
                  <a:pt x="13" y="6144"/>
                </a:cubicBezTo>
                <a:cubicBezTo>
                  <a:pt x="20" y="6144"/>
                  <a:pt x="26" y="6150"/>
                  <a:pt x="26" y="6157"/>
                </a:cubicBezTo>
                <a:close/>
                <a:moveTo>
                  <a:pt x="26" y="6464"/>
                </a:moveTo>
                <a:lnTo>
                  <a:pt x="26" y="6644"/>
                </a:lnTo>
                <a:cubicBezTo>
                  <a:pt x="26" y="6651"/>
                  <a:pt x="20" y="6656"/>
                  <a:pt x="13" y="6656"/>
                </a:cubicBezTo>
                <a:cubicBezTo>
                  <a:pt x="6" y="6656"/>
                  <a:pt x="0" y="6651"/>
                  <a:pt x="0" y="6644"/>
                </a:cubicBezTo>
                <a:lnTo>
                  <a:pt x="0" y="6464"/>
                </a:lnTo>
                <a:cubicBezTo>
                  <a:pt x="0" y="6457"/>
                  <a:pt x="6" y="6452"/>
                  <a:pt x="13" y="6452"/>
                </a:cubicBezTo>
                <a:cubicBezTo>
                  <a:pt x="20" y="6452"/>
                  <a:pt x="26" y="6457"/>
                  <a:pt x="26" y="6464"/>
                </a:cubicBezTo>
                <a:close/>
                <a:moveTo>
                  <a:pt x="26" y="6772"/>
                </a:moveTo>
                <a:lnTo>
                  <a:pt x="26" y="6951"/>
                </a:lnTo>
                <a:cubicBezTo>
                  <a:pt x="26" y="6958"/>
                  <a:pt x="20" y="6964"/>
                  <a:pt x="13" y="6964"/>
                </a:cubicBezTo>
                <a:cubicBezTo>
                  <a:pt x="6" y="6964"/>
                  <a:pt x="0" y="6958"/>
                  <a:pt x="0" y="6951"/>
                </a:cubicBezTo>
                <a:lnTo>
                  <a:pt x="0" y="6772"/>
                </a:lnTo>
                <a:cubicBezTo>
                  <a:pt x="0" y="6765"/>
                  <a:pt x="6" y="6759"/>
                  <a:pt x="13" y="6759"/>
                </a:cubicBezTo>
                <a:cubicBezTo>
                  <a:pt x="20" y="6759"/>
                  <a:pt x="26" y="6765"/>
                  <a:pt x="26" y="6772"/>
                </a:cubicBezTo>
                <a:close/>
                <a:moveTo>
                  <a:pt x="26" y="7079"/>
                </a:moveTo>
                <a:lnTo>
                  <a:pt x="26" y="7258"/>
                </a:lnTo>
                <a:cubicBezTo>
                  <a:pt x="26" y="7265"/>
                  <a:pt x="20" y="7271"/>
                  <a:pt x="13" y="7271"/>
                </a:cubicBezTo>
                <a:cubicBezTo>
                  <a:pt x="6" y="7271"/>
                  <a:pt x="0" y="7265"/>
                  <a:pt x="0" y="7258"/>
                </a:cubicBezTo>
                <a:lnTo>
                  <a:pt x="0" y="7079"/>
                </a:lnTo>
                <a:cubicBezTo>
                  <a:pt x="0" y="7072"/>
                  <a:pt x="6" y="7066"/>
                  <a:pt x="13" y="7066"/>
                </a:cubicBezTo>
                <a:cubicBezTo>
                  <a:pt x="20" y="7066"/>
                  <a:pt x="26" y="7072"/>
                  <a:pt x="26" y="7079"/>
                </a:cubicBezTo>
                <a:close/>
                <a:moveTo>
                  <a:pt x="26" y="7386"/>
                </a:moveTo>
                <a:lnTo>
                  <a:pt x="26" y="7565"/>
                </a:lnTo>
                <a:cubicBezTo>
                  <a:pt x="26" y="7572"/>
                  <a:pt x="20" y="7578"/>
                  <a:pt x="13" y="7578"/>
                </a:cubicBezTo>
                <a:cubicBezTo>
                  <a:pt x="6" y="7578"/>
                  <a:pt x="0" y="7572"/>
                  <a:pt x="0" y="7565"/>
                </a:cubicBezTo>
                <a:lnTo>
                  <a:pt x="0" y="7386"/>
                </a:lnTo>
                <a:cubicBezTo>
                  <a:pt x="0" y="7379"/>
                  <a:pt x="6" y="7373"/>
                  <a:pt x="13" y="7373"/>
                </a:cubicBezTo>
                <a:cubicBezTo>
                  <a:pt x="20" y="7373"/>
                  <a:pt x="26" y="7379"/>
                  <a:pt x="26" y="7386"/>
                </a:cubicBezTo>
                <a:close/>
                <a:moveTo>
                  <a:pt x="26" y="7693"/>
                </a:moveTo>
                <a:lnTo>
                  <a:pt x="26" y="7872"/>
                </a:lnTo>
                <a:cubicBezTo>
                  <a:pt x="26" y="7880"/>
                  <a:pt x="20" y="7885"/>
                  <a:pt x="13" y="7885"/>
                </a:cubicBezTo>
                <a:cubicBezTo>
                  <a:pt x="6" y="7885"/>
                  <a:pt x="0" y="7880"/>
                  <a:pt x="0" y="7872"/>
                </a:cubicBezTo>
                <a:lnTo>
                  <a:pt x="0" y="7693"/>
                </a:lnTo>
                <a:cubicBezTo>
                  <a:pt x="0" y="7686"/>
                  <a:pt x="6" y="7680"/>
                  <a:pt x="13" y="7680"/>
                </a:cubicBezTo>
                <a:cubicBezTo>
                  <a:pt x="20" y="7680"/>
                  <a:pt x="26" y="7686"/>
                  <a:pt x="26" y="7693"/>
                </a:cubicBezTo>
                <a:close/>
                <a:moveTo>
                  <a:pt x="26" y="8000"/>
                </a:moveTo>
                <a:lnTo>
                  <a:pt x="26" y="8180"/>
                </a:lnTo>
                <a:cubicBezTo>
                  <a:pt x="26" y="8187"/>
                  <a:pt x="20" y="8192"/>
                  <a:pt x="13" y="8192"/>
                </a:cubicBezTo>
                <a:cubicBezTo>
                  <a:pt x="6" y="8192"/>
                  <a:pt x="0" y="8187"/>
                  <a:pt x="0" y="8180"/>
                </a:cubicBezTo>
                <a:lnTo>
                  <a:pt x="0" y="8000"/>
                </a:lnTo>
                <a:cubicBezTo>
                  <a:pt x="0" y="7993"/>
                  <a:pt x="6" y="7988"/>
                  <a:pt x="13" y="7988"/>
                </a:cubicBezTo>
                <a:cubicBezTo>
                  <a:pt x="20" y="7988"/>
                  <a:pt x="26" y="7993"/>
                  <a:pt x="26" y="8000"/>
                </a:cubicBezTo>
                <a:close/>
                <a:moveTo>
                  <a:pt x="26" y="8308"/>
                </a:moveTo>
                <a:lnTo>
                  <a:pt x="26" y="8487"/>
                </a:lnTo>
                <a:cubicBezTo>
                  <a:pt x="26" y="8494"/>
                  <a:pt x="20" y="8500"/>
                  <a:pt x="13" y="8500"/>
                </a:cubicBezTo>
                <a:cubicBezTo>
                  <a:pt x="6" y="8500"/>
                  <a:pt x="0" y="8494"/>
                  <a:pt x="0" y="8487"/>
                </a:cubicBezTo>
                <a:lnTo>
                  <a:pt x="0" y="8308"/>
                </a:lnTo>
                <a:cubicBezTo>
                  <a:pt x="0" y="8301"/>
                  <a:pt x="6" y="8295"/>
                  <a:pt x="13" y="8295"/>
                </a:cubicBezTo>
                <a:cubicBezTo>
                  <a:pt x="20" y="8295"/>
                  <a:pt x="26" y="8301"/>
                  <a:pt x="26" y="8308"/>
                </a:cubicBezTo>
                <a:close/>
                <a:moveTo>
                  <a:pt x="26" y="8615"/>
                </a:moveTo>
                <a:lnTo>
                  <a:pt x="26" y="8794"/>
                </a:lnTo>
                <a:cubicBezTo>
                  <a:pt x="26" y="8801"/>
                  <a:pt x="20" y="8807"/>
                  <a:pt x="13" y="8807"/>
                </a:cubicBezTo>
                <a:cubicBezTo>
                  <a:pt x="6" y="8807"/>
                  <a:pt x="0" y="8801"/>
                  <a:pt x="0" y="8794"/>
                </a:cubicBezTo>
                <a:lnTo>
                  <a:pt x="0" y="8615"/>
                </a:lnTo>
                <a:cubicBezTo>
                  <a:pt x="0" y="8608"/>
                  <a:pt x="6" y="8602"/>
                  <a:pt x="13" y="8602"/>
                </a:cubicBezTo>
                <a:cubicBezTo>
                  <a:pt x="20" y="8602"/>
                  <a:pt x="26" y="8608"/>
                  <a:pt x="26" y="8615"/>
                </a:cubicBezTo>
                <a:close/>
                <a:moveTo>
                  <a:pt x="26" y="8922"/>
                </a:moveTo>
                <a:lnTo>
                  <a:pt x="26" y="9101"/>
                </a:lnTo>
                <a:cubicBezTo>
                  <a:pt x="26" y="9108"/>
                  <a:pt x="20" y="9114"/>
                  <a:pt x="13" y="9114"/>
                </a:cubicBezTo>
                <a:cubicBezTo>
                  <a:pt x="6" y="9114"/>
                  <a:pt x="0" y="9108"/>
                  <a:pt x="0" y="9101"/>
                </a:cubicBezTo>
                <a:lnTo>
                  <a:pt x="0" y="8922"/>
                </a:lnTo>
                <a:cubicBezTo>
                  <a:pt x="0" y="8915"/>
                  <a:pt x="6" y="8909"/>
                  <a:pt x="13" y="8909"/>
                </a:cubicBezTo>
                <a:cubicBezTo>
                  <a:pt x="20" y="8909"/>
                  <a:pt x="26" y="8915"/>
                  <a:pt x="26" y="8922"/>
                </a:cubicBezTo>
                <a:close/>
                <a:moveTo>
                  <a:pt x="26" y="9229"/>
                </a:moveTo>
                <a:lnTo>
                  <a:pt x="26" y="9408"/>
                </a:lnTo>
                <a:cubicBezTo>
                  <a:pt x="26" y="9416"/>
                  <a:pt x="20" y="9421"/>
                  <a:pt x="13" y="9421"/>
                </a:cubicBezTo>
                <a:cubicBezTo>
                  <a:pt x="6" y="9421"/>
                  <a:pt x="0" y="9416"/>
                  <a:pt x="0" y="9408"/>
                </a:cubicBezTo>
                <a:lnTo>
                  <a:pt x="0" y="9229"/>
                </a:lnTo>
                <a:cubicBezTo>
                  <a:pt x="0" y="9222"/>
                  <a:pt x="6" y="9216"/>
                  <a:pt x="13" y="9216"/>
                </a:cubicBezTo>
                <a:cubicBezTo>
                  <a:pt x="20" y="9216"/>
                  <a:pt x="26" y="9222"/>
                  <a:pt x="26" y="9229"/>
                </a:cubicBezTo>
                <a:close/>
                <a:moveTo>
                  <a:pt x="26" y="9536"/>
                </a:moveTo>
                <a:lnTo>
                  <a:pt x="26" y="9716"/>
                </a:lnTo>
                <a:cubicBezTo>
                  <a:pt x="26" y="9723"/>
                  <a:pt x="20" y="9728"/>
                  <a:pt x="13" y="9728"/>
                </a:cubicBezTo>
                <a:cubicBezTo>
                  <a:pt x="6" y="9728"/>
                  <a:pt x="0" y="9723"/>
                  <a:pt x="0" y="9716"/>
                </a:cubicBezTo>
                <a:lnTo>
                  <a:pt x="0" y="9536"/>
                </a:lnTo>
                <a:cubicBezTo>
                  <a:pt x="0" y="9529"/>
                  <a:pt x="6" y="9524"/>
                  <a:pt x="13" y="9524"/>
                </a:cubicBezTo>
                <a:cubicBezTo>
                  <a:pt x="20" y="9524"/>
                  <a:pt x="26" y="9529"/>
                  <a:pt x="26" y="9536"/>
                </a:cubicBezTo>
                <a:close/>
                <a:moveTo>
                  <a:pt x="26" y="9844"/>
                </a:moveTo>
                <a:lnTo>
                  <a:pt x="26" y="10023"/>
                </a:lnTo>
                <a:cubicBezTo>
                  <a:pt x="26" y="10030"/>
                  <a:pt x="20" y="10036"/>
                  <a:pt x="13" y="10036"/>
                </a:cubicBezTo>
                <a:cubicBezTo>
                  <a:pt x="6" y="10036"/>
                  <a:pt x="0" y="10030"/>
                  <a:pt x="0" y="10023"/>
                </a:cubicBezTo>
                <a:lnTo>
                  <a:pt x="0" y="9844"/>
                </a:lnTo>
                <a:cubicBezTo>
                  <a:pt x="0" y="9837"/>
                  <a:pt x="6" y="9831"/>
                  <a:pt x="13" y="9831"/>
                </a:cubicBezTo>
                <a:cubicBezTo>
                  <a:pt x="20" y="9831"/>
                  <a:pt x="26" y="9837"/>
                  <a:pt x="26" y="9844"/>
                </a:cubicBezTo>
                <a:close/>
                <a:moveTo>
                  <a:pt x="26" y="10151"/>
                </a:moveTo>
                <a:lnTo>
                  <a:pt x="26" y="10330"/>
                </a:lnTo>
                <a:cubicBezTo>
                  <a:pt x="26" y="10337"/>
                  <a:pt x="20" y="10343"/>
                  <a:pt x="13" y="10343"/>
                </a:cubicBezTo>
                <a:cubicBezTo>
                  <a:pt x="6" y="10343"/>
                  <a:pt x="0" y="10337"/>
                  <a:pt x="0" y="10330"/>
                </a:cubicBezTo>
                <a:lnTo>
                  <a:pt x="0" y="10151"/>
                </a:lnTo>
                <a:cubicBezTo>
                  <a:pt x="0" y="10144"/>
                  <a:pt x="6" y="10138"/>
                  <a:pt x="13" y="10138"/>
                </a:cubicBezTo>
                <a:cubicBezTo>
                  <a:pt x="20" y="10138"/>
                  <a:pt x="26" y="10144"/>
                  <a:pt x="26" y="10151"/>
                </a:cubicBezTo>
                <a:close/>
                <a:moveTo>
                  <a:pt x="26" y="10458"/>
                </a:moveTo>
                <a:lnTo>
                  <a:pt x="26" y="10637"/>
                </a:lnTo>
                <a:cubicBezTo>
                  <a:pt x="26" y="10644"/>
                  <a:pt x="20" y="10650"/>
                  <a:pt x="13" y="10650"/>
                </a:cubicBezTo>
                <a:cubicBezTo>
                  <a:pt x="6" y="10650"/>
                  <a:pt x="0" y="10644"/>
                  <a:pt x="0" y="10637"/>
                </a:cubicBezTo>
                <a:lnTo>
                  <a:pt x="0" y="10458"/>
                </a:lnTo>
                <a:cubicBezTo>
                  <a:pt x="0" y="10451"/>
                  <a:pt x="6" y="10445"/>
                  <a:pt x="13" y="10445"/>
                </a:cubicBezTo>
                <a:cubicBezTo>
                  <a:pt x="20" y="10445"/>
                  <a:pt x="26" y="10451"/>
                  <a:pt x="26" y="10458"/>
                </a:cubicBezTo>
                <a:close/>
                <a:moveTo>
                  <a:pt x="26" y="10765"/>
                </a:moveTo>
                <a:lnTo>
                  <a:pt x="26" y="10944"/>
                </a:lnTo>
                <a:cubicBezTo>
                  <a:pt x="26" y="10952"/>
                  <a:pt x="20" y="10957"/>
                  <a:pt x="13" y="10957"/>
                </a:cubicBezTo>
                <a:cubicBezTo>
                  <a:pt x="6" y="10957"/>
                  <a:pt x="0" y="10952"/>
                  <a:pt x="0" y="10944"/>
                </a:cubicBezTo>
                <a:lnTo>
                  <a:pt x="0" y="10765"/>
                </a:lnTo>
                <a:cubicBezTo>
                  <a:pt x="0" y="10758"/>
                  <a:pt x="6" y="10752"/>
                  <a:pt x="13" y="10752"/>
                </a:cubicBezTo>
                <a:cubicBezTo>
                  <a:pt x="20" y="10752"/>
                  <a:pt x="26" y="10758"/>
                  <a:pt x="26" y="10765"/>
                </a:cubicBezTo>
                <a:close/>
                <a:moveTo>
                  <a:pt x="26" y="11072"/>
                </a:moveTo>
                <a:lnTo>
                  <a:pt x="26" y="11252"/>
                </a:lnTo>
                <a:cubicBezTo>
                  <a:pt x="26" y="11259"/>
                  <a:pt x="20" y="11264"/>
                  <a:pt x="13" y="11264"/>
                </a:cubicBezTo>
                <a:cubicBezTo>
                  <a:pt x="6" y="11264"/>
                  <a:pt x="0" y="11259"/>
                  <a:pt x="0" y="11252"/>
                </a:cubicBezTo>
                <a:lnTo>
                  <a:pt x="0" y="11072"/>
                </a:lnTo>
                <a:cubicBezTo>
                  <a:pt x="0" y="11065"/>
                  <a:pt x="6" y="11060"/>
                  <a:pt x="13" y="11060"/>
                </a:cubicBezTo>
                <a:cubicBezTo>
                  <a:pt x="20" y="11060"/>
                  <a:pt x="26" y="11065"/>
                  <a:pt x="26" y="11072"/>
                </a:cubicBezTo>
                <a:close/>
                <a:moveTo>
                  <a:pt x="26" y="11380"/>
                </a:moveTo>
                <a:lnTo>
                  <a:pt x="26" y="11559"/>
                </a:lnTo>
                <a:cubicBezTo>
                  <a:pt x="26" y="11566"/>
                  <a:pt x="20" y="11572"/>
                  <a:pt x="13" y="11572"/>
                </a:cubicBezTo>
                <a:cubicBezTo>
                  <a:pt x="6" y="11572"/>
                  <a:pt x="0" y="11566"/>
                  <a:pt x="0" y="11559"/>
                </a:cubicBezTo>
                <a:lnTo>
                  <a:pt x="0" y="11380"/>
                </a:lnTo>
                <a:cubicBezTo>
                  <a:pt x="0" y="11373"/>
                  <a:pt x="6" y="11367"/>
                  <a:pt x="13" y="11367"/>
                </a:cubicBezTo>
                <a:cubicBezTo>
                  <a:pt x="20" y="11367"/>
                  <a:pt x="26" y="11373"/>
                  <a:pt x="26" y="11380"/>
                </a:cubicBezTo>
                <a:close/>
                <a:moveTo>
                  <a:pt x="26" y="11687"/>
                </a:moveTo>
                <a:lnTo>
                  <a:pt x="26" y="11866"/>
                </a:lnTo>
                <a:cubicBezTo>
                  <a:pt x="26" y="11873"/>
                  <a:pt x="20" y="11879"/>
                  <a:pt x="13" y="11879"/>
                </a:cubicBezTo>
                <a:cubicBezTo>
                  <a:pt x="6" y="11879"/>
                  <a:pt x="0" y="11873"/>
                  <a:pt x="0" y="11866"/>
                </a:cubicBezTo>
                <a:lnTo>
                  <a:pt x="0" y="11687"/>
                </a:lnTo>
                <a:cubicBezTo>
                  <a:pt x="0" y="11680"/>
                  <a:pt x="6" y="11674"/>
                  <a:pt x="13" y="11674"/>
                </a:cubicBezTo>
                <a:cubicBezTo>
                  <a:pt x="20" y="11674"/>
                  <a:pt x="26" y="11680"/>
                  <a:pt x="26" y="11687"/>
                </a:cubicBezTo>
                <a:close/>
                <a:moveTo>
                  <a:pt x="26" y="11994"/>
                </a:moveTo>
                <a:lnTo>
                  <a:pt x="26" y="12173"/>
                </a:lnTo>
                <a:cubicBezTo>
                  <a:pt x="26" y="12180"/>
                  <a:pt x="20" y="12186"/>
                  <a:pt x="13" y="12186"/>
                </a:cubicBezTo>
                <a:cubicBezTo>
                  <a:pt x="6" y="12186"/>
                  <a:pt x="0" y="12180"/>
                  <a:pt x="0" y="12173"/>
                </a:cubicBezTo>
                <a:lnTo>
                  <a:pt x="0" y="11994"/>
                </a:lnTo>
                <a:cubicBezTo>
                  <a:pt x="0" y="11987"/>
                  <a:pt x="6" y="11981"/>
                  <a:pt x="13" y="11981"/>
                </a:cubicBezTo>
                <a:cubicBezTo>
                  <a:pt x="20" y="11981"/>
                  <a:pt x="26" y="11987"/>
                  <a:pt x="26" y="11994"/>
                </a:cubicBezTo>
                <a:close/>
                <a:moveTo>
                  <a:pt x="26" y="12301"/>
                </a:moveTo>
                <a:lnTo>
                  <a:pt x="26" y="12480"/>
                </a:lnTo>
                <a:cubicBezTo>
                  <a:pt x="26" y="12488"/>
                  <a:pt x="20" y="12493"/>
                  <a:pt x="13" y="12493"/>
                </a:cubicBezTo>
                <a:cubicBezTo>
                  <a:pt x="6" y="12493"/>
                  <a:pt x="0" y="12488"/>
                  <a:pt x="0" y="12480"/>
                </a:cubicBezTo>
                <a:lnTo>
                  <a:pt x="0" y="12301"/>
                </a:lnTo>
                <a:cubicBezTo>
                  <a:pt x="0" y="12294"/>
                  <a:pt x="6" y="12288"/>
                  <a:pt x="13" y="12288"/>
                </a:cubicBezTo>
                <a:cubicBezTo>
                  <a:pt x="20" y="12288"/>
                  <a:pt x="26" y="12294"/>
                  <a:pt x="26" y="12301"/>
                </a:cubicBezTo>
                <a:close/>
                <a:moveTo>
                  <a:pt x="26" y="12608"/>
                </a:moveTo>
                <a:lnTo>
                  <a:pt x="26" y="12788"/>
                </a:lnTo>
                <a:cubicBezTo>
                  <a:pt x="26" y="12795"/>
                  <a:pt x="20" y="12800"/>
                  <a:pt x="13" y="12800"/>
                </a:cubicBezTo>
                <a:cubicBezTo>
                  <a:pt x="6" y="12800"/>
                  <a:pt x="0" y="12795"/>
                  <a:pt x="0" y="12788"/>
                </a:cubicBezTo>
                <a:lnTo>
                  <a:pt x="0" y="12608"/>
                </a:lnTo>
                <a:cubicBezTo>
                  <a:pt x="0" y="12601"/>
                  <a:pt x="6" y="12596"/>
                  <a:pt x="13" y="12596"/>
                </a:cubicBezTo>
                <a:cubicBezTo>
                  <a:pt x="20" y="12596"/>
                  <a:pt x="26" y="12601"/>
                  <a:pt x="26" y="12608"/>
                </a:cubicBezTo>
                <a:close/>
                <a:moveTo>
                  <a:pt x="26" y="12916"/>
                </a:moveTo>
                <a:lnTo>
                  <a:pt x="26" y="13095"/>
                </a:lnTo>
                <a:cubicBezTo>
                  <a:pt x="26" y="13102"/>
                  <a:pt x="20" y="13108"/>
                  <a:pt x="13" y="13108"/>
                </a:cubicBezTo>
                <a:cubicBezTo>
                  <a:pt x="6" y="13108"/>
                  <a:pt x="0" y="13102"/>
                  <a:pt x="0" y="13095"/>
                </a:cubicBezTo>
                <a:lnTo>
                  <a:pt x="0" y="12916"/>
                </a:lnTo>
                <a:cubicBezTo>
                  <a:pt x="0" y="12909"/>
                  <a:pt x="6" y="12903"/>
                  <a:pt x="13" y="12903"/>
                </a:cubicBezTo>
                <a:cubicBezTo>
                  <a:pt x="20" y="12903"/>
                  <a:pt x="26" y="12909"/>
                  <a:pt x="26" y="12916"/>
                </a:cubicBezTo>
                <a:close/>
                <a:moveTo>
                  <a:pt x="26" y="13223"/>
                </a:moveTo>
                <a:lnTo>
                  <a:pt x="26" y="13402"/>
                </a:lnTo>
                <a:cubicBezTo>
                  <a:pt x="26" y="13409"/>
                  <a:pt x="20" y="13415"/>
                  <a:pt x="13" y="13415"/>
                </a:cubicBezTo>
                <a:cubicBezTo>
                  <a:pt x="6" y="13415"/>
                  <a:pt x="0" y="13409"/>
                  <a:pt x="0" y="13402"/>
                </a:cubicBezTo>
                <a:lnTo>
                  <a:pt x="0" y="13223"/>
                </a:lnTo>
                <a:cubicBezTo>
                  <a:pt x="0" y="13216"/>
                  <a:pt x="6" y="13210"/>
                  <a:pt x="13" y="13210"/>
                </a:cubicBezTo>
                <a:cubicBezTo>
                  <a:pt x="20" y="13210"/>
                  <a:pt x="26" y="13216"/>
                  <a:pt x="26" y="13223"/>
                </a:cubicBezTo>
                <a:close/>
                <a:moveTo>
                  <a:pt x="26" y="13530"/>
                </a:moveTo>
                <a:lnTo>
                  <a:pt x="26" y="13709"/>
                </a:lnTo>
                <a:cubicBezTo>
                  <a:pt x="26" y="13716"/>
                  <a:pt x="20" y="13722"/>
                  <a:pt x="13" y="13722"/>
                </a:cubicBezTo>
                <a:cubicBezTo>
                  <a:pt x="6" y="13722"/>
                  <a:pt x="0" y="13716"/>
                  <a:pt x="0" y="13709"/>
                </a:cubicBezTo>
                <a:lnTo>
                  <a:pt x="0" y="13530"/>
                </a:lnTo>
                <a:cubicBezTo>
                  <a:pt x="0" y="13523"/>
                  <a:pt x="6" y="13517"/>
                  <a:pt x="13" y="13517"/>
                </a:cubicBezTo>
                <a:cubicBezTo>
                  <a:pt x="20" y="13517"/>
                  <a:pt x="26" y="13523"/>
                  <a:pt x="26" y="13530"/>
                </a:cubicBez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040" y="2427120"/>
            <a:ext cx="1041480" cy="390600"/>
          </a:xfrm>
          <a:custGeom>
            <a:avLst/>
            <a:gdLst/>
            <a:ahLst/>
            <a:rect l="l" t="t" r="r" b="b"/>
            <a:pathLst>
              <a:path w="2568" h="1044">
                <a:moveTo>
                  <a:pt x="2376" y="1044"/>
                </a:moveTo>
                <a:cubicBezTo>
                  <a:pt x="2482" y="1044"/>
                  <a:pt x="2568" y="958"/>
                  <a:pt x="2568" y="852"/>
                </a:cubicBezTo>
                <a:lnTo>
                  <a:pt x="2568" y="192"/>
                </a:lnTo>
                <a:cubicBezTo>
                  <a:pt x="2568" y="86"/>
                  <a:pt x="2482" y="0"/>
                  <a:pt x="2376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852"/>
                </a:lnTo>
                <a:cubicBezTo>
                  <a:pt x="0" y="958"/>
                  <a:pt x="86" y="1044"/>
                  <a:pt x="192" y="1044"/>
                </a:cubicBezTo>
                <a:lnTo>
                  <a:pt x="192" y="1044"/>
                </a:lnTo>
                <a:lnTo>
                  <a:pt x="2376" y="104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0040" y="2427120"/>
            <a:ext cx="1041480" cy="390600"/>
          </a:xfrm>
          <a:custGeom>
            <a:avLst/>
            <a:gdLst/>
            <a:ahLst/>
            <a:rect l="l" t="t" r="r" b="b"/>
            <a:pathLst>
              <a:path w="2568" h="1044">
                <a:moveTo>
                  <a:pt x="2376" y="1044"/>
                </a:moveTo>
                <a:cubicBezTo>
                  <a:pt x="2482" y="1044"/>
                  <a:pt x="2568" y="958"/>
                  <a:pt x="2568" y="852"/>
                </a:cubicBezTo>
                <a:lnTo>
                  <a:pt x="2568" y="192"/>
                </a:lnTo>
                <a:cubicBezTo>
                  <a:pt x="2568" y="86"/>
                  <a:pt x="2482" y="0"/>
                  <a:pt x="2376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852"/>
                </a:lnTo>
                <a:cubicBezTo>
                  <a:pt x="0" y="958"/>
                  <a:pt x="86" y="1044"/>
                  <a:pt x="192" y="1044"/>
                </a:cubicBezTo>
                <a:lnTo>
                  <a:pt x="192" y="1044"/>
                </a:lnTo>
                <a:lnTo>
                  <a:pt x="2376" y="1044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8520" y="2416320"/>
            <a:ext cx="3574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di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8440" y="2548080"/>
            <a:ext cx="7153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dependen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7520" y="2685960"/>
            <a:ext cx="8161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ndover U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5960" y="2471760"/>
            <a:ext cx="1042920" cy="392040"/>
          </a:xfrm>
          <a:custGeom>
            <a:avLst/>
            <a:gdLst/>
            <a:ahLst/>
            <a:rect l="l" t="t" r="r" b="b"/>
            <a:pathLst>
              <a:path w="2568" h="1044">
                <a:moveTo>
                  <a:pt x="2376" y="1044"/>
                </a:moveTo>
                <a:cubicBezTo>
                  <a:pt x="2482" y="1044"/>
                  <a:pt x="2568" y="958"/>
                  <a:pt x="2568" y="852"/>
                </a:cubicBezTo>
                <a:lnTo>
                  <a:pt x="2568" y="192"/>
                </a:lnTo>
                <a:cubicBezTo>
                  <a:pt x="2568" y="86"/>
                  <a:pt x="2482" y="0"/>
                  <a:pt x="2376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852"/>
                </a:lnTo>
                <a:cubicBezTo>
                  <a:pt x="0" y="958"/>
                  <a:pt x="86" y="1044"/>
                  <a:pt x="192" y="1044"/>
                </a:cubicBezTo>
                <a:lnTo>
                  <a:pt x="192" y="1044"/>
                </a:lnTo>
                <a:lnTo>
                  <a:pt x="2376" y="104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5960" y="2471760"/>
            <a:ext cx="1042920" cy="392040"/>
          </a:xfrm>
          <a:custGeom>
            <a:avLst/>
            <a:gdLst/>
            <a:ahLst/>
            <a:rect l="l" t="t" r="r" b="b"/>
            <a:pathLst>
              <a:path w="2568" h="1044">
                <a:moveTo>
                  <a:pt x="2376" y="1044"/>
                </a:moveTo>
                <a:cubicBezTo>
                  <a:pt x="2482" y="1044"/>
                  <a:pt x="2568" y="958"/>
                  <a:pt x="2568" y="852"/>
                </a:cubicBezTo>
                <a:lnTo>
                  <a:pt x="2568" y="192"/>
                </a:lnTo>
                <a:cubicBezTo>
                  <a:pt x="2568" y="86"/>
                  <a:pt x="2482" y="0"/>
                  <a:pt x="2376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852"/>
                </a:lnTo>
                <a:cubicBezTo>
                  <a:pt x="0" y="958"/>
                  <a:pt x="86" y="1044"/>
                  <a:pt x="192" y="1044"/>
                </a:cubicBezTo>
                <a:lnTo>
                  <a:pt x="192" y="1044"/>
                </a:lnTo>
                <a:lnTo>
                  <a:pt x="2376" y="1044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65880" y="2457360"/>
            <a:ext cx="3574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di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5800" y="2595600"/>
            <a:ext cx="7153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dependen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04880" y="2727360"/>
            <a:ext cx="8161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ndover U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46520" y="4086360"/>
            <a:ext cx="1753920" cy="1725480"/>
          </a:xfrm>
          <a:custGeom>
            <a:avLst/>
            <a:gdLst/>
            <a:ahLst/>
            <a:rect l="l" t="t" r="r" b="b"/>
            <a:pathLst>
              <a:path w="1105" h="1087">
                <a:moveTo>
                  <a:pt x="1105" y="1019"/>
                </a:moveTo>
                <a:lnTo>
                  <a:pt x="98" y="1019"/>
                </a:lnTo>
                <a:lnTo>
                  <a:pt x="98" y="56"/>
                </a:lnTo>
                <a:lnTo>
                  <a:pt x="123" y="56"/>
                </a:lnTo>
                <a:lnTo>
                  <a:pt x="62" y="0"/>
                </a:lnTo>
                <a:lnTo>
                  <a:pt x="0" y="56"/>
                </a:lnTo>
                <a:lnTo>
                  <a:pt x="25" y="56"/>
                </a:lnTo>
                <a:lnTo>
                  <a:pt x="25" y="1087"/>
                </a:lnTo>
                <a:lnTo>
                  <a:pt x="1105" y="1087"/>
                </a:lnTo>
                <a:lnTo>
                  <a:pt x="1105" y="10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46520" y="4086360"/>
            <a:ext cx="1753920" cy="1725480"/>
          </a:xfrm>
          <a:custGeom>
            <a:avLst/>
            <a:gdLst/>
            <a:ahLst/>
            <a:rect l="l" t="t" r="r" b="b"/>
            <a:pathLst>
              <a:path w="1105" h="1087">
                <a:moveTo>
                  <a:pt x="1105" y="1019"/>
                </a:moveTo>
                <a:lnTo>
                  <a:pt x="98" y="1019"/>
                </a:lnTo>
                <a:lnTo>
                  <a:pt x="98" y="56"/>
                </a:lnTo>
                <a:lnTo>
                  <a:pt x="123" y="56"/>
                </a:lnTo>
                <a:lnTo>
                  <a:pt x="62" y="0"/>
                </a:lnTo>
                <a:lnTo>
                  <a:pt x="0" y="56"/>
                </a:lnTo>
                <a:lnTo>
                  <a:pt x="25" y="56"/>
                </a:lnTo>
                <a:lnTo>
                  <a:pt x="25" y="1087"/>
                </a:lnTo>
                <a:lnTo>
                  <a:pt x="1105" y="1087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07000" y="3083040"/>
            <a:ext cx="1469880" cy="2495520"/>
          </a:xfrm>
          <a:custGeom>
            <a:avLst/>
            <a:gdLst/>
            <a:ahLst/>
            <a:rect l="l" t="t" r="r" b="b"/>
            <a:pathLst>
              <a:path w="926" h="1572">
                <a:moveTo>
                  <a:pt x="0" y="1504"/>
                </a:moveTo>
                <a:lnTo>
                  <a:pt x="828" y="1504"/>
                </a:lnTo>
                <a:lnTo>
                  <a:pt x="828" y="57"/>
                </a:lnTo>
                <a:lnTo>
                  <a:pt x="804" y="57"/>
                </a:lnTo>
                <a:lnTo>
                  <a:pt x="865" y="0"/>
                </a:lnTo>
                <a:lnTo>
                  <a:pt x="926" y="57"/>
                </a:lnTo>
                <a:lnTo>
                  <a:pt x="902" y="57"/>
                </a:lnTo>
                <a:lnTo>
                  <a:pt x="902" y="1572"/>
                </a:lnTo>
                <a:lnTo>
                  <a:pt x="0" y="1572"/>
                </a:lnTo>
                <a:lnTo>
                  <a:pt x="0" y="15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07000" y="3083040"/>
            <a:ext cx="1469880" cy="2495520"/>
          </a:xfrm>
          <a:custGeom>
            <a:avLst/>
            <a:gdLst/>
            <a:ahLst/>
            <a:rect l="l" t="t" r="r" b="b"/>
            <a:pathLst>
              <a:path w="926" h="1572">
                <a:moveTo>
                  <a:pt x="0" y="1504"/>
                </a:moveTo>
                <a:lnTo>
                  <a:pt x="828" y="1504"/>
                </a:lnTo>
                <a:lnTo>
                  <a:pt x="828" y="57"/>
                </a:lnTo>
                <a:lnTo>
                  <a:pt x="804" y="57"/>
                </a:lnTo>
                <a:lnTo>
                  <a:pt x="865" y="0"/>
                </a:lnTo>
                <a:lnTo>
                  <a:pt x="926" y="57"/>
                </a:lnTo>
                <a:lnTo>
                  <a:pt x="902" y="57"/>
                </a:lnTo>
                <a:lnTo>
                  <a:pt x="902" y="1572"/>
                </a:lnTo>
                <a:lnTo>
                  <a:pt x="0" y="1572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20160" y="5459400"/>
            <a:ext cx="1289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ormation Service over 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32360" y="5459400"/>
            <a:ext cx="86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17320" y="5459400"/>
            <a:ext cx="4762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64000" y="3083040"/>
            <a:ext cx="2103480" cy="2728800"/>
          </a:xfrm>
          <a:custGeom>
            <a:avLst/>
            <a:gdLst/>
            <a:ahLst/>
            <a:rect l="l" t="t" r="r" b="b"/>
            <a:pathLst>
              <a:path w="1325" h="1719">
                <a:moveTo>
                  <a:pt x="0" y="1651"/>
                </a:moveTo>
                <a:lnTo>
                  <a:pt x="1227" y="1651"/>
                </a:lnTo>
                <a:lnTo>
                  <a:pt x="1227" y="57"/>
                </a:lnTo>
                <a:lnTo>
                  <a:pt x="1202" y="57"/>
                </a:lnTo>
                <a:lnTo>
                  <a:pt x="1263" y="0"/>
                </a:lnTo>
                <a:lnTo>
                  <a:pt x="1325" y="57"/>
                </a:lnTo>
                <a:lnTo>
                  <a:pt x="1300" y="57"/>
                </a:lnTo>
                <a:lnTo>
                  <a:pt x="1300" y="1719"/>
                </a:lnTo>
                <a:lnTo>
                  <a:pt x="0" y="1719"/>
                </a:lnTo>
                <a:lnTo>
                  <a:pt x="0" y="16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64000" y="3083040"/>
            <a:ext cx="2103480" cy="2728800"/>
          </a:xfrm>
          <a:custGeom>
            <a:avLst/>
            <a:gdLst/>
            <a:ahLst/>
            <a:rect l="l" t="t" r="r" b="b"/>
            <a:pathLst>
              <a:path w="1325" h="1719">
                <a:moveTo>
                  <a:pt x="0" y="1651"/>
                </a:moveTo>
                <a:lnTo>
                  <a:pt x="1227" y="1651"/>
                </a:lnTo>
                <a:lnTo>
                  <a:pt x="1227" y="57"/>
                </a:lnTo>
                <a:lnTo>
                  <a:pt x="1202" y="57"/>
                </a:lnTo>
                <a:lnTo>
                  <a:pt x="1263" y="0"/>
                </a:lnTo>
                <a:lnTo>
                  <a:pt x="1325" y="57"/>
                </a:lnTo>
                <a:lnTo>
                  <a:pt x="1300" y="57"/>
                </a:lnTo>
                <a:lnTo>
                  <a:pt x="1300" y="1719"/>
                </a:lnTo>
                <a:lnTo>
                  <a:pt x="0" y="1719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64200" y="3494160"/>
            <a:ext cx="1422360" cy="574560"/>
          </a:xfrm>
          <a:custGeom>
            <a:avLst/>
            <a:gdLst/>
            <a:ahLst/>
            <a:rect l="l" t="t" r="r" b="b"/>
            <a:pathLst>
              <a:path w="3504" h="1536">
                <a:moveTo>
                  <a:pt x="3312" y="1536"/>
                </a:moveTo>
                <a:cubicBezTo>
                  <a:pt x="3418" y="1536"/>
                  <a:pt x="3504" y="1450"/>
                  <a:pt x="3504" y="1344"/>
                </a:cubicBezTo>
                <a:lnTo>
                  <a:pt x="3504" y="1344"/>
                </a:lnTo>
                <a:lnTo>
                  <a:pt x="3504" y="192"/>
                </a:lnTo>
                <a:cubicBezTo>
                  <a:pt x="3504" y="86"/>
                  <a:pt x="3418" y="0"/>
                  <a:pt x="3312" y="0"/>
                </a:cubicBezTo>
                <a:lnTo>
                  <a:pt x="3312" y="0"/>
                </a:ln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344"/>
                </a:lnTo>
                <a:cubicBezTo>
                  <a:pt x="0" y="1450"/>
                  <a:pt x="86" y="1536"/>
                  <a:pt x="192" y="1536"/>
                </a:cubicBezTo>
                <a:lnTo>
                  <a:pt x="3312" y="153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64200" y="3494160"/>
            <a:ext cx="1422360" cy="574560"/>
          </a:xfrm>
          <a:custGeom>
            <a:avLst/>
            <a:gdLst/>
            <a:ahLst/>
            <a:rect l="l" t="t" r="r" b="b"/>
            <a:pathLst>
              <a:path w="3504" h="1536">
                <a:moveTo>
                  <a:pt x="3312" y="1536"/>
                </a:moveTo>
                <a:cubicBezTo>
                  <a:pt x="3418" y="1536"/>
                  <a:pt x="3504" y="1450"/>
                  <a:pt x="3504" y="1344"/>
                </a:cubicBezTo>
                <a:lnTo>
                  <a:pt x="3504" y="1344"/>
                </a:lnTo>
                <a:lnTo>
                  <a:pt x="3504" y="192"/>
                </a:lnTo>
                <a:cubicBezTo>
                  <a:pt x="3504" y="86"/>
                  <a:pt x="3418" y="0"/>
                  <a:pt x="3312" y="0"/>
                </a:cubicBezTo>
                <a:lnTo>
                  <a:pt x="3312" y="0"/>
                </a:ln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344"/>
                </a:lnTo>
                <a:cubicBezTo>
                  <a:pt x="0" y="1450"/>
                  <a:pt x="86" y="1536"/>
                  <a:pt x="192" y="1536"/>
                </a:cubicBezTo>
                <a:lnTo>
                  <a:pt x="3312" y="1536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02240" y="3638520"/>
            <a:ext cx="733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igher Lay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02960" y="3776760"/>
            <a:ext cx="535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68520" y="377676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02000" y="3776760"/>
            <a:ext cx="70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9400" y="3776760"/>
            <a:ext cx="648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27840" y="5692680"/>
            <a:ext cx="9532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mote MIH Ev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296960" y="569268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26480" y="5692680"/>
            <a:ext cx="1108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H Commands over 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52920" y="5692680"/>
            <a:ext cx="86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42920" y="5692680"/>
            <a:ext cx="4762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0520" y="1566720"/>
            <a:ext cx="2297160" cy="1881360"/>
          </a:xfrm>
          <a:custGeom>
            <a:avLst/>
            <a:gdLst/>
            <a:ahLst/>
            <a:rect l="l" t="t" r="r" b="b"/>
            <a:pathLst>
              <a:path w="1447" h="1185">
                <a:moveTo>
                  <a:pt x="1447" y="82"/>
                </a:moveTo>
                <a:lnTo>
                  <a:pt x="117" y="82"/>
                </a:lnTo>
                <a:lnTo>
                  <a:pt x="117" y="1117"/>
                </a:lnTo>
                <a:lnTo>
                  <a:pt x="147" y="1117"/>
                </a:lnTo>
                <a:lnTo>
                  <a:pt x="73" y="1185"/>
                </a:lnTo>
                <a:lnTo>
                  <a:pt x="0" y="1117"/>
                </a:lnTo>
                <a:lnTo>
                  <a:pt x="29" y="1117"/>
                </a:lnTo>
                <a:lnTo>
                  <a:pt x="29" y="0"/>
                </a:lnTo>
                <a:lnTo>
                  <a:pt x="1447" y="0"/>
                </a:lnTo>
                <a:lnTo>
                  <a:pt x="1447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60520" y="1566720"/>
            <a:ext cx="2297160" cy="1881360"/>
          </a:xfrm>
          <a:custGeom>
            <a:avLst/>
            <a:gdLst/>
            <a:ahLst/>
            <a:rect l="l" t="t" r="r" b="b"/>
            <a:pathLst>
              <a:path w="1447" h="1185">
                <a:moveTo>
                  <a:pt x="1447" y="82"/>
                </a:moveTo>
                <a:lnTo>
                  <a:pt x="117" y="82"/>
                </a:lnTo>
                <a:lnTo>
                  <a:pt x="117" y="1117"/>
                </a:lnTo>
                <a:lnTo>
                  <a:pt x="147" y="1117"/>
                </a:lnTo>
                <a:lnTo>
                  <a:pt x="73" y="1185"/>
                </a:lnTo>
                <a:lnTo>
                  <a:pt x="0" y="1117"/>
                </a:lnTo>
                <a:lnTo>
                  <a:pt x="29" y="1117"/>
                </a:lnTo>
                <a:lnTo>
                  <a:pt x="29" y="0"/>
                </a:lnTo>
                <a:lnTo>
                  <a:pt x="1447" y="0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09880" y="2416320"/>
            <a:ext cx="914400" cy="447480"/>
          </a:xfrm>
          <a:custGeom>
            <a:avLst/>
            <a:gdLst/>
            <a:ahLst/>
            <a:rect l="l" t="t" r="r" b="b"/>
            <a:pathLst>
              <a:path w="2256" h="1196">
                <a:moveTo>
                  <a:pt x="2064" y="1196"/>
                </a:moveTo>
                <a:cubicBezTo>
                  <a:pt x="2170" y="1196"/>
                  <a:pt x="2256" y="1110"/>
                  <a:pt x="2256" y="1004"/>
                </a:cubicBezTo>
                <a:lnTo>
                  <a:pt x="2256" y="192"/>
                </a:lnTo>
                <a:cubicBezTo>
                  <a:pt x="2256" y="86"/>
                  <a:pt x="2170" y="0"/>
                  <a:pt x="2064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004"/>
                </a:lnTo>
                <a:cubicBezTo>
                  <a:pt x="0" y="1110"/>
                  <a:pt x="86" y="1196"/>
                  <a:pt x="192" y="1196"/>
                </a:cubicBezTo>
                <a:lnTo>
                  <a:pt x="2064" y="119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009880" y="2416320"/>
            <a:ext cx="914400" cy="447480"/>
          </a:xfrm>
          <a:custGeom>
            <a:avLst/>
            <a:gdLst/>
            <a:ahLst/>
            <a:rect l="l" t="t" r="r" b="b"/>
            <a:pathLst>
              <a:path w="2256" h="1196">
                <a:moveTo>
                  <a:pt x="2064" y="1196"/>
                </a:moveTo>
                <a:cubicBezTo>
                  <a:pt x="2170" y="1196"/>
                  <a:pt x="2256" y="1110"/>
                  <a:pt x="2256" y="1004"/>
                </a:cubicBezTo>
                <a:lnTo>
                  <a:pt x="2256" y="192"/>
                </a:lnTo>
                <a:cubicBezTo>
                  <a:pt x="2256" y="86"/>
                  <a:pt x="2170" y="0"/>
                  <a:pt x="2064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004"/>
                </a:lnTo>
                <a:cubicBezTo>
                  <a:pt x="0" y="1110"/>
                  <a:pt x="86" y="1196"/>
                  <a:pt x="192" y="1196"/>
                </a:cubicBezTo>
                <a:lnTo>
                  <a:pt x="2064" y="1196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94120" y="2427120"/>
            <a:ext cx="7016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igher Lay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84840" y="2565360"/>
            <a:ext cx="5677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38120" y="2697120"/>
            <a:ext cx="388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4200" y="2697120"/>
            <a:ext cx="770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361960" y="269712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393640" y="2697120"/>
            <a:ext cx="70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71400" y="269712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04880" y="2697120"/>
            <a:ext cx="32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536560" y="2697120"/>
            <a:ext cx="1090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653920" y="2697120"/>
            <a:ext cx="388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607560" y="1576440"/>
            <a:ext cx="982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04760" y="157644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31760" y="157644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81160" y="157644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06000" y="1576440"/>
            <a:ext cx="14652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S over higher layer 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66960" y="4086360"/>
            <a:ext cx="312480" cy="485640"/>
          </a:xfrm>
          <a:custGeom>
            <a:avLst/>
            <a:gdLst/>
            <a:ahLst/>
            <a:rect l="l" t="t" r="r" b="b"/>
            <a:pathLst>
              <a:path w="197" h="306">
                <a:moveTo>
                  <a:pt x="98" y="0"/>
                </a:moveTo>
                <a:lnTo>
                  <a:pt x="0" y="52"/>
                </a:lnTo>
                <a:lnTo>
                  <a:pt x="65" y="52"/>
                </a:lnTo>
                <a:lnTo>
                  <a:pt x="65" y="306"/>
                </a:lnTo>
                <a:lnTo>
                  <a:pt x="132" y="306"/>
                </a:lnTo>
                <a:lnTo>
                  <a:pt x="132" y="52"/>
                </a:lnTo>
                <a:lnTo>
                  <a:pt x="197" y="52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66960" y="4086360"/>
            <a:ext cx="312480" cy="485640"/>
          </a:xfrm>
          <a:custGeom>
            <a:avLst/>
            <a:gdLst/>
            <a:ahLst/>
            <a:rect l="l" t="t" r="r" b="b"/>
            <a:pathLst>
              <a:path w="197" h="306">
                <a:moveTo>
                  <a:pt x="98" y="0"/>
                </a:moveTo>
                <a:lnTo>
                  <a:pt x="0" y="52"/>
                </a:lnTo>
                <a:lnTo>
                  <a:pt x="65" y="52"/>
                </a:lnTo>
                <a:lnTo>
                  <a:pt x="65" y="306"/>
                </a:lnTo>
                <a:lnTo>
                  <a:pt x="132" y="306"/>
                </a:lnTo>
                <a:lnTo>
                  <a:pt x="132" y="52"/>
                </a:lnTo>
                <a:lnTo>
                  <a:pt x="197" y="52"/>
                </a:lnTo>
                <a:lnTo>
                  <a:pt x="98" y="0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16200000">
            <a:off x="1095120" y="446076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16200000">
            <a:off x="1095120" y="440676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1109880" y="436608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6200000">
            <a:off x="1092960" y="4326480"/>
            <a:ext cx="5544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1095120" y="427500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6200000">
            <a:off x="1109880" y="423432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1109880" y="421056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1095120" y="417276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07520" y="1103400"/>
            <a:ext cx="44424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y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87040" y="1103400"/>
            <a:ext cx="4356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4560" y="1278000"/>
            <a:ext cx="137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840" y="127800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040" y="127800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5960" y="127800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37640" y="1278000"/>
            <a:ext cx="982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5920" y="127800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93880" y="1278000"/>
            <a:ext cx="633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ent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536480" y="127800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63480" y="1278000"/>
            <a:ext cx="4989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81400" y="1390680"/>
            <a:ext cx="3420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33120" y="1390680"/>
            <a:ext cx="29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957600" y="1390680"/>
            <a:ext cx="881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ormation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01760" y="15048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9720" y="150480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16960" y="1504800"/>
            <a:ext cx="631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face TB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4720" y="1612800"/>
            <a:ext cx="186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8760" y="161280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66720" y="1612800"/>
            <a:ext cx="896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ical Link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3280" y="1720800"/>
            <a:ext cx="227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6920" y="172080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4160" y="1720800"/>
            <a:ext cx="10810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um Access 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7160" y="1954080"/>
            <a:ext cx="2109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21720" y="195408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9680" y="1954080"/>
            <a:ext cx="666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ysical 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3280" y="1839960"/>
            <a:ext cx="1882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2640" y="183996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64200" y="1839960"/>
            <a:ext cx="1341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a Independent Hand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594640" y="2055960"/>
            <a:ext cx="389160" cy="2462040"/>
          </a:xfrm>
          <a:custGeom>
            <a:avLst/>
            <a:gdLst/>
            <a:ahLst/>
            <a:rect l="l" t="t" r="r" b="b"/>
            <a:pathLst>
              <a:path w="245" h="1551">
                <a:moveTo>
                  <a:pt x="184" y="56"/>
                </a:moveTo>
                <a:lnTo>
                  <a:pt x="245" y="56"/>
                </a:lnTo>
                <a:lnTo>
                  <a:pt x="122" y="0"/>
                </a:lnTo>
                <a:lnTo>
                  <a:pt x="0" y="56"/>
                </a:lnTo>
                <a:lnTo>
                  <a:pt x="61" y="56"/>
                </a:lnTo>
                <a:lnTo>
                  <a:pt x="61" y="1494"/>
                </a:lnTo>
                <a:lnTo>
                  <a:pt x="0" y="1494"/>
                </a:lnTo>
                <a:lnTo>
                  <a:pt x="122" y="1551"/>
                </a:lnTo>
                <a:lnTo>
                  <a:pt x="245" y="1494"/>
                </a:lnTo>
                <a:lnTo>
                  <a:pt x="184" y="1494"/>
                </a:lnTo>
                <a:lnTo>
                  <a:pt x="184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594640" y="2055960"/>
            <a:ext cx="389160" cy="2462040"/>
          </a:xfrm>
          <a:custGeom>
            <a:avLst/>
            <a:gdLst/>
            <a:ahLst/>
            <a:rect l="l" t="t" r="r" b="b"/>
            <a:pathLst>
              <a:path w="245" h="1551">
                <a:moveTo>
                  <a:pt x="184" y="56"/>
                </a:moveTo>
                <a:lnTo>
                  <a:pt x="245" y="56"/>
                </a:lnTo>
                <a:lnTo>
                  <a:pt x="122" y="0"/>
                </a:lnTo>
                <a:lnTo>
                  <a:pt x="0" y="56"/>
                </a:lnTo>
                <a:lnTo>
                  <a:pt x="61" y="56"/>
                </a:lnTo>
                <a:lnTo>
                  <a:pt x="61" y="1494"/>
                </a:lnTo>
                <a:lnTo>
                  <a:pt x="0" y="1494"/>
                </a:lnTo>
                <a:lnTo>
                  <a:pt x="122" y="1551"/>
                </a:lnTo>
                <a:lnTo>
                  <a:pt x="245" y="1494"/>
                </a:lnTo>
                <a:lnTo>
                  <a:pt x="184" y="1494"/>
                </a:lnTo>
                <a:lnTo>
                  <a:pt x="184" y="56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047080" y="3494160"/>
            <a:ext cx="1403280" cy="574560"/>
          </a:xfrm>
          <a:custGeom>
            <a:avLst/>
            <a:gdLst/>
            <a:ahLst/>
            <a:rect l="l" t="t" r="r" b="b"/>
            <a:pathLst>
              <a:path w="3456" h="1536">
                <a:moveTo>
                  <a:pt x="3264" y="1536"/>
                </a:moveTo>
                <a:cubicBezTo>
                  <a:pt x="3370" y="1536"/>
                  <a:pt x="3456" y="1450"/>
                  <a:pt x="3456" y="1344"/>
                </a:cubicBezTo>
                <a:lnTo>
                  <a:pt x="3456" y="192"/>
                </a:lnTo>
                <a:cubicBezTo>
                  <a:pt x="3456" y="86"/>
                  <a:pt x="3370" y="0"/>
                  <a:pt x="3264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344"/>
                </a:lnTo>
                <a:cubicBezTo>
                  <a:pt x="0" y="1450"/>
                  <a:pt x="86" y="1536"/>
                  <a:pt x="192" y="1536"/>
                </a:cubicBezTo>
                <a:lnTo>
                  <a:pt x="192" y="1536"/>
                </a:lnTo>
                <a:lnTo>
                  <a:pt x="3264" y="153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47080" y="3494160"/>
            <a:ext cx="1403280" cy="574560"/>
          </a:xfrm>
          <a:custGeom>
            <a:avLst/>
            <a:gdLst/>
            <a:ahLst/>
            <a:rect l="l" t="t" r="r" b="b"/>
            <a:pathLst>
              <a:path w="3456" h="1536">
                <a:moveTo>
                  <a:pt x="3264" y="1536"/>
                </a:moveTo>
                <a:cubicBezTo>
                  <a:pt x="3370" y="1536"/>
                  <a:pt x="3456" y="1450"/>
                  <a:pt x="3456" y="1344"/>
                </a:cubicBezTo>
                <a:lnTo>
                  <a:pt x="3456" y="192"/>
                </a:lnTo>
                <a:cubicBezTo>
                  <a:pt x="3456" y="86"/>
                  <a:pt x="3370" y="0"/>
                  <a:pt x="3264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344"/>
                </a:lnTo>
                <a:cubicBezTo>
                  <a:pt x="0" y="1450"/>
                  <a:pt x="86" y="1536"/>
                  <a:pt x="192" y="1536"/>
                </a:cubicBezTo>
                <a:lnTo>
                  <a:pt x="192" y="1536"/>
                </a:lnTo>
                <a:lnTo>
                  <a:pt x="3264" y="1536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378640" y="3638520"/>
            <a:ext cx="733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igher Lay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463600" y="3776760"/>
            <a:ext cx="535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5200" y="1065240"/>
            <a:ext cx="1792440" cy="100800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823160" y="2055960"/>
            <a:ext cx="370080" cy="574560"/>
          </a:xfrm>
          <a:custGeom>
            <a:avLst/>
            <a:gdLst/>
            <a:ahLst/>
            <a:rect l="l" t="t" r="r" b="b"/>
            <a:pathLst>
              <a:path w="233" h="362">
                <a:moveTo>
                  <a:pt x="175" y="53"/>
                </a:moveTo>
                <a:lnTo>
                  <a:pt x="233" y="53"/>
                </a:lnTo>
                <a:lnTo>
                  <a:pt x="117" y="0"/>
                </a:lnTo>
                <a:lnTo>
                  <a:pt x="0" y="53"/>
                </a:lnTo>
                <a:lnTo>
                  <a:pt x="58" y="53"/>
                </a:lnTo>
                <a:lnTo>
                  <a:pt x="58" y="308"/>
                </a:lnTo>
                <a:lnTo>
                  <a:pt x="0" y="308"/>
                </a:lnTo>
                <a:lnTo>
                  <a:pt x="117" y="362"/>
                </a:lnTo>
                <a:lnTo>
                  <a:pt x="233" y="308"/>
                </a:lnTo>
                <a:lnTo>
                  <a:pt x="175" y="308"/>
                </a:lnTo>
                <a:lnTo>
                  <a:pt x="17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823160" y="2055960"/>
            <a:ext cx="370080" cy="574560"/>
          </a:xfrm>
          <a:custGeom>
            <a:avLst/>
            <a:gdLst/>
            <a:ahLst/>
            <a:rect l="l" t="t" r="r" b="b"/>
            <a:pathLst>
              <a:path w="233" h="362">
                <a:moveTo>
                  <a:pt x="175" y="53"/>
                </a:moveTo>
                <a:lnTo>
                  <a:pt x="233" y="53"/>
                </a:lnTo>
                <a:lnTo>
                  <a:pt x="117" y="0"/>
                </a:lnTo>
                <a:lnTo>
                  <a:pt x="0" y="53"/>
                </a:lnTo>
                <a:lnTo>
                  <a:pt x="58" y="53"/>
                </a:lnTo>
                <a:lnTo>
                  <a:pt x="58" y="308"/>
                </a:lnTo>
                <a:lnTo>
                  <a:pt x="0" y="308"/>
                </a:lnTo>
                <a:lnTo>
                  <a:pt x="117" y="362"/>
                </a:lnTo>
                <a:lnTo>
                  <a:pt x="233" y="308"/>
                </a:lnTo>
                <a:lnTo>
                  <a:pt x="175" y="308"/>
                </a:lnTo>
                <a:lnTo>
                  <a:pt x="175" y="53"/>
                </a:ln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7976880" y="244080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rot="16200000">
            <a:off x="7976880" y="238680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16200000">
            <a:off x="7991640" y="234684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rot="16200000">
            <a:off x="7974720" y="2307240"/>
            <a:ext cx="5544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rot="16200000">
            <a:off x="7976880" y="22550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16200000">
            <a:off x="7991640" y="221508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6200000">
            <a:off x="7991640" y="2191320"/>
            <a:ext cx="219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16200000">
            <a:off x="7976880" y="216000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79760" y="4657680"/>
            <a:ext cx="2232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212760" y="1062000"/>
            <a:ext cx="9447120" cy="54403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8220240" y="5072040"/>
            <a:ext cx="921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17080" y="5072040"/>
            <a:ext cx="4395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PP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edia Independent Service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MIH users access IEEE 802.21 services through well defined SAP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More than one MIH user can have access to IEEE 802.21 services in order to integrate multiple mobility protocol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IEEE 802.21 services could be invoked to request operations on underlying resource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N’T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IEEE 802.21 does not replaces existing mobility management function and protocols already in place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edia Independent Event Service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90080" indent="-19008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59880" indent="-19296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Local and Remote Events are supported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59880" indent="-19296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Events might indicate link layer or physical layers state changes in real time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59880" indent="-19296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Events facilitate handover detection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59880" indent="-19296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Events are delivered according to IEEE 802.21 users preference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marL="190080" indent="-190080">
              <a:spcBef>
                <a:spcPts val="451"/>
              </a:spcBef>
              <a:spcAft>
                <a:spcPts val="451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DON’Ts: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59880" indent="-19296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Events do not propagate directly between heterogeneous stack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59880" indent="-192960"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Events do not enforce actions but rather suggest them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193680" y="0"/>
            <a:ext cx="95378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edia Independent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182520" indent="-18252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85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Provides heterogeneous network information within a particular geographical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85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Information might be delivered through access technology broadcast/multicast procedures or through data base queries at a remot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85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Information services are static in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DON’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85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IEEE 802.21 does not define how the information server is accessed, but only what information i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185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IEEE 802.21 does not specify how the information service might be implemented in a particula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93680" y="0"/>
            <a:ext cx="95378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edia Independent Command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190080" indent="-19008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1929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Commands might flow from the IEEE 802.21 MIH user to IEEE 802.21 MIH and from IEEE 802.21 MIH to link layer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1929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Commands might convey IEEE 802.21MIH user decision to switch from one access technology to the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1929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Commands have both remote and local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080" indent="-190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DON’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1929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Commands do not flow directly from one access technology to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1929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Commands do not replace existing mobility management protocols an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Design Principle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esign Assumptions DO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802.21 cross-layer entity interacting with multiple layers 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802.21 Facilitates handover determination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802.21 Provides a technology-independent unified interface to upper layers and MIH user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802.21 facilitates both station initiated and network initiated handover determination. Both local and remote triggers are supported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esign Assumptions DON’T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802.21 does not modify existing handover principles</a:t>
            </a:r>
            <a:endParaRPr b="0" lang="en-US" sz="2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okia Sans Wide"/>
              </a:rPr>
              <a:t>802.21 does not mandate handover determination based on 802.21 events. Events are informational in nature</a:t>
            </a:r>
            <a:r>
              <a:rPr b="0" lang="en-US" sz="2000" spc="-1" strike="noStrike">
                <a:solidFill>
                  <a:srgbClr val="44a51c"/>
                </a:solidFill>
                <a:latin typeface="Nokia Sans Wi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Scope of Current 802.21 Draft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Media Independent Handover Principles and Design Assumption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Supported Media Independent Service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Service Access Points and their Primitive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A protocol for the transport of Media Independent Handover service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Outline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What is IEEE 802.21and why are we here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Dos and Don’t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Reference Model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Current IEEE 802.21 Draft Scope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WLAN-3GPP2 Handovers Scenario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@ L2 vs. 802.21 @ L3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802.21 remote IS, ES and CS require a “transport”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Transport can be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@ L2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L2 specific signalling is used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.g. in 802.11 TGu will define transport of 802.21 I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r IS, applicable to both current and target acces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96" name=""/>
          <p:cNvSpPr/>
          <p:nvPr/>
        </p:nvSpPr>
        <p:spPr>
          <a:xfrm>
            <a:off x="3890880" y="4616280"/>
            <a:ext cx="1765440" cy="665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425680" y="464328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996160" y="4695840"/>
            <a:ext cx="122220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45320" y="4541760"/>
            <a:ext cx="501480" cy="22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8" idx="2"/>
            <a:endCxn id="496" idx="6"/>
          </p:cNvCxnSpPr>
          <p:nvPr/>
        </p:nvCxnSpPr>
        <p:spPr>
          <a:xfrm flipH="1">
            <a:off x="5656320" y="4947840"/>
            <a:ext cx="34020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01" name=""/>
          <p:cNvSpPr/>
          <p:nvPr/>
        </p:nvSpPr>
        <p:spPr>
          <a:xfrm>
            <a:off x="3998880" y="4789440"/>
            <a:ext cx="61272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67120" y="4944960"/>
            <a:ext cx="511200" cy="23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359240" y="4952880"/>
            <a:ext cx="501840" cy="22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502" idx="3"/>
            <a:endCxn id="503" idx="1"/>
          </p:cNvCxnSpPr>
          <p:nvPr/>
        </p:nvCxnSpPr>
        <p:spPr>
          <a:xfrm>
            <a:off x="3477960" y="5060880"/>
            <a:ext cx="881640" cy="7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05" name=""/>
          <p:cNvCxnSpPr>
            <a:stCxn id="503" idx="3"/>
            <a:endCxn id="499" idx="1"/>
          </p:cNvCxnSpPr>
          <p:nvPr/>
        </p:nvCxnSpPr>
        <p:spPr>
          <a:xfrm flipV="1">
            <a:off x="4861080" y="4655880"/>
            <a:ext cx="984960" cy="41184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6442200" y="5491080"/>
            <a:ext cx="914400" cy="276480"/>
          </a:xfr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Out of scope of 802.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41280" y="5584680"/>
            <a:ext cx="914400" cy="354240"/>
          </a:xfr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802.21 transported in L2 fram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@ L2 vs. 802.21 @ L3 (cont.d)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66720" indent="-1951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@ L3 and above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se existing IP connectivity to access and MIHF in the network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ffort to define 802.21 IS transport @ L3 and above has started in IETF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0" name=""/>
          <p:cNvSpPr/>
          <p:nvPr/>
        </p:nvSpPr>
        <p:spPr>
          <a:xfrm>
            <a:off x="2308320" y="344808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36800" y="3233880"/>
            <a:ext cx="1800360" cy="998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-PD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3747960" y="5037120"/>
            <a:ext cx="1800360" cy="674640"/>
            <a:chOff x="3747960" y="5037120"/>
            <a:chExt cx="1800360" cy="674640"/>
          </a:xfrm>
        </p:grpSpPr>
        <p:sp>
          <p:nvSpPr>
            <p:cNvPr id="513" name=""/>
            <p:cNvSpPr/>
            <p:nvPr/>
          </p:nvSpPr>
          <p:spPr>
            <a:xfrm>
              <a:off x="3747960" y="5037120"/>
              <a:ext cx="1800360" cy="674640"/>
            </a:xfrm>
            <a:prstGeom prst="ellipse">
              <a:avLst/>
            </a:prstGeom>
            <a:solidFill>
              <a:srgbClr val="afd4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Nokia Sans Wide"/>
                </a:rPr>
                <a:t>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Nokia Sans Wide"/>
                </a:rPr>
                <a:t>WiMA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Nokia Sans Wide"/>
                </a:rPr>
                <a:t>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Nokia Sans Wide"/>
                </a:rPr>
                <a:t>PD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14560" y="5133960"/>
              <a:ext cx="714600" cy="477720"/>
            </a:xfrm>
            <a:prstGeom prst="ellipse">
              <a:avLst/>
            </a:prstGeom>
            <a:solidFill>
              <a:srgbClr val="afd4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Nokia Sans Wide"/>
                </a:rPr>
                <a:t>802.16-A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3765600" y="4308480"/>
            <a:ext cx="1765080" cy="665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78440" y="3476520"/>
            <a:ext cx="216216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7600" y="3346560"/>
            <a:ext cx="612720" cy="27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76640" y="335268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>
            <a:stCxn id="516" idx="2"/>
            <a:endCxn id="511" idx="6"/>
          </p:cNvCxnSpPr>
          <p:nvPr/>
        </p:nvCxnSpPr>
        <p:spPr>
          <a:xfrm flipH="1">
            <a:off x="5536800" y="3728880"/>
            <a:ext cx="342000" cy="5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3"/>
            <a:endCxn id="517" idx="1"/>
          </p:cNvCxnSpPr>
          <p:nvPr/>
        </p:nvCxnSpPr>
        <p:spPr>
          <a:xfrm flipV="1">
            <a:off x="2889360" y="3485520"/>
            <a:ext cx="2838960" cy="68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21" name=""/>
          <p:cNvSpPr/>
          <p:nvPr/>
        </p:nvSpPr>
        <p:spPr>
          <a:xfrm>
            <a:off x="2308320" y="435132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878440" y="4387680"/>
            <a:ext cx="216216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27600" y="424980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76640" y="425592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"/>
          <p:cNvCxnSpPr>
            <a:stCxn id="522" idx="2"/>
            <a:endCxn id="515" idx="6"/>
          </p:cNvCxnSpPr>
          <p:nvPr/>
        </p:nvCxnSpPr>
        <p:spPr>
          <a:xfrm flipH="1">
            <a:off x="5530320" y="4640400"/>
            <a:ext cx="3484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26" name=""/>
          <p:cNvCxnSpPr>
            <a:stCxn id="524" idx="3"/>
            <a:endCxn id="523" idx="1"/>
          </p:cNvCxnSpPr>
          <p:nvPr/>
        </p:nvCxnSpPr>
        <p:spPr>
          <a:xfrm flipV="1">
            <a:off x="2889360" y="4389120"/>
            <a:ext cx="2838960" cy="7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27" name=""/>
          <p:cNvSpPr/>
          <p:nvPr/>
        </p:nvSpPr>
        <p:spPr>
          <a:xfrm>
            <a:off x="2308320" y="508644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878440" y="5122800"/>
            <a:ext cx="216216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27600" y="4984920"/>
            <a:ext cx="612720" cy="27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276640" y="499104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>
            <a:stCxn id="528" idx="2"/>
            <a:endCxn id="513" idx="6"/>
          </p:cNvCxnSpPr>
          <p:nvPr/>
        </p:nvCxnSpPr>
        <p:spPr>
          <a:xfrm flipH="1">
            <a:off x="5547600" y="5374800"/>
            <a:ext cx="3308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30" idx="3"/>
            <a:endCxn id="529" idx="1"/>
          </p:cNvCxnSpPr>
          <p:nvPr/>
        </p:nvCxnSpPr>
        <p:spPr>
          <a:xfrm flipV="1">
            <a:off x="2889360" y="5123880"/>
            <a:ext cx="2838960" cy="68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907920" y="4010040"/>
            <a:ext cx="914400" cy="353880"/>
          </a:xfr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802.21 transported @ L3 or abo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659720" y="3346560"/>
            <a:ext cx="612720" cy="27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5" name=""/>
          <p:cNvCxnSpPr>
            <a:stCxn id="517" idx="3"/>
            <a:endCxn id="534" idx="1"/>
          </p:cNvCxnSpPr>
          <p:nvPr/>
        </p:nvCxnSpPr>
        <p:spPr>
          <a:xfrm>
            <a:off x="6339960" y="3485880"/>
            <a:ext cx="13201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36" name=""/>
          <p:cNvSpPr/>
          <p:nvPr/>
        </p:nvSpPr>
        <p:spPr>
          <a:xfrm>
            <a:off x="7659720" y="424980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7" name=""/>
          <p:cNvCxnSpPr>
            <a:stCxn id="523" idx="3"/>
            <a:endCxn id="536" idx="1"/>
          </p:cNvCxnSpPr>
          <p:nvPr/>
        </p:nvCxnSpPr>
        <p:spPr>
          <a:xfrm>
            <a:off x="6339960" y="4389120"/>
            <a:ext cx="13201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38" name=""/>
          <p:cNvSpPr/>
          <p:nvPr/>
        </p:nvSpPr>
        <p:spPr>
          <a:xfrm>
            <a:off x="7659720" y="4984920"/>
            <a:ext cx="612720" cy="27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29" idx="3"/>
            <a:endCxn id="538" idx="1"/>
          </p:cNvCxnSpPr>
          <p:nvPr/>
        </p:nvCxnSpPr>
        <p:spPr>
          <a:xfrm>
            <a:off x="6339960" y="5124240"/>
            <a:ext cx="13201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40" name=""/>
          <p:cNvSpPr/>
          <p:nvPr/>
        </p:nvSpPr>
        <p:spPr>
          <a:xfrm>
            <a:off x="8572680" y="3959280"/>
            <a:ext cx="914400" cy="268200"/>
          </a:xfr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In scope of 802.21/IET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@ L2 vs. 802.21 @ L3 (cont.d)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sage of L2 versus L3 and MIH services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43" name=""/>
          <p:cNvSpPr/>
          <p:nvPr/>
        </p:nvSpPr>
        <p:spPr>
          <a:xfrm>
            <a:off x="5429160" y="2782800"/>
            <a:ext cx="2033640" cy="163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54720" y="2987640"/>
            <a:ext cx="1800000" cy="1349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-PD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558120" y="2790720"/>
            <a:ext cx="612720" cy="26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257960" y="2141640"/>
            <a:ext cx="122256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7" name=""/>
          <p:cNvCxnSpPr>
            <a:stCxn id="543" idx="0"/>
            <a:endCxn id="546" idx="3"/>
          </p:cNvCxnSpPr>
          <p:nvPr/>
        </p:nvCxnSpPr>
        <p:spPr>
          <a:xfrm flipV="1">
            <a:off x="6446880" y="2571480"/>
            <a:ext cx="991440" cy="211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48" name=""/>
          <p:cNvSpPr/>
          <p:nvPr/>
        </p:nvSpPr>
        <p:spPr>
          <a:xfrm>
            <a:off x="6426360" y="4714920"/>
            <a:ext cx="1131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Current active conn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50" idx="0"/>
            <a:endCxn id="546" idx="4"/>
          </p:cNvCxnSpPr>
          <p:nvPr/>
        </p:nvCxnSpPr>
        <p:spPr>
          <a:xfrm flipH="1" flipV="1">
            <a:off x="7868880" y="2644200"/>
            <a:ext cx="216720" cy="965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7505640" y="3610080"/>
            <a:ext cx="1158840" cy="66492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121600" y="3576600"/>
            <a:ext cx="612720" cy="26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82720" y="4664160"/>
            <a:ext cx="976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, ES and C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3" name=""/>
          <p:cNvCxnSpPr/>
          <p:nvPr/>
        </p:nvCxnSpPr>
        <p:spPr>
          <a:xfrm flipH="1">
            <a:off x="8523360" y="2109960"/>
            <a:ext cx="30600" cy="19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54" name=""/>
          <p:cNvSpPr/>
          <p:nvPr/>
        </p:nvSpPr>
        <p:spPr>
          <a:xfrm>
            <a:off x="6962760" y="513720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702480" y="546084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5" idx="1"/>
            <a:endCxn id="545" idx="1"/>
          </p:cNvCxnSpPr>
          <p:nvPr/>
        </p:nvCxnSpPr>
        <p:spPr>
          <a:xfrm rot="10800000">
            <a:off x="6557400" y="2920320"/>
            <a:ext cx="144720" cy="2680560"/>
          </a:xfrm>
          <a:prstGeom prst="curvedConnector5">
            <a:avLst>
              <a:gd name="adj1" fmla="val 258852"/>
              <a:gd name="adj2" fmla="val 49993"/>
              <a:gd name="adj3" fmla="val 258852"/>
            </a:avLst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57" name=""/>
          <p:cNvCxnSpPr>
            <a:stCxn id="554" idx="0"/>
            <a:endCxn id="544" idx="4"/>
          </p:cNvCxnSpPr>
          <p:nvPr/>
        </p:nvCxnSpPr>
        <p:spPr>
          <a:xfrm flipH="1" flipV="1">
            <a:off x="6354000" y="4336200"/>
            <a:ext cx="104364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8" name=""/>
          <p:cNvCxnSpPr>
            <a:stCxn id="554" idx="0"/>
            <a:endCxn id="550" idx="4"/>
          </p:cNvCxnSpPr>
          <p:nvPr/>
        </p:nvCxnSpPr>
        <p:spPr>
          <a:xfrm flipV="1">
            <a:off x="7397640" y="4274280"/>
            <a:ext cx="687960" cy="8629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59" name=""/>
          <p:cNvSpPr/>
          <p:nvPr/>
        </p:nvSpPr>
        <p:spPr>
          <a:xfrm>
            <a:off x="7713360" y="4513320"/>
            <a:ext cx="8056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 =&gt; TG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092240" y="2782800"/>
            <a:ext cx="2033640" cy="163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117440" y="2987640"/>
            <a:ext cx="1800360" cy="1349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-PD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20840" y="2790720"/>
            <a:ext cx="612720" cy="26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21040" y="2141640"/>
            <a:ext cx="122220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4" name=""/>
          <p:cNvCxnSpPr>
            <a:stCxn id="560" idx="0"/>
            <a:endCxn id="563" idx="3"/>
          </p:cNvCxnSpPr>
          <p:nvPr/>
        </p:nvCxnSpPr>
        <p:spPr>
          <a:xfrm flipV="1">
            <a:off x="2109600" y="2571480"/>
            <a:ext cx="991080" cy="211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65" name=""/>
          <p:cNvSpPr/>
          <p:nvPr/>
        </p:nvSpPr>
        <p:spPr>
          <a:xfrm>
            <a:off x="2089080" y="4714920"/>
            <a:ext cx="1131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Current active conn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7" idx="0"/>
            <a:endCxn id="563" idx="4"/>
          </p:cNvCxnSpPr>
          <p:nvPr/>
        </p:nvCxnSpPr>
        <p:spPr>
          <a:xfrm flipH="1" flipV="1">
            <a:off x="3531600" y="2644200"/>
            <a:ext cx="216360" cy="965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3168720" y="3610080"/>
            <a:ext cx="1158840" cy="66492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84680" y="3576600"/>
            <a:ext cx="612720" cy="26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045440" y="4664160"/>
            <a:ext cx="976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, ES and C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/>
          <p:nvPr/>
        </p:nvCxnSpPr>
        <p:spPr>
          <a:xfrm flipH="1">
            <a:off x="4186080" y="2109960"/>
            <a:ext cx="30600" cy="19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71" name=""/>
          <p:cNvSpPr/>
          <p:nvPr/>
        </p:nvSpPr>
        <p:spPr>
          <a:xfrm>
            <a:off x="2625840" y="513720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365200" y="5460840"/>
            <a:ext cx="61308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3" name=""/>
          <p:cNvCxnSpPr>
            <a:stCxn id="572" idx="1"/>
            <a:endCxn id="562" idx="1"/>
          </p:cNvCxnSpPr>
          <p:nvPr/>
        </p:nvCxnSpPr>
        <p:spPr>
          <a:xfrm rot="10800000">
            <a:off x="2220120" y="2920320"/>
            <a:ext cx="144720" cy="2680560"/>
          </a:xfrm>
          <a:prstGeom prst="curvedConnector5">
            <a:avLst>
              <a:gd name="adj1" fmla="val 258852"/>
              <a:gd name="adj2" fmla="val 49993"/>
              <a:gd name="adj3" fmla="val 258852"/>
            </a:avLst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74" name=""/>
          <p:cNvCxnSpPr>
            <a:stCxn id="571" idx="0"/>
            <a:endCxn id="561" idx="4"/>
          </p:cNvCxnSpPr>
          <p:nvPr/>
        </p:nvCxnSpPr>
        <p:spPr>
          <a:xfrm flipH="1" flipV="1">
            <a:off x="2017080" y="4336200"/>
            <a:ext cx="104364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5" name=""/>
          <p:cNvCxnSpPr>
            <a:stCxn id="571" idx="0"/>
            <a:endCxn id="567" idx="4"/>
          </p:cNvCxnSpPr>
          <p:nvPr/>
        </p:nvCxnSpPr>
        <p:spPr>
          <a:xfrm flipV="1">
            <a:off x="3060360" y="4274280"/>
            <a:ext cx="687960" cy="862920"/>
          </a:xfrm>
          <a:prstGeom prst="straightConnector1">
            <a:avLst/>
          </a:prstGeom>
          <a:ln w="19080">
            <a:solidFill>
              <a:srgbClr val="969696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76" name=""/>
          <p:cNvSpPr/>
          <p:nvPr/>
        </p:nvSpPr>
        <p:spPr>
          <a:xfrm>
            <a:off x="3452400" y="4780080"/>
            <a:ext cx="9900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No 802.21 @ L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3331800" y="4587840"/>
            <a:ext cx="214560" cy="174600"/>
            <a:chOff x="3331800" y="4587840"/>
            <a:chExt cx="214560" cy="174600"/>
          </a:xfrm>
        </p:grpSpPr>
        <p:sp>
          <p:nvSpPr>
            <p:cNvPr id="578" name=""/>
            <p:cNvSpPr/>
            <p:nvPr/>
          </p:nvSpPr>
          <p:spPr>
            <a:xfrm>
              <a:off x="3332160" y="4587840"/>
              <a:ext cx="214200" cy="17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3331800" y="4587840"/>
              <a:ext cx="214200" cy="17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887480" y="5899320"/>
            <a:ext cx="15415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Legacy (pre-TGu WLAN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30760" y="5899320"/>
            <a:ext cx="13420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TGu-enabled WLAN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080720" y="2835360"/>
            <a:ext cx="882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 Ope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57240" y="2835360"/>
            <a:ext cx="882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 Ope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457200" y="228600"/>
            <a:ext cx="895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@ L2 vs. 802.21 @ L3 (cont.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57200" y="1143000"/>
            <a:ext cx="8991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sage of L2 versus L3 and MIH servi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92240" y="2782800"/>
            <a:ext cx="3413160" cy="163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17440" y="2987640"/>
            <a:ext cx="1800360" cy="1349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-PD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220840" y="2846520"/>
            <a:ext cx="612720" cy="26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21040" y="2141640"/>
            <a:ext cx="122220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6" idx="0"/>
            <a:endCxn id="589" idx="3"/>
          </p:cNvCxnSpPr>
          <p:nvPr/>
        </p:nvCxnSpPr>
        <p:spPr>
          <a:xfrm flipV="1">
            <a:off x="2798640" y="2571480"/>
            <a:ext cx="302400" cy="211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394000" y="4616280"/>
            <a:ext cx="1131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Current active conn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68720" y="3610080"/>
            <a:ext cx="1158840" cy="66492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06040" y="4489560"/>
            <a:ext cx="976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, ES and C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4" name=""/>
          <p:cNvCxnSpPr/>
          <p:nvPr/>
        </p:nvCxnSpPr>
        <p:spPr>
          <a:xfrm flipH="1">
            <a:off x="4186080" y="2109960"/>
            <a:ext cx="30600" cy="19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95" name=""/>
          <p:cNvSpPr/>
          <p:nvPr/>
        </p:nvSpPr>
        <p:spPr>
          <a:xfrm>
            <a:off x="2625840" y="513720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365200" y="5460840"/>
            <a:ext cx="61308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7" name=""/>
          <p:cNvCxnSpPr>
            <a:stCxn id="596" idx="3"/>
            <a:endCxn id="588" idx="3"/>
          </p:cNvCxnSpPr>
          <p:nvPr/>
        </p:nvCxnSpPr>
        <p:spPr>
          <a:xfrm flipH="1" flipV="1">
            <a:off x="2833200" y="2976120"/>
            <a:ext cx="145440" cy="2625120"/>
          </a:xfrm>
          <a:prstGeom prst="curvedConnector5">
            <a:avLst>
              <a:gd name="adj1" fmla="val -732754"/>
              <a:gd name="adj2" fmla="val 49993"/>
              <a:gd name="adj3" fmla="val -732754"/>
            </a:avLst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98" name=""/>
          <p:cNvCxnSpPr>
            <a:stCxn id="595" idx="0"/>
            <a:endCxn id="592" idx="4"/>
          </p:cNvCxnSpPr>
          <p:nvPr/>
        </p:nvCxnSpPr>
        <p:spPr>
          <a:xfrm flipV="1">
            <a:off x="3060360" y="4274280"/>
            <a:ext cx="687960" cy="86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3452400" y="4780080"/>
            <a:ext cx="9900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No 802.21 @ L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887480" y="5899320"/>
            <a:ext cx="15415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Legacy (pre-TGu WLAN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530760" y="5899320"/>
            <a:ext cx="13420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TGu-enabled WLAN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730560" y="4575240"/>
            <a:ext cx="8056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 =&gt; TG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41840" y="2782800"/>
            <a:ext cx="3413160" cy="163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67400" y="2987640"/>
            <a:ext cx="1800360" cy="134928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-PD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670800" y="2846520"/>
            <a:ext cx="612720" cy="26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370640" y="2141640"/>
            <a:ext cx="1222560" cy="503280"/>
          </a:xfrm>
          <a:prstGeom prst="ellipse">
            <a:avLst/>
          </a:prstGeom>
          <a:solidFill>
            <a:srgbClr val="fcff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7" name=""/>
          <p:cNvCxnSpPr>
            <a:stCxn id="603" idx="0"/>
            <a:endCxn id="606" idx="3"/>
          </p:cNvCxnSpPr>
          <p:nvPr/>
        </p:nvCxnSpPr>
        <p:spPr>
          <a:xfrm flipV="1">
            <a:off x="7248600" y="2571480"/>
            <a:ext cx="302400" cy="211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08" name=""/>
          <p:cNvSpPr/>
          <p:nvPr/>
        </p:nvSpPr>
        <p:spPr>
          <a:xfrm>
            <a:off x="7589880" y="4684680"/>
            <a:ext cx="1131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Nokia Sans Wide"/>
              </a:rPr>
              <a:t>Current active conn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18320" y="3610080"/>
            <a:ext cx="1158840" cy="664920"/>
          </a:xfrm>
          <a:prstGeom prst="ellipse">
            <a:avLst/>
          </a:prstGeom>
          <a:solidFill>
            <a:srgbClr val="afd4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802.11-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406720" y="4473720"/>
            <a:ext cx="976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802.21 @ L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Nokia Sans Wide"/>
              </a:rPr>
              <a:t>(IS, ES and C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1" name=""/>
          <p:cNvCxnSpPr/>
          <p:nvPr/>
        </p:nvCxnSpPr>
        <p:spPr>
          <a:xfrm flipH="1">
            <a:off x="8636040" y="2109960"/>
            <a:ext cx="30600" cy="19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12" name=""/>
          <p:cNvSpPr/>
          <p:nvPr/>
        </p:nvSpPr>
        <p:spPr>
          <a:xfrm>
            <a:off x="7075440" y="5137200"/>
            <a:ext cx="868320" cy="54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5160" y="5460840"/>
            <a:ext cx="61272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MIHF</a:t>
            </a:r>
            <a:r>
              <a:rPr b="0" lang="en-US" sz="900" spc="-1" strike="noStrike" baseline="-25000">
                <a:solidFill>
                  <a:srgbClr val="000000"/>
                </a:solidFill>
                <a:latin typeface="Nokia Sans Wide"/>
              </a:rPr>
              <a:t>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4" name=""/>
          <p:cNvCxnSpPr>
            <a:stCxn id="613" idx="3"/>
            <a:endCxn id="605" idx="3"/>
          </p:cNvCxnSpPr>
          <p:nvPr/>
        </p:nvCxnSpPr>
        <p:spPr>
          <a:xfrm flipH="1" flipV="1">
            <a:off x="7283160" y="2976120"/>
            <a:ext cx="144720" cy="2625120"/>
          </a:xfrm>
          <a:prstGeom prst="curvedConnector5">
            <a:avLst>
              <a:gd name="adj1" fmla="val -909725"/>
              <a:gd name="adj2" fmla="val 49993"/>
              <a:gd name="adj3" fmla="val -909725"/>
            </a:avLst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15" name=""/>
          <p:cNvCxnSpPr>
            <a:stCxn id="612" idx="0"/>
            <a:endCxn id="609" idx="4"/>
          </p:cNvCxnSpPr>
          <p:nvPr/>
        </p:nvCxnSpPr>
        <p:spPr>
          <a:xfrm flipV="1">
            <a:off x="7510320" y="4274280"/>
            <a:ext cx="687960" cy="86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6" name=""/>
          <p:cNvCxnSpPr/>
          <p:nvPr/>
        </p:nvCxnSpPr>
        <p:spPr>
          <a:xfrm flipV="1">
            <a:off x="7353000" y="4274280"/>
            <a:ext cx="687960" cy="8629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617" name=""/>
          <p:cNvSpPr/>
          <p:nvPr/>
        </p:nvSpPr>
        <p:spPr>
          <a:xfrm>
            <a:off x="3476160" y="2835360"/>
            <a:ext cx="882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 Ope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954560" y="2835360"/>
            <a:ext cx="882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Nokia Sans Wide"/>
              </a:rPr>
              <a:t>3G Oper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247680" y="76320"/>
            <a:ext cx="941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3de8"/>
                </a:solidFill>
                <a:latin typeface="Nokia Large"/>
              </a:rPr>
              <a:t>3GPP2-WLAN Exam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057320" y="785880"/>
            <a:ext cx="7910640" cy="5743440"/>
            <a:chOff x="1057320" y="785880"/>
            <a:chExt cx="7910640" cy="5743440"/>
          </a:xfrm>
        </p:grpSpPr>
        <p:sp>
          <p:nvSpPr>
            <p:cNvPr id="621" name=""/>
            <p:cNvSpPr/>
            <p:nvPr/>
          </p:nvSpPr>
          <p:spPr>
            <a:xfrm>
              <a:off x="1577880" y="1133640"/>
              <a:ext cx="180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761080" y="1133640"/>
              <a:ext cx="144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484360" y="1133640"/>
              <a:ext cx="180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973240" y="1042920"/>
              <a:ext cx="1800" cy="548640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90840" y="1133640"/>
              <a:ext cx="180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996920" y="1133640"/>
              <a:ext cx="180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388200" y="785880"/>
              <a:ext cx="766800" cy="315720"/>
            </a:xfrm>
            <a:custGeom>
              <a:avLst/>
              <a:gdLst/>
              <a:ahLst/>
              <a:rect l="l" t="t" r="r" b="b"/>
              <a:pathLst>
                <a:path w="483" h="199">
                  <a:moveTo>
                    <a:pt x="0" y="0"/>
                  </a:moveTo>
                  <a:lnTo>
                    <a:pt x="0" y="199"/>
                  </a:lnTo>
                  <a:lnTo>
                    <a:pt x="483" y="199"/>
                  </a:lnTo>
                  <a:lnTo>
                    <a:pt x="4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388200" y="785880"/>
              <a:ext cx="766800" cy="315720"/>
            </a:xfrm>
            <a:prstGeom prst="rect">
              <a:avLst/>
            </a:prstGeom>
            <a:noFill/>
            <a:ln cap="rnd" w="3492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661800" y="808200"/>
              <a:ext cx="24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M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33600" y="80820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43720" y="95400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MIH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832080" y="954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97600" y="954000"/>
              <a:ext cx="17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N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271000" y="785880"/>
              <a:ext cx="696960" cy="315720"/>
            </a:xfrm>
            <a:custGeom>
              <a:avLst/>
              <a:gdLst/>
              <a:ahLst/>
              <a:rect l="l" t="t" r="r" b="b"/>
              <a:pathLst>
                <a:path w="439" h="199">
                  <a:moveTo>
                    <a:pt x="0" y="0"/>
                  </a:moveTo>
                  <a:lnTo>
                    <a:pt x="0" y="199"/>
                  </a:lnTo>
                  <a:lnTo>
                    <a:pt x="439" y="199"/>
                  </a:lnTo>
                  <a:lnTo>
                    <a:pt x="43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271000" y="785880"/>
              <a:ext cx="696960" cy="315720"/>
            </a:xfrm>
            <a:prstGeom prst="rect">
              <a:avLst/>
            </a:prstGeom>
            <a:noFill/>
            <a:ln cap="rnd" w="3492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525520" y="808200"/>
              <a:ext cx="17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8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728920" y="80820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784720" y="80820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11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637840" y="954000"/>
              <a:ext cx="150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688240" y="1133640"/>
              <a:ext cx="180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07240" y="1133640"/>
              <a:ext cx="1440" cy="5395680"/>
            </a:xfrm>
            <a:prstGeom prst="line">
              <a:avLst/>
            </a:prstGeom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81320" y="1182600"/>
              <a:ext cx="482400" cy="277920"/>
            </a:xfrm>
            <a:custGeom>
              <a:avLst/>
              <a:gdLst/>
              <a:ahLst/>
              <a:rect l="l" t="t" r="r" b="b"/>
              <a:pathLst>
                <a:path w="304" h="175">
                  <a:moveTo>
                    <a:pt x="0" y="0"/>
                  </a:moveTo>
                  <a:lnTo>
                    <a:pt x="0" y="175"/>
                  </a:lnTo>
                  <a:lnTo>
                    <a:pt x="304" y="175"/>
                  </a:lnTo>
                  <a:lnTo>
                    <a:pt x="30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460960" y="1184400"/>
              <a:ext cx="11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599560" y="11844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49080" y="1317600"/>
              <a:ext cx="178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N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413320" y="785880"/>
              <a:ext cx="695520" cy="315720"/>
            </a:xfrm>
            <a:custGeom>
              <a:avLst/>
              <a:gdLst/>
              <a:ahLst/>
              <a:rect l="l" t="t" r="r" b="b"/>
              <a:pathLst>
                <a:path w="438" h="199">
                  <a:moveTo>
                    <a:pt x="0" y="0"/>
                  </a:moveTo>
                  <a:lnTo>
                    <a:pt x="0" y="199"/>
                  </a:lnTo>
                  <a:lnTo>
                    <a:pt x="438" y="199"/>
                  </a:lnTo>
                  <a:lnTo>
                    <a:pt x="43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13320" y="785880"/>
              <a:ext cx="695520" cy="315720"/>
            </a:xfrm>
            <a:prstGeom prst="rect">
              <a:avLst/>
            </a:prstGeom>
            <a:noFill/>
            <a:ln cap="rnd" w="3492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739480" y="808200"/>
              <a:ext cx="5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10760" y="808200"/>
              <a:ext cx="8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08320" y="808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28680" y="95400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PD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00320" y="785880"/>
              <a:ext cx="2300040" cy="315720"/>
            </a:xfrm>
            <a:custGeom>
              <a:avLst/>
              <a:gdLst/>
              <a:ahLst/>
              <a:rect l="l" t="t" r="r" b="b"/>
              <a:pathLst>
                <a:path w="1449" h="199">
                  <a:moveTo>
                    <a:pt x="0" y="0"/>
                  </a:moveTo>
                  <a:lnTo>
                    <a:pt x="0" y="199"/>
                  </a:lnTo>
                  <a:lnTo>
                    <a:pt x="1449" y="199"/>
                  </a:lnTo>
                  <a:lnTo>
                    <a:pt x="144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00320" y="785880"/>
              <a:ext cx="2300040" cy="315720"/>
            </a:xfrm>
            <a:prstGeom prst="rect">
              <a:avLst/>
            </a:prstGeom>
            <a:noFill/>
            <a:ln cap="rnd" w="3492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330280" y="880920"/>
              <a:ext cx="20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S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71120" y="88092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27280" y="8809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24040" y="1212840"/>
              <a:ext cx="557280" cy="187200"/>
            </a:xfrm>
            <a:custGeom>
              <a:avLst/>
              <a:gdLst/>
              <a:ahLst/>
              <a:rect l="l" t="t" r="r" b="b"/>
              <a:pathLst>
                <a:path w="351" h="118">
                  <a:moveTo>
                    <a:pt x="0" y="0"/>
                  </a:moveTo>
                  <a:lnTo>
                    <a:pt x="0" y="118"/>
                  </a:lnTo>
                  <a:lnTo>
                    <a:pt x="351" y="118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836800" y="12510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8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999520" y="1251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051360" y="125100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181320" y="1212840"/>
              <a:ext cx="557280" cy="187200"/>
            </a:xfrm>
            <a:custGeom>
              <a:avLst/>
              <a:gdLst/>
              <a:ahLst/>
              <a:rect l="l" t="t" r="r" b="b"/>
              <a:pathLst>
                <a:path w="351" h="118">
                  <a:moveTo>
                    <a:pt x="0" y="0"/>
                  </a:moveTo>
                  <a:lnTo>
                    <a:pt x="0" y="118"/>
                  </a:lnTo>
                  <a:lnTo>
                    <a:pt x="351" y="118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394080" y="12510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8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558240" y="1251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610080" y="125100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87400" y="1182600"/>
              <a:ext cx="487440" cy="277920"/>
            </a:xfrm>
            <a:custGeom>
              <a:avLst/>
              <a:gdLst/>
              <a:ahLst/>
              <a:rect l="l" t="t" r="r" b="b"/>
              <a:pathLst>
                <a:path w="307" h="175">
                  <a:moveTo>
                    <a:pt x="0" y="0"/>
                  </a:moveTo>
                  <a:lnTo>
                    <a:pt x="0" y="175"/>
                  </a:lnTo>
                  <a:lnTo>
                    <a:pt x="307" y="175"/>
                  </a:lnTo>
                  <a:lnTo>
                    <a:pt x="30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979640" y="120492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MIH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965600" y="1330200"/>
              <a:ext cx="18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368360" y="1212840"/>
              <a:ext cx="390600" cy="187200"/>
            </a:xfrm>
            <a:custGeom>
              <a:avLst/>
              <a:gdLst/>
              <a:ahLst/>
              <a:rect l="l" t="t" r="r" b="b"/>
              <a:pathLst>
                <a:path w="246" h="118">
                  <a:moveTo>
                    <a:pt x="0" y="0"/>
                  </a:moveTo>
                  <a:lnTo>
                    <a:pt x="0" y="118"/>
                  </a:lnTo>
                  <a:lnTo>
                    <a:pt x="246" y="118"/>
                  </a:lnTo>
                  <a:lnTo>
                    <a:pt x="24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470240" y="125100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Cli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484360" y="4516560"/>
              <a:ext cx="1800" cy="99216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390840" y="4575240"/>
              <a:ext cx="1800" cy="93348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996920" y="4624560"/>
              <a:ext cx="1800" cy="71424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484360" y="4654440"/>
              <a:ext cx="1800" cy="65592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390840" y="4664160"/>
              <a:ext cx="1800" cy="67464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994040" y="4556160"/>
              <a:ext cx="1440" cy="95256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68160" y="3925800"/>
              <a:ext cx="538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 COMMA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993760" y="4660920"/>
              <a:ext cx="43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INK EV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24320" y="4813200"/>
              <a:ext cx="375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EV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891160" y="4091040"/>
              <a:ext cx="573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INK COMMA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73240" y="3121200"/>
              <a:ext cx="33516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81400" y="3079800"/>
              <a:ext cx="109440" cy="824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0" y="200"/>
                  </a:lnTo>
                  <a:cubicBezTo>
                    <a:pt x="32" y="137"/>
                    <a:pt x="32" y="63"/>
                    <a:pt x="0" y="0"/>
                  </a:cubicBezTo>
                  <a:lnTo>
                    <a:pt x="0" y="0"/>
                  </a:lnTo>
                  <a:lnTo>
                    <a:pt x="20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97320" y="3273480"/>
              <a:ext cx="329724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667560" y="3232080"/>
              <a:ext cx="109440" cy="82800"/>
            </a:xfrm>
            <a:custGeom>
              <a:avLst/>
              <a:gdLst/>
              <a:ahLst/>
              <a:rect l="l" t="t" r="r" b="b"/>
              <a:pathLst>
                <a:path w="199" h="199">
                  <a:moveTo>
                    <a:pt x="199" y="99"/>
                  </a:moveTo>
                  <a:lnTo>
                    <a:pt x="0" y="199"/>
                  </a:lnTo>
                  <a:cubicBezTo>
                    <a:pt x="31" y="136"/>
                    <a:pt x="31" y="62"/>
                    <a:pt x="0" y="0"/>
                  </a:cubicBezTo>
                  <a:lnTo>
                    <a:pt x="0" y="0"/>
                  </a:lnTo>
                  <a:lnTo>
                    <a:pt x="199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365720" y="3220920"/>
              <a:ext cx="1433520" cy="1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490280" y="3218040"/>
              <a:ext cx="74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 REMOTE EVENT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373720" y="321804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414760" y="3218040"/>
              <a:ext cx="12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in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69200" y="321804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_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636520" y="3218040"/>
              <a:ext cx="133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inf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791320" y="321804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996920" y="4041720"/>
              <a:ext cx="1311480" cy="180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81400" y="4000680"/>
              <a:ext cx="109440" cy="824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0" y="200"/>
                  </a:lnTo>
                  <a:cubicBezTo>
                    <a:pt x="32" y="137"/>
                    <a:pt x="32" y="63"/>
                    <a:pt x="0" y="0"/>
                  </a:cubicBezTo>
                  <a:lnTo>
                    <a:pt x="20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3054240" y="4200120"/>
              <a:ext cx="336600" cy="180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73240" y="4160880"/>
              <a:ext cx="108000" cy="81000"/>
            </a:xfrm>
            <a:custGeom>
              <a:avLst/>
              <a:gdLst/>
              <a:ahLst/>
              <a:rect l="l" t="t" r="r" b="b"/>
              <a:pathLst>
                <a:path w="199" h="199">
                  <a:moveTo>
                    <a:pt x="0" y="100"/>
                  </a:moveTo>
                  <a:lnTo>
                    <a:pt x="199" y="0"/>
                  </a:lnTo>
                  <a:cubicBezTo>
                    <a:pt x="168" y="63"/>
                    <a:pt x="168" y="137"/>
                    <a:pt x="199" y="199"/>
                  </a:cubicBez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973240" y="4782960"/>
              <a:ext cx="335160" cy="180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81400" y="4743360"/>
              <a:ext cx="109440" cy="82800"/>
            </a:xfrm>
            <a:custGeom>
              <a:avLst/>
              <a:gdLst/>
              <a:ahLst/>
              <a:rect l="l" t="t" r="r" b="b"/>
              <a:pathLst>
                <a:path w="200" h="199">
                  <a:moveTo>
                    <a:pt x="200" y="101"/>
                  </a:moveTo>
                  <a:lnTo>
                    <a:pt x="0" y="199"/>
                  </a:lnTo>
                  <a:cubicBezTo>
                    <a:pt x="31" y="137"/>
                    <a:pt x="32" y="63"/>
                    <a:pt x="1" y="0"/>
                  </a:cubicBezTo>
                  <a:lnTo>
                    <a:pt x="1" y="0"/>
                  </a:lnTo>
                  <a:lnTo>
                    <a:pt x="20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079720" y="4923000"/>
              <a:ext cx="131292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996920" y="4881600"/>
              <a:ext cx="108000" cy="82440"/>
            </a:xfrm>
            <a:custGeom>
              <a:avLst/>
              <a:gdLst/>
              <a:ahLst/>
              <a:rect l="l" t="t" r="r" b="b"/>
              <a:pathLst>
                <a:path w="199" h="200">
                  <a:moveTo>
                    <a:pt x="0" y="100"/>
                  </a:moveTo>
                  <a:lnTo>
                    <a:pt x="199" y="0"/>
                  </a:lnTo>
                  <a:cubicBezTo>
                    <a:pt x="168" y="63"/>
                    <a:pt x="168" y="137"/>
                    <a:pt x="199" y="200"/>
                  </a:cubicBez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996920" y="5646600"/>
              <a:ext cx="1311480" cy="180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81400" y="5605560"/>
              <a:ext cx="109440" cy="824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0" y="200"/>
                  </a:lnTo>
                  <a:cubicBezTo>
                    <a:pt x="32" y="137"/>
                    <a:pt x="32" y="63"/>
                    <a:pt x="0" y="0"/>
                  </a:cubicBezTo>
                  <a:lnTo>
                    <a:pt x="20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26480" y="5540400"/>
              <a:ext cx="518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COMMA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567160" y="5826240"/>
              <a:ext cx="82368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84360" y="5784840"/>
              <a:ext cx="109440" cy="824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0" y="100"/>
                  </a:moveTo>
                  <a:lnTo>
                    <a:pt x="200" y="0"/>
                  </a:lnTo>
                  <a:cubicBezTo>
                    <a:pt x="168" y="63"/>
                    <a:pt x="168" y="137"/>
                    <a:pt x="200" y="200"/>
                  </a:cubicBez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973240" y="4556160"/>
              <a:ext cx="1800" cy="193500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74840" y="1500120"/>
              <a:ext cx="3625920" cy="265320"/>
            </a:xfrm>
            <a:custGeom>
              <a:avLst/>
              <a:gdLst/>
              <a:ahLst/>
              <a:rect l="l" t="t" r="r" b="b"/>
              <a:pathLst>
                <a:path w="6659" h="639">
                  <a:moveTo>
                    <a:pt x="107" y="0"/>
                  </a:moveTo>
                  <a:cubicBezTo>
                    <a:pt x="4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1"/>
                    <a:pt x="48" y="639"/>
                    <a:pt x="107" y="639"/>
                  </a:cubicBezTo>
                  <a:lnTo>
                    <a:pt x="6552" y="639"/>
                  </a:lnTo>
                  <a:cubicBezTo>
                    <a:pt x="6611" y="639"/>
                    <a:pt x="6659" y="591"/>
                    <a:pt x="6659" y="533"/>
                  </a:cubicBezTo>
                  <a:lnTo>
                    <a:pt x="6659" y="107"/>
                  </a:lnTo>
                  <a:cubicBezTo>
                    <a:pt x="6659" y="48"/>
                    <a:pt x="6611" y="0"/>
                    <a:pt x="6552" y="0"/>
                  </a:cubicBezTo>
                  <a:lnTo>
                    <a:pt x="107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74840" y="1500120"/>
              <a:ext cx="3625920" cy="265320"/>
            </a:xfrm>
            <a:custGeom>
              <a:avLst/>
              <a:gdLst/>
              <a:ahLst/>
              <a:rect l="l" t="t" r="r" b="b"/>
              <a:pathLst>
                <a:path w="6659" h="639">
                  <a:moveTo>
                    <a:pt x="107" y="0"/>
                  </a:moveTo>
                  <a:cubicBezTo>
                    <a:pt x="4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1"/>
                    <a:pt x="48" y="639"/>
                    <a:pt x="107" y="639"/>
                  </a:cubicBezTo>
                  <a:lnTo>
                    <a:pt x="6552" y="639"/>
                  </a:lnTo>
                  <a:cubicBezTo>
                    <a:pt x="6611" y="639"/>
                    <a:pt x="6659" y="591"/>
                    <a:pt x="6659" y="533"/>
                  </a:cubicBezTo>
                  <a:lnTo>
                    <a:pt x="6659" y="107"/>
                  </a:lnTo>
                  <a:cubicBezTo>
                    <a:pt x="6659" y="48"/>
                    <a:pt x="6611" y="0"/>
                    <a:pt x="6552" y="0"/>
                  </a:cubicBezTo>
                  <a:lnTo>
                    <a:pt x="107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432160" y="1593720"/>
              <a:ext cx="3381120" cy="79560"/>
            </a:xfrm>
            <a:custGeom>
              <a:avLst/>
              <a:gdLst/>
              <a:ahLst/>
              <a:rect l="l" t="t" r="r" b="b"/>
              <a:pathLst>
                <a:path w="6211" h="192">
                  <a:moveTo>
                    <a:pt x="6115" y="128"/>
                  </a:moveTo>
                  <a:lnTo>
                    <a:pt x="96" y="128"/>
                  </a:lnTo>
                  <a:lnTo>
                    <a:pt x="96" y="64"/>
                  </a:lnTo>
                  <a:lnTo>
                    <a:pt x="6115" y="64"/>
                  </a:lnTo>
                  <a:lnTo>
                    <a:pt x="6115" y="128"/>
                  </a:lnTo>
                  <a:close/>
                  <a:moveTo>
                    <a:pt x="6115" y="0"/>
                  </a:moveTo>
                  <a:cubicBezTo>
                    <a:pt x="6168" y="0"/>
                    <a:pt x="6211" y="44"/>
                    <a:pt x="6211" y="96"/>
                  </a:cubicBezTo>
                  <a:cubicBezTo>
                    <a:pt x="6211" y="149"/>
                    <a:pt x="6168" y="192"/>
                    <a:pt x="6115" y="192"/>
                  </a:cubicBezTo>
                  <a:cubicBezTo>
                    <a:pt x="6062" y="192"/>
                    <a:pt x="6019" y="149"/>
                    <a:pt x="6019" y="96"/>
                  </a:cubicBezTo>
                  <a:cubicBezTo>
                    <a:pt x="6019" y="44"/>
                    <a:pt x="6062" y="0"/>
                    <a:pt x="6115" y="0"/>
                  </a:cubicBezTo>
                  <a:close/>
                  <a:moveTo>
                    <a:pt x="96" y="192"/>
                  </a:moveTo>
                  <a:cubicBezTo>
                    <a:pt x="43" y="192"/>
                    <a:pt x="0" y="149"/>
                    <a:pt x="0" y="96"/>
                  </a:cubicBezTo>
                  <a:cubicBezTo>
                    <a:pt x="0" y="44"/>
                    <a:pt x="43" y="0"/>
                    <a:pt x="96" y="0"/>
                  </a:cubicBezTo>
                  <a:cubicBezTo>
                    <a:pt x="149" y="0"/>
                    <a:pt x="192" y="44"/>
                    <a:pt x="192" y="96"/>
                  </a:cubicBezTo>
                  <a:cubicBezTo>
                    <a:pt x="192" y="149"/>
                    <a:pt x="149" y="192"/>
                    <a:pt x="96" y="19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432160" y="1593720"/>
              <a:ext cx="3381120" cy="79560"/>
            </a:xfrm>
            <a:custGeom>
              <a:avLst/>
              <a:gdLst/>
              <a:ahLst/>
              <a:rect l="l" t="t" r="r" b="b"/>
              <a:pathLst>
                <a:path w="6211" h="192">
                  <a:moveTo>
                    <a:pt x="6115" y="128"/>
                  </a:moveTo>
                  <a:lnTo>
                    <a:pt x="96" y="128"/>
                  </a:lnTo>
                  <a:lnTo>
                    <a:pt x="96" y="64"/>
                  </a:lnTo>
                  <a:lnTo>
                    <a:pt x="6115" y="64"/>
                  </a:lnTo>
                  <a:lnTo>
                    <a:pt x="6115" y="128"/>
                  </a:lnTo>
                  <a:close/>
                  <a:moveTo>
                    <a:pt x="6115" y="0"/>
                  </a:moveTo>
                  <a:cubicBezTo>
                    <a:pt x="6168" y="0"/>
                    <a:pt x="6211" y="44"/>
                    <a:pt x="6211" y="96"/>
                  </a:cubicBezTo>
                  <a:cubicBezTo>
                    <a:pt x="6211" y="149"/>
                    <a:pt x="6168" y="192"/>
                    <a:pt x="6115" y="192"/>
                  </a:cubicBezTo>
                  <a:cubicBezTo>
                    <a:pt x="6062" y="192"/>
                    <a:pt x="6019" y="149"/>
                    <a:pt x="6019" y="96"/>
                  </a:cubicBezTo>
                  <a:cubicBezTo>
                    <a:pt x="6019" y="44"/>
                    <a:pt x="6062" y="0"/>
                    <a:pt x="6115" y="0"/>
                  </a:cubicBezTo>
                  <a:close/>
                  <a:moveTo>
                    <a:pt x="96" y="192"/>
                  </a:moveTo>
                  <a:cubicBezTo>
                    <a:pt x="43" y="192"/>
                    <a:pt x="0" y="149"/>
                    <a:pt x="0" y="96"/>
                  </a:cubicBezTo>
                  <a:cubicBezTo>
                    <a:pt x="0" y="44"/>
                    <a:pt x="43" y="0"/>
                    <a:pt x="96" y="0"/>
                  </a:cubicBezTo>
                  <a:cubicBezTo>
                    <a:pt x="149" y="0"/>
                    <a:pt x="192" y="44"/>
                    <a:pt x="192" y="96"/>
                  </a:cubicBezTo>
                  <a:cubicBezTo>
                    <a:pt x="192" y="149"/>
                    <a:pt x="149" y="192"/>
                    <a:pt x="96" y="192"/>
                  </a:cubicBezTo>
                  <a:close/>
                </a:path>
              </a:pathLst>
            </a:custGeom>
            <a:noFill/>
            <a:ln cap="rnd" w="324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90920" y="1535040"/>
              <a:ext cx="1055520" cy="196920"/>
            </a:xfrm>
            <a:custGeom>
              <a:avLst/>
              <a:gdLst/>
              <a:ahLst/>
              <a:rect l="l" t="t" r="r" b="b"/>
              <a:pathLst>
                <a:path w="665" h="124">
                  <a:moveTo>
                    <a:pt x="0" y="0"/>
                  </a:moveTo>
                  <a:lnTo>
                    <a:pt x="0" y="124"/>
                  </a:lnTo>
                  <a:lnTo>
                    <a:pt x="665" y="124"/>
                  </a:lnTo>
                  <a:lnTo>
                    <a:pt x="66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03320" y="1549440"/>
              <a:ext cx="34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E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03640" y="1549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216320" y="154944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71360" y="157464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27880" y="15746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71360" y="192564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127880" y="19256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71360" y="252900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127880" y="2529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71360" y="270684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27880" y="27068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071360" y="287352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127880" y="28735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71360" y="301788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127880" y="30178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57320" y="522936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162800" y="52293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57320" y="559260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162800" y="55926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57320" y="574524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162800" y="5745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57320" y="598320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162800" y="59832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57320" y="628164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162800" y="62816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757840" y="4102200"/>
              <a:ext cx="1440" cy="95076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802560" y="4102200"/>
              <a:ext cx="1440" cy="91116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73280" y="2577960"/>
              <a:ext cx="3333960" cy="180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390840" y="2538360"/>
              <a:ext cx="109440" cy="82440"/>
            </a:xfrm>
            <a:custGeom>
              <a:avLst/>
              <a:gdLst/>
              <a:ahLst/>
              <a:rect l="l" t="t" r="r" b="b"/>
              <a:pathLst>
                <a:path w="200" h="199">
                  <a:moveTo>
                    <a:pt x="0" y="99"/>
                  </a:moveTo>
                  <a:lnTo>
                    <a:pt x="200" y="0"/>
                  </a:lnTo>
                  <a:cubicBezTo>
                    <a:pt x="168" y="62"/>
                    <a:pt x="168" y="136"/>
                    <a:pt x="200" y="199"/>
                  </a:cubicBezTo>
                  <a:lnTo>
                    <a:pt x="200" y="1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219560" y="2525760"/>
              <a:ext cx="175104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424760" y="2522520"/>
              <a:ext cx="1331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 EVENT REGISTRATION REQUES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413160" y="2738520"/>
              <a:ext cx="333360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719760" y="2697120"/>
              <a:ext cx="108000" cy="82440"/>
            </a:xfrm>
            <a:custGeom>
              <a:avLst/>
              <a:gdLst/>
              <a:ahLst/>
              <a:rect l="l" t="t" r="r" b="b"/>
              <a:pathLst>
                <a:path w="199" h="199">
                  <a:moveTo>
                    <a:pt x="199" y="99"/>
                  </a:moveTo>
                  <a:lnTo>
                    <a:pt x="0" y="199"/>
                  </a:lnTo>
                  <a:cubicBezTo>
                    <a:pt x="31" y="136"/>
                    <a:pt x="31" y="62"/>
                    <a:pt x="0" y="0"/>
                  </a:cubicBezTo>
                  <a:lnTo>
                    <a:pt x="0" y="0"/>
                  </a:lnTo>
                  <a:lnTo>
                    <a:pt x="199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206960" y="2684520"/>
              <a:ext cx="181908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23320" y="2681280"/>
              <a:ext cx="1384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 EVENT REGISTRATION RESPON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057480" y="2927520"/>
              <a:ext cx="5545080" cy="18720"/>
            </a:xfrm>
            <a:custGeom>
              <a:avLst/>
              <a:gdLst/>
              <a:ahLst/>
              <a:rect l="l" t="t" r="r" b="b"/>
              <a:pathLst>
                <a:path w="10186" h="46">
                  <a:moveTo>
                    <a:pt x="23" y="0"/>
                  </a:moveTo>
                  <a:lnTo>
                    <a:pt x="23" y="0"/>
                  </a:lnTo>
                  <a:cubicBezTo>
                    <a:pt x="36" y="0"/>
                    <a:pt x="46" y="11"/>
                    <a:pt x="46" y="23"/>
                  </a:cubicBezTo>
                  <a:cubicBezTo>
                    <a:pt x="46" y="36"/>
                    <a:pt x="36" y="46"/>
                    <a:pt x="23" y="46"/>
                  </a:cubicBezTo>
                  <a:lnTo>
                    <a:pt x="23" y="46"/>
                  </a:lnTo>
                  <a:cubicBezTo>
                    <a:pt x="11" y="46"/>
                    <a:pt x="0" y="36"/>
                    <a:pt x="0" y="23"/>
                  </a:cubicBezTo>
                  <a:cubicBezTo>
                    <a:pt x="0" y="11"/>
                    <a:pt x="11" y="0"/>
                    <a:pt x="23" y="0"/>
                  </a:cubicBezTo>
                  <a:close/>
                  <a:moveTo>
                    <a:pt x="254" y="0"/>
                  </a:moveTo>
                  <a:lnTo>
                    <a:pt x="254" y="0"/>
                  </a:lnTo>
                  <a:cubicBezTo>
                    <a:pt x="267" y="0"/>
                    <a:pt x="277" y="11"/>
                    <a:pt x="277" y="23"/>
                  </a:cubicBezTo>
                  <a:cubicBezTo>
                    <a:pt x="277" y="36"/>
                    <a:pt x="267" y="46"/>
                    <a:pt x="254" y="46"/>
                  </a:cubicBezTo>
                  <a:lnTo>
                    <a:pt x="254" y="46"/>
                  </a:lnTo>
                  <a:cubicBezTo>
                    <a:pt x="241" y="46"/>
                    <a:pt x="231" y="36"/>
                    <a:pt x="231" y="23"/>
                  </a:cubicBezTo>
                  <a:cubicBezTo>
                    <a:pt x="231" y="11"/>
                    <a:pt x="241" y="0"/>
                    <a:pt x="254" y="0"/>
                  </a:cubicBezTo>
                  <a:close/>
                  <a:moveTo>
                    <a:pt x="484" y="0"/>
                  </a:moveTo>
                  <a:lnTo>
                    <a:pt x="484" y="0"/>
                  </a:lnTo>
                  <a:cubicBezTo>
                    <a:pt x="497" y="0"/>
                    <a:pt x="507" y="11"/>
                    <a:pt x="507" y="23"/>
                  </a:cubicBezTo>
                  <a:cubicBezTo>
                    <a:pt x="507" y="36"/>
                    <a:pt x="497" y="46"/>
                    <a:pt x="484" y="46"/>
                  </a:cubicBezTo>
                  <a:lnTo>
                    <a:pt x="484" y="46"/>
                  </a:lnTo>
                  <a:cubicBezTo>
                    <a:pt x="472" y="46"/>
                    <a:pt x="461" y="36"/>
                    <a:pt x="461" y="23"/>
                  </a:cubicBezTo>
                  <a:cubicBezTo>
                    <a:pt x="461" y="11"/>
                    <a:pt x="472" y="0"/>
                    <a:pt x="484" y="0"/>
                  </a:cubicBezTo>
                  <a:close/>
                  <a:moveTo>
                    <a:pt x="715" y="0"/>
                  </a:moveTo>
                  <a:lnTo>
                    <a:pt x="715" y="0"/>
                  </a:lnTo>
                  <a:cubicBezTo>
                    <a:pt x="727" y="0"/>
                    <a:pt x="738" y="11"/>
                    <a:pt x="738" y="23"/>
                  </a:cubicBezTo>
                  <a:cubicBezTo>
                    <a:pt x="738" y="36"/>
                    <a:pt x="727" y="46"/>
                    <a:pt x="715" y="46"/>
                  </a:cubicBezTo>
                  <a:lnTo>
                    <a:pt x="715" y="46"/>
                  </a:lnTo>
                  <a:cubicBezTo>
                    <a:pt x="702" y="46"/>
                    <a:pt x="692" y="36"/>
                    <a:pt x="692" y="23"/>
                  </a:cubicBezTo>
                  <a:cubicBezTo>
                    <a:pt x="692" y="11"/>
                    <a:pt x="702" y="0"/>
                    <a:pt x="715" y="0"/>
                  </a:cubicBezTo>
                  <a:close/>
                  <a:moveTo>
                    <a:pt x="945" y="0"/>
                  </a:moveTo>
                  <a:lnTo>
                    <a:pt x="945" y="0"/>
                  </a:lnTo>
                  <a:cubicBezTo>
                    <a:pt x="958" y="0"/>
                    <a:pt x="968" y="11"/>
                    <a:pt x="968" y="23"/>
                  </a:cubicBezTo>
                  <a:cubicBezTo>
                    <a:pt x="968" y="36"/>
                    <a:pt x="958" y="46"/>
                    <a:pt x="945" y="46"/>
                  </a:cubicBezTo>
                  <a:lnTo>
                    <a:pt x="945" y="46"/>
                  </a:lnTo>
                  <a:cubicBezTo>
                    <a:pt x="932" y="46"/>
                    <a:pt x="922" y="36"/>
                    <a:pt x="922" y="23"/>
                  </a:cubicBezTo>
                  <a:cubicBezTo>
                    <a:pt x="922" y="11"/>
                    <a:pt x="932" y="0"/>
                    <a:pt x="945" y="0"/>
                  </a:cubicBezTo>
                  <a:close/>
                  <a:moveTo>
                    <a:pt x="1176" y="0"/>
                  </a:moveTo>
                  <a:lnTo>
                    <a:pt x="1176" y="0"/>
                  </a:lnTo>
                  <a:cubicBezTo>
                    <a:pt x="1188" y="0"/>
                    <a:pt x="1199" y="11"/>
                    <a:pt x="1199" y="23"/>
                  </a:cubicBezTo>
                  <a:cubicBezTo>
                    <a:pt x="1199" y="36"/>
                    <a:pt x="1188" y="46"/>
                    <a:pt x="1176" y="46"/>
                  </a:cubicBezTo>
                  <a:lnTo>
                    <a:pt x="1176" y="46"/>
                  </a:lnTo>
                  <a:cubicBezTo>
                    <a:pt x="1163" y="46"/>
                    <a:pt x="1153" y="36"/>
                    <a:pt x="1153" y="23"/>
                  </a:cubicBezTo>
                  <a:cubicBezTo>
                    <a:pt x="1153" y="11"/>
                    <a:pt x="1163" y="0"/>
                    <a:pt x="1176" y="0"/>
                  </a:cubicBezTo>
                  <a:close/>
                  <a:moveTo>
                    <a:pt x="1406" y="0"/>
                  </a:moveTo>
                  <a:lnTo>
                    <a:pt x="1406" y="0"/>
                  </a:lnTo>
                  <a:cubicBezTo>
                    <a:pt x="1419" y="0"/>
                    <a:pt x="1429" y="11"/>
                    <a:pt x="1429" y="23"/>
                  </a:cubicBezTo>
                  <a:cubicBezTo>
                    <a:pt x="1429" y="36"/>
                    <a:pt x="1419" y="46"/>
                    <a:pt x="1406" y="46"/>
                  </a:cubicBezTo>
                  <a:lnTo>
                    <a:pt x="1406" y="46"/>
                  </a:lnTo>
                  <a:cubicBezTo>
                    <a:pt x="1393" y="46"/>
                    <a:pt x="1383" y="36"/>
                    <a:pt x="1383" y="23"/>
                  </a:cubicBezTo>
                  <a:cubicBezTo>
                    <a:pt x="1383" y="11"/>
                    <a:pt x="1393" y="0"/>
                    <a:pt x="1406" y="0"/>
                  </a:cubicBezTo>
                  <a:close/>
                  <a:moveTo>
                    <a:pt x="1636" y="0"/>
                  </a:moveTo>
                  <a:lnTo>
                    <a:pt x="1637" y="0"/>
                  </a:lnTo>
                  <a:cubicBezTo>
                    <a:pt x="1649" y="0"/>
                    <a:pt x="1660" y="11"/>
                    <a:pt x="1660" y="23"/>
                  </a:cubicBezTo>
                  <a:cubicBezTo>
                    <a:pt x="1660" y="36"/>
                    <a:pt x="1649" y="46"/>
                    <a:pt x="1637" y="46"/>
                  </a:cubicBezTo>
                  <a:lnTo>
                    <a:pt x="1636" y="46"/>
                  </a:lnTo>
                  <a:cubicBezTo>
                    <a:pt x="1624" y="46"/>
                    <a:pt x="1613" y="36"/>
                    <a:pt x="1613" y="23"/>
                  </a:cubicBezTo>
                  <a:cubicBezTo>
                    <a:pt x="1613" y="11"/>
                    <a:pt x="1624" y="0"/>
                    <a:pt x="1636" y="0"/>
                  </a:cubicBezTo>
                  <a:close/>
                  <a:moveTo>
                    <a:pt x="1867" y="0"/>
                  </a:moveTo>
                  <a:lnTo>
                    <a:pt x="1867" y="0"/>
                  </a:lnTo>
                  <a:cubicBezTo>
                    <a:pt x="1880" y="0"/>
                    <a:pt x="1890" y="11"/>
                    <a:pt x="1890" y="23"/>
                  </a:cubicBezTo>
                  <a:cubicBezTo>
                    <a:pt x="1890" y="36"/>
                    <a:pt x="1880" y="46"/>
                    <a:pt x="1867" y="46"/>
                  </a:cubicBezTo>
                  <a:lnTo>
                    <a:pt x="1867" y="46"/>
                  </a:lnTo>
                  <a:cubicBezTo>
                    <a:pt x="1854" y="46"/>
                    <a:pt x="1844" y="36"/>
                    <a:pt x="1844" y="23"/>
                  </a:cubicBezTo>
                  <a:cubicBezTo>
                    <a:pt x="1844" y="11"/>
                    <a:pt x="1854" y="0"/>
                    <a:pt x="1867" y="0"/>
                  </a:cubicBezTo>
                  <a:close/>
                  <a:moveTo>
                    <a:pt x="2097" y="0"/>
                  </a:moveTo>
                  <a:lnTo>
                    <a:pt x="2097" y="0"/>
                  </a:lnTo>
                  <a:cubicBezTo>
                    <a:pt x="2110" y="0"/>
                    <a:pt x="2120" y="11"/>
                    <a:pt x="2120" y="23"/>
                  </a:cubicBezTo>
                  <a:cubicBezTo>
                    <a:pt x="2120" y="36"/>
                    <a:pt x="2110" y="46"/>
                    <a:pt x="2097" y="46"/>
                  </a:cubicBezTo>
                  <a:lnTo>
                    <a:pt x="2097" y="46"/>
                  </a:lnTo>
                  <a:cubicBezTo>
                    <a:pt x="2085" y="46"/>
                    <a:pt x="2074" y="36"/>
                    <a:pt x="2074" y="23"/>
                  </a:cubicBezTo>
                  <a:cubicBezTo>
                    <a:pt x="2074" y="11"/>
                    <a:pt x="2085" y="0"/>
                    <a:pt x="2097" y="0"/>
                  </a:cubicBezTo>
                  <a:close/>
                  <a:moveTo>
                    <a:pt x="2328" y="0"/>
                  </a:moveTo>
                  <a:lnTo>
                    <a:pt x="2328" y="0"/>
                  </a:lnTo>
                  <a:cubicBezTo>
                    <a:pt x="2341" y="0"/>
                    <a:pt x="2351" y="11"/>
                    <a:pt x="2351" y="23"/>
                  </a:cubicBezTo>
                  <a:cubicBezTo>
                    <a:pt x="2351" y="36"/>
                    <a:pt x="2341" y="46"/>
                    <a:pt x="2328" y="46"/>
                  </a:cubicBezTo>
                  <a:lnTo>
                    <a:pt x="2328" y="46"/>
                  </a:lnTo>
                  <a:cubicBezTo>
                    <a:pt x="2315" y="46"/>
                    <a:pt x="2305" y="36"/>
                    <a:pt x="2305" y="23"/>
                  </a:cubicBezTo>
                  <a:cubicBezTo>
                    <a:pt x="2305" y="11"/>
                    <a:pt x="2315" y="0"/>
                    <a:pt x="2328" y="0"/>
                  </a:cubicBezTo>
                  <a:close/>
                  <a:moveTo>
                    <a:pt x="2558" y="0"/>
                  </a:moveTo>
                  <a:lnTo>
                    <a:pt x="2558" y="0"/>
                  </a:lnTo>
                  <a:cubicBezTo>
                    <a:pt x="2571" y="0"/>
                    <a:pt x="2581" y="11"/>
                    <a:pt x="2581" y="23"/>
                  </a:cubicBezTo>
                  <a:cubicBezTo>
                    <a:pt x="2581" y="36"/>
                    <a:pt x="2571" y="46"/>
                    <a:pt x="2558" y="46"/>
                  </a:cubicBezTo>
                  <a:lnTo>
                    <a:pt x="2558" y="46"/>
                  </a:lnTo>
                  <a:cubicBezTo>
                    <a:pt x="2546" y="46"/>
                    <a:pt x="2535" y="36"/>
                    <a:pt x="2535" y="23"/>
                  </a:cubicBezTo>
                  <a:cubicBezTo>
                    <a:pt x="2535" y="11"/>
                    <a:pt x="2546" y="0"/>
                    <a:pt x="2558" y="0"/>
                  </a:cubicBezTo>
                  <a:close/>
                  <a:moveTo>
                    <a:pt x="2789" y="0"/>
                  </a:moveTo>
                  <a:lnTo>
                    <a:pt x="2789" y="0"/>
                  </a:lnTo>
                  <a:cubicBezTo>
                    <a:pt x="2801" y="0"/>
                    <a:pt x="2812" y="11"/>
                    <a:pt x="2812" y="23"/>
                  </a:cubicBezTo>
                  <a:cubicBezTo>
                    <a:pt x="2812" y="36"/>
                    <a:pt x="2801" y="46"/>
                    <a:pt x="2789" y="46"/>
                  </a:cubicBezTo>
                  <a:lnTo>
                    <a:pt x="2789" y="46"/>
                  </a:lnTo>
                  <a:cubicBezTo>
                    <a:pt x="2776" y="46"/>
                    <a:pt x="2766" y="36"/>
                    <a:pt x="2766" y="23"/>
                  </a:cubicBezTo>
                  <a:cubicBezTo>
                    <a:pt x="2766" y="11"/>
                    <a:pt x="2776" y="0"/>
                    <a:pt x="2789" y="0"/>
                  </a:cubicBezTo>
                  <a:close/>
                  <a:moveTo>
                    <a:pt x="3019" y="0"/>
                  </a:moveTo>
                  <a:lnTo>
                    <a:pt x="3019" y="0"/>
                  </a:lnTo>
                  <a:cubicBezTo>
                    <a:pt x="3032" y="0"/>
                    <a:pt x="3042" y="11"/>
                    <a:pt x="3042" y="23"/>
                  </a:cubicBezTo>
                  <a:cubicBezTo>
                    <a:pt x="3042" y="36"/>
                    <a:pt x="3032" y="46"/>
                    <a:pt x="3019" y="46"/>
                  </a:cubicBezTo>
                  <a:lnTo>
                    <a:pt x="3019" y="46"/>
                  </a:lnTo>
                  <a:cubicBezTo>
                    <a:pt x="3006" y="46"/>
                    <a:pt x="2996" y="36"/>
                    <a:pt x="2996" y="23"/>
                  </a:cubicBezTo>
                  <a:cubicBezTo>
                    <a:pt x="2996" y="11"/>
                    <a:pt x="3006" y="0"/>
                    <a:pt x="3019" y="0"/>
                  </a:cubicBezTo>
                  <a:close/>
                  <a:moveTo>
                    <a:pt x="3250" y="0"/>
                  </a:moveTo>
                  <a:lnTo>
                    <a:pt x="3250" y="0"/>
                  </a:lnTo>
                  <a:cubicBezTo>
                    <a:pt x="3262" y="0"/>
                    <a:pt x="3273" y="11"/>
                    <a:pt x="3273" y="23"/>
                  </a:cubicBezTo>
                  <a:cubicBezTo>
                    <a:pt x="3273" y="36"/>
                    <a:pt x="3262" y="46"/>
                    <a:pt x="3250" y="46"/>
                  </a:cubicBezTo>
                  <a:lnTo>
                    <a:pt x="3250" y="46"/>
                  </a:lnTo>
                  <a:cubicBezTo>
                    <a:pt x="3237" y="46"/>
                    <a:pt x="3227" y="36"/>
                    <a:pt x="3227" y="23"/>
                  </a:cubicBezTo>
                  <a:cubicBezTo>
                    <a:pt x="3227" y="11"/>
                    <a:pt x="3237" y="0"/>
                    <a:pt x="3250" y="0"/>
                  </a:cubicBezTo>
                  <a:close/>
                  <a:moveTo>
                    <a:pt x="3480" y="0"/>
                  </a:moveTo>
                  <a:lnTo>
                    <a:pt x="3480" y="0"/>
                  </a:lnTo>
                  <a:cubicBezTo>
                    <a:pt x="3493" y="0"/>
                    <a:pt x="3503" y="11"/>
                    <a:pt x="3503" y="23"/>
                  </a:cubicBezTo>
                  <a:cubicBezTo>
                    <a:pt x="3503" y="36"/>
                    <a:pt x="3493" y="46"/>
                    <a:pt x="3480" y="46"/>
                  </a:cubicBezTo>
                  <a:lnTo>
                    <a:pt x="3480" y="46"/>
                  </a:lnTo>
                  <a:cubicBezTo>
                    <a:pt x="3467" y="46"/>
                    <a:pt x="3457" y="36"/>
                    <a:pt x="3457" y="23"/>
                  </a:cubicBezTo>
                  <a:cubicBezTo>
                    <a:pt x="3457" y="11"/>
                    <a:pt x="3467" y="0"/>
                    <a:pt x="3480" y="0"/>
                  </a:cubicBezTo>
                  <a:close/>
                  <a:moveTo>
                    <a:pt x="3710" y="0"/>
                  </a:moveTo>
                  <a:lnTo>
                    <a:pt x="3711" y="0"/>
                  </a:lnTo>
                  <a:cubicBezTo>
                    <a:pt x="3723" y="0"/>
                    <a:pt x="3734" y="11"/>
                    <a:pt x="3734" y="23"/>
                  </a:cubicBezTo>
                  <a:cubicBezTo>
                    <a:pt x="3734" y="36"/>
                    <a:pt x="3723" y="46"/>
                    <a:pt x="3711" y="46"/>
                  </a:cubicBezTo>
                  <a:lnTo>
                    <a:pt x="3710" y="46"/>
                  </a:lnTo>
                  <a:cubicBezTo>
                    <a:pt x="3698" y="46"/>
                    <a:pt x="3687" y="36"/>
                    <a:pt x="3687" y="23"/>
                  </a:cubicBezTo>
                  <a:cubicBezTo>
                    <a:pt x="3687" y="11"/>
                    <a:pt x="3698" y="0"/>
                    <a:pt x="3710" y="0"/>
                  </a:cubicBezTo>
                  <a:close/>
                  <a:moveTo>
                    <a:pt x="3941" y="0"/>
                  </a:moveTo>
                  <a:lnTo>
                    <a:pt x="3941" y="0"/>
                  </a:lnTo>
                  <a:cubicBezTo>
                    <a:pt x="3954" y="0"/>
                    <a:pt x="3964" y="11"/>
                    <a:pt x="3964" y="23"/>
                  </a:cubicBezTo>
                  <a:cubicBezTo>
                    <a:pt x="3964" y="36"/>
                    <a:pt x="3954" y="46"/>
                    <a:pt x="3941" y="46"/>
                  </a:cubicBezTo>
                  <a:lnTo>
                    <a:pt x="3941" y="46"/>
                  </a:lnTo>
                  <a:cubicBezTo>
                    <a:pt x="3928" y="46"/>
                    <a:pt x="3918" y="36"/>
                    <a:pt x="3918" y="23"/>
                  </a:cubicBezTo>
                  <a:cubicBezTo>
                    <a:pt x="3918" y="11"/>
                    <a:pt x="3928" y="0"/>
                    <a:pt x="3941" y="0"/>
                  </a:cubicBezTo>
                  <a:close/>
                  <a:moveTo>
                    <a:pt x="4171" y="0"/>
                  </a:moveTo>
                  <a:lnTo>
                    <a:pt x="4171" y="0"/>
                  </a:lnTo>
                  <a:cubicBezTo>
                    <a:pt x="4184" y="0"/>
                    <a:pt x="4194" y="11"/>
                    <a:pt x="4194" y="23"/>
                  </a:cubicBezTo>
                  <a:cubicBezTo>
                    <a:pt x="4194" y="36"/>
                    <a:pt x="4184" y="46"/>
                    <a:pt x="4171" y="46"/>
                  </a:cubicBezTo>
                  <a:lnTo>
                    <a:pt x="4171" y="46"/>
                  </a:lnTo>
                  <a:cubicBezTo>
                    <a:pt x="4159" y="46"/>
                    <a:pt x="4148" y="36"/>
                    <a:pt x="4148" y="23"/>
                  </a:cubicBezTo>
                  <a:cubicBezTo>
                    <a:pt x="4148" y="11"/>
                    <a:pt x="4159" y="0"/>
                    <a:pt x="4171" y="0"/>
                  </a:cubicBezTo>
                  <a:close/>
                  <a:moveTo>
                    <a:pt x="4402" y="0"/>
                  </a:moveTo>
                  <a:lnTo>
                    <a:pt x="4402" y="0"/>
                  </a:lnTo>
                  <a:cubicBezTo>
                    <a:pt x="4415" y="0"/>
                    <a:pt x="4425" y="11"/>
                    <a:pt x="4425" y="23"/>
                  </a:cubicBezTo>
                  <a:cubicBezTo>
                    <a:pt x="4425" y="36"/>
                    <a:pt x="4415" y="46"/>
                    <a:pt x="4402" y="46"/>
                  </a:cubicBezTo>
                  <a:lnTo>
                    <a:pt x="4402" y="46"/>
                  </a:lnTo>
                  <a:cubicBezTo>
                    <a:pt x="4389" y="46"/>
                    <a:pt x="4379" y="36"/>
                    <a:pt x="4379" y="23"/>
                  </a:cubicBezTo>
                  <a:cubicBezTo>
                    <a:pt x="4379" y="11"/>
                    <a:pt x="4389" y="0"/>
                    <a:pt x="4402" y="0"/>
                  </a:cubicBezTo>
                  <a:close/>
                  <a:moveTo>
                    <a:pt x="4632" y="0"/>
                  </a:moveTo>
                  <a:lnTo>
                    <a:pt x="4632" y="0"/>
                  </a:lnTo>
                  <a:cubicBezTo>
                    <a:pt x="4645" y="0"/>
                    <a:pt x="4655" y="11"/>
                    <a:pt x="4655" y="23"/>
                  </a:cubicBezTo>
                  <a:cubicBezTo>
                    <a:pt x="4655" y="36"/>
                    <a:pt x="4645" y="46"/>
                    <a:pt x="4632" y="46"/>
                  </a:cubicBezTo>
                  <a:lnTo>
                    <a:pt x="4632" y="46"/>
                  </a:lnTo>
                  <a:cubicBezTo>
                    <a:pt x="4620" y="46"/>
                    <a:pt x="4609" y="36"/>
                    <a:pt x="4609" y="23"/>
                  </a:cubicBezTo>
                  <a:cubicBezTo>
                    <a:pt x="4609" y="11"/>
                    <a:pt x="4620" y="0"/>
                    <a:pt x="4632" y="0"/>
                  </a:cubicBezTo>
                  <a:close/>
                  <a:moveTo>
                    <a:pt x="4863" y="0"/>
                  </a:moveTo>
                  <a:lnTo>
                    <a:pt x="4863" y="0"/>
                  </a:lnTo>
                  <a:cubicBezTo>
                    <a:pt x="4875" y="0"/>
                    <a:pt x="4886" y="11"/>
                    <a:pt x="4886" y="23"/>
                  </a:cubicBezTo>
                  <a:cubicBezTo>
                    <a:pt x="4886" y="36"/>
                    <a:pt x="4875" y="46"/>
                    <a:pt x="4863" y="46"/>
                  </a:cubicBezTo>
                  <a:lnTo>
                    <a:pt x="4863" y="46"/>
                  </a:lnTo>
                  <a:cubicBezTo>
                    <a:pt x="4850" y="46"/>
                    <a:pt x="4840" y="36"/>
                    <a:pt x="4840" y="23"/>
                  </a:cubicBezTo>
                  <a:cubicBezTo>
                    <a:pt x="4840" y="11"/>
                    <a:pt x="4850" y="0"/>
                    <a:pt x="4863" y="0"/>
                  </a:cubicBezTo>
                  <a:close/>
                  <a:moveTo>
                    <a:pt x="5093" y="0"/>
                  </a:moveTo>
                  <a:lnTo>
                    <a:pt x="5093" y="0"/>
                  </a:lnTo>
                  <a:cubicBezTo>
                    <a:pt x="5106" y="0"/>
                    <a:pt x="5116" y="11"/>
                    <a:pt x="5116" y="23"/>
                  </a:cubicBezTo>
                  <a:cubicBezTo>
                    <a:pt x="5116" y="36"/>
                    <a:pt x="5106" y="46"/>
                    <a:pt x="5093" y="46"/>
                  </a:cubicBezTo>
                  <a:lnTo>
                    <a:pt x="5093" y="46"/>
                  </a:lnTo>
                  <a:cubicBezTo>
                    <a:pt x="5080" y="46"/>
                    <a:pt x="5070" y="36"/>
                    <a:pt x="5070" y="23"/>
                  </a:cubicBezTo>
                  <a:cubicBezTo>
                    <a:pt x="5070" y="11"/>
                    <a:pt x="5080" y="0"/>
                    <a:pt x="5093" y="0"/>
                  </a:cubicBezTo>
                  <a:close/>
                  <a:moveTo>
                    <a:pt x="5324" y="0"/>
                  </a:moveTo>
                  <a:lnTo>
                    <a:pt x="5324" y="0"/>
                  </a:lnTo>
                  <a:cubicBezTo>
                    <a:pt x="5336" y="0"/>
                    <a:pt x="5347" y="11"/>
                    <a:pt x="5347" y="23"/>
                  </a:cubicBezTo>
                  <a:cubicBezTo>
                    <a:pt x="5347" y="36"/>
                    <a:pt x="5336" y="46"/>
                    <a:pt x="5324" y="46"/>
                  </a:cubicBezTo>
                  <a:lnTo>
                    <a:pt x="5324" y="46"/>
                  </a:lnTo>
                  <a:cubicBezTo>
                    <a:pt x="5311" y="46"/>
                    <a:pt x="5301" y="36"/>
                    <a:pt x="5301" y="23"/>
                  </a:cubicBezTo>
                  <a:cubicBezTo>
                    <a:pt x="5301" y="11"/>
                    <a:pt x="5311" y="0"/>
                    <a:pt x="5324" y="0"/>
                  </a:cubicBezTo>
                  <a:close/>
                  <a:moveTo>
                    <a:pt x="5554" y="0"/>
                  </a:moveTo>
                  <a:lnTo>
                    <a:pt x="5554" y="0"/>
                  </a:lnTo>
                  <a:cubicBezTo>
                    <a:pt x="5567" y="0"/>
                    <a:pt x="5577" y="11"/>
                    <a:pt x="5577" y="23"/>
                  </a:cubicBezTo>
                  <a:cubicBezTo>
                    <a:pt x="5577" y="36"/>
                    <a:pt x="5567" y="46"/>
                    <a:pt x="5554" y="46"/>
                  </a:cubicBezTo>
                  <a:lnTo>
                    <a:pt x="5554" y="46"/>
                  </a:lnTo>
                  <a:cubicBezTo>
                    <a:pt x="5541" y="46"/>
                    <a:pt x="5531" y="36"/>
                    <a:pt x="5531" y="23"/>
                  </a:cubicBezTo>
                  <a:cubicBezTo>
                    <a:pt x="5531" y="11"/>
                    <a:pt x="5541" y="0"/>
                    <a:pt x="5554" y="0"/>
                  </a:cubicBezTo>
                  <a:close/>
                  <a:moveTo>
                    <a:pt x="5784" y="0"/>
                  </a:moveTo>
                  <a:lnTo>
                    <a:pt x="5785" y="0"/>
                  </a:lnTo>
                  <a:cubicBezTo>
                    <a:pt x="5797" y="0"/>
                    <a:pt x="5808" y="11"/>
                    <a:pt x="5808" y="23"/>
                  </a:cubicBezTo>
                  <a:cubicBezTo>
                    <a:pt x="5808" y="36"/>
                    <a:pt x="5797" y="46"/>
                    <a:pt x="5785" y="46"/>
                  </a:cubicBezTo>
                  <a:lnTo>
                    <a:pt x="5784" y="46"/>
                  </a:lnTo>
                  <a:cubicBezTo>
                    <a:pt x="5772" y="46"/>
                    <a:pt x="5761" y="36"/>
                    <a:pt x="5761" y="23"/>
                  </a:cubicBezTo>
                  <a:cubicBezTo>
                    <a:pt x="5761" y="11"/>
                    <a:pt x="5772" y="0"/>
                    <a:pt x="5784" y="0"/>
                  </a:cubicBezTo>
                  <a:close/>
                  <a:moveTo>
                    <a:pt x="6015" y="0"/>
                  </a:moveTo>
                  <a:lnTo>
                    <a:pt x="6015" y="0"/>
                  </a:lnTo>
                  <a:cubicBezTo>
                    <a:pt x="6028" y="0"/>
                    <a:pt x="6038" y="11"/>
                    <a:pt x="6038" y="23"/>
                  </a:cubicBezTo>
                  <a:cubicBezTo>
                    <a:pt x="6038" y="36"/>
                    <a:pt x="6028" y="46"/>
                    <a:pt x="6015" y="46"/>
                  </a:cubicBezTo>
                  <a:lnTo>
                    <a:pt x="6015" y="46"/>
                  </a:lnTo>
                  <a:cubicBezTo>
                    <a:pt x="6002" y="46"/>
                    <a:pt x="5992" y="36"/>
                    <a:pt x="5992" y="23"/>
                  </a:cubicBezTo>
                  <a:cubicBezTo>
                    <a:pt x="5992" y="11"/>
                    <a:pt x="6002" y="0"/>
                    <a:pt x="6015" y="0"/>
                  </a:cubicBezTo>
                  <a:close/>
                  <a:moveTo>
                    <a:pt x="6245" y="0"/>
                  </a:moveTo>
                  <a:lnTo>
                    <a:pt x="6245" y="0"/>
                  </a:lnTo>
                  <a:cubicBezTo>
                    <a:pt x="6258" y="0"/>
                    <a:pt x="6268" y="11"/>
                    <a:pt x="6268" y="23"/>
                  </a:cubicBezTo>
                  <a:cubicBezTo>
                    <a:pt x="6268" y="36"/>
                    <a:pt x="6258" y="46"/>
                    <a:pt x="6245" y="46"/>
                  </a:cubicBezTo>
                  <a:lnTo>
                    <a:pt x="6245" y="46"/>
                  </a:lnTo>
                  <a:cubicBezTo>
                    <a:pt x="6233" y="46"/>
                    <a:pt x="6222" y="36"/>
                    <a:pt x="6222" y="23"/>
                  </a:cubicBezTo>
                  <a:cubicBezTo>
                    <a:pt x="6222" y="11"/>
                    <a:pt x="6233" y="0"/>
                    <a:pt x="6245" y="0"/>
                  </a:cubicBezTo>
                  <a:close/>
                  <a:moveTo>
                    <a:pt x="6476" y="0"/>
                  </a:moveTo>
                  <a:lnTo>
                    <a:pt x="6476" y="0"/>
                  </a:lnTo>
                  <a:cubicBezTo>
                    <a:pt x="6489" y="0"/>
                    <a:pt x="6499" y="11"/>
                    <a:pt x="6499" y="23"/>
                  </a:cubicBezTo>
                  <a:cubicBezTo>
                    <a:pt x="6499" y="36"/>
                    <a:pt x="6489" y="46"/>
                    <a:pt x="6476" y="46"/>
                  </a:cubicBezTo>
                  <a:lnTo>
                    <a:pt x="6476" y="46"/>
                  </a:lnTo>
                  <a:cubicBezTo>
                    <a:pt x="6463" y="46"/>
                    <a:pt x="6453" y="36"/>
                    <a:pt x="6453" y="23"/>
                  </a:cubicBezTo>
                  <a:cubicBezTo>
                    <a:pt x="6453" y="11"/>
                    <a:pt x="6463" y="0"/>
                    <a:pt x="6476" y="0"/>
                  </a:cubicBezTo>
                  <a:close/>
                  <a:moveTo>
                    <a:pt x="6706" y="0"/>
                  </a:moveTo>
                  <a:lnTo>
                    <a:pt x="6706" y="0"/>
                  </a:lnTo>
                  <a:cubicBezTo>
                    <a:pt x="6719" y="0"/>
                    <a:pt x="6729" y="11"/>
                    <a:pt x="6729" y="23"/>
                  </a:cubicBezTo>
                  <a:cubicBezTo>
                    <a:pt x="6729" y="36"/>
                    <a:pt x="6719" y="46"/>
                    <a:pt x="6706" y="46"/>
                  </a:cubicBezTo>
                  <a:lnTo>
                    <a:pt x="6706" y="46"/>
                  </a:lnTo>
                  <a:cubicBezTo>
                    <a:pt x="6694" y="46"/>
                    <a:pt x="6683" y="36"/>
                    <a:pt x="6683" y="23"/>
                  </a:cubicBezTo>
                  <a:cubicBezTo>
                    <a:pt x="6683" y="11"/>
                    <a:pt x="6694" y="0"/>
                    <a:pt x="6706" y="0"/>
                  </a:cubicBezTo>
                  <a:close/>
                  <a:moveTo>
                    <a:pt x="6937" y="0"/>
                  </a:moveTo>
                  <a:lnTo>
                    <a:pt x="6937" y="0"/>
                  </a:lnTo>
                  <a:cubicBezTo>
                    <a:pt x="6950" y="0"/>
                    <a:pt x="6960" y="11"/>
                    <a:pt x="6960" y="23"/>
                  </a:cubicBezTo>
                  <a:cubicBezTo>
                    <a:pt x="6960" y="36"/>
                    <a:pt x="6950" y="46"/>
                    <a:pt x="6937" y="46"/>
                  </a:cubicBezTo>
                  <a:lnTo>
                    <a:pt x="6937" y="46"/>
                  </a:lnTo>
                  <a:cubicBezTo>
                    <a:pt x="6924" y="46"/>
                    <a:pt x="6914" y="36"/>
                    <a:pt x="6914" y="23"/>
                  </a:cubicBezTo>
                  <a:cubicBezTo>
                    <a:pt x="6914" y="11"/>
                    <a:pt x="6924" y="0"/>
                    <a:pt x="6937" y="0"/>
                  </a:cubicBezTo>
                  <a:close/>
                  <a:moveTo>
                    <a:pt x="7167" y="0"/>
                  </a:moveTo>
                  <a:lnTo>
                    <a:pt x="7167" y="0"/>
                  </a:lnTo>
                  <a:cubicBezTo>
                    <a:pt x="7180" y="0"/>
                    <a:pt x="7190" y="11"/>
                    <a:pt x="7190" y="23"/>
                  </a:cubicBezTo>
                  <a:cubicBezTo>
                    <a:pt x="7190" y="36"/>
                    <a:pt x="7180" y="46"/>
                    <a:pt x="7167" y="46"/>
                  </a:cubicBezTo>
                  <a:lnTo>
                    <a:pt x="7167" y="46"/>
                  </a:lnTo>
                  <a:cubicBezTo>
                    <a:pt x="7154" y="46"/>
                    <a:pt x="7144" y="36"/>
                    <a:pt x="7144" y="23"/>
                  </a:cubicBezTo>
                  <a:cubicBezTo>
                    <a:pt x="7144" y="11"/>
                    <a:pt x="7154" y="0"/>
                    <a:pt x="7167" y="0"/>
                  </a:cubicBezTo>
                  <a:close/>
                  <a:moveTo>
                    <a:pt x="7398" y="0"/>
                  </a:moveTo>
                  <a:lnTo>
                    <a:pt x="7398" y="0"/>
                  </a:lnTo>
                  <a:cubicBezTo>
                    <a:pt x="7410" y="0"/>
                    <a:pt x="7421" y="11"/>
                    <a:pt x="7421" y="23"/>
                  </a:cubicBezTo>
                  <a:cubicBezTo>
                    <a:pt x="7421" y="36"/>
                    <a:pt x="7410" y="46"/>
                    <a:pt x="7398" y="46"/>
                  </a:cubicBezTo>
                  <a:lnTo>
                    <a:pt x="7398" y="46"/>
                  </a:lnTo>
                  <a:cubicBezTo>
                    <a:pt x="7385" y="46"/>
                    <a:pt x="7375" y="36"/>
                    <a:pt x="7375" y="23"/>
                  </a:cubicBezTo>
                  <a:cubicBezTo>
                    <a:pt x="7375" y="11"/>
                    <a:pt x="7385" y="0"/>
                    <a:pt x="7398" y="0"/>
                  </a:cubicBezTo>
                  <a:close/>
                  <a:moveTo>
                    <a:pt x="7628" y="0"/>
                  </a:moveTo>
                  <a:lnTo>
                    <a:pt x="7628" y="0"/>
                  </a:lnTo>
                  <a:cubicBezTo>
                    <a:pt x="7641" y="0"/>
                    <a:pt x="7651" y="11"/>
                    <a:pt x="7651" y="23"/>
                  </a:cubicBezTo>
                  <a:cubicBezTo>
                    <a:pt x="7651" y="36"/>
                    <a:pt x="7641" y="46"/>
                    <a:pt x="7628" y="46"/>
                  </a:cubicBezTo>
                  <a:lnTo>
                    <a:pt x="7628" y="46"/>
                  </a:lnTo>
                  <a:cubicBezTo>
                    <a:pt x="7615" y="46"/>
                    <a:pt x="7605" y="36"/>
                    <a:pt x="7605" y="23"/>
                  </a:cubicBezTo>
                  <a:cubicBezTo>
                    <a:pt x="7605" y="11"/>
                    <a:pt x="7615" y="0"/>
                    <a:pt x="7628" y="0"/>
                  </a:cubicBezTo>
                  <a:close/>
                  <a:moveTo>
                    <a:pt x="7859" y="0"/>
                  </a:moveTo>
                  <a:lnTo>
                    <a:pt x="7859" y="0"/>
                  </a:lnTo>
                  <a:cubicBezTo>
                    <a:pt x="7871" y="0"/>
                    <a:pt x="7882" y="11"/>
                    <a:pt x="7882" y="23"/>
                  </a:cubicBezTo>
                  <a:cubicBezTo>
                    <a:pt x="7882" y="36"/>
                    <a:pt x="7871" y="46"/>
                    <a:pt x="7859" y="46"/>
                  </a:cubicBezTo>
                  <a:lnTo>
                    <a:pt x="7859" y="46"/>
                  </a:lnTo>
                  <a:cubicBezTo>
                    <a:pt x="7846" y="46"/>
                    <a:pt x="7835" y="36"/>
                    <a:pt x="7835" y="23"/>
                  </a:cubicBezTo>
                  <a:cubicBezTo>
                    <a:pt x="7835" y="11"/>
                    <a:pt x="7846" y="0"/>
                    <a:pt x="7859" y="0"/>
                  </a:cubicBezTo>
                  <a:close/>
                  <a:moveTo>
                    <a:pt x="8089" y="0"/>
                  </a:moveTo>
                  <a:lnTo>
                    <a:pt x="8089" y="0"/>
                  </a:lnTo>
                  <a:cubicBezTo>
                    <a:pt x="8102" y="0"/>
                    <a:pt x="8112" y="11"/>
                    <a:pt x="8112" y="23"/>
                  </a:cubicBezTo>
                  <a:cubicBezTo>
                    <a:pt x="8112" y="36"/>
                    <a:pt x="8102" y="46"/>
                    <a:pt x="8089" y="46"/>
                  </a:cubicBezTo>
                  <a:lnTo>
                    <a:pt x="8089" y="46"/>
                  </a:lnTo>
                  <a:cubicBezTo>
                    <a:pt x="8076" y="46"/>
                    <a:pt x="8066" y="36"/>
                    <a:pt x="8066" y="23"/>
                  </a:cubicBezTo>
                  <a:cubicBezTo>
                    <a:pt x="8066" y="11"/>
                    <a:pt x="8076" y="0"/>
                    <a:pt x="8089" y="0"/>
                  </a:cubicBezTo>
                  <a:close/>
                  <a:moveTo>
                    <a:pt x="8319" y="0"/>
                  </a:moveTo>
                  <a:lnTo>
                    <a:pt x="8319" y="0"/>
                  </a:lnTo>
                  <a:cubicBezTo>
                    <a:pt x="8332" y="0"/>
                    <a:pt x="8342" y="11"/>
                    <a:pt x="8342" y="23"/>
                  </a:cubicBezTo>
                  <a:cubicBezTo>
                    <a:pt x="8342" y="36"/>
                    <a:pt x="8332" y="46"/>
                    <a:pt x="8319" y="46"/>
                  </a:cubicBezTo>
                  <a:lnTo>
                    <a:pt x="8319" y="46"/>
                  </a:lnTo>
                  <a:cubicBezTo>
                    <a:pt x="8307" y="46"/>
                    <a:pt x="8296" y="36"/>
                    <a:pt x="8296" y="23"/>
                  </a:cubicBezTo>
                  <a:cubicBezTo>
                    <a:pt x="8296" y="11"/>
                    <a:pt x="8307" y="0"/>
                    <a:pt x="8319" y="0"/>
                  </a:cubicBezTo>
                  <a:close/>
                  <a:moveTo>
                    <a:pt x="8550" y="0"/>
                  </a:moveTo>
                  <a:lnTo>
                    <a:pt x="8550" y="0"/>
                  </a:lnTo>
                  <a:cubicBezTo>
                    <a:pt x="8563" y="0"/>
                    <a:pt x="8573" y="11"/>
                    <a:pt x="8573" y="23"/>
                  </a:cubicBezTo>
                  <a:cubicBezTo>
                    <a:pt x="8573" y="36"/>
                    <a:pt x="8563" y="46"/>
                    <a:pt x="8550" y="46"/>
                  </a:cubicBezTo>
                  <a:lnTo>
                    <a:pt x="8550" y="46"/>
                  </a:lnTo>
                  <a:cubicBezTo>
                    <a:pt x="8537" y="46"/>
                    <a:pt x="8527" y="36"/>
                    <a:pt x="8527" y="23"/>
                  </a:cubicBezTo>
                  <a:cubicBezTo>
                    <a:pt x="8527" y="11"/>
                    <a:pt x="8537" y="0"/>
                    <a:pt x="8550" y="0"/>
                  </a:cubicBezTo>
                  <a:close/>
                  <a:moveTo>
                    <a:pt x="8780" y="0"/>
                  </a:moveTo>
                  <a:lnTo>
                    <a:pt x="8780" y="0"/>
                  </a:lnTo>
                  <a:cubicBezTo>
                    <a:pt x="8793" y="0"/>
                    <a:pt x="8803" y="11"/>
                    <a:pt x="8803" y="23"/>
                  </a:cubicBezTo>
                  <a:cubicBezTo>
                    <a:pt x="8803" y="36"/>
                    <a:pt x="8793" y="46"/>
                    <a:pt x="8780" y="46"/>
                  </a:cubicBezTo>
                  <a:lnTo>
                    <a:pt x="8780" y="46"/>
                  </a:lnTo>
                  <a:cubicBezTo>
                    <a:pt x="8768" y="46"/>
                    <a:pt x="8757" y="36"/>
                    <a:pt x="8757" y="23"/>
                  </a:cubicBezTo>
                  <a:cubicBezTo>
                    <a:pt x="8757" y="11"/>
                    <a:pt x="8768" y="0"/>
                    <a:pt x="8780" y="0"/>
                  </a:cubicBezTo>
                  <a:close/>
                  <a:moveTo>
                    <a:pt x="9011" y="0"/>
                  </a:moveTo>
                  <a:lnTo>
                    <a:pt x="9011" y="0"/>
                  </a:lnTo>
                  <a:cubicBezTo>
                    <a:pt x="9024" y="0"/>
                    <a:pt x="9034" y="11"/>
                    <a:pt x="9034" y="23"/>
                  </a:cubicBezTo>
                  <a:cubicBezTo>
                    <a:pt x="9034" y="36"/>
                    <a:pt x="9024" y="46"/>
                    <a:pt x="9011" y="46"/>
                  </a:cubicBezTo>
                  <a:lnTo>
                    <a:pt x="9011" y="46"/>
                  </a:lnTo>
                  <a:cubicBezTo>
                    <a:pt x="8998" y="46"/>
                    <a:pt x="8988" y="36"/>
                    <a:pt x="8988" y="23"/>
                  </a:cubicBezTo>
                  <a:cubicBezTo>
                    <a:pt x="8988" y="11"/>
                    <a:pt x="8998" y="0"/>
                    <a:pt x="9011" y="0"/>
                  </a:cubicBezTo>
                  <a:close/>
                  <a:moveTo>
                    <a:pt x="9241" y="0"/>
                  </a:moveTo>
                  <a:lnTo>
                    <a:pt x="9241" y="0"/>
                  </a:lnTo>
                  <a:cubicBezTo>
                    <a:pt x="9254" y="0"/>
                    <a:pt x="9264" y="11"/>
                    <a:pt x="9264" y="23"/>
                  </a:cubicBezTo>
                  <a:cubicBezTo>
                    <a:pt x="9264" y="36"/>
                    <a:pt x="9254" y="46"/>
                    <a:pt x="9241" y="46"/>
                  </a:cubicBezTo>
                  <a:lnTo>
                    <a:pt x="9241" y="46"/>
                  </a:lnTo>
                  <a:cubicBezTo>
                    <a:pt x="9228" y="46"/>
                    <a:pt x="9218" y="36"/>
                    <a:pt x="9218" y="23"/>
                  </a:cubicBezTo>
                  <a:cubicBezTo>
                    <a:pt x="9218" y="11"/>
                    <a:pt x="9228" y="0"/>
                    <a:pt x="9241" y="0"/>
                  </a:cubicBezTo>
                  <a:close/>
                  <a:moveTo>
                    <a:pt x="9472" y="0"/>
                  </a:moveTo>
                  <a:lnTo>
                    <a:pt x="9472" y="0"/>
                  </a:lnTo>
                  <a:cubicBezTo>
                    <a:pt x="9484" y="0"/>
                    <a:pt x="9495" y="11"/>
                    <a:pt x="9495" y="23"/>
                  </a:cubicBezTo>
                  <a:cubicBezTo>
                    <a:pt x="9495" y="36"/>
                    <a:pt x="9484" y="46"/>
                    <a:pt x="9472" y="46"/>
                  </a:cubicBezTo>
                  <a:lnTo>
                    <a:pt x="9472" y="46"/>
                  </a:lnTo>
                  <a:cubicBezTo>
                    <a:pt x="9459" y="46"/>
                    <a:pt x="9449" y="36"/>
                    <a:pt x="9449" y="23"/>
                  </a:cubicBezTo>
                  <a:cubicBezTo>
                    <a:pt x="9449" y="11"/>
                    <a:pt x="9459" y="0"/>
                    <a:pt x="9472" y="0"/>
                  </a:cubicBezTo>
                  <a:close/>
                  <a:moveTo>
                    <a:pt x="9702" y="0"/>
                  </a:moveTo>
                  <a:lnTo>
                    <a:pt x="9702" y="0"/>
                  </a:lnTo>
                  <a:cubicBezTo>
                    <a:pt x="9715" y="0"/>
                    <a:pt x="9725" y="11"/>
                    <a:pt x="9725" y="23"/>
                  </a:cubicBezTo>
                  <a:cubicBezTo>
                    <a:pt x="9725" y="36"/>
                    <a:pt x="9715" y="46"/>
                    <a:pt x="9702" y="46"/>
                  </a:cubicBezTo>
                  <a:lnTo>
                    <a:pt x="9702" y="46"/>
                  </a:lnTo>
                  <a:cubicBezTo>
                    <a:pt x="9689" y="46"/>
                    <a:pt x="9679" y="36"/>
                    <a:pt x="9679" y="23"/>
                  </a:cubicBezTo>
                  <a:cubicBezTo>
                    <a:pt x="9679" y="11"/>
                    <a:pt x="9689" y="0"/>
                    <a:pt x="9702" y="0"/>
                  </a:cubicBezTo>
                  <a:close/>
                  <a:moveTo>
                    <a:pt x="9933" y="0"/>
                  </a:moveTo>
                  <a:lnTo>
                    <a:pt x="9933" y="0"/>
                  </a:lnTo>
                  <a:cubicBezTo>
                    <a:pt x="9945" y="0"/>
                    <a:pt x="9956" y="11"/>
                    <a:pt x="9956" y="23"/>
                  </a:cubicBezTo>
                  <a:cubicBezTo>
                    <a:pt x="9956" y="36"/>
                    <a:pt x="9945" y="46"/>
                    <a:pt x="9933" y="46"/>
                  </a:cubicBezTo>
                  <a:lnTo>
                    <a:pt x="9933" y="46"/>
                  </a:lnTo>
                  <a:cubicBezTo>
                    <a:pt x="9920" y="46"/>
                    <a:pt x="9910" y="36"/>
                    <a:pt x="9910" y="23"/>
                  </a:cubicBezTo>
                  <a:cubicBezTo>
                    <a:pt x="9910" y="11"/>
                    <a:pt x="9920" y="0"/>
                    <a:pt x="9933" y="0"/>
                  </a:cubicBezTo>
                  <a:close/>
                  <a:moveTo>
                    <a:pt x="10163" y="0"/>
                  </a:moveTo>
                  <a:lnTo>
                    <a:pt x="10163" y="0"/>
                  </a:lnTo>
                  <a:cubicBezTo>
                    <a:pt x="10176" y="0"/>
                    <a:pt x="10186" y="11"/>
                    <a:pt x="10186" y="23"/>
                  </a:cubicBezTo>
                  <a:cubicBezTo>
                    <a:pt x="10186" y="36"/>
                    <a:pt x="10176" y="46"/>
                    <a:pt x="10163" y="46"/>
                  </a:cubicBezTo>
                  <a:lnTo>
                    <a:pt x="10163" y="46"/>
                  </a:lnTo>
                  <a:cubicBezTo>
                    <a:pt x="10150" y="46"/>
                    <a:pt x="10140" y="36"/>
                    <a:pt x="10140" y="23"/>
                  </a:cubicBezTo>
                  <a:cubicBezTo>
                    <a:pt x="10140" y="11"/>
                    <a:pt x="10150" y="0"/>
                    <a:pt x="10163" y="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987640" y="2895480"/>
              <a:ext cx="108000" cy="82800"/>
            </a:xfrm>
            <a:custGeom>
              <a:avLst/>
              <a:gdLst/>
              <a:ahLst/>
              <a:rect l="l" t="t" r="r" b="b"/>
              <a:pathLst>
                <a:path w="200" h="199">
                  <a:moveTo>
                    <a:pt x="0" y="99"/>
                  </a:moveTo>
                  <a:lnTo>
                    <a:pt x="200" y="0"/>
                  </a:lnTo>
                  <a:cubicBezTo>
                    <a:pt x="168" y="62"/>
                    <a:pt x="168" y="136"/>
                    <a:pt x="200" y="199"/>
                  </a:cubicBezTo>
                  <a:lnTo>
                    <a:pt x="200" y="1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659560" y="2841480"/>
              <a:ext cx="344520" cy="19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721480" y="2840040"/>
              <a:ext cx="25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Beac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52560" y="1817640"/>
              <a:ext cx="6166080" cy="265320"/>
            </a:xfrm>
            <a:custGeom>
              <a:avLst/>
              <a:gdLst/>
              <a:ahLst/>
              <a:rect l="l" t="t" r="r" b="b"/>
              <a:pathLst>
                <a:path w="11328" h="640">
                  <a:moveTo>
                    <a:pt x="182" y="0"/>
                  </a:moveTo>
                  <a:cubicBezTo>
                    <a:pt x="82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82" y="640"/>
                    <a:pt x="182" y="640"/>
                  </a:cubicBezTo>
                  <a:lnTo>
                    <a:pt x="11147" y="640"/>
                  </a:lnTo>
                  <a:cubicBezTo>
                    <a:pt x="11247" y="640"/>
                    <a:pt x="11328" y="592"/>
                    <a:pt x="11328" y="533"/>
                  </a:cubicBezTo>
                  <a:lnTo>
                    <a:pt x="11328" y="107"/>
                  </a:lnTo>
                  <a:cubicBezTo>
                    <a:pt x="11328" y="48"/>
                    <a:pt x="11247" y="0"/>
                    <a:pt x="11147" y="0"/>
                  </a:cubicBezTo>
                  <a:lnTo>
                    <a:pt x="18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52560" y="1817640"/>
              <a:ext cx="6166080" cy="265320"/>
            </a:xfrm>
            <a:custGeom>
              <a:avLst/>
              <a:gdLst/>
              <a:ahLst/>
              <a:rect l="l" t="t" r="r" b="b"/>
              <a:pathLst>
                <a:path w="11328" h="640">
                  <a:moveTo>
                    <a:pt x="182" y="0"/>
                  </a:moveTo>
                  <a:cubicBezTo>
                    <a:pt x="82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82" y="640"/>
                    <a:pt x="182" y="640"/>
                  </a:cubicBezTo>
                  <a:lnTo>
                    <a:pt x="11147" y="640"/>
                  </a:lnTo>
                  <a:cubicBezTo>
                    <a:pt x="11247" y="640"/>
                    <a:pt x="11328" y="592"/>
                    <a:pt x="11328" y="533"/>
                  </a:cubicBezTo>
                  <a:lnTo>
                    <a:pt x="11328" y="107"/>
                  </a:lnTo>
                  <a:cubicBezTo>
                    <a:pt x="11328" y="48"/>
                    <a:pt x="11247" y="0"/>
                    <a:pt x="11147" y="0"/>
                  </a:cubicBezTo>
                  <a:lnTo>
                    <a:pt x="182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908440" y="1909800"/>
              <a:ext cx="5852880" cy="79200"/>
            </a:xfrm>
            <a:custGeom>
              <a:avLst/>
              <a:gdLst/>
              <a:ahLst/>
              <a:rect l="l" t="t" r="r" b="b"/>
              <a:pathLst>
                <a:path w="10752" h="192">
                  <a:moveTo>
                    <a:pt x="10586" y="128"/>
                  </a:moveTo>
                  <a:lnTo>
                    <a:pt x="167" y="128"/>
                  </a:lnTo>
                  <a:lnTo>
                    <a:pt x="167" y="64"/>
                  </a:lnTo>
                  <a:lnTo>
                    <a:pt x="10586" y="64"/>
                  </a:lnTo>
                  <a:lnTo>
                    <a:pt x="10586" y="128"/>
                  </a:lnTo>
                  <a:close/>
                  <a:moveTo>
                    <a:pt x="10586" y="0"/>
                  </a:moveTo>
                  <a:cubicBezTo>
                    <a:pt x="10678" y="0"/>
                    <a:pt x="10752" y="43"/>
                    <a:pt x="10752" y="96"/>
                  </a:cubicBezTo>
                  <a:cubicBezTo>
                    <a:pt x="10752" y="149"/>
                    <a:pt x="10678" y="192"/>
                    <a:pt x="10586" y="192"/>
                  </a:cubicBezTo>
                  <a:cubicBezTo>
                    <a:pt x="10494" y="192"/>
                    <a:pt x="10420" y="149"/>
                    <a:pt x="10420" y="96"/>
                  </a:cubicBezTo>
                  <a:cubicBezTo>
                    <a:pt x="10420" y="43"/>
                    <a:pt x="10494" y="0"/>
                    <a:pt x="10586" y="0"/>
                  </a:cubicBezTo>
                  <a:close/>
                  <a:moveTo>
                    <a:pt x="167" y="192"/>
                  </a:moveTo>
                  <a:cubicBezTo>
                    <a:pt x="75" y="192"/>
                    <a:pt x="0" y="149"/>
                    <a:pt x="0" y="96"/>
                  </a:cubicBezTo>
                  <a:cubicBezTo>
                    <a:pt x="0" y="43"/>
                    <a:pt x="75" y="0"/>
                    <a:pt x="167" y="0"/>
                  </a:cubicBezTo>
                  <a:cubicBezTo>
                    <a:pt x="259" y="0"/>
                    <a:pt x="333" y="43"/>
                    <a:pt x="333" y="96"/>
                  </a:cubicBezTo>
                  <a:cubicBezTo>
                    <a:pt x="333" y="149"/>
                    <a:pt x="259" y="192"/>
                    <a:pt x="167" y="19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08440" y="1909800"/>
              <a:ext cx="5852880" cy="79200"/>
            </a:xfrm>
            <a:custGeom>
              <a:avLst/>
              <a:gdLst/>
              <a:ahLst/>
              <a:rect l="l" t="t" r="r" b="b"/>
              <a:pathLst>
                <a:path w="10752" h="192">
                  <a:moveTo>
                    <a:pt x="10586" y="128"/>
                  </a:moveTo>
                  <a:lnTo>
                    <a:pt x="167" y="128"/>
                  </a:lnTo>
                  <a:lnTo>
                    <a:pt x="167" y="64"/>
                  </a:lnTo>
                  <a:lnTo>
                    <a:pt x="10586" y="64"/>
                  </a:lnTo>
                  <a:lnTo>
                    <a:pt x="10586" y="128"/>
                  </a:lnTo>
                  <a:close/>
                  <a:moveTo>
                    <a:pt x="10586" y="0"/>
                  </a:moveTo>
                  <a:cubicBezTo>
                    <a:pt x="10678" y="0"/>
                    <a:pt x="10752" y="43"/>
                    <a:pt x="10752" y="96"/>
                  </a:cubicBezTo>
                  <a:cubicBezTo>
                    <a:pt x="10752" y="149"/>
                    <a:pt x="10678" y="192"/>
                    <a:pt x="10586" y="192"/>
                  </a:cubicBezTo>
                  <a:cubicBezTo>
                    <a:pt x="10494" y="192"/>
                    <a:pt x="10420" y="149"/>
                    <a:pt x="10420" y="96"/>
                  </a:cubicBezTo>
                  <a:cubicBezTo>
                    <a:pt x="10420" y="43"/>
                    <a:pt x="10494" y="0"/>
                    <a:pt x="10586" y="0"/>
                  </a:cubicBezTo>
                  <a:close/>
                  <a:moveTo>
                    <a:pt x="167" y="192"/>
                  </a:moveTo>
                  <a:cubicBezTo>
                    <a:pt x="75" y="192"/>
                    <a:pt x="0" y="149"/>
                    <a:pt x="0" y="96"/>
                  </a:cubicBezTo>
                  <a:cubicBezTo>
                    <a:pt x="0" y="43"/>
                    <a:pt x="75" y="0"/>
                    <a:pt x="167" y="0"/>
                  </a:cubicBezTo>
                  <a:cubicBezTo>
                    <a:pt x="259" y="0"/>
                    <a:pt x="333" y="43"/>
                    <a:pt x="333" y="96"/>
                  </a:cubicBezTo>
                  <a:cubicBezTo>
                    <a:pt x="333" y="149"/>
                    <a:pt x="259" y="192"/>
                    <a:pt x="167" y="192"/>
                  </a:cubicBezTo>
                  <a:close/>
                </a:path>
              </a:pathLst>
            </a:custGeom>
            <a:noFill/>
            <a:ln cap="rnd" w="324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43440" y="1851120"/>
              <a:ext cx="1539720" cy="196920"/>
            </a:xfrm>
            <a:custGeom>
              <a:avLst/>
              <a:gdLst/>
              <a:ahLst/>
              <a:rect l="l" t="t" r="r" b="b"/>
              <a:pathLst>
                <a:path w="970" h="124">
                  <a:moveTo>
                    <a:pt x="0" y="0"/>
                  </a:moveTo>
                  <a:lnTo>
                    <a:pt x="0" y="124"/>
                  </a:lnTo>
                  <a:lnTo>
                    <a:pt x="970" y="124"/>
                  </a:lnTo>
                  <a:lnTo>
                    <a:pt x="97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12160" y="1866960"/>
              <a:ext cx="80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ot Associa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778120" y="2135160"/>
              <a:ext cx="5095800" cy="265320"/>
            </a:xfrm>
            <a:custGeom>
              <a:avLst/>
              <a:gdLst/>
              <a:ahLst/>
              <a:rect l="l" t="t" r="r" b="b"/>
              <a:pathLst>
                <a:path w="9360" h="640">
                  <a:moveTo>
                    <a:pt x="150" y="0"/>
                  </a:moveTo>
                  <a:cubicBezTo>
                    <a:pt x="6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68" y="640"/>
                    <a:pt x="150" y="640"/>
                  </a:cubicBezTo>
                  <a:lnTo>
                    <a:pt x="9210" y="640"/>
                  </a:lnTo>
                  <a:cubicBezTo>
                    <a:pt x="9293" y="640"/>
                    <a:pt x="9360" y="592"/>
                    <a:pt x="9360" y="533"/>
                  </a:cubicBezTo>
                  <a:lnTo>
                    <a:pt x="9360" y="107"/>
                  </a:lnTo>
                  <a:cubicBezTo>
                    <a:pt x="9360" y="48"/>
                    <a:pt x="9293" y="0"/>
                    <a:pt x="9210" y="0"/>
                  </a:cubicBezTo>
                  <a:lnTo>
                    <a:pt x="15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86040" y="2135160"/>
              <a:ext cx="5087880" cy="265320"/>
            </a:xfrm>
            <a:custGeom>
              <a:avLst/>
              <a:gdLst/>
              <a:ahLst/>
              <a:rect l="l" t="t" r="r" b="b"/>
              <a:pathLst>
                <a:path w="9347" h="640">
                  <a:moveTo>
                    <a:pt x="150" y="0"/>
                  </a:moveTo>
                  <a:cubicBezTo>
                    <a:pt x="6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68" y="640"/>
                    <a:pt x="150" y="640"/>
                  </a:cubicBezTo>
                  <a:lnTo>
                    <a:pt x="9198" y="640"/>
                  </a:lnTo>
                  <a:cubicBezTo>
                    <a:pt x="9280" y="640"/>
                    <a:pt x="9347" y="592"/>
                    <a:pt x="9347" y="533"/>
                  </a:cubicBezTo>
                  <a:lnTo>
                    <a:pt x="9347" y="107"/>
                  </a:lnTo>
                  <a:cubicBezTo>
                    <a:pt x="9347" y="48"/>
                    <a:pt x="9280" y="0"/>
                    <a:pt x="9198" y="0"/>
                  </a:cubicBezTo>
                  <a:lnTo>
                    <a:pt x="150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1560" y="2227320"/>
              <a:ext cx="4932360" cy="81000"/>
            </a:xfrm>
            <a:custGeom>
              <a:avLst/>
              <a:gdLst/>
              <a:ahLst/>
              <a:rect l="l" t="t" r="r" b="b"/>
              <a:pathLst>
                <a:path w="9059" h="192">
                  <a:moveTo>
                    <a:pt x="8919" y="128"/>
                  </a:moveTo>
                  <a:lnTo>
                    <a:pt x="140" y="128"/>
                  </a:lnTo>
                  <a:lnTo>
                    <a:pt x="140" y="64"/>
                  </a:lnTo>
                  <a:lnTo>
                    <a:pt x="8919" y="64"/>
                  </a:lnTo>
                  <a:lnTo>
                    <a:pt x="8919" y="128"/>
                  </a:lnTo>
                  <a:close/>
                  <a:moveTo>
                    <a:pt x="8919" y="0"/>
                  </a:moveTo>
                  <a:cubicBezTo>
                    <a:pt x="8997" y="0"/>
                    <a:pt x="9059" y="43"/>
                    <a:pt x="9059" y="96"/>
                  </a:cubicBezTo>
                  <a:cubicBezTo>
                    <a:pt x="9059" y="149"/>
                    <a:pt x="8997" y="192"/>
                    <a:pt x="8919" y="192"/>
                  </a:cubicBezTo>
                  <a:cubicBezTo>
                    <a:pt x="8842" y="192"/>
                    <a:pt x="8779" y="149"/>
                    <a:pt x="8779" y="96"/>
                  </a:cubicBezTo>
                  <a:cubicBezTo>
                    <a:pt x="8779" y="43"/>
                    <a:pt x="8842" y="0"/>
                    <a:pt x="8919" y="0"/>
                  </a:cubicBezTo>
                  <a:close/>
                  <a:moveTo>
                    <a:pt x="140" y="192"/>
                  </a:moveTo>
                  <a:cubicBezTo>
                    <a:pt x="63" y="192"/>
                    <a:pt x="0" y="149"/>
                    <a:pt x="0" y="96"/>
                  </a:cubicBezTo>
                  <a:cubicBezTo>
                    <a:pt x="0" y="43"/>
                    <a:pt x="63" y="0"/>
                    <a:pt x="140" y="0"/>
                  </a:cubicBezTo>
                  <a:cubicBezTo>
                    <a:pt x="218" y="0"/>
                    <a:pt x="280" y="43"/>
                    <a:pt x="280" y="96"/>
                  </a:cubicBezTo>
                  <a:cubicBezTo>
                    <a:pt x="280" y="149"/>
                    <a:pt x="218" y="192"/>
                    <a:pt x="140" y="19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41560" y="2227320"/>
              <a:ext cx="4932360" cy="81000"/>
            </a:xfrm>
            <a:custGeom>
              <a:avLst/>
              <a:gdLst/>
              <a:ahLst/>
              <a:rect l="l" t="t" r="r" b="b"/>
              <a:pathLst>
                <a:path w="9059" h="192">
                  <a:moveTo>
                    <a:pt x="8919" y="128"/>
                  </a:moveTo>
                  <a:lnTo>
                    <a:pt x="140" y="128"/>
                  </a:lnTo>
                  <a:lnTo>
                    <a:pt x="140" y="64"/>
                  </a:lnTo>
                  <a:lnTo>
                    <a:pt x="8919" y="64"/>
                  </a:lnTo>
                  <a:lnTo>
                    <a:pt x="8919" y="128"/>
                  </a:lnTo>
                  <a:close/>
                  <a:moveTo>
                    <a:pt x="8919" y="0"/>
                  </a:moveTo>
                  <a:cubicBezTo>
                    <a:pt x="8997" y="0"/>
                    <a:pt x="9059" y="43"/>
                    <a:pt x="9059" y="96"/>
                  </a:cubicBezTo>
                  <a:cubicBezTo>
                    <a:pt x="9059" y="149"/>
                    <a:pt x="8997" y="192"/>
                    <a:pt x="8919" y="192"/>
                  </a:cubicBezTo>
                  <a:cubicBezTo>
                    <a:pt x="8842" y="192"/>
                    <a:pt x="8779" y="149"/>
                    <a:pt x="8779" y="96"/>
                  </a:cubicBezTo>
                  <a:cubicBezTo>
                    <a:pt x="8779" y="43"/>
                    <a:pt x="8842" y="0"/>
                    <a:pt x="8919" y="0"/>
                  </a:cubicBezTo>
                  <a:close/>
                  <a:moveTo>
                    <a:pt x="140" y="192"/>
                  </a:moveTo>
                  <a:cubicBezTo>
                    <a:pt x="63" y="192"/>
                    <a:pt x="0" y="149"/>
                    <a:pt x="0" y="96"/>
                  </a:cubicBezTo>
                  <a:cubicBezTo>
                    <a:pt x="0" y="43"/>
                    <a:pt x="63" y="0"/>
                    <a:pt x="140" y="0"/>
                  </a:cubicBezTo>
                  <a:cubicBezTo>
                    <a:pt x="218" y="0"/>
                    <a:pt x="280" y="43"/>
                    <a:pt x="280" y="96"/>
                  </a:cubicBezTo>
                  <a:cubicBezTo>
                    <a:pt x="280" y="149"/>
                    <a:pt x="218" y="192"/>
                    <a:pt x="140" y="192"/>
                  </a:cubicBezTo>
                  <a:close/>
                </a:path>
              </a:pathLst>
            </a:custGeom>
            <a:noFill/>
            <a:ln cap="rnd" w="324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331960" y="211284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revious MI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335200" y="2257560"/>
              <a:ext cx="76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gistration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071360" y="221148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127880" y="22114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71360" y="317664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27880" y="31766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40360" y="3367080"/>
              <a:ext cx="1619280" cy="263520"/>
            </a:xfrm>
            <a:custGeom>
              <a:avLst/>
              <a:gdLst/>
              <a:ahLst/>
              <a:rect l="l" t="t" r="r" b="b"/>
              <a:pathLst>
                <a:path w="2976" h="639">
                  <a:moveTo>
                    <a:pt x="48" y="0"/>
                  </a:moveTo>
                  <a:cubicBezTo>
                    <a:pt x="22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22" y="639"/>
                    <a:pt x="48" y="639"/>
                  </a:cubicBezTo>
                  <a:lnTo>
                    <a:pt x="2929" y="639"/>
                  </a:lnTo>
                  <a:cubicBezTo>
                    <a:pt x="2955" y="639"/>
                    <a:pt x="2976" y="592"/>
                    <a:pt x="2976" y="533"/>
                  </a:cubicBezTo>
                  <a:lnTo>
                    <a:pt x="2976" y="107"/>
                  </a:lnTo>
                  <a:cubicBezTo>
                    <a:pt x="2976" y="48"/>
                    <a:pt x="2955" y="0"/>
                    <a:pt x="2929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940360" y="3367080"/>
              <a:ext cx="1619280" cy="263520"/>
            </a:xfrm>
            <a:custGeom>
              <a:avLst/>
              <a:gdLst/>
              <a:ahLst/>
              <a:rect l="l" t="t" r="r" b="b"/>
              <a:pathLst>
                <a:path w="2976" h="639">
                  <a:moveTo>
                    <a:pt x="48" y="0"/>
                  </a:moveTo>
                  <a:cubicBezTo>
                    <a:pt x="22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22" y="639"/>
                    <a:pt x="48" y="639"/>
                  </a:cubicBezTo>
                  <a:lnTo>
                    <a:pt x="2929" y="639"/>
                  </a:lnTo>
                  <a:cubicBezTo>
                    <a:pt x="2955" y="639"/>
                    <a:pt x="2976" y="592"/>
                    <a:pt x="2976" y="533"/>
                  </a:cubicBezTo>
                  <a:lnTo>
                    <a:pt x="2976" y="107"/>
                  </a:lnTo>
                  <a:cubicBezTo>
                    <a:pt x="2976" y="48"/>
                    <a:pt x="2955" y="0"/>
                    <a:pt x="2929" y="0"/>
                  </a:cubicBezTo>
                  <a:lnTo>
                    <a:pt x="48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261840" y="3343320"/>
              <a:ext cx="1089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avorable Network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355080" y="34894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453360" y="3489480"/>
              <a:ext cx="104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&gt;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644880" y="3489480"/>
              <a:ext cx="48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ele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73280" y="3749760"/>
              <a:ext cx="333396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390840" y="3710160"/>
              <a:ext cx="109440" cy="80640"/>
            </a:xfrm>
            <a:custGeom>
              <a:avLst/>
              <a:gdLst/>
              <a:ahLst/>
              <a:rect l="l" t="t" r="r" b="b"/>
              <a:pathLst>
                <a:path w="200" h="199">
                  <a:moveTo>
                    <a:pt x="0" y="99"/>
                  </a:moveTo>
                  <a:lnTo>
                    <a:pt x="200" y="0"/>
                  </a:lnTo>
                  <a:cubicBezTo>
                    <a:pt x="168" y="62"/>
                    <a:pt x="168" y="136"/>
                    <a:pt x="200" y="199"/>
                  </a:cubicBezTo>
                  <a:lnTo>
                    <a:pt x="200" y="1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280040" y="3697200"/>
              <a:ext cx="1628640" cy="1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4440" y="3693960"/>
              <a:ext cx="1239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MIH REMOTE COMMAND REQUES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06720" y="3879720"/>
              <a:ext cx="1290600" cy="180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025720" y="3838680"/>
              <a:ext cx="108000" cy="82440"/>
            </a:xfrm>
            <a:custGeom>
              <a:avLst/>
              <a:gdLst/>
              <a:ahLst/>
              <a:rect l="l" t="t" r="r" b="b"/>
              <a:pathLst>
                <a:path w="199" h="200">
                  <a:moveTo>
                    <a:pt x="0" y="100"/>
                  </a:moveTo>
                  <a:lnTo>
                    <a:pt x="199" y="0"/>
                  </a:lnTo>
                  <a:cubicBezTo>
                    <a:pt x="168" y="63"/>
                    <a:pt x="168" y="137"/>
                    <a:pt x="199" y="200"/>
                  </a:cubicBez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106360" y="37609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167560" y="376092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3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310840" y="3760920"/>
              <a:ext cx="532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Switch request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943360" y="37609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84040" y="3760920"/>
              <a:ext cx="12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in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140280" y="3760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_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207600" y="3760920"/>
              <a:ext cx="133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inf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360960" y="37609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057320" y="468000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162800" y="4680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057320" y="439416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162800" y="43941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057320" y="485784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162800" y="48578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057320" y="412272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162800" y="412272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057320" y="397836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162800" y="39783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057320" y="380520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62800" y="38052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057320" y="3660840"/>
              <a:ext cx="9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162800" y="36608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71360" y="3429000"/>
              <a:ext cx="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127880" y="3429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274840" y="5911920"/>
              <a:ext cx="3625920" cy="263520"/>
            </a:xfrm>
            <a:custGeom>
              <a:avLst/>
              <a:gdLst/>
              <a:ahLst/>
              <a:rect l="l" t="t" r="r" b="b"/>
              <a:pathLst>
                <a:path w="6659" h="640">
                  <a:moveTo>
                    <a:pt x="107" y="0"/>
                  </a:moveTo>
                  <a:cubicBezTo>
                    <a:pt x="4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2"/>
                    <a:pt x="48" y="640"/>
                    <a:pt x="107" y="640"/>
                  </a:cubicBezTo>
                  <a:lnTo>
                    <a:pt x="6552" y="640"/>
                  </a:lnTo>
                  <a:cubicBezTo>
                    <a:pt x="6611" y="640"/>
                    <a:pt x="6659" y="592"/>
                    <a:pt x="6659" y="533"/>
                  </a:cubicBezTo>
                  <a:lnTo>
                    <a:pt x="6659" y="107"/>
                  </a:lnTo>
                  <a:cubicBezTo>
                    <a:pt x="6659" y="48"/>
                    <a:pt x="6611" y="0"/>
                    <a:pt x="6552" y="0"/>
                  </a:cubicBezTo>
                  <a:lnTo>
                    <a:pt x="107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274840" y="5918040"/>
              <a:ext cx="3625920" cy="265320"/>
            </a:xfrm>
            <a:custGeom>
              <a:avLst/>
              <a:gdLst/>
              <a:ahLst/>
              <a:rect l="l" t="t" r="r" b="b"/>
              <a:pathLst>
                <a:path w="6659" h="639">
                  <a:moveTo>
                    <a:pt x="107" y="0"/>
                  </a:moveTo>
                  <a:cubicBezTo>
                    <a:pt x="4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1"/>
                    <a:pt x="48" y="639"/>
                    <a:pt x="107" y="639"/>
                  </a:cubicBezTo>
                  <a:lnTo>
                    <a:pt x="6552" y="639"/>
                  </a:lnTo>
                  <a:cubicBezTo>
                    <a:pt x="6611" y="639"/>
                    <a:pt x="6659" y="591"/>
                    <a:pt x="6659" y="533"/>
                  </a:cubicBezTo>
                  <a:lnTo>
                    <a:pt x="6659" y="107"/>
                  </a:lnTo>
                  <a:cubicBezTo>
                    <a:pt x="6659" y="48"/>
                    <a:pt x="6611" y="0"/>
                    <a:pt x="6552" y="0"/>
                  </a:cubicBezTo>
                  <a:lnTo>
                    <a:pt x="107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274840" y="5918040"/>
              <a:ext cx="3625920" cy="265320"/>
            </a:xfrm>
            <a:custGeom>
              <a:avLst/>
              <a:gdLst/>
              <a:ahLst/>
              <a:rect l="l" t="t" r="r" b="b"/>
              <a:pathLst>
                <a:path w="6659" h="639">
                  <a:moveTo>
                    <a:pt x="107" y="0"/>
                  </a:moveTo>
                  <a:cubicBezTo>
                    <a:pt x="48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1"/>
                    <a:pt x="48" y="639"/>
                    <a:pt x="107" y="639"/>
                  </a:cubicBezTo>
                  <a:lnTo>
                    <a:pt x="6552" y="639"/>
                  </a:lnTo>
                  <a:cubicBezTo>
                    <a:pt x="6611" y="639"/>
                    <a:pt x="6659" y="591"/>
                    <a:pt x="6659" y="533"/>
                  </a:cubicBezTo>
                  <a:lnTo>
                    <a:pt x="6659" y="107"/>
                  </a:lnTo>
                  <a:cubicBezTo>
                    <a:pt x="6659" y="48"/>
                    <a:pt x="6611" y="0"/>
                    <a:pt x="6552" y="0"/>
                  </a:cubicBezTo>
                  <a:lnTo>
                    <a:pt x="107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32160" y="6002280"/>
              <a:ext cx="3381120" cy="79560"/>
            </a:xfrm>
            <a:custGeom>
              <a:avLst/>
              <a:gdLst/>
              <a:ahLst/>
              <a:rect l="l" t="t" r="r" b="b"/>
              <a:pathLst>
                <a:path w="6211" h="192">
                  <a:moveTo>
                    <a:pt x="6115" y="128"/>
                  </a:moveTo>
                  <a:lnTo>
                    <a:pt x="96" y="128"/>
                  </a:lnTo>
                  <a:lnTo>
                    <a:pt x="96" y="64"/>
                  </a:lnTo>
                  <a:lnTo>
                    <a:pt x="6115" y="64"/>
                  </a:lnTo>
                  <a:lnTo>
                    <a:pt x="6115" y="128"/>
                  </a:lnTo>
                  <a:close/>
                  <a:moveTo>
                    <a:pt x="6115" y="0"/>
                  </a:moveTo>
                  <a:cubicBezTo>
                    <a:pt x="6168" y="0"/>
                    <a:pt x="6211" y="43"/>
                    <a:pt x="6211" y="96"/>
                  </a:cubicBezTo>
                  <a:cubicBezTo>
                    <a:pt x="6211" y="149"/>
                    <a:pt x="6168" y="192"/>
                    <a:pt x="6115" y="192"/>
                  </a:cubicBezTo>
                  <a:cubicBezTo>
                    <a:pt x="6062" y="192"/>
                    <a:pt x="6019" y="149"/>
                    <a:pt x="6019" y="96"/>
                  </a:cubicBezTo>
                  <a:cubicBezTo>
                    <a:pt x="6019" y="43"/>
                    <a:pt x="6062" y="0"/>
                    <a:pt x="6115" y="0"/>
                  </a:cubicBezTo>
                  <a:close/>
                  <a:moveTo>
                    <a:pt x="96" y="192"/>
                  </a:moveTo>
                  <a:cubicBezTo>
                    <a:pt x="43" y="192"/>
                    <a:pt x="0" y="149"/>
                    <a:pt x="0" y="96"/>
                  </a:cubicBezTo>
                  <a:cubicBezTo>
                    <a:pt x="0" y="43"/>
                    <a:pt x="43" y="0"/>
                    <a:pt x="96" y="0"/>
                  </a:cubicBezTo>
                  <a:cubicBezTo>
                    <a:pt x="149" y="0"/>
                    <a:pt x="192" y="43"/>
                    <a:pt x="192" y="96"/>
                  </a:cubicBezTo>
                  <a:cubicBezTo>
                    <a:pt x="192" y="149"/>
                    <a:pt x="149" y="192"/>
                    <a:pt x="96" y="19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432160" y="6002280"/>
              <a:ext cx="3381120" cy="79560"/>
            </a:xfrm>
            <a:custGeom>
              <a:avLst/>
              <a:gdLst/>
              <a:ahLst/>
              <a:rect l="l" t="t" r="r" b="b"/>
              <a:pathLst>
                <a:path w="6211" h="192">
                  <a:moveTo>
                    <a:pt x="6115" y="128"/>
                  </a:moveTo>
                  <a:lnTo>
                    <a:pt x="96" y="128"/>
                  </a:lnTo>
                  <a:lnTo>
                    <a:pt x="96" y="64"/>
                  </a:lnTo>
                  <a:lnTo>
                    <a:pt x="6115" y="64"/>
                  </a:lnTo>
                  <a:lnTo>
                    <a:pt x="6115" y="128"/>
                  </a:lnTo>
                  <a:close/>
                  <a:moveTo>
                    <a:pt x="6115" y="0"/>
                  </a:moveTo>
                  <a:cubicBezTo>
                    <a:pt x="6168" y="0"/>
                    <a:pt x="6211" y="43"/>
                    <a:pt x="6211" y="96"/>
                  </a:cubicBezTo>
                  <a:cubicBezTo>
                    <a:pt x="6211" y="149"/>
                    <a:pt x="6168" y="192"/>
                    <a:pt x="6115" y="192"/>
                  </a:cubicBezTo>
                  <a:cubicBezTo>
                    <a:pt x="6062" y="192"/>
                    <a:pt x="6019" y="149"/>
                    <a:pt x="6019" y="96"/>
                  </a:cubicBezTo>
                  <a:cubicBezTo>
                    <a:pt x="6019" y="43"/>
                    <a:pt x="6062" y="0"/>
                    <a:pt x="6115" y="0"/>
                  </a:cubicBezTo>
                  <a:close/>
                  <a:moveTo>
                    <a:pt x="96" y="192"/>
                  </a:moveTo>
                  <a:cubicBezTo>
                    <a:pt x="43" y="192"/>
                    <a:pt x="0" y="149"/>
                    <a:pt x="0" y="96"/>
                  </a:cubicBezTo>
                  <a:cubicBezTo>
                    <a:pt x="0" y="43"/>
                    <a:pt x="43" y="0"/>
                    <a:pt x="96" y="0"/>
                  </a:cubicBezTo>
                  <a:cubicBezTo>
                    <a:pt x="149" y="0"/>
                    <a:pt x="192" y="43"/>
                    <a:pt x="192" y="96"/>
                  </a:cubicBezTo>
                  <a:cubicBezTo>
                    <a:pt x="192" y="149"/>
                    <a:pt x="149" y="192"/>
                    <a:pt x="96" y="192"/>
                  </a:cubicBezTo>
                  <a:close/>
                </a:path>
              </a:pathLst>
            </a:custGeom>
            <a:noFill/>
            <a:ln cap="rnd"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659040" y="5925960"/>
              <a:ext cx="946440" cy="196920"/>
            </a:xfrm>
            <a:custGeom>
              <a:avLst/>
              <a:gdLst/>
              <a:ahLst/>
              <a:rect l="l" t="t" r="r" b="b"/>
              <a:pathLst>
                <a:path w="596" h="124">
                  <a:moveTo>
                    <a:pt x="0" y="0"/>
                  </a:moveTo>
                  <a:lnTo>
                    <a:pt x="0" y="124"/>
                  </a:lnTo>
                  <a:lnTo>
                    <a:pt x="596" y="124"/>
                  </a:lnTo>
                  <a:lnTo>
                    <a:pt x="59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858840" y="596412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U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73840" y="5964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284360" y="5964120"/>
              <a:ext cx="26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752560" y="4313160"/>
              <a:ext cx="6166080" cy="265320"/>
            </a:xfrm>
            <a:custGeom>
              <a:avLst/>
              <a:gdLst/>
              <a:ahLst/>
              <a:rect l="l" t="t" r="r" b="b"/>
              <a:pathLst>
                <a:path w="11328" h="639">
                  <a:moveTo>
                    <a:pt x="182" y="0"/>
                  </a:moveTo>
                  <a:cubicBezTo>
                    <a:pt x="82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1"/>
                    <a:pt x="82" y="639"/>
                    <a:pt x="182" y="639"/>
                  </a:cubicBezTo>
                  <a:lnTo>
                    <a:pt x="11147" y="639"/>
                  </a:lnTo>
                  <a:cubicBezTo>
                    <a:pt x="11247" y="639"/>
                    <a:pt x="11328" y="591"/>
                    <a:pt x="11328" y="533"/>
                  </a:cubicBezTo>
                  <a:lnTo>
                    <a:pt x="11328" y="107"/>
                  </a:lnTo>
                  <a:cubicBezTo>
                    <a:pt x="11328" y="48"/>
                    <a:pt x="11247" y="0"/>
                    <a:pt x="11147" y="0"/>
                  </a:cubicBezTo>
                  <a:lnTo>
                    <a:pt x="18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752560" y="4313160"/>
              <a:ext cx="6166080" cy="265320"/>
            </a:xfrm>
            <a:custGeom>
              <a:avLst/>
              <a:gdLst/>
              <a:ahLst/>
              <a:rect l="l" t="t" r="r" b="b"/>
              <a:pathLst>
                <a:path w="11328" h="639">
                  <a:moveTo>
                    <a:pt x="182" y="0"/>
                  </a:moveTo>
                  <a:cubicBezTo>
                    <a:pt x="82" y="0"/>
                    <a:pt x="0" y="48"/>
                    <a:pt x="0" y="107"/>
                  </a:cubicBezTo>
                  <a:lnTo>
                    <a:pt x="0" y="533"/>
                  </a:lnTo>
                  <a:cubicBezTo>
                    <a:pt x="0" y="591"/>
                    <a:pt x="82" y="639"/>
                    <a:pt x="182" y="639"/>
                  </a:cubicBezTo>
                  <a:lnTo>
                    <a:pt x="11147" y="639"/>
                  </a:lnTo>
                  <a:cubicBezTo>
                    <a:pt x="11247" y="639"/>
                    <a:pt x="11328" y="591"/>
                    <a:pt x="11328" y="533"/>
                  </a:cubicBezTo>
                  <a:lnTo>
                    <a:pt x="11328" y="107"/>
                  </a:lnTo>
                  <a:cubicBezTo>
                    <a:pt x="11328" y="48"/>
                    <a:pt x="11247" y="0"/>
                    <a:pt x="11147" y="0"/>
                  </a:cubicBezTo>
                  <a:lnTo>
                    <a:pt x="182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908440" y="4405320"/>
              <a:ext cx="5852880" cy="79200"/>
            </a:xfrm>
            <a:custGeom>
              <a:avLst/>
              <a:gdLst/>
              <a:ahLst/>
              <a:rect l="l" t="t" r="r" b="b"/>
              <a:pathLst>
                <a:path w="10752" h="192">
                  <a:moveTo>
                    <a:pt x="10586" y="128"/>
                  </a:moveTo>
                  <a:lnTo>
                    <a:pt x="167" y="128"/>
                  </a:lnTo>
                  <a:lnTo>
                    <a:pt x="167" y="64"/>
                  </a:lnTo>
                  <a:lnTo>
                    <a:pt x="10586" y="64"/>
                  </a:lnTo>
                  <a:lnTo>
                    <a:pt x="10586" y="128"/>
                  </a:lnTo>
                  <a:close/>
                  <a:moveTo>
                    <a:pt x="10586" y="0"/>
                  </a:moveTo>
                  <a:cubicBezTo>
                    <a:pt x="10678" y="0"/>
                    <a:pt x="10752" y="44"/>
                    <a:pt x="10752" y="96"/>
                  </a:cubicBezTo>
                  <a:cubicBezTo>
                    <a:pt x="10752" y="149"/>
                    <a:pt x="10678" y="192"/>
                    <a:pt x="10586" y="192"/>
                  </a:cubicBezTo>
                  <a:cubicBezTo>
                    <a:pt x="10494" y="192"/>
                    <a:pt x="10420" y="149"/>
                    <a:pt x="10420" y="96"/>
                  </a:cubicBezTo>
                  <a:cubicBezTo>
                    <a:pt x="10420" y="44"/>
                    <a:pt x="10494" y="0"/>
                    <a:pt x="10586" y="0"/>
                  </a:cubicBezTo>
                  <a:close/>
                  <a:moveTo>
                    <a:pt x="167" y="192"/>
                  </a:moveTo>
                  <a:cubicBezTo>
                    <a:pt x="75" y="192"/>
                    <a:pt x="0" y="149"/>
                    <a:pt x="0" y="96"/>
                  </a:cubicBezTo>
                  <a:cubicBezTo>
                    <a:pt x="0" y="44"/>
                    <a:pt x="75" y="0"/>
                    <a:pt x="167" y="0"/>
                  </a:cubicBezTo>
                  <a:cubicBezTo>
                    <a:pt x="259" y="0"/>
                    <a:pt x="333" y="44"/>
                    <a:pt x="333" y="96"/>
                  </a:cubicBezTo>
                  <a:cubicBezTo>
                    <a:pt x="333" y="149"/>
                    <a:pt x="259" y="192"/>
                    <a:pt x="167" y="19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908440" y="4405320"/>
              <a:ext cx="5852880" cy="79200"/>
            </a:xfrm>
            <a:custGeom>
              <a:avLst/>
              <a:gdLst/>
              <a:ahLst/>
              <a:rect l="l" t="t" r="r" b="b"/>
              <a:pathLst>
                <a:path w="10752" h="192">
                  <a:moveTo>
                    <a:pt x="10586" y="128"/>
                  </a:moveTo>
                  <a:lnTo>
                    <a:pt x="167" y="128"/>
                  </a:lnTo>
                  <a:lnTo>
                    <a:pt x="167" y="64"/>
                  </a:lnTo>
                  <a:lnTo>
                    <a:pt x="10586" y="64"/>
                  </a:lnTo>
                  <a:lnTo>
                    <a:pt x="10586" y="128"/>
                  </a:lnTo>
                  <a:close/>
                  <a:moveTo>
                    <a:pt x="10586" y="0"/>
                  </a:moveTo>
                  <a:cubicBezTo>
                    <a:pt x="10678" y="0"/>
                    <a:pt x="10752" y="44"/>
                    <a:pt x="10752" y="96"/>
                  </a:cubicBezTo>
                  <a:cubicBezTo>
                    <a:pt x="10752" y="149"/>
                    <a:pt x="10678" y="192"/>
                    <a:pt x="10586" y="192"/>
                  </a:cubicBezTo>
                  <a:cubicBezTo>
                    <a:pt x="10494" y="192"/>
                    <a:pt x="10420" y="149"/>
                    <a:pt x="10420" y="96"/>
                  </a:cubicBezTo>
                  <a:cubicBezTo>
                    <a:pt x="10420" y="44"/>
                    <a:pt x="10494" y="0"/>
                    <a:pt x="10586" y="0"/>
                  </a:cubicBezTo>
                  <a:close/>
                  <a:moveTo>
                    <a:pt x="167" y="192"/>
                  </a:moveTo>
                  <a:cubicBezTo>
                    <a:pt x="75" y="192"/>
                    <a:pt x="0" y="149"/>
                    <a:pt x="0" y="96"/>
                  </a:cubicBezTo>
                  <a:cubicBezTo>
                    <a:pt x="0" y="44"/>
                    <a:pt x="75" y="0"/>
                    <a:pt x="167" y="0"/>
                  </a:cubicBezTo>
                  <a:cubicBezTo>
                    <a:pt x="259" y="0"/>
                    <a:pt x="333" y="44"/>
                    <a:pt x="333" y="96"/>
                  </a:cubicBezTo>
                  <a:cubicBezTo>
                    <a:pt x="333" y="149"/>
                    <a:pt x="259" y="192"/>
                    <a:pt x="167" y="192"/>
                  </a:cubicBezTo>
                  <a:close/>
                </a:path>
              </a:pathLst>
            </a:custGeom>
            <a:noFill/>
            <a:ln cap="rnd" w="324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843440" y="4346640"/>
              <a:ext cx="1539720" cy="196920"/>
            </a:xfrm>
            <a:custGeom>
              <a:avLst/>
              <a:gdLst/>
              <a:ahLst/>
              <a:rect l="l" t="t" r="r" b="b"/>
              <a:pathLst>
                <a:path w="970" h="124">
                  <a:moveTo>
                    <a:pt x="0" y="0"/>
                  </a:moveTo>
                  <a:lnTo>
                    <a:pt x="0" y="124"/>
                  </a:lnTo>
                  <a:lnTo>
                    <a:pt x="970" y="124"/>
                  </a:lnTo>
                  <a:lnTo>
                    <a:pt x="97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436000" y="4289400"/>
              <a:ext cx="50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ssoci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007680" y="4289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367960" y="4435560"/>
              <a:ext cx="698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7"/>
                </a:spcBef>
                <a:spcAft>
                  <a:spcPts val="18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uthentic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993760" y="3025800"/>
              <a:ext cx="43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INK EV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08640" y="5719680"/>
              <a:ext cx="573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spcAft>
                  <a:spcPts val="125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LINK COMMA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390840" y="6381720"/>
              <a:ext cx="333396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6697800" y="6340320"/>
            <a:ext cx="109440" cy="8280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200" y="100"/>
                </a:moveTo>
                <a:lnTo>
                  <a:pt x="0" y="200"/>
                </a:lnTo>
                <a:cubicBezTo>
                  <a:pt x="32" y="137"/>
                  <a:pt x="32" y="63"/>
                  <a:pt x="0" y="0"/>
                </a:cubicBezTo>
                <a:lnTo>
                  <a:pt x="0" y="0"/>
                </a:lnTo>
                <a:lnTo>
                  <a:pt x="200" y="10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245120" y="6327720"/>
            <a:ext cx="1698480" cy="1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455720" y="6327720"/>
            <a:ext cx="1293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Narrow"/>
              </a:rPr>
              <a:t>MIH REMOTE COMMAND RESPON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446120" y="5133960"/>
            <a:ext cx="7367760" cy="263520"/>
          </a:xfrm>
          <a:custGeom>
            <a:avLst/>
            <a:gdLst/>
            <a:ahLst/>
            <a:rect l="l" t="t" r="r" b="b"/>
            <a:pathLst>
              <a:path w="13536" h="639">
                <a:moveTo>
                  <a:pt x="218" y="0"/>
                </a:moveTo>
                <a:cubicBezTo>
                  <a:pt x="98" y="0"/>
                  <a:pt x="0" y="48"/>
                  <a:pt x="0" y="107"/>
                </a:cubicBezTo>
                <a:lnTo>
                  <a:pt x="0" y="533"/>
                </a:lnTo>
                <a:cubicBezTo>
                  <a:pt x="0" y="592"/>
                  <a:pt x="98" y="639"/>
                  <a:pt x="218" y="639"/>
                </a:cubicBezTo>
                <a:lnTo>
                  <a:pt x="13319" y="639"/>
                </a:lnTo>
                <a:cubicBezTo>
                  <a:pt x="13439" y="639"/>
                  <a:pt x="13536" y="592"/>
                  <a:pt x="13536" y="533"/>
                </a:cubicBezTo>
                <a:lnTo>
                  <a:pt x="13536" y="107"/>
                </a:lnTo>
                <a:cubicBezTo>
                  <a:pt x="13536" y="48"/>
                  <a:pt x="13439" y="0"/>
                  <a:pt x="13319" y="0"/>
                </a:cubicBezTo>
                <a:lnTo>
                  <a:pt x="218" y="0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446120" y="5133960"/>
            <a:ext cx="7367760" cy="263520"/>
          </a:xfrm>
          <a:custGeom>
            <a:avLst/>
            <a:gdLst/>
            <a:ahLst/>
            <a:rect l="l" t="t" r="r" b="b"/>
            <a:pathLst>
              <a:path w="13536" h="639">
                <a:moveTo>
                  <a:pt x="218" y="0"/>
                </a:moveTo>
                <a:cubicBezTo>
                  <a:pt x="98" y="0"/>
                  <a:pt x="0" y="48"/>
                  <a:pt x="0" y="107"/>
                </a:cubicBezTo>
                <a:lnTo>
                  <a:pt x="0" y="533"/>
                </a:lnTo>
                <a:cubicBezTo>
                  <a:pt x="0" y="592"/>
                  <a:pt x="98" y="639"/>
                  <a:pt x="218" y="639"/>
                </a:cubicBezTo>
                <a:lnTo>
                  <a:pt x="13319" y="639"/>
                </a:lnTo>
                <a:cubicBezTo>
                  <a:pt x="13439" y="639"/>
                  <a:pt x="13536" y="592"/>
                  <a:pt x="13536" y="533"/>
                </a:cubicBezTo>
                <a:lnTo>
                  <a:pt x="13536" y="107"/>
                </a:lnTo>
                <a:cubicBezTo>
                  <a:pt x="13536" y="48"/>
                  <a:pt x="13439" y="0"/>
                  <a:pt x="13319" y="0"/>
                </a:cubicBezTo>
                <a:lnTo>
                  <a:pt x="218" y="0"/>
                </a:lnTo>
                <a:close/>
              </a:path>
            </a:pathLst>
          </a:custGeom>
          <a:noFill/>
          <a:ln cap="rnd"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119480" y="51102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222800" y="51102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05680" y="5110200"/>
            <a:ext cx="49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bilit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971600" y="51102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025960" y="5110200"/>
            <a:ext cx="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094720" y="51102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140440" y="51102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18200" y="51102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388400" y="5256360"/>
            <a:ext cx="53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bile 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998600" y="52563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1004760" y="762120"/>
            <a:ext cx="8004240" cy="579744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-288000" y="2800440"/>
            <a:ext cx="10518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12"/>
              </a:spcBef>
              <a:spcAft>
                <a:spcPts val="1012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Nokia Sans Wide"/>
              </a:rPr>
              <a:t>TO BE REDESIGNED FOR 3GPP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247680" y="76320"/>
            <a:ext cx="941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3de8"/>
                </a:solidFill>
                <a:latin typeface="Nokia Large"/>
              </a:rPr>
              <a:t>WLAN-3GPP2 Exam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501480" y="771480"/>
            <a:ext cx="8991720" cy="570564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-295920" y="2800440"/>
            <a:ext cx="10518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12"/>
              </a:spcBef>
              <a:spcAft>
                <a:spcPts val="1012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Nokia Sans Wide"/>
              </a:rPr>
              <a:t>TO BE REDESIGNED FOR 3GPP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Conclusion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3GPP2 has identified inter-system/inter-technology mobility requirements that might benefit from IEEE 802.21 service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would like to work together with 3GPP2 experts to find how IEEE 802.21 might satisfy these requirement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Appendix: Background Slide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odel for Event Service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520560" y="993600"/>
            <a:ext cx="4975200" cy="187812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>
            <a:off x="530280" y="2900520"/>
            <a:ext cx="4879800" cy="187452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3"/>
          <a:stretch/>
        </p:blipFill>
        <p:spPr>
          <a:xfrm>
            <a:off x="501480" y="4718160"/>
            <a:ext cx="4962600" cy="188424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5688000" y="1143000"/>
            <a:ext cx="3760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S in local 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mote Link Events (e.g. from terminal to MIHF in netwo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mote MIH Events (e.g. from terminal to MIHF in netwo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odel for Command Service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601560" y="932040"/>
            <a:ext cx="4856400" cy="182700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2"/>
          <a:stretch/>
        </p:blipFill>
        <p:spPr>
          <a:xfrm>
            <a:off x="581040" y="2781360"/>
            <a:ext cx="4889520" cy="1849320"/>
          </a:xfrm>
          <a:prstGeom prst="rect">
            <a:avLst/>
          </a:prstGeom>
          <a:ln w="0">
            <a:noFill/>
          </a:ln>
        </p:spPr>
      </p:pic>
      <p:pic>
        <p:nvPicPr>
          <p:cNvPr id="853" name="" descr=""/>
          <p:cNvPicPr/>
          <p:nvPr/>
        </p:nvPicPr>
        <p:blipFill>
          <a:blip r:embed="rId3"/>
          <a:stretch/>
        </p:blipFill>
        <p:spPr>
          <a:xfrm>
            <a:off x="571680" y="4710240"/>
            <a:ext cx="4892400" cy="185400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5688000" y="1143000"/>
            <a:ext cx="3760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S in local 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mote Commands (e.g. from MIHF in network to termi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mote Commands (e.g. from MIHF in network to termi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Motivation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To be added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What is 802.21?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is being developed to facilitate smooth  interaction and media independent handover between 802 technologies and other access technologie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Membership spans over 70 members from more that 20 companies in over 10 Countrie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offers an open interface that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rovides link state event reporting in real time (Event Service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rovides intersystem information, automatically and on demand (Information Service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llows a user to control handover link state (Command Service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Why are we here?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88280" indent="-18828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Work actively within relevant standard bodies in order to introduce applicable IEEE 802.21 requirements (E.g., where does IEEE 802.21 fit?)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88280" indent="-18828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Update relevant 3GPP2 groups with latest development in IEEE 802.21 standard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88280" indent="-18828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Request your feed back and support in the determination of the optimal placement of IEEE 802.21 Function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188280" indent="-18828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Enthuse the 3GPP2 community about the development of requirement on IEEE 802.21 technology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Some Definition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Media Independent Handover Function (MIHF): 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MIH is a cross-layer entity that provides mobility support through well defined Service Access Points offering Event, Information and Command servic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MIH User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local entity that avails of MIHF services through the MIH Service Access Poin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MIH Network Entity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remote entity that is able to communicate with an MIHF over a transport that supports Media Independent Servic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Nokia Sans Wide"/>
                <a:ea typeface="Times New Roman"/>
              </a:rPr>
              <a:t>IEEE 802.21 DOs and DON’Ts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66ff"/>
                </a:solidFill>
                <a:uFillTx/>
                <a:latin typeface="Nokia Sans Wide"/>
              </a:rPr>
              <a:t>specifies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procedures that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facilitate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handover decision making, providing link layer state information to MIH users. Enabling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low latency handovers across multi-technology access network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66ff"/>
                </a:solidFill>
                <a:uFillTx/>
                <a:latin typeface="Nokia Sans Wide"/>
              </a:rPr>
              <a:t>defines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the methods and semantics that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facilitate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the acquisition of heterogeneous network information and the basic content of the this information, thereby enabling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network availability detec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66ff"/>
                </a:solidFill>
                <a:uFillTx/>
                <a:latin typeface="Nokia Sans Wide"/>
              </a:rPr>
              <a:t>specifies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command procedures that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facilitate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seamless service continuity across heterogeneous network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DON’T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IEEE 802.21 neither executes handovers nor defines handover policies leading to handover execu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IEEE 802.21 neither controls network detection nor specifies network selection procedur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Overview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IEEE 802.21 standard consists of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n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architecture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that enables transparent service continuity while a mobile node (MN) switches between heterogeneous link-layer technologi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set of handover-enabling functions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within the mobility-management protocol stacks of the network elements and the creation therein of a new entity called the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MIH Function (MIHF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 definition of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Media Independent Service Access Point</a:t>
            </a:r>
            <a:r>
              <a:rPr b="1" lang="en-US" sz="2000" spc="-1" strike="noStrike">
                <a:solidFill>
                  <a:srgbClr val="063de8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(MIH_SAP) and associated primitives are defined to provide MIH users with access to the services of the MIHF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 definition of new </a:t>
            </a: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Link Layer SAPs</a:t>
            </a:r>
            <a:r>
              <a:rPr b="1" lang="en-US" sz="2000" spc="-1" strike="noStrike">
                <a:solidFill>
                  <a:srgbClr val="063de8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nd associated primitives for each specific access technolog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6cc"/>
                </a:solidFill>
                <a:latin typeface="Nokia Large"/>
              </a:rPr>
              <a:t>802.21 Overview (cont.d)</a:t>
            </a:r>
            <a:endParaRPr b="1" lang="en-US" sz="32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88280" indent="-188280">
              <a:spcBef>
                <a:spcPts val="524"/>
              </a:spcBef>
              <a:spcAft>
                <a:spcPts val="52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The MIH Function provides three service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53040" indent="-1911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Event Service</a:t>
            </a:r>
            <a:r>
              <a:rPr b="0" lang="en-US" sz="2000" spc="-1" strike="noStrike">
                <a:solidFill>
                  <a:srgbClr val="0066ff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etects events and delivers triggers from both local as well as remote interfac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24640" indent="-1911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.g. Link_available, Link_up, Link_down, etc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53040" indent="-1911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Command Service</a:t>
            </a:r>
            <a:r>
              <a:rPr b="0" lang="en-US" sz="2000" spc="-1" strike="noStrike">
                <a:solidFill>
                  <a:srgbClr val="0066ff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rovides a set of commands for the MIH users to control handover relevant link stat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24640" indent="-1911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.g. MIH_Link_Switch, MIH_Configure_Link, MIH_Handover_Initiate, etc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53040" indent="-1911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Nokia Sans Wide"/>
              </a:rPr>
              <a:t>Information Service</a:t>
            </a:r>
            <a:r>
              <a:rPr b="0" lang="en-US" sz="2000" spc="-1" strike="noStrike">
                <a:solidFill>
                  <a:srgbClr val="0066ff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rovides the information model and an information repository to make more effective handover decisions. The mobile terminal obtains information from the repository using its current network points of attachmen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24640" indent="-1911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.g. list of available networks, network operator, IP version, neighbor information, etc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2T21:00:08Z</dcterms:created>
  <dc:creator>ssreeman</dc:creator>
  <dc:description>Nokia Standard Presentation Template - A4
v. 6 2002/06/12 Juhani Pitkänen
Nokia Corporate Fonts
Provided by: NBI\IMS\ITP\CP\Office Platforms
NBI Owner:  Eric Beasley</dc:description>
  <dc:language>en-US</dc:language>
  <cp:lastModifiedBy>sfaccin</cp:lastModifiedBy>
  <cp:lastPrinted>2000-03-20T15:35:04Z</cp:lastPrinted>
  <dcterms:modified xsi:type="dcterms:W3CDTF">2005-10-12T02:02:00Z</dcterms:modified>
  <cp:revision>117</cp:revision>
  <dc:subject/>
  <dc:title>MIH Scenarios</dc:title>
</cp:coreProperties>
</file>