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8CCA885-7EF1-4210-9BA5-4CA8140A420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55160" y="76320"/>
            <a:ext cx="75384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034560" y="76320"/>
            <a:ext cx="753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4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0C45E9C-B382-46ED-9D07-D8926068368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006640"/>
            <a:ext cx="8059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edia Independent Handoff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Overview of services and scenarios for 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39960" y="4098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efano M. Fac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802.21 Liaison officer to 3G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1800" y="4486320"/>
            <a:ext cx="36828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Design Assump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Cross-layer entity interaction with multiple lay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handover determination through a technology-independent unified interface to MIH us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both station initiated and network initiated handover determination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odify existing handover principle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andate handover determination based on IEEE 802.21 event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Terminal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4520" y="2987640"/>
            <a:ext cx="5827680" cy="352440"/>
          </a:xfrm>
          <a:custGeom>
            <a:avLst/>
            <a:gdLst/>
            <a:ahLst/>
            <a:rect l="l" t="t" r="r" b="b"/>
            <a:pathLst>
              <a:path w="3671" h="222">
                <a:moveTo>
                  <a:pt x="0" y="0"/>
                </a:moveTo>
                <a:lnTo>
                  <a:pt x="0" y="222"/>
                </a:lnTo>
                <a:lnTo>
                  <a:pt x="3671" y="222"/>
                </a:lnTo>
                <a:lnTo>
                  <a:pt x="367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4520" y="2987640"/>
            <a:ext cx="5827680" cy="3524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28520" y="3029040"/>
            <a:ext cx="468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a Independent Handover Fun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308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3029040"/>
            <a:ext cx="48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112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1360" y="4989600"/>
            <a:ext cx="696600" cy="311040"/>
          </a:xfrm>
          <a:custGeom>
            <a:avLst/>
            <a:gdLst/>
            <a:ahLst/>
            <a:rect l="l" t="t" r="r" b="b"/>
            <a:pathLst>
              <a:path w="439" h="196">
                <a:moveTo>
                  <a:pt x="0" y="0"/>
                </a:moveTo>
                <a:lnTo>
                  <a:pt x="0" y="196"/>
                </a:lnTo>
                <a:lnTo>
                  <a:pt x="439" y="196"/>
                </a:lnTo>
                <a:lnTo>
                  <a:pt x="4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1360" y="4989600"/>
            <a:ext cx="69660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63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8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6000" y="5043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6840" y="4989600"/>
            <a:ext cx="720720" cy="311040"/>
          </a:xfrm>
          <a:custGeom>
            <a:avLst/>
            <a:gdLst/>
            <a:ahLst/>
            <a:rect l="l" t="t" r="r" b="b"/>
            <a:pathLst>
              <a:path w="454" h="196">
                <a:moveTo>
                  <a:pt x="0" y="0"/>
                </a:moveTo>
                <a:lnTo>
                  <a:pt x="0" y="196"/>
                </a:lnTo>
                <a:lnTo>
                  <a:pt x="454" y="196"/>
                </a:lnTo>
                <a:lnTo>
                  <a:pt x="4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6840" y="4989600"/>
            <a:ext cx="7207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371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56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64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4989600"/>
            <a:ext cx="718920" cy="311040"/>
          </a:xfrm>
          <a:custGeom>
            <a:avLst/>
            <a:gdLst/>
            <a:ahLst/>
            <a:rect l="l" t="t" r="r" b="b"/>
            <a:pathLst>
              <a:path w="453" h="196">
                <a:moveTo>
                  <a:pt x="0" y="0"/>
                </a:moveTo>
                <a:lnTo>
                  <a:pt x="0" y="196"/>
                </a:lnTo>
                <a:lnTo>
                  <a:pt x="453" y="196"/>
                </a:lnTo>
                <a:lnTo>
                  <a:pt x="4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7240" y="4989600"/>
            <a:ext cx="7189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9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64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172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0320" y="5483160"/>
            <a:ext cx="246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5360" y="5483160"/>
            <a:ext cx="759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8800" y="49500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5480" y="4950000"/>
            <a:ext cx="181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P2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5864400"/>
            <a:ext cx="10828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5720" y="2130480"/>
            <a:ext cx="3560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dia Independent Handover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0800" y="27129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5960" y="25480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1400" y="270504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25779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3000" y="273672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41460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0640" y="357336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8680" y="349416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1400" y="364500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8080" y="346248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1538280"/>
            <a:ext cx="2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044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3044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280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788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1560600"/>
            <a:ext cx="1436400" cy="353880"/>
          </a:xfrm>
          <a:custGeom>
            <a:avLst/>
            <a:gdLst/>
            <a:ahLst/>
            <a:rect l="l" t="t" r="r" b="b"/>
            <a:pathLst>
              <a:path w="905" h="223">
                <a:moveTo>
                  <a:pt x="0" y="0"/>
                </a:moveTo>
                <a:lnTo>
                  <a:pt x="0" y="223"/>
                </a:lnTo>
                <a:lnTo>
                  <a:pt x="905" y="223"/>
                </a:lnTo>
                <a:lnTo>
                  <a:pt x="90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04120" y="1560600"/>
            <a:ext cx="143640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4880" y="1657440"/>
            <a:ext cx="932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57680" y="4087800"/>
            <a:ext cx="9720" cy="1579680"/>
          </a:xfrm>
          <a:custGeom>
            <a:avLst/>
            <a:gdLst/>
            <a:ahLst/>
            <a:rect l="l" t="t" r="r" b="b"/>
            <a:pathLst>
              <a:path w="16" h="3200">
                <a:moveTo>
                  <a:pt x="0" y="3192"/>
                </a:moveTo>
                <a:lnTo>
                  <a:pt x="0" y="3080"/>
                </a:lnTo>
                <a:cubicBezTo>
                  <a:pt x="0" y="3075"/>
                  <a:pt x="4" y="3072"/>
                  <a:pt x="8" y="3072"/>
                </a:cubicBezTo>
                <a:cubicBezTo>
                  <a:pt x="12" y="3072"/>
                  <a:pt x="16" y="3075"/>
                  <a:pt x="16" y="3080"/>
                </a:cubicBezTo>
                <a:lnTo>
                  <a:pt x="16" y="3192"/>
                </a:lnTo>
                <a:cubicBezTo>
                  <a:pt x="16" y="3196"/>
                  <a:pt x="12" y="3200"/>
                  <a:pt x="8" y="3200"/>
                </a:cubicBezTo>
                <a:cubicBezTo>
                  <a:pt x="4" y="3200"/>
                  <a:pt x="0" y="3196"/>
                  <a:pt x="0" y="3192"/>
                </a:cubicBezTo>
                <a:close/>
                <a:moveTo>
                  <a:pt x="0" y="3000"/>
                </a:moveTo>
                <a:lnTo>
                  <a:pt x="0" y="2888"/>
                </a:lnTo>
                <a:cubicBezTo>
                  <a:pt x="0" y="2883"/>
                  <a:pt x="4" y="2880"/>
                  <a:pt x="8" y="2880"/>
                </a:cubicBezTo>
                <a:cubicBezTo>
                  <a:pt x="12" y="2880"/>
                  <a:pt x="16" y="2883"/>
                  <a:pt x="16" y="2888"/>
                </a:cubicBezTo>
                <a:lnTo>
                  <a:pt x="16" y="3000"/>
                </a:lnTo>
                <a:cubicBezTo>
                  <a:pt x="16" y="3004"/>
                  <a:pt x="12" y="3008"/>
                  <a:pt x="8" y="3008"/>
                </a:cubicBezTo>
                <a:cubicBezTo>
                  <a:pt x="4" y="3008"/>
                  <a:pt x="0" y="3004"/>
                  <a:pt x="0" y="3000"/>
                </a:cubicBezTo>
                <a:close/>
                <a:moveTo>
                  <a:pt x="0" y="2808"/>
                </a:moveTo>
                <a:lnTo>
                  <a:pt x="0" y="2696"/>
                </a:lnTo>
                <a:cubicBezTo>
                  <a:pt x="0" y="2691"/>
                  <a:pt x="4" y="2688"/>
                  <a:pt x="8" y="2688"/>
                </a:cubicBezTo>
                <a:cubicBezTo>
                  <a:pt x="12" y="2688"/>
                  <a:pt x="16" y="2691"/>
                  <a:pt x="16" y="2696"/>
                </a:cubicBezTo>
                <a:lnTo>
                  <a:pt x="16" y="2808"/>
                </a:lnTo>
                <a:cubicBezTo>
                  <a:pt x="16" y="2812"/>
                  <a:pt x="12" y="2816"/>
                  <a:pt x="8" y="2816"/>
                </a:cubicBezTo>
                <a:cubicBezTo>
                  <a:pt x="4" y="2816"/>
                  <a:pt x="0" y="2812"/>
                  <a:pt x="0" y="2808"/>
                </a:cubicBezTo>
                <a:close/>
                <a:moveTo>
                  <a:pt x="0" y="2616"/>
                </a:moveTo>
                <a:lnTo>
                  <a:pt x="0" y="2504"/>
                </a:lnTo>
                <a:cubicBezTo>
                  <a:pt x="0" y="2499"/>
                  <a:pt x="4" y="2496"/>
                  <a:pt x="8" y="2496"/>
                </a:cubicBezTo>
                <a:cubicBezTo>
                  <a:pt x="12" y="2496"/>
                  <a:pt x="16" y="2499"/>
                  <a:pt x="16" y="2504"/>
                </a:cubicBezTo>
                <a:lnTo>
                  <a:pt x="16" y="2616"/>
                </a:lnTo>
                <a:cubicBezTo>
                  <a:pt x="16" y="2620"/>
                  <a:pt x="12" y="2624"/>
                  <a:pt x="8" y="2624"/>
                </a:cubicBezTo>
                <a:cubicBezTo>
                  <a:pt x="4" y="2624"/>
                  <a:pt x="0" y="2620"/>
                  <a:pt x="0" y="2616"/>
                </a:cubicBezTo>
                <a:close/>
                <a:moveTo>
                  <a:pt x="0" y="2424"/>
                </a:moveTo>
                <a:lnTo>
                  <a:pt x="0" y="2312"/>
                </a:lnTo>
                <a:cubicBezTo>
                  <a:pt x="0" y="2307"/>
                  <a:pt x="4" y="2304"/>
                  <a:pt x="8" y="2304"/>
                </a:cubicBezTo>
                <a:cubicBezTo>
                  <a:pt x="12" y="2304"/>
                  <a:pt x="16" y="2307"/>
                  <a:pt x="16" y="2312"/>
                </a:cubicBezTo>
                <a:lnTo>
                  <a:pt x="16" y="2424"/>
                </a:lnTo>
                <a:cubicBezTo>
                  <a:pt x="16" y="2428"/>
                  <a:pt x="12" y="2432"/>
                  <a:pt x="8" y="2432"/>
                </a:cubicBezTo>
                <a:cubicBezTo>
                  <a:pt x="4" y="2432"/>
                  <a:pt x="0" y="2428"/>
                  <a:pt x="0" y="2424"/>
                </a:cubicBezTo>
                <a:close/>
                <a:moveTo>
                  <a:pt x="0" y="2232"/>
                </a:moveTo>
                <a:lnTo>
                  <a:pt x="0" y="2120"/>
                </a:lnTo>
                <a:cubicBezTo>
                  <a:pt x="0" y="2115"/>
                  <a:pt x="4" y="2112"/>
                  <a:pt x="8" y="2112"/>
                </a:cubicBezTo>
                <a:cubicBezTo>
                  <a:pt x="12" y="2112"/>
                  <a:pt x="16" y="2115"/>
                  <a:pt x="16" y="2120"/>
                </a:cubicBezTo>
                <a:lnTo>
                  <a:pt x="16" y="2232"/>
                </a:lnTo>
                <a:cubicBezTo>
                  <a:pt x="16" y="2236"/>
                  <a:pt x="12" y="2240"/>
                  <a:pt x="8" y="2240"/>
                </a:cubicBezTo>
                <a:cubicBezTo>
                  <a:pt x="4" y="2240"/>
                  <a:pt x="0" y="2236"/>
                  <a:pt x="0" y="2232"/>
                </a:cubicBezTo>
                <a:close/>
                <a:moveTo>
                  <a:pt x="0" y="2040"/>
                </a:moveTo>
                <a:lnTo>
                  <a:pt x="0" y="1928"/>
                </a:lnTo>
                <a:cubicBezTo>
                  <a:pt x="0" y="1923"/>
                  <a:pt x="4" y="1920"/>
                  <a:pt x="8" y="1920"/>
                </a:cubicBezTo>
                <a:cubicBezTo>
                  <a:pt x="12" y="1920"/>
                  <a:pt x="16" y="1923"/>
                  <a:pt x="16" y="1928"/>
                </a:cubicBezTo>
                <a:lnTo>
                  <a:pt x="16" y="2040"/>
                </a:lnTo>
                <a:cubicBezTo>
                  <a:pt x="16" y="2044"/>
                  <a:pt x="12" y="2048"/>
                  <a:pt x="8" y="2048"/>
                </a:cubicBezTo>
                <a:cubicBezTo>
                  <a:pt x="4" y="2048"/>
                  <a:pt x="0" y="2044"/>
                  <a:pt x="0" y="2040"/>
                </a:cubicBezTo>
                <a:close/>
                <a:moveTo>
                  <a:pt x="0" y="1848"/>
                </a:moveTo>
                <a:lnTo>
                  <a:pt x="0" y="1736"/>
                </a:lnTo>
                <a:cubicBezTo>
                  <a:pt x="0" y="1731"/>
                  <a:pt x="4" y="1728"/>
                  <a:pt x="8" y="1728"/>
                </a:cubicBezTo>
                <a:cubicBezTo>
                  <a:pt x="12" y="1728"/>
                  <a:pt x="16" y="1731"/>
                  <a:pt x="16" y="1736"/>
                </a:cubicBezTo>
                <a:lnTo>
                  <a:pt x="16" y="1848"/>
                </a:lnTo>
                <a:cubicBezTo>
                  <a:pt x="16" y="1852"/>
                  <a:pt x="12" y="1856"/>
                  <a:pt x="8" y="1856"/>
                </a:cubicBezTo>
                <a:cubicBezTo>
                  <a:pt x="4" y="1856"/>
                  <a:pt x="0" y="1852"/>
                  <a:pt x="0" y="1848"/>
                </a:cubicBezTo>
                <a:close/>
                <a:moveTo>
                  <a:pt x="0" y="1656"/>
                </a:moveTo>
                <a:lnTo>
                  <a:pt x="0" y="1544"/>
                </a:lnTo>
                <a:cubicBezTo>
                  <a:pt x="0" y="1539"/>
                  <a:pt x="4" y="1536"/>
                  <a:pt x="8" y="1536"/>
                </a:cubicBezTo>
                <a:cubicBezTo>
                  <a:pt x="12" y="1536"/>
                  <a:pt x="16" y="1539"/>
                  <a:pt x="16" y="1544"/>
                </a:cubicBezTo>
                <a:lnTo>
                  <a:pt x="16" y="1656"/>
                </a:lnTo>
                <a:cubicBezTo>
                  <a:pt x="16" y="1660"/>
                  <a:pt x="12" y="1664"/>
                  <a:pt x="8" y="1664"/>
                </a:cubicBezTo>
                <a:cubicBezTo>
                  <a:pt x="4" y="1664"/>
                  <a:pt x="0" y="1660"/>
                  <a:pt x="0" y="1656"/>
                </a:cubicBezTo>
                <a:close/>
                <a:moveTo>
                  <a:pt x="0" y="1464"/>
                </a:moveTo>
                <a:lnTo>
                  <a:pt x="0" y="1352"/>
                </a:lnTo>
                <a:cubicBezTo>
                  <a:pt x="0" y="1347"/>
                  <a:pt x="4" y="1344"/>
                  <a:pt x="8" y="1344"/>
                </a:cubicBezTo>
                <a:cubicBezTo>
                  <a:pt x="12" y="1344"/>
                  <a:pt x="16" y="1347"/>
                  <a:pt x="16" y="1352"/>
                </a:cubicBezTo>
                <a:lnTo>
                  <a:pt x="16" y="1464"/>
                </a:lnTo>
                <a:cubicBezTo>
                  <a:pt x="16" y="1468"/>
                  <a:pt x="12" y="1472"/>
                  <a:pt x="8" y="1472"/>
                </a:cubicBezTo>
                <a:cubicBezTo>
                  <a:pt x="4" y="1472"/>
                  <a:pt x="0" y="1468"/>
                  <a:pt x="0" y="1464"/>
                </a:cubicBezTo>
                <a:close/>
                <a:moveTo>
                  <a:pt x="0" y="1272"/>
                </a:moveTo>
                <a:lnTo>
                  <a:pt x="0" y="1160"/>
                </a:lnTo>
                <a:cubicBezTo>
                  <a:pt x="0" y="1155"/>
                  <a:pt x="4" y="1152"/>
                  <a:pt x="8" y="1152"/>
                </a:cubicBezTo>
                <a:cubicBezTo>
                  <a:pt x="12" y="1152"/>
                  <a:pt x="16" y="1155"/>
                  <a:pt x="16" y="1160"/>
                </a:cubicBezTo>
                <a:lnTo>
                  <a:pt x="16" y="1272"/>
                </a:lnTo>
                <a:cubicBezTo>
                  <a:pt x="16" y="1276"/>
                  <a:pt x="12" y="1280"/>
                  <a:pt x="8" y="1280"/>
                </a:cubicBezTo>
                <a:cubicBezTo>
                  <a:pt x="4" y="1280"/>
                  <a:pt x="0" y="1276"/>
                  <a:pt x="0" y="1272"/>
                </a:cubicBezTo>
                <a:close/>
                <a:moveTo>
                  <a:pt x="0" y="1080"/>
                </a:moveTo>
                <a:lnTo>
                  <a:pt x="0" y="968"/>
                </a:lnTo>
                <a:cubicBezTo>
                  <a:pt x="0" y="963"/>
                  <a:pt x="4" y="960"/>
                  <a:pt x="8" y="960"/>
                </a:cubicBezTo>
                <a:cubicBezTo>
                  <a:pt x="12" y="960"/>
                  <a:pt x="16" y="963"/>
                  <a:pt x="16" y="968"/>
                </a:cubicBezTo>
                <a:lnTo>
                  <a:pt x="16" y="1080"/>
                </a:lnTo>
                <a:cubicBezTo>
                  <a:pt x="16" y="1084"/>
                  <a:pt x="12" y="1088"/>
                  <a:pt x="8" y="1088"/>
                </a:cubicBezTo>
                <a:cubicBezTo>
                  <a:pt x="4" y="1088"/>
                  <a:pt x="0" y="1084"/>
                  <a:pt x="0" y="1080"/>
                </a:cubicBezTo>
                <a:close/>
                <a:moveTo>
                  <a:pt x="0" y="888"/>
                </a:moveTo>
                <a:lnTo>
                  <a:pt x="0" y="776"/>
                </a:lnTo>
                <a:cubicBezTo>
                  <a:pt x="0" y="771"/>
                  <a:pt x="4" y="768"/>
                  <a:pt x="8" y="768"/>
                </a:cubicBezTo>
                <a:cubicBezTo>
                  <a:pt x="12" y="768"/>
                  <a:pt x="16" y="771"/>
                  <a:pt x="16" y="776"/>
                </a:cubicBezTo>
                <a:lnTo>
                  <a:pt x="16" y="888"/>
                </a:lnTo>
                <a:cubicBezTo>
                  <a:pt x="16" y="892"/>
                  <a:pt x="12" y="896"/>
                  <a:pt x="8" y="896"/>
                </a:cubicBezTo>
                <a:cubicBezTo>
                  <a:pt x="4" y="896"/>
                  <a:pt x="0" y="892"/>
                  <a:pt x="0" y="888"/>
                </a:cubicBezTo>
                <a:close/>
                <a:moveTo>
                  <a:pt x="0" y="696"/>
                </a:moveTo>
                <a:lnTo>
                  <a:pt x="0" y="584"/>
                </a:lnTo>
                <a:cubicBezTo>
                  <a:pt x="0" y="579"/>
                  <a:pt x="4" y="576"/>
                  <a:pt x="8" y="576"/>
                </a:cubicBezTo>
                <a:cubicBezTo>
                  <a:pt x="12" y="576"/>
                  <a:pt x="16" y="579"/>
                  <a:pt x="16" y="584"/>
                </a:cubicBezTo>
                <a:lnTo>
                  <a:pt x="16" y="696"/>
                </a:lnTo>
                <a:cubicBezTo>
                  <a:pt x="16" y="700"/>
                  <a:pt x="12" y="704"/>
                  <a:pt x="8" y="704"/>
                </a:cubicBezTo>
                <a:cubicBezTo>
                  <a:pt x="4" y="704"/>
                  <a:pt x="0" y="700"/>
                  <a:pt x="0" y="696"/>
                </a:cubicBezTo>
                <a:close/>
                <a:moveTo>
                  <a:pt x="0" y="504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504"/>
                </a:lnTo>
                <a:cubicBezTo>
                  <a:pt x="16" y="508"/>
                  <a:pt x="12" y="512"/>
                  <a:pt x="8" y="512"/>
                </a:cubicBezTo>
                <a:cubicBezTo>
                  <a:pt x="4" y="512"/>
                  <a:pt x="0" y="508"/>
                  <a:pt x="0" y="504"/>
                </a:cubicBezTo>
                <a:close/>
                <a:moveTo>
                  <a:pt x="0" y="312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312"/>
                </a:lnTo>
                <a:cubicBezTo>
                  <a:pt x="16" y="316"/>
                  <a:pt x="12" y="320"/>
                  <a:pt x="8" y="320"/>
                </a:cubicBezTo>
                <a:cubicBezTo>
                  <a:pt x="4" y="320"/>
                  <a:pt x="0" y="316"/>
                  <a:pt x="0" y="312"/>
                </a:cubicBezTo>
                <a:close/>
                <a:moveTo>
                  <a:pt x="0" y="120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120"/>
                </a:lnTo>
                <a:cubicBezTo>
                  <a:pt x="16" y="124"/>
                  <a:pt x="12" y="128"/>
                  <a:pt x="8" y="128"/>
                </a:cubicBezTo>
                <a:cubicBezTo>
                  <a:pt x="4" y="128"/>
                  <a:pt x="0" y="124"/>
                  <a:pt x="0" y="120"/>
                </a:cubicBez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060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060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232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69880" y="1387440"/>
            <a:ext cx="6850080" cy="47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Network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8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3402000"/>
            <a:ext cx="5337360" cy="239760"/>
          </a:xfrm>
          <a:custGeom>
            <a:avLst/>
            <a:gdLst/>
            <a:ahLst/>
            <a:rect l="l" t="t" r="r" b="b"/>
            <a:pathLst>
              <a:path w="3362" h="151">
                <a:moveTo>
                  <a:pt x="0" y="0"/>
                </a:moveTo>
                <a:lnTo>
                  <a:pt x="0" y="151"/>
                </a:lnTo>
                <a:lnTo>
                  <a:pt x="3362" y="151"/>
                </a:lnTo>
                <a:lnTo>
                  <a:pt x="33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402000"/>
            <a:ext cx="5337360" cy="239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8520" y="3427560"/>
            <a:ext cx="3281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0240" y="5656320"/>
            <a:ext cx="473400" cy="210960"/>
          </a:xfrm>
          <a:custGeom>
            <a:avLst/>
            <a:gdLst/>
            <a:ahLst/>
            <a:rect l="l" t="t" r="r" b="b"/>
            <a:pathLst>
              <a:path w="298" h="133">
                <a:moveTo>
                  <a:pt x="0" y="0"/>
                </a:moveTo>
                <a:lnTo>
                  <a:pt x="0" y="133"/>
                </a:lnTo>
                <a:lnTo>
                  <a:pt x="298" y="133"/>
                </a:lnTo>
                <a:lnTo>
                  <a:pt x="29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2320" y="5656320"/>
            <a:ext cx="47484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720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56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1920" y="569268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1240" y="5656320"/>
            <a:ext cx="490680" cy="21096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81240" y="5656320"/>
            <a:ext cx="49068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304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72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11360" y="569268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8480" y="5665680"/>
            <a:ext cx="490320" cy="21132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8480" y="5665680"/>
            <a:ext cx="490320" cy="211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0800" y="570384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0600" y="57038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5240" y="570384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6960" y="60213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7120" y="60213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78000" y="554832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8840" y="554832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P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7720" y="585936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3668760"/>
            <a:ext cx="198360" cy="1587600"/>
          </a:xfrm>
          <a:custGeom>
            <a:avLst/>
            <a:gdLst/>
            <a:ahLst/>
            <a:rect l="l" t="t" r="r" b="b"/>
            <a:pathLst>
              <a:path w="125" h="1000">
                <a:moveTo>
                  <a:pt x="62" y="0"/>
                </a:moveTo>
                <a:lnTo>
                  <a:pt x="125" y="200"/>
                </a:lnTo>
                <a:lnTo>
                  <a:pt x="94" y="200"/>
                </a:lnTo>
                <a:lnTo>
                  <a:pt x="94" y="800"/>
                </a:lnTo>
                <a:lnTo>
                  <a:pt x="125" y="800"/>
                </a:lnTo>
                <a:lnTo>
                  <a:pt x="62" y="1000"/>
                </a:lnTo>
                <a:lnTo>
                  <a:pt x="0" y="800"/>
                </a:lnTo>
                <a:lnTo>
                  <a:pt x="31" y="800"/>
                </a:lnTo>
                <a:lnTo>
                  <a:pt x="31" y="200"/>
                </a:lnTo>
                <a:lnTo>
                  <a:pt x="0" y="200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2440" y="230184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H Network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0481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6320" y="295128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0080" y="30639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52840" y="290844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84160" y="303696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0360" y="473868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0920" y="484668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50520" y="474984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21280" y="48513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63800" y="48355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62120" y="1727280"/>
            <a:ext cx="151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noFill/>
          <a:ln cap="rnd"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7760" y="1595520"/>
            <a:ext cx="1036800" cy="666720"/>
          </a:xfrm>
          <a:custGeom>
            <a:avLst/>
            <a:gdLst/>
            <a:ahLst/>
            <a:rect l="l" t="t" r="r" b="b"/>
            <a:pathLst>
              <a:path w="653" h="420">
                <a:moveTo>
                  <a:pt x="0" y="0"/>
                </a:moveTo>
                <a:lnTo>
                  <a:pt x="0" y="420"/>
                </a:lnTo>
                <a:lnTo>
                  <a:pt x="653" y="420"/>
                </a:lnTo>
                <a:lnTo>
                  <a:pt x="6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7760" y="1595520"/>
            <a:ext cx="103680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7840" y="16207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46280" y="16207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06400" y="162072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74240" y="162072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81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75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8760" y="34084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0520" y="4211640"/>
            <a:ext cx="2393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21680" y="419112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0480" y="4191120"/>
            <a:ext cx="60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5280" y="4191120"/>
            <a:ext cx="133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6760" y="4191120"/>
            <a:ext cx="180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5360" y="4191120"/>
            <a:ext cx="101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00680" y="1585800"/>
            <a:ext cx="1037880" cy="665280"/>
          </a:xfrm>
          <a:custGeom>
            <a:avLst/>
            <a:gdLst/>
            <a:ahLst/>
            <a:rect l="l" t="t" r="r" b="b"/>
            <a:pathLst>
              <a:path w="654" h="419">
                <a:moveTo>
                  <a:pt x="0" y="0"/>
                </a:moveTo>
                <a:lnTo>
                  <a:pt x="0" y="419"/>
                </a:lnTo>
                <a:lnTo>
                  <a:pt x="654" y="419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0680" y="1585800"/>
            <a:ext cx="1037880" cy="6652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2200" y="1609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2080" y="16095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2200" y="160956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3560" y="160956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32520" y="18194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33320" y="202248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00920" y="159552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0"/>
                </a:moveTo>
                <a:lnTo>
                  <a:pt x="0" y="420"/>
                </a:lnTo>
                <a:lnTo>
                  <a:pt x="654" y="420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00920" y="1595520"/>
            <a:ext cx="103824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3160" y="16383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16120" y="1638360"/>
            <a:ext cx="90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PP2 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27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39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66760" y="1452600"/>
            <a:ext cx="741996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verall 802.21 Model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67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272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89120" y="487188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106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948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7632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360" y="5280120"/>
            <a:ext cx="6865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2277720" y="463680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83840" y="4575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8384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280600" y="447156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95360" y="44240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2283840" y="4378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620440" y="457632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62656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626560" y="446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23320" y="44114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638080" y="436536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2626560" y="4324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05640" y="489096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5920" y="512460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19360" y="2770200"/>
            <a:ext cx="2585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101240" y="3291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1101240" y="3237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116000" y="31978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1099080" y="31582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1101240" y="310608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1116000" y="30661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1116000" y="30423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101240" y="30045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5335200" y="45590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5341320" y="4497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5341320" y="4443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338080" y="43876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352840" y="43412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341320" y="430092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5704920" y="453528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5711040" y="4480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5711040" y="4426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707800" y="43700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722560" y="432252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711040" y="4281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06240" y="5418000"/>
            <a:ext cx="2340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0400" y="5591160"/>
            <a:ext cx="5860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960" y="2355840"/>
            <a:ext cx="584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69160" y="2584440"/>
            <a:ext cx="646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93200" y="5880240"/>
            <a:ext cx="273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0320" y="605304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69040" y="5357880"/>
            <a:ext cx="753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2440" y="1565280"/>
            <a:ext cx="243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Independent Handover Network 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90880" y="169704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9040" y="169704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1472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4676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1804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5840" y="169704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20640" y="1697040"/>
            <a:ext cx="117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H Server 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6912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  <a:lnTo>
                  <a:pt x="988" y="8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44720" y="3571920"/>
            <a:ext cx="18021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 Independent Hando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9000" y="3727440"/>
            <a:ext cx="537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1240" y="1500120"/>
            <a:ext cx="1265040" cy="263520"/>
          </a:xfrm>
          <a:custGeom>
            <a:avLst/>
            <a:gdLst/>
            <a:ahLst/>
            <a:rect l="l" t="t" r="r" b="b"/>
            <a:pathLst>
              <a:path w="797" h="166">
                <a:moveTo>
                  <a:pt x="0" y="125"/>
                </a:moveTo>
                <a:lnTo>
                  <a:pt x="752" y="125"/>
                </a:lnTo>
                <a:lnTo>
                  <a:pt x="752" y="166"/>
                </a:lnTo>
                <a:lnTo>
                  <a:pt x="797" y="83"/>
                </a:lnTo>
                <a:lnTo>
                  <a:pt x="752" y="0"/>
                </a:lnTo>
                <a:lnTo>
                  <a:pt x="752" y="42"/>
                </a:lnTo>
                <a:lnTo>
                  <a:pt x="0" y="42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0320" y="1500120"/>
            <a:ext cx="1245960" cy="263520"/>
          </a:xfrm>
          <a:custGeom>
            <a:avLst/>
            <a:gdLst/>
            <a:ahLst/>
            <a:rect l="l" t="t" r="r" b="b"/>
            <a:pathLst>
              <a:path w="785" h="166">
                <a:moveTo>
                  <a:pt x="0" y="125"/>
                </a:moveTo>
                <a:lnTo>
                  <a:pt x="740" y="125"/>
                </a:lnTo>
                <a:lnTo>
                  <a:pt x="740" y="166"/>
                </a:lnTo>
                <a:lnTo>
                  <a:pt x="785" y="83"/>
                </a:lnTo>
                <a:lnTo>
                  <a:pt x="740" y="0"/>
                </a:lnTo>
                <a:lnTo>
                  <a:pt x="740" y="42"/>
                </a:lnTo>
                <a:lnTo>
                  <a:pt x="0" y="4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3840" y="1568520"/>
            <a:ext cx="4680" cy="127080"/>
          </a:xfrm>
          <a:prstGeom prst="rect">
            <a:avLst/>
          </a:pr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2600" y="1332000"/>
            <a:ext cx="9720" cy="5138640"/>
          </a:xfrm>
          <a:custGeom>
            <a:avLst/>
            <a:gdLst/>
            <a:ahLst/>
            <a:rect l="l" t="t" r="r" b="b"/>
            <a:pathLst>
              <a:path w="26" h="13722">
                <a:moveTo>
                  <a:pt x="26" y="13"/>
                </a:moveTo>
                <a:lnTo>
                  <a:pt x="26" y="192"/>
                </a:lnTo>
                <a:cubicBezTo>
                  <a:pt x="26" y="200"/>
                  <a:pt x="20" y="205"/>
                  <a:pt x="13" y="205"/>
                </a:cubicBezTo>
                <a:cubicBezTo>
                  <a:pt x="6" y="205"/>
                  <a:pt x="0" y="200"/>
                  <a:pt x="0" y="192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ubicBezTo>
                  <a:pt x="20" y="0"/>
                  <a:pt x="26" y="6"/>
                  <a:pt x="26" y="13"/>
                </a:cubicBezTo>
                <a:close/>
                <a:moveTo>
                  <a:pt x="26" y="320"/>
                </a:moveTo>
                <a:lnTo>
                  <a:pt x="26" y="500"/>
                </a:lnTo>
                <a:cubicBezTo>
                  <a:pt x="26" y="507"/>
                  <a:pt x="20" y="512"/>
                  <a:pt x="13" y="512"/>
                </a:cubicBezTo>
                <a:cubicBezTo>
                  <a:pt x="6" y="512"/>
                  <a:pt x="0" y="507"/>
                  <a:pt x="0" y="500"/>
                </a:cubicBezTo>
                <a:lnTo>
                  <a:pt x="0" y="320"/>
                </a:lnTo>
                <a:cubicBezTo>
                  <a:pt x="0" y="313"/>
                  <a:pt x="6" y="308"/>
                  <a:pt x="13" y="308"/>
                </a:cubicBezTo>
                <a:cubicBezTo>
                  <a:pt x="20" y="308"/>
                  <a:pt x="26" y="313"/>
                  <a:pt x="26" y="320"/>
                </a:cubicBezTo>
                <a:close/>
                <a:moveTo>
                  <a:pt x="26" y="628"/>
                </a:moveTo>
                <a:lnTo>
                  <a:pt x="26" y="807"/>
                </a:lnTo>
                <a:cubicBezTo>
                  <a:pt x="26" y="814"/>
                  <a:pt x="20" y="820"/>
                  <a:pt x="13" y="820"/>
                </a:cubicBezTo>
                <a:cubicBezTo>
                  <a:pt x="6" y="820"/>
                  <a:pt x="0" y="814"/>
                  <a:pt x="0" y="807"/>
                </a:cubicBezTo>
                <a:lnTo>
                  <a:pt x="0" y="628"/>
                </a:lnTo>
                <a:cubicBezTo>
                  <a:pt x="0" y="621"/>
                  <a:pt x="6" y="615"/>
                  <a:pt x="13" y="615"/>
                </a:cubicBezTo>
                <a:cubicBezTo>
                  <a:pt x="20" y="615"/>
                  <a:pt x="26" y="621"/>
                  <a:pt x="26" y="628"/>
                </a:cubicBezTo>
                <a:close/>
                <a:moveTo>
                  <a:pt x="26" y="935"/>
                </a:moveTo>
                <a:lnTo>
                  <a:pt x="26" y="1114"/>
                </a:lnTo>
                <a:cubicBezTo>
                  <a:pt x="26" y="1121"/>
                  <a:pt x="20" y="1127"/>
                  <a:pt x="13" y="1127"/>
                </a:cubicBezTo>
                <a:cubicBezTo>
                  <a:pt x="6" y="1127"/>
                  <a:pt x="0" y="1121"/>
                  <a:pt x="0" y="1114"/>
                </a:cubicBezTo>
                <a:lnTo>
                  <a:pt x="0" y="935"/>
                </a:lnTo>
                <a:cubicBezTo>
                  <a:pt x="0" y="928"/>
                  <a:pt x="6" y="922"/>
                  <a:pt x="13" y="922"/>
                </a:cubicBezTo>
                <a:cubicBezTo>
                  <a:pt x="20" y="922"/>
                  <a:pt x="26" y="928"/>
                  <a:pt x="26" y="935"/>
                </a:cubicBezTo>
                <a:close/>
                <a:moveTo>
                  <a:pt x="26" y="1242"/>
                </a:moveTo>
                <a:lnTo>
                  <a:pt x="26" y="1421"/>
                </a:lnTo>
                <a:cubicBezTo>
                  <a:pt x="26" y="1428"/>
                  <a:pt x="20" y="1434"/>
                  <a:pt x="13" y="1434"/>
                </a:cubicBezTo>
                <a:cubicBezTo>
                  <a:pt x="6" y="1434"/>
                  <a:pt x="0" y="1428"/>
                  <a:pt x="0" y="1421"/>
                </a:cubicBezTo>
                <a:lnTo>
                  <a:pt x="0" y="1242"/>
                </a:lnTo>
                <a:cubicBezTo>
                  <a:pt x="0" y="1235"/>
                  <a:pt x="6" y="1229"/>
                  <a:pt x="13" y="1229"/>
                </a:cubicBezTo>
                <a:cubicBezTo>
                  <a:pt x="20" y="1229"/>
                  <a:pt x="26" y="1235"/>
                  <a:pt x="26" y="1242"/>
                </a:cubicBezTo>
                <a:close/>
                <a:moveTo>
                  <a:pt x="26" y="1549"/>
                </a:moveTo>
                <a:lnTo>
                  <a:pt x="26" y="1728"/>
                </a:lnTo>
                <a:cubicBezTo>
                  <a:pt x="26" y="1736"/>
                  <a:pt x="20" y="1741"/>
                  <a:pt x="13" y="1741"/>
                </a:cubicBezTo>
                <a:cubicBezTo>
                  <a:pt x="6" y="1741"/>
                  <a:pt x="0" y="1736"/>
                  <a:pt x="0" y="1728"/>
                </a:cubicBezTo>
                <a:lnTo>
                  <a:pt x="0" y="1549"/>
                </a:lnTo>
                <a:cubicBezTo>
                  <a:pt x="0" y="1542"/>
                  <a:pt x="6" y="1536"/>
                  <a:pt x="13" y="1536"/>
                </a:cubicBezTo>
                <a:cubicBezTo>
                  <a:pt x="20" y="1536"/>
                  <a:pt x="26" y="1542"/>
                  <a:pt x="26" y="1549"/>
                </a:cubicBezTo>
                <a:close/>
                <a:moveTo>
                  <a:pt x="26" y="1856"/>
                </a:moveTo>
                <a:lnTo>
                  <a:pt x="26" y="2036"/>
                </a:lnTo>
                <a:cubicBezTo>
                  <a:pt x="26" y="2043"/>
                  <a:pt x="20" y="2048"/>
                  <a:pt x="13" y="2048"/>
                </a:cubicBezTo>
                <a:cubicBezTo>
                  <a:pt x="6" y="2048"/>
                  <a:pt x="0" y="2043"/>
                  <a:pt x="0" y="2036"/>
                </a:cubicBezTo>
                <a:lnTo>
                  <a:pt x="0" y="1856"/>
                </a:lnTo>
                <a:cubicBezTo>
                  <a:pt x="0" y="1849"/>
                  <a:pt x="6" y="1844"/>
                  <a:pt x="13" y="1844"/>
                </a:cubicBezTo>
                <a:cubicBezTo>
                  <a:pt x="20" y="1844"/>
                  <a:pt x="26" y="1849"/>
                  <a:pt x="26" y="1856"/>
                </a:cubicBezTo>
                <a:close/>
                <a:moveTo>
                  <a:pt x="26" y="2164"/>
                </a:moveTo>
                <a:lnTo>
                  <a:pt x="26" y="2343"/>
                </a:lnTo>
                <a:cubicBezTo>
                  <a:pt x="26" y="2350"/>
                  <a:pt x="20" y="2356"/>
                  <a:pt x="13" y="2356"/>
                </a:cubicBezTo>
                <a:cubicBezTo>
                  <a:pt x="6" y="2356"/>
                  <a:pt x="0" y="2350"/>
                  <a:pt x="0" y="2343"/>
                </a:cubicBezTo>
                <a:lnTo>
                  <a:pt x="0" y="2164"/>
                </a:lnTo>
                <a:cubicBezTo>
                  <a:pt x="0" y="2157"/>
                  <a:pt x="6" y="2151"/>
                  <a:pt x="13" y="2151"/>
                </a:cubicBezTo>
                <a:cubicBezTo>
                  <a:pt x="20" y="2151"/>
                  <a:pt x="26" y="2157"/>
                  <a:pt x="26" y="2164"/>
                </a:cubicBezTo>
                <a:close/>
                <a:moveTo>
                  <a:pt x="26" y="2471"/>
                </a:moveTo>
                <a:lnTo>
                  <a:pt x="26" y="2650"/>
                </a:lnTo>
                <a:cubicBezTo>
                  <a:pt x="26" y="2657"/>
                  <a:pt x="20" y="2663"/>
                  <a:pt x="13" y="2663"/>
                </a:cubicBezTo>
                <a:cubicBezTo>
                  <a:pt x="6" y="2663"/>
                  <a:pt x="0" y="2657"/>
                  <a:pt x="0" y="2650"/>
                </a:cubicBezTo>
                <a:lnTo>
                  <a:pt x="0" y="2471"/>
                </a:lnTo>
                <a:cubicBezTo>
                  <a:pt x="0" y="2464"/>
                  <a:pt x="6" y="2458"/>
                  <a:pt x="13" y="2458"/>
                </a:cubicBezTo>
                <a:cubicBezTo>
                  <a:pt x="20" y="2458"/>
                  <a:pt x="26" y="2464"/>
                  <a:pt x="26" y="2471"/>
                </a:cubicBezTo>
                <a:close/>
                <a:moveTo>
                  <a:pt x="26" y="2778"/>
                </a:moveTo>
                <a:lnTo>
                  <a:pt x="26" y="2957"/>
                </a:lnTo>
                <a:cubicBezTo>
                  <a:pt x="26" y="2964"/>
                  <a:pt x="20" y="2970"/>
                  <a:pt x="13" y="2970"/>
                </a:cubicBezTo>
                <a:cubicBezTo>
                  <a:pt x="6" y="2970"/>
                  <a:pt x="0" y="2964"/>
                  <a:pt x="0" y="2957"/>
                </a:cubicBezTo>
                <a:lnTo>
                  <a:pt x="0" y="2778"/>
                </a:lnTo>
                <a:cubicBezTo>
                  <a:pt x="0" y="2771"/>
                  <a:pt x="6" y="2765"/>
                  <a:pt x="13" y="2765"/>
                </a:cubicBezTo>
                <a:cubicBezTo>
                  <a:pt x="20" y="2765"/>
                  <a:pt x="26" y="2771"/>
                  <a:pt x="26" y="2778"/>
                </a:cubicBezTo>
                <a:close/>
                <a:moveTo>
                  <a:pt x="26" y="3085"/>
                </a:moveTo>
                <a:lnTo>
                  <a:pt x="26" y="3264"/>
                </a:lnTo>
                <a:cubicBezTo>
                  <a:pt x="26" y="3272"/>
                  <a:pt x="20" y="3277"/>
                  <a:pt x="13" y="3277"/>
                </a:cubicBezTo>
                <a:cubicBezTo>
                  <a:pt x="6" y="3277"/>
                  <a:pt x="0" y="3272"/>
                  <a:pt x="0" y="3264"/>
                </a:cubicBezTo>
                <a:lnTo>
                  <a:pt x="0" y="3085"/>
                </a:lnTo>
                <a:cubicBezTo>
                  <a:pt x="0" y="3078"/>
                  <a:pt x="6" y="3072"/>
                  <a:pt x="13" y="3072"/>
                </a:cubicBezTo>
                <a:cubicBezTo>
                  <a:pt x="20" y="3072"/>
                  <a:pt x="26" y="3078"/>
                  <a:pt x="26" y="3085"/>
                </a:cubicBezTo>
                <a:close/>
                <a:moveTo>
                  <a:pt x="26" y="3392"/>
                </a:moveTo>
                <a:lnTo>
                  <a:pt x="26" y="3572"/>
                </a:lnTo>
                <a:cubicBezTo>
                  <a:pt x="26" y="3579"/>
                  <a:pt x="20" y="3584"/>
                  <a:pt x="13" y="3584"/>
                </a:cubicBezTo>
                <a:cubicBezTo>
                  <a:pt x="6" y="3584"/>
                  <a:pt x="0" y="3579"/>
                  <a:pt x="0" y="3572"/>
                </a:cubicBezTo>
                <a:lnTo>
                  <a:pt x="0" y="3392"/>
                </a:lnTo>
                <a:cubicBezTo>
                  <a:pt x="0" y="3385"/>
                  <a:pt x="6" y="3380"/>
                  <a:pt x="13" y="3380"/>
                </a:cubicBezTo>
                <a:cubicBezTo>
                  <a:pt x="20" y="3380"/>
                  <a:pt x="26" y="3385"/>
                  <a:pt x="26" y="3392"/>
                </a:cubicBezTo>
                <a:close/>
                <a:moveTo>
                  <a:pt x="26" y="3700"/>
                </a:moveTo>
                <a:lnTo>
                  <a:pt x="26" y="3879"/>
                </a:lnTo>
                <a:cubicBezTo>
                  <a:pt x="26" y="3886"/>
                  <a:pt x="20" y="3892"/>
                  <a:pt x="13" y="3892"/>
                </a:cubicBezTo>
                <a:cubicBezTo>
                  <a:pt x="6" y="3892"/>
                  <a:pt x="0" y="3886"/>
                  <a:pt x="0" y="3879"/>
                </a:cubicBezTo>
                <a:lnTo>
                  <a:pt x="0" y="3700"/>
                </a:lnTo>
                <a:cubicBezTo>
                  <a:pt x="0" y="3693"/>
                  <a:pt x="6" y="3687"/>
                  <a:pt x="13" y="3687"/>
                </a:cubicBezTo>
                <a:cubicBezTo>
                  <a:pt x="20" y="3687"/>
                  <a:pt x="26" y="3693"/>
                  <a:pt x="26" y="3700"/>
                </a:cubicBezTo>
                <a:close/>
                <a:moveTo>
                  <a:pt x="26" y="4007"/>
                </a:moveTo>
                <a:lnTo>
                  <a:pt x="26" y="4186"/>
                </a:lnTo>
                <a:cubicBezTo>
                  <a:pt x="26" y="4193"/>
                  <a:pt x="20" y="4199"/>
                  <a:pt x="13" y="4199"/>
                </a:cubicBezTo>
                <a:cubicBezTo>
                  <a:pt x="6" y="4199"/>
                  <a:pt x="0" y="4193"/>
                  <a:pt x="0" y="4186"/>
                </a:cubicBezTo>
                <a:lnTo>
                  <a:pt x="0" y="4007"/>
                </a:lnTo>
                <a:cubicBezTo>
                  <a:pt x="0" y="4000"/>
                  <a:pt x="6" y="3994"/>
                  <a:pt x="13" y="3994"/>
                </a:cubicBezTo>
                <a:cubicBezTo>
                  <a:pt x="20" y="3994"/>
                  <a:pt x="26" y="4000"/>
                  <a:pt x="26" y="4007"/>
                </a:cubicBezTo>
                <a:close/>
                <a:moveTo>
                  <a:pt x="26" y="4314"/>
                </a:moveTo>
                <a:lnTo>
                  <a:pt x="26" y="4493"/>
                </a:lnTo>
                <a:cubicBezTo>
                  <a:pt x="26" y="4500"/>
                  <a:pt x="20" y="4506"/>
                  <a:pt x="13" y="4506"/>
                </a:cubicBezTo>
                <a:cubicBezTo>
                  <a:pt x="6" y="4506"/>
                  <a:pt x="0" y="4500"/>
                  <a:pt x="0" y="4493"/>
                </a:cubicBezTo>
                <a:lnTo>
                  <a:pt x="0" y="4314"/>
                </a:lnTo>
                <a:cubicBezTo>
                  <a:pt x="0" y="4307"/>
                  <a:pt x="6" y="4301"/>
                  <a:pt x="13" y="4301"/>
                </a:cubicBezTo>
                <a:cubicBezTo>
                  <a:pt x="20" y="4301"/>
                  <a:pt x="26" y="4307"/>
                  <a:pt x="26" y="4314"/>
                </a:cubicBezTo>
                <a:close/>
                <a:moveTo>
                  <a:pt x="26" y="4621"/>
                </a:moveTo>
                <a:lnTo>
                  <a:pt x="26" y="4800"/>
                </a:lnTo>
                <a:cubicBezTo>
                  <a:pt x="26" y="4808"/>
                  <a:pt x="20" y="4813"/>
                  <a:pt x="13" y="4813"/>
                </a:cubicBezTo>
                <a:cubicBezTo>
                  <a:pt x="6" y="4813"/>
                  <a:pt x="0" y="4808"/>
                  <a:pt x="0" y="4800"/>
                </a:cubicBezTo>
                <a:lnTo>
                  <a:pt x="0" y="4621"/>
                </a:lnTo>
                <a:cubicBezTo>
                  <a:pt x="0" y="4614"/>
                  <a:pt x="6" y="4608"/>
                  <a:pt x="13" y="4608"/>
                </a:cubicBezTo>
                <a:cubicBezTo>
                  <a:pt x="20" y="4608"/>
                  <a:pt x="26" y="4614"/>
                  <a:pt x="26" y="4621"/>
                </a:cubicBezTo>
                <a:close/>
                <a:moveTo>
                  <a:pt x="26" y="4928"/>
                </a:moveTo>
                <a:lnTo>
                  <a:pt x="26" y="5108"/>
                </a:lnTo>
                <a:cubicBezTo>
                  <a:pt x="26" y="5115"/>
                  <a:pt x="20" y="5120"/>
                  <a:pt x="13" y="5120"/>
                </a:cubicBezTo>
                <a:cubicBezTo>
                  <a:pt x="6" y="5120"/>
                  <a:pt x="0" y="5115"/>
                  <a:pt x="0" y="5108"/>
                </a:cubicBezTo>
                <a:lnTo>
                  <a:pt x="0" y="4928"/>
                </a:lnTo>
                <a:cubicBezTo>
                  <a:pt x="0" y="4921"/>
                  <a:pt x="6" y="4916"/>
                  <a:pt x="13" y="4916"/>
                </a:cubicBezTo>
                <a:cubicBezTo>
                  <a:pt x="20" y="4916"/>
                  <a:pt x="26" y="4921"/>
                  <a:pt x="26" y="4928"/>
                </a:cubicBezTo>
                <a:close/>
                <a:moveTo>
                  <a:pt x="26" y="5236"/>
                </a:moveTo>
                <a:lnTo>
                  <a:pt x="26" y="5415"/>
                </a:lnTo>
                <a:cubicBezTo>
                  <a:pt x="26" y="5422"/>
                  <a:pt x="20" y="5428"/>
                  <a:pt x="13" y="5428"/>
                </a:cubicBezTo>
                <a:cubicBezTo>
                  <a:pt x="6" y="5428"/>
                  <a:pt x="0" y="5422"/>
                  <a:pt x="0" y="5415"/>
                </a:cubicBezTo>
                <a:lnTo>
                  <a:pt x="0" y="5236"/>
                </a:lnTo>
                <a:cubicBezTo>
                  <a:pt x="0" y="5229"/>
                  <a:pt x="6" y="5223"/>
                  <a:pt x="13" y="5223"/>
                </a:cubicBezTo>
                <a:cubicBezTo>
                  <a:pt x="20" y="5223"/>
                  <a:pt x="26" y="5229"/>
                  <a:pt x="26" y="5236"/>
                </a:cubicBezTo>
                <a:close/>
                <a:moveTo>
                  <a:pt x="26" y="5543"/>
                </a:moveTo>
                <a:lnTo>
                  <a:pt x="26" y="5722"/>
                </a:lnTo>
                <a:cubicBezTo>
                  <a:pt x="26" y="5729"/>
                  <a:pt x="20" y="5735"/>
                  <a:pt x="13" y="5735"/>
                </a:cubicBezTo>
                <a:cubicBezTo>
                  <a:pt x="6" y="5735"/>
                  <a:pt x="0" y="5729"/>
                  <a:pt x="0" y="5722"/>
                </a:cubicBezTo>
                <a:lnTo>
                  <a:pt x="0" y="5543"/>
                </a:lnTo>
                <a:cubicBezTo>
                  <a:pt x="0" y="5536"/>
                  <a:pt x="6" y="5530"/>
                  <a:pt x="13" y="5530"/>
                </a:cubicBezTo>
                <a:cubicBezTo>
                  <a:pt x="20" y="5530"/>
                  <a:pt x="26" y="5536"/>
                  <a:pt x="26" y="5543"/>
                </a:cubicBezTo>
                <a:close/>
                <a:moveTo>
                  <a:pt x="26" y="5850"/>
                </a:moveTo>
                <a:lnTo>
                  <a:pt x="26" y="6029"/>
                </a:lnTo>
                <a:cubicBezTo>
                  <a:pt x="26" y="6036"/>
                  <a:pt x="20" y="6042"/>
                  <a:pt x="13" y="6042"/>
                </a:cubicBezTo>
                <a:cubicBezTo>
                  <a:pt x="6" y="6042"/>
                  <a:pt x="0" y="6036"/>
                  <a:pt x="0" y="6029"/>
                </a:cubicBezTo>
                <a:lnTo>
                  <a:pt x="0" y="5850"/>
                </a:lnTo>
                <a:cubicBezTo>
                  <a:pt x="0" y="5843"/>
                  <a:pt x="6" y="5837"/>
                  <a:pt x="13" y="5837"/>
                </a:cubicBezTo>
                <a:cubicBezTo>
                  <a:pt x="20" y="5837"/>
                  <a:pt x="26" y="5843"/>
                  <a:pt x="26" y="5850"/>
                </a:cubicBezTo>
                <a:close/>
                <a:moveTo>
                  <a:pt x="26" y="6157"/>
                </a:moveTo>
                <a:lnTo>
                  <a:pt x="26" y="6336"/>
                </a:lnTo>
                <a:cubicBezTo>
                  <a:pt x="26" y="6344"/>
                  <a:pt x="20" y="6349"/>
                  <a:pt x="13" y="6349"/>
                </a:cubicBezTo>
                <a:cubicBezTo>
                  <a:pt x="6" y="6349"/>
                  <a:pt x="0" y="6344"/>
                  <a:pt x="0" y="6336"/>
                </a:cubicBezTo>
                <a:lnTo>
                  <a:pt x="0" y="6157"/>
                </a:lnTo>
                <a:cubicBezTo>
                  <a:pt x="0" y="6150"/>
                  <a:pt x="6" y="6144"/>
                  <a:pt x="13" y="6144"/>
                </a:cubicBezTo>
                <a:cubicBezTo>
                  <a:pt x="20" y="6144"/>
                  <a:pt x="26" y="6150"/>
                  <a:pt x="26" y="6157"/>
                </a:cubicBezTo>
                <a:close/>
                <a:moveTo>
                  <a:pt x="26" y="6464"/>
                </a:moveTo>
                <a:lnTo>
                  <a:pt x="26" y="6644"/>
                </a:lnTo>
                <a:cubicBezTo>
                  <a:pt x="26" y="6651"/>
                  <a:pt x="20" y="6656"/>
                  <a:pt x="13" y="6656"/>
                </a:cubicBezTo>
                <a:cubicBezTo>
                  <a:pt x="6" y="6656"/>
                  <a:pt x="0" y="6651"/>
                  <a:pt x="0" y="6644"/>
                </a:cubicBezTo>
                <a:lnTo>
                  <a:pt x="0" y="6464"/>
                </a:lnTo>
                <a:cubicBezTo>
                  <a:pt x="0" y="6457"/>
                  <a:pt x="6" y="6452"/>
                  <a:pt x="13" y="6452"/>
                </a:cubicBezTo>
                <a:cubicBezTo>
                  <a:pt x="20" y="6452"/>
                  <a:pt x="26" y="6457"/>
                  <a:pt x="26" y="6464"/>
                </a:cubicBezTo>
                <a:close/>
                <a:moveTo>
                  <a:pt x="26" y="6772"/>
                </a:moveTo>
                <a:lnTo>
                  <a:pt x="26" y="6951"/>
                </a:lnTo>
                <a:cubicBezTo>
                  <a:pt x="26" y="6958"/>
                  <a:pt x="20" y="6964"/>
                  <a:pt x="13" y="6964"/>
                </a:cubicBezTo>
                <a:cubicBezTo>
                  <a:pt x="6" y="6964"/>
                  <a:pt x="0" y="6958"/>
                  <a:pt x="0" y="6951"/>
                </a:cubicBezTo>
                <a:lnTo>
                  <a:pt x="0" y="6772"/>
                </a:lnTo>
                <a:cubicBezTo>
                  <a:pt x="0" y="6765"/>
                  <a:pt x="6" y="6759"/>
                  <a:pt x="13" y="6759"/>
                </a:cubicBezTo>
                <a:cubicBezTo>
                  <a:pt x="20" y="6759"/>
                  <a:pt x="26" y="6765"/>
                  <a:pt x="26" y="6772"/>
                </a:cubicBezTo>
                <a:close/>
                <a:moveTo>
                  <a:pt x="26" y="7079"/>
                </a:moveTo>
                <a:lnTo>
                  <a:pt x="26" y="7258"/>
                </a:lnTo>
                <a:cubicBezTo>
                  <a:pt x="26" y="7265"/>
                  <a:pt x="20" y="7271"/>
                  <a:pt x="13" y="7271"/>
                </a:cubicBezTo>
                <a:cubicBezTo>
                  <a:pt x="6" y="7271"/>
                  <a:pt x="0" y="7265"/>
                  <a:pt x="0" y="7258"/>
                </a:cubicBezTo>
                <a:lnTo>
                  <a:pt x="0" y="7079"/>
                </a:lnTo>
                <a:cubicBezTo>
                  <a:pt x="0" y="7072"/>
                  <a:pt x="6" y="7066"/>
                  <a:pt x="13" y="7066"/>
                </a:cubicBezTo>
                <a:cubicBezTo>
                  <a:pt x="20" y="7066"/>
                  <a:pt x="26" y="7072"/>
                  <a:pt x="26" y="7079"/>
                </a:cubicBezTo>
                <a:close/>
                <a:moveTo>
                  <a:pt x="26" y="7386"/>
                </a:moveTo>
                <a:lnTo>
                  <a:pt x="26" y="7565"/>
                </a:lnTo>
                <a:cubicBezTo>
                  <a:pt x="26" y="7572"/>
                  <a:pt x="20" y="7578"/>
                  <a:pt x="13" y="7578"/>
                </a:cubicBezTo>
                <a:cubicBezTo>
                  <a:pt x="6" y="7578"/>
                  <a:pt x="0" y="7572"/>
                  <a:pt x="0" y="7565"/>
                </a:cubicBezTo>
                <a:lnTo>
                  <a:pt x="0" y="7386"/>
                </a:lnTo>
                <a:cubicBezTo>
                  <a:pt x="0" y="7379"/>
                  <a:pt x="6" y="7373"/>
                  <a:pt x="13" y="7373"/>
                </a:cubicBezTo>
                <a:cubicBezTo>
                  <a:pt x="20" y="7373"/>
                  <a:pt x="26" y="7379"/>
                  <a:pt x="26" y="7386"/>
                </a:cubicBezTo>
                <a:close/>
                <a:moveTo>
                  <a:pt x="26" y="7693"/>
                </a:moveTo>
                <a:lnTo>
                  <a:pt x="26" y="7872"/>
                </a:lnTo>
                <a:cubicBezTo>
                  <a:pt x="26" y="7880"/>
                  <a:pt x="20" y="7885"/>
                  <a:pt x="13" y="7885"/>
                </a:cubicBezTo>
                <a:cubicBezTo>
                  <a:pt x="6" y="7885"/>
                  <a:pt x="0" y="7880"/>
                  <a:pt x="0" y="7872"/>
                </a:cubicBezTo>
                <a:lnTo>
                  <a:pt x="0" y="7693"/>
                </a:lnTo>
                <a:cubicBezTo>
                  <a:pt x="0" y="7686"/>
                  <a:pt x="6" y="7680"/>
                  <a:pt x="13" y="7680"/>
                </a:cubicBezTo>
                <a:cubicBezTo>
                  <a:pt x="20" y="7680"/>
                  <a:pt x="26" y="7686"/>
                  <a:pt x="26" y="7693"/>
                </a:cubicBezTo>
                <a:close/>
                <a:moveTo>
                  <a:pt x="26" y="8000"/>
                </a:moveTo>
                <a:lnTo>
                  <a:pt x="26" y="8180"/>
                </a:lnTo>
                <a:cubicBezTo>
                  <a:pt x="26" y="8187"/>
                  <a:pt x="20" y="8192"/>
                  <a:pt x="13" y="8192"/>
                </a:cubicBezTo>
                <a:cubicBezTo>
                  <a:pt x="6" y="8192"/>
                  <a:pt x="0" y="8187"/>
                  <a:pt x="0" y="8180"/>
                </a:cubicBezTo>
                <a:lnTo>
                  <a:pt x="0" y="8000"/>
                </a:lnTo>
                <a:cubicBezTo>
                  <a:pt x="0" y="7993"/>
                  <a:pt x="6" y="7988"/>
                  <a:pt x="13" y="7988"/>
                </a:cubicBezTo>
                <a:cubicBezTo>
                  <a:pt x="20" y="7988"/>
                  <a:pt x="26" y="7993"/>
                  <a:pt x="26" y="8000"/>
                </a:cubicBezTo>
                <a:close/>
                <a:moveTo>
                  <a:pt x="26" y="8308"/>
                </a:moveTo>
                <a:lnTo>
                  <a:pt x="26" y="8487"/>
                </a:lnTo>
                <a:cubicBezTo>
                  <a:pt x="26" y="8494"/>
                  <a:pt x="20" y="8500"/>
                  <a:pt x="13" y="8500"/>
                </a:cubicBezTo>
                <a:cubicBezTo>
                  <a:pt x="6" y="8500"/>
                  <a:pt x="0" y="8494"/>
                  <a:pt x="0" y="8487"/>
                </a:cubicBezTo>
                <a:lnTo>
                  <a:pt x="0" y="8308"/>
                </a:lnTo>
                <a:cubicBezTo>
                  <a:pt x="0" y="8301"/>
                  <a:pt x="6" y="8295"/>
                  <a:pt x="13" y="8295"/>
                </a:cubicBezTo>
                <a:cubicBezTo>
                  <a:pt x="20" y="8295"/>
                  <a:pt x="26" y="8301"/>
                  <a:pt x="26" y="8308"/>
                </a:cubicBezTo>
                <a:close/>
                <a:moveTo>
                  <a:pt x="26" y="8615"/>
                </a:moveTo>
                <a:lnTo>
                  <a:pt x="26" y="8794"/>
                </a:lnTo>
                <a:cubicBezTo>
                  <a:pt x="26" y="8801"/>
                  <a:pt x="20" y="8807"/>
                  <a:pt x="13" y="8807"/>
                </a:cubicBezTo>
                <a:cubicBezTo>
                  <a:pt x="6" y="8807"/>
                  <a:pt x="0" y="8801"/>
                  <a:pt x="0" y="8794"/>
                </a:cubicBezTo>
                <a:lnTo>
                  <a:pt x="0" y="8615"/>
                </a:lnTo>
                <a:cubicBezTo>
                  <a:pt x="0" y="8608"/>
                  <a:pt x="6" y="8602"/>
                  <a:pt x="13" y="8602"/>
                </a:cubicBezTo>
                <a:cubicBezTo>
                  <a:pt x="20" y="8602"/>
                  <a:pt x="26" y="8608"/>
                  <a:pt x="26" y="8615"/>
                </a:cubicBezTo>
                <a:close/>
                <a:moveTo>
                  <a:pt x="26" y="8922"/>
                </a:moveTo>
                <a:lnTo>
                  <a:pt x="26" y="9101"/>
                </a:lnTo>
                <a:cubicBezTo>
                  <a:pt x="26" y="9108"/>
                  <a:pt x="20" y="9114"/>
                  <a:pt x="13" y="9114"/>
                </a:cubicBezTo>
                <a:cubicBezTo>
                  <a:pt x="6" y="9114"/>
                  <a:pt x="0" y="9108"/>
                  <a:pt x="0" y="9101"/>
                </a:cubicBezTo>
                <a:lnTo>
                  <a:pt x="0" y="8922"/>
                </a:lnTo>
                <a:cubicBezTo>
                  <a:pt x="0" y="8915"/>
                  <a:pt x="6" y="8909"/>
                  <a:pt x="13" y="8909"/>
                </a:cubicBezTo>
                <a:cubicBezTo>
                  <a:pt x="20" y="8909"/>
                  <a:pt x="26" y="8915"/>
                  <a:pt x="26" y="8922"/>
                </a:cubicBezTo>
                <a:close/>
                <a:moveTo>
                  <a:pt x="26" y="9229"/>
                </a:moveTo>
                <a:lnTo>
                  <a:pt x="26" y="9408"/>
                </a:lnTo>
                <a:cubicBezTo>
                  <a:pt x="26" y="9416"/>
                  <a:pt x="20" y="9421"/>
                  <a:pt x="13" y="9421"/>
                </a:cubicBezTo>
                <a:cubicBezTo>
                  <a:pt x="6" y="9421"/>
                  <a:pt x="0" y="9416"/>
                  <a:pt x="0" y="9408"/>
                </a:cubicBezTo>
                <a:lnTo>
                  <a:pt x="0" y="9229"/>
                </a:lnTo>
                <a:cubicBezTo>
                  <a:pt x="0" y="9222"/>
                  <a:pt x="6" y="9216"/>
                  <a:pt x="13" y="9216"/>
                </a:cubicBezTo>
                <a:cubicBezTo>
                  <a:pt x="20" y="9216"/>
                  <a:pt x="26" y="9222"/>
                  <a:pt x="26" y="9229"/>
                </a:cubicBezTo>
                <a:close/>
                <a:moveTo>
                  <a:pt x="26" y="9536"/>
                </a:moveTo>
                <a:lnTo>
                  <a:pt x="26" y="9716"/>
                </a:lnTo>
                <a:cubicBezTo>
                  <a:pt x="26" y="9723"/>
                  <a:pt x="20" y="9728"/>
                  <a:pt x="13" y="9728"/>
                </a:cubicBezTo>
                <a:cubicBezTo>
                  <a:pt x="6" y="9728"/>
                  <a:pt x="0" y="9723"/>
                  <a:pt x="0" y="9716"/>
                </a:cubicBezTo>
                <a:lnTo>
                  <a:pt x="0" y="9536"/>
                </a:lnTo>
                <a:cubicBezTo>
                  <a:pt x="0" y="9529"/>
                  <a:pt x="6" y="9524"/>
                  <a:pt x="13" y="9524"/>
                </a:cubicBezTo>
                <a:cubicBezTo>
                  <a:pt x="20" y="9524"/>
                  <a:pt x="26" y="9529"/>
                  <a:pt x="26" y="9536"/>
                </a:cubicBezTo>
                <a:close/>
                <a:moveTo>
                  <a:pt x="26" y="9844"/>
                </a:moveTo>
                <a:lnTo>
                  <a:pt x="26" y="10023"/>
                </a:lnTo>
                <a:cubicBezTo>
                  <a:pt x="26" y="10030"/>
                  <a:pt x="20" y="10036"/>
                  <a:pt x="13" y="10036"/>
                </a:cubicBezTo>
                <a:cubicBezTo>
                  <a:pt x="6" y="10036"/>
                  <a:pt x="0" y="10030"/>
                  <a:pt x="0" y="10023"/>
                </a:cubicBezTo>
                <a:lnTo>
                  <a:pt x="0" y="9844"/>
                </a:lnTo>
                <a:cubicBezTo>
                  <a:pt x="0" y="9837"/>
                  <a:pt x="6" y="9831"/>
                  <a:pt x="13" y="9831"/>
                </a:cubicBezTo>
                <a:cubicBezTo>
                  <a:pt x="20" y="9831"/>
                  <a:pt x="26" y="9837"/>
                  <a:pt x="26" y="9844"/>
                </a:cubicBezTo>
                <a:close/>
                <a:moveTo>
                  <a:pt x="26" y="10151"/>
                </a:moveTo>
                <a:lnTo>
                  <a:pt x="26" y="10330"/>
                </a:lnTo>
                <a:cubicBezTo>
                  <a:pt x="26" y="10337"/>
                  <a:pt x="20" y="10343"/>
                  <a:pt x="13" y="10343"/>
                </a:cubicBezTo>
                <a:cubicBezTo>
                  <a:pt x="6" y="10343"/>
                  <a:pt x="0" y="10337"/>
                  <a:pt x="0" y="10330"/>
                </a:cubicBezTo>
                <a:lnTo>
                  <a:pt x="0" y="10151"/>
                </a:lnTo>
                <a:cubicBezTo>
                  <a:pt x="0" y="10144"/>
                  <a:pt x="6" y="10138"/>
                  <a:pt x="13" y="10138"/>
                </a:cubicBezTo>
                <a:cubicBezTo>
                  <a:pt x="20" y="10138"/>
                  <a:pt x="26" y="10144"/>
                  <a:pt x="26" y="10151"/>
                </a:cubicBezTo>
                <a:close/>
                <a:moveTo>
                  <a:pt x="26" y="10458"/>
                </a:moveTo>
                <a:lnTo>
                  <a:pt x="26" y="10637"/>
                </a:lnTo>
                <a:cubicBezTo>
                  <a:pt x="26" y="10644"/>
                  <a:pt x="20" y="10650"/>
                  <a:pt x="13" y="10650"/>
                </a:cubicBezTo>
                <a:cubicBezTo>
                  <a:pt x="6" y="10650"/>
                  <a:pt x="0" y="10644"/>
                  <a:pt x="0" y="10637"/>
                </a:cubicBezTo>
                <a:lnTo>
                  <a:pt x="0" y="10458"/>
                </a:lnTo>
                <a:cubicBezTo>
                  <a:pt x="0" y="10451"/>
                  <a:pt x="6" y="10445"/>
                  <a:pt x="13" y="10445"/>
                </a:cubicBezTo>
                <a:cubicBezTo>
                  <a:pt x="20" y="10445"/>
                  <a:pt x="26" y="10451"/>
                  <a:pt x="26" y="10458"/>
                </a:cubicBezTo>
                <a:close/>
                <a:moveTo>
                  <a:pt x="26" y="10765"/>
                </a:moveTo>
                <a:lnTo>
                  <a:pt x="26" y="10944"/>
                </a:lnTo>
                <a:cubicBezTo>
                  <a:pt x="26" y="10952"/>
                  <a:pt x="20" y="10957"/>
                  <a:pt x="13" y="10957"/>
                </a:cubicBezTo>
                <a:cubicBezTo>
                  <a:pt x="6" y="10957"/>
                  <a:pt x="0" y="10952"/>
                  <a:pt x="0" y="10944"/>
                </a:cubicBezTo>
                <a:lnTo>
                  <a:pt x="0" y="10765"/>
                </a:lnTo>
                <a:cubicBezTo>
                  <a:pt x="0" y="10758"/>
                  <a:pt x="6" y="10752"/>
                  <a:pt x="13" y="10752"/>
                </a:cubicBezTo>
                <a:cubicBezTo>
                  <a:pt x="20" y="10752"/>
                  <a:pt x="26" y="10758"/>
                  <a:pt x="26" y="10765"/>
                </a:cubicBezTo>
                <a:close/>
                <a:moveTo>
                  <a:pt x="26" y="11072"/>
                </a:moveTo>
                <a:lnTo>
                  <a:pt x="26" y="11252"/>
                </a:lnTo>
                <a:cubicBezTo>
                  <a:pt x="26" y="11259"/>
                  <a:pt x="20" y="11264"/>
                  <a:pt x="13" y="11264"/>
                </a:cubicBezTo>
                <a:cubicBezTo>
                  <a:pt x="6" y="11264"/>
                  <a:pt x="0" y="11259"/>
                  <a:pt x="0" y="11252"/>
                </a:cubicBezTo>
                <a:lnTo>
                  <a:pt x="0" y="11072"/>
                </a:lnTo>
                <a:cubicBezTo>
                  <a:pt x="0" y="11065"/>
                  <a:pt x="6" y="11060"/>
                  <a:pt x="13" y="11060"/>
                </a:cubicBezTo>
                <a:cubicBezTo>
                  <a:pt x="20" y="11060"/>
                  <a:pt x="26" y="11065"/>
                  <a:pt x="26" y="11072"/>
                </a:cubicBezTo>
                <a:close/>
                <a:moveTo>
                  <a:pt x="26" y="11380"/>
                </a:moveTo>
                <a:lnTo>
                  <a:pt x="26" y="11559"/>
                </a:lnTo>
                <a:cubicBezTo>
                  <a:pt x="26" y="11566"/>
                  <a:pt x="20" y="11572"/>
                  <a:pt x="13" y="11572"/>
                </a:cubicBezTo>
                <a:cubicBezTo>
                  <a:pt x="6" y="11572"/>
                  <a:pt x="0" y="11566"/>
                  <a:pt x="0" y="11559"/>
                </a:cubicBezTo>
                <a:lnTo>
                  <a:pt x="0" y="11380"/>
                </a:lnTo>
                <a:cubicBezTo>
                  <a:pt x="0" y="11373"/>
                  <a:pt x="6" y="11367"/>
                  <a:pt x="13" y="11367"/>
                </a:cubicBezTo>
                <a:cubicBezTo>
                  <a:pt x="20" y="11367"/>
                  <a:pt x="26" y="11373"/>
                  <a:pt x="26" y="11380"/>
                </a:cubicBezTo>
                <a:close/>
                <a:moveTo>
                  <a:pt x="26" y="11687"/>
                </a:moveTo>
                <a:lnTo>
                  <a:pt x="26" y="11866"/>
                </a:lnTo>
                <a:cubicBezTo>
                  <a:pt x="26" y="11873"/>
                  <a:pt x="20" y="11879"/>
                  <a:pt x="13" y="11879"/>
                </a:cubicBezTo>
                <a:cubicBezTo>
                  <a:pt x="6" y="11879"/>
                  <a:pt x="0" y="11873"/>
                  <a:pt x="0" y="11866"/>
                </a:cubicBezTo>
                <a:lnTo>
                  <a:pt x="0" y="11687"/>
                </a:lnTo>
                <a:cubicBezTo>
                  <a:pt x="0" y="11680"/>
                  <a:pt x="6" y="11674"/>
                  <a:pt x="13" y="11674"/>
                </a:cubicBezTo>
                <a:cubicBezTo>
                  <a:pt x="20" y="11674"/>
                  <a:pt x="26" y="11680"/>
                  <a:pt x="26" y="11687"/>
                </a:cubicBezTo>
                <a:close/>
                <a:moveTo>
                  <a:pt x="26" y="11994"/>
                </a:moveTo>
                <a:lnTo>
                  <a:pt x="26" y="12173"/>
                </a:lnTo>
                <a:cubicBezTo>
                  <a:pt x="26" y="12180"/>
                  <a:pt x="20" y="12186"/>
                  <a:pt x="13" y="12186"/>
                </a:cubicBezTo>
                <a:cubicBezTo>
                  <a:pt x="6" y="12186"/>
                  <a:pt x="0" y="12180"/>
                  <a:pt x="0" y="12173"/>
                </a:cubicBezTo>
                <a:lnTo>
                  <a:pt x="0" y="11994"/>
                </a:lnTo>
                <a:cubicBezTo>
                  <a:pt x="0" y="11987"/>
                  <a:pt x="6" y="11981"/>
                  <a:pt x="13" y="11981"/>
                </a:cubicBezTo>
                <a:cubicBezTo>
                  <a:pt x="20" y="11981"/>
                  <a:pt x="26" y="11987"/>
                  <a:pt x="26" y="11994"/>
                </a:cubicBezTo>
                <a:close/>
                <a:moveTo>
                  <a:pt x="26" y="12301"/>
                </a:moveTo>
                <a:lnTo>
                  <a:pt x="26" y="12480"/>
                </a:lnTo>
                <a:cubicBezTo>
                  <a:pt x="26" y="12488"/>
                  <a:pt x="20" y="12493"/>
                  <a:pt x="13" y="12493"/>
                </a:cubicBezTo>
                <a:cubicBezTo>
                  <a:pt x="6" y="12493"/>
                  <a:pt x="0" y="12488"/>
                  <a:pt x="0" y="12480"/>
                </a:cubicBezTo>
                <a:lnTo>
                  <a:pt x="0" y="12301"/>
                </a:lnTo>
                <a:cubicBezTo>
                  <a:pt x="0" y="12294"/>
                  <a:pt x="6" y="12288"/>
                  <a:pt x="13" y="12288"/>
                </a:cubicBezTo>
                <a:cubicBezTo>
                  <a:pt x="20" y="12288"/>
                  <a:pt x="26" y="12294"/>
                  <a:pt x="26" y="12301"/>
                </a:cubicBezTo>
                <a:close/>
                <a:moveTo>
                  <a:pt x="26" y="12608"/>
                </a:moveTo>
                <a:lnTo>
                  <a:pt x="26" y="12788"/>
                </a:lnTo>
                <a:cubicBezTo>
                  <a:pt x="26" y="12795"/>
                  <a:pt x="20" y="12800"/>
                  <a:pt x="13" y="12800"/>
                </a:cubicBezTo>
                <a:cubicBezTo>
                  <a:pt x="6" y="12800"/>
                  <a:pt x="0" y="12795"/>
                  <a:pt x="0" y="12788"/>
                </a:cubicBezTo>
                <a:lnTo>
                  <a:pt x="0" y="12608"/>
                </a:lnTo>
                <a:cubicBezTo>
                  <a:pt x="0" y="12601"/>
                  <a:pt x="6" y="12596"/>
                  <a:pt x="13" y="12596"/>
                </a:cubicBezTo>
                <a:cubicBezTo>
                  <a:pt x="20" y="12596"/>
                  <a:pt x="26" y="12601"/>
                  <a:pt x="26" y="12608"/>
                </a:cubicBezTo>
                <a:close/>
                <a:moveTo>
                  <a:pt x="26" y="12916"/>
                </a:moveTo>
                <a:lnTo>
                  <a:pt x="26" y="13095"/>
                </a:lnTo>
                <a:cubicBezTo>
                  <a:pt x="26" y="13102"/>
                  <a:pt x="20" y="13108"/>
                  <a:pt x="13" y="13108"/>
                </a:cubicBezTo>
                <a:cubicBezTo>
                  <a:pt x="6" y="13108"/>
                  <a:pt x="0" y="13102"/>
                  <a:pt x="0" y="13095"/>
                </a:cubicBezTo>
                <a:lnTo>
                  <a:pt x="0" y="12916"/>
                </a:lnTo>
                <a:cubicBezTo>
                  <a:pt x="0" y="12909"/>
                  <a:pt x="6" y="12903"/>
                  <a:pt x="13" y="12903"/>
                </a:cubicBezTo>
                <a:cubicBezTo>
                  <a:pt x="20" y="12903"/>
                  <a:pt x="26" y="12909"/>
                  <a:pt x="26" y="12916"/>
                </a:cubicBezTo>
                <a:close/>
                <a:moveTo>
                  <a:pt x="26" y="13223"/>
                </a:moveTo>
                <a:lnTo>
                  <a:pt x="26" y="13402"/>
                </a:lnTo>
                <a:cubicBezTo>
                  <a:pt x="26" y="13409"/>
                  <a:pt x="20" y="13415"/>
                  <a:pt x="13" y="13415"/>
                </a:cubicBezTo>
                <a:cubicBezTo>
                  <a:pt x="6" y="13415"/>
                  <a:pt x="0" y="13409"/>
                  <a:pt x="0" y="13402"/>
                </a:cubicBezTo>
                <a:lnTo>
                  <a:pt x="0" y="13223"/>
                </a:lnTo>
                <a:cubicBezTo>
                  <a:pt x="0" y="13216"/>
                  <a:pt x="6" y="13210"/>
                  <a:pt x="13" y="13210"/>
                </a:cubicBezTo>
                <a:cubicBezTo>
                  <a:pt x="20" y="13210"/>
                  <a:pt x="26" y="13216"/>
                  <a:pt x="26" y="13223"/>
                </a:cubicBezTo>
                <a:close/>
                <a:moveTo>
                  <a:pt x="26" y="13530"/>
                </a:moveTo>
                <a:lnTo>
                  <a:pt x="26" y="13709"/>
                </a:lnTo>
                <a:cubicBezTo>
                  <a:pt x="26" y="13716"/>
                  <a:pt x="20" y="13722"/>
                  <a:pt x="13" y="13722"/>
                </a:cubicBezTo>
                <a:cubicBezTo>
                  <a:pt x="6" y="13722"/>
                  <a:pt x="0" y="13716"/>
                  <a:pt x="0" y="13709"/>
                </a:cubicBezTo>
                <a:lnTo>
                  <a:pt x="0" y="13530"/>
                </a:lnTo>
                <a:cubicBezTo>
                  <a:pt x="0" y="13523"/>
                  <a:pt x="6" y="13517"/>
                  <a:pt x="13" y="13517"/>
                </a:cubicBezTo>
                <a:cubicBezTo>
                  <a:pt x="20" y="13517"/>
                  <a:pt x="26" y="13523"/>
                  <a:pt x="26" y="1353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8520" y="241632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8440" y="254808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7520" y="26859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5880" y="245736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5800" y="259560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4880" y="27273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  <a:lnTo>
                  <a:pt x="1105" y="10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  <a:lnTo>
                  <a:pt x="0" y="15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0160" y="5459400"/>
            <a:ext cx="1289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 Service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45940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7320" y="545940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  <a:lnTo>
                  <a:pt x="0" y="16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22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296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68520" y="377676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02000" y="377676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9400" y="377676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27840" y="5692680"/>
            <a:ext cx="953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MIH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96960" y="5692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26480" y="5692680"/>
            <a:ext cx="1108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H Commands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52920" y="569268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2920" y="569268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  <a:lnTo>
                  <a:pt x="1447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4120" y="2427120"/>
            <a:ext cx="70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4840" y="2565360"/>
            <a:ext cx="567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1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200" y="269712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196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93640" y="269712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7140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488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36560" y="2697120"/>
            <a:ext cx="1090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539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07560" y="157644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47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1760" y="157644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11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06000" y="1576440"/>
            <a:ext cx="1465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 over higher layer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1095120" y="4460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095120" y="4406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1109880" y="4366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092960" y="43264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1095120" y="4275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1109880" y="4234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1109880" y="42105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1095120" y="4172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7520" y="1103400"/>
            <a:ext cx="444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y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7040" y="1103400"/>
            <a:ext cx="435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560" y="1278000"/>
            <a:ext cx="13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84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040" y="1278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596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7640" y="127800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5920" y="1278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93880" y="1278000"/>
            <a:ext cx="633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t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3648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63480" y="1278000"/>
            <a:ext cx="498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1400" y="1390680"/>
            <a:ext cx="342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33120" y="1390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57600" y="1390680"/>
            <a:ext cx="881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1760" y="15048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720" y="1504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6960" y="1504800"/>
            <a:ext cx="631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 T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4720" y="1612800"/>
            <a:ext cx="186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8760" y="1612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6720" y="1612800"/>
            <a:ext cx="896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80" y="1720800"/>
            <a:ext cx="22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6920" y="1720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4160" y="1720800"/>
            <a:ext cx="1081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160" y="1954080"/>
            <a:ext cx="210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720" y="195408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9680" y="1954080"/>
            <a:ext cx="666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3280" y="1839960"/>
            <a:ext cx="18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2640" y="1839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4200" y="1839960"/>
            <a:ext cx="1341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 Independent H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786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6360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200" y="1065240"/>
            <a:ext cx="1792440" cy="100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7976880" y="2440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7976880" y="2386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7991640" y="234684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7974720" y="230724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7976880" y="22550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7991640" y="2215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7991640" y="2191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7976880" y="2160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976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12760" y="1062000"/>
            <a:ext cx="9447120" cy="54403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22024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Servic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IH users access IEEE 802.21 services through well defined SAP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ore than one MIH user can have access to IEEE 802.21 services in order to integrate multiple mobility protocol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services could be invoked to request operations on underlying resour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replaces existing mobility management function and protocols already in plac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90080" indent="-1900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Local and Remote Event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might indicate link layer or physical layers state changes in real tim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facilitate handover detec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are delivered according to IEEE 802.21 users preferen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0080" indent="-190080"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propagate directly between heterogeneous stack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enforce actions but rather suggest them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182520" indent="-1825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Provides heterogeneous network information within a particular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might be delivered through access technology broadcast/multicast procedures or through data base queries at a remot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services are static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define how the information server is accessed, but only what information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specify how the information service might be implemented in a particula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Command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90080" indent="-190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flow from the IEEE 802.21 MIH user to IEEE 802.21 MIH and from IEEE 802.21 MIH to link lay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convey IEEE 802.21MIH user decision to switch from one access technology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have both remote and loc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080" indent="-190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flow directly from one access technology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replace existing mobility management protocol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Design Principl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cross-layer entity interacting with multiple layers 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handover determina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Provides a technology-independent unified interface to upper layers and MIH user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both station initiated and network initiated handover determination. Both local and remote trigger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odify existing handover principl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andate handover determination based on 802.21 events. Events are informational in nature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cope of Current 802.21 Draf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Principles and Design Assump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upported Media Independent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rvice Access Points and their Primitiv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A protocol for the transport of Media Independent Handover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utlin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hat is IEEE 802.21and why are we her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Dos and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Reference Model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urrent IEEE 802.21 Draft Scop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LAN-3GPP2 Handovers Scenario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802.21 remote IS, ES and CS require a “transport”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ransport can be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2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L2 specific signalling is us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in 802.11 TGu will define transport of 802.21 I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 IS, applicable to both current and target acces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6" name=""/>
          <p:cNvSpPr/>
          <p:nvPr/>
        </p:nvSpPr>
        <p:spPr>
          <a:xfrm>
            <a:off x="3890880" y="4616280"/>
            <a:ext cx="176544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46432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96160" y="46958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45320" y="4541760"/>
            <a:ext cx="50148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6" idx="6"/>
          </p:cNvCxnSpPr>
          <p:nvPr/>
        </p:nvCxnSpPr>
        <p:spPr>
          <a:xfrm flipH="1">
            <a:off x="5656320" y="4947840"/>
            <a:ext cx="3402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3998880" y="4789440"/>
            <a:ext cx="612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7120" y="4944960"/>
            <a:ext cx="51120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59240" y="4952880"/>
            <a:ext cx="50184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477960" y="5060880"/>
            <a:ext cx="88164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05" name=""/>
          <p:cNvCxnSpPr>
            <a:stCxn id="503" idx="3"/>
            <a:endCxn id="499" idx="1"/>
          </p:cNvCxnSpPr>
          <p:nvPr/>
        </p:nvCxnSpPr>
        <p:spPr>
          <a:xfrm flipV="1">
            <a:off x="4861080" y="4655880"/>
            <a:ext cx="984960" cy="4118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442200" y="5491080"/>
            <a:ext cx="914400" cy="276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Out of scope of 802.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41280" y="5584680"/>
            <a:ext cx="914400" cy="35424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in L2 fra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6672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3 and abov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e existing IP connectivity to access and MIHF in the network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ffort to define 802.21 IS transport @ L3 and above has started in IET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0" name=""/>
          <p:cNvSpPr/>
          <p:nvPr/>
        </p:nvSpPr>
        <p:spPr>
          <a:xfrm>
            <a:off x="2308320" y="34480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6800" y="3233880"/>
            <a:ext cx="1800360" cy="998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747960" y="5037120"/>
            <a:ext cx="1800360" cy="674640"/>
            <a:chOff x="3747960" y="5037120"/>
            <a:chExt cx="1800360" cy="674640"/>
          </a:xfrm>
        </p:grpSpPr>
        <p:sp>
          <p:nvSpPr>
            <p:cNvPr id="513" name=""/>
            <p:cNvSpPr/>
            <p:nvPr/>
          </p:nvSpPr>
          <p:spPr>
            <a:xfrm>
              <a:off x="3747960" y="5037120"/>
              <a:ext cx="1800360" cy="67464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WiM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P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14560" y="5133960"/>
              <a:ext cx="714600" cy="47772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802.16-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765600" y="4308480"/>
            <a:ext cx="176508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78440" y="347652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760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76640" y="335268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2"/>
            <a:endCxn id="511" idx="6"/>
          </p:cNvCxnSpPr>
          <p:nvPr/>
        </p:nvCxnSpPr>
        <p:spPr>
          <a:xfrm flipH="1">
            <a:off x="5536800" y="3728880"/>
            <a:ext cx="34200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3"/>
            <a:endCxn id="517" idx="1"/>
          </p:cNvCxnSpPr>
          <p:nvPr/>
        </p:nvCxnSpPr>
        <p:spPr>
          <a:xfrm flipV="1">
            <a:off x="2889360" y="348552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2308320" y="435132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78440" y="438768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2760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76640" y="425592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2" idx="2"/>
            <a:endCxn id="515" idx="6"/>
          </p:cNvCxnSpPr>
          <p:nvPr/>
        </p:nvCxnSpPr>
        <p:spPr>
          <a:xfrm flipH="1">
            <a:off x="5530320" y="4640400"/>
            <a:ext cx="34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24" idx="3"/>
            <a:endCxn id="523" idx="1"/>
          </p:cNvCxnSpPr>
          <p:nvPr/>
        </p:nvCxnSpPr>
        <p:spPr>
          <a:xfrm flipV="1">
            <a:off x="2889360" y="4389120"/>
            <a:ext cx="283896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2308320" y="508644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78440" y="512280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760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6640" y="49910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28" idx="2"/>
            <a:endCxn id="513" idx="6"/>
          </p:cNvCxnSpPr>
          <p:nvPr/>
        </p:nvCxnSpPr>
        <p:spPr>
          <a:xfrm flipH="1">
            <a:off x="5547600" y="5374800"/>
            <a:ext cx="330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3"/>
            <a:endCxn id="529" idx="1"/>
          </p:cNvCxnSpPr>
          <p:nvPr/>
        </p:nvCxnSpPr>
        <p:spPr>
          <a:xfrm flipV="1">
            <a:off x="2889360" y="512388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907920" y="4010040"/>
            <a:ext cx="914400" cy="3538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@ L3 or abo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5972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17" idx="3"/>
            <a:endCxn id="534" idx="1"/>
          </p:cNvCxnSpPr>
          <p:nvPr/>
        </p:nvCxnSpPr>
        <p:spPr>
          <a:xfrm>
            <a:off x="6339960" y="348588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765972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23" idx="3"/>
            <a:endCxn id="536" idx="1"/>
          </p:cNvCxnSpPr>
          <p:nvPr/>
        </p:nvCxnSpPr>
        <p:spPr>
          <a:xfrm>
            <a:off x="6339960" y="438912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765972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9" idx="3"/>
            <a:endCxn id="538" idx="1"/>
          </p:cNvCxnSpPr>
          <p:nvPr/>
        </p:nvCxnSpPr>
        <p:spPr>
          <a:xfrm>
            <a:off x="6339960" y="512424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8572680" y="3959280"/>
            <a:ext cx="914400" cy="26820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In scope of 802.21/IET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3" name=""/>
          <p:cNvSpPr/>
          <p:nvPr/>
        </p:nvSpPr>
        <p:spPr>
          <a:xfrm>
            <a:off x="542916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54720" y="2987640"/>
            <a:ext cx="180000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812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5796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3" idx="0"/>
            <a:endCxn id="546" idx="3"/>
          </p:cNvCxnSpPr>
          <p:nvPr/>
        </p:nvCxnSpPr>
        <p:spPr>
          <a:xfrm flipV="1">
            <a:off x="6446880" y="2571480"/>
            <a:ext cx="99144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642636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50" idx="0"/>
            <a:endCxn id="546" idx="4"/>
          </p:cNvCxnSpPr>
          <p:nvPr/>
        </p:nvCxnSpPr>
        <p:spPr>
          <a:xfrm flipH="1" flipV="1">
            <a:off x="7868880" y="2644200"/>
            <a:ext cx="21672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0564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2160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72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 flipH="1">
            <a:off x="852336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696276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248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5" idx="1"/>
            <a:endCxn id="545" idx="1"/>
          </p:cNvCxnSpPr>
          <p:nvPr/>
        </p:nvCxnSpPr>
        <p:spPr>
          <a:xfrm rot="10800000">
            <a:off x="655740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57" name=""/>
          <p:cNvCxnSpPr>
            <a:stCxn id="554" idx="0"/>
            <a:endCxn id="544" idx="4"/>
          </p:cNvCxnSpPr>
          <p:nvPr/>
        </p:nvCxnSpPr>
        <p:spPr>
          <a:xfrm flipH="1" flipV="1">
            <a:off x="635400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54" idx="0"/>
            <a:endCxn id="550" idx="4"/>
          </p:cNvCxnSpPr>
          <p:nvPr/>
        </p:nvCxnSpPr>
        <p:spPr>
          <a:xfrm flipV="1">
            <a:off x="739764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7713360" y="451332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224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60" idx="0"/>
            <a:endCxn id="563" idx="3"/>
          </p:cNvCxnSpPr>
          <p:nvPr/>
        </p:nvCxnSpPr>
        <p:spPr>
          <a:xfrm flipV="1">
            <a:off x="2109600" y="2571480"/>
            <a:ext cx="99108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08908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0"/>
            <a:endCxn id="563" idx="4"/>
          </p:cNvCxnSpPr>
          <p:nvPr/>
        </p:nvCxnSpPr>
        <p:spPr>
          <a:xfrm flipH="1" flipV="1">
            <a:off x="3531600" y="2644200"/>
            <a:ext cx="21636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8468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4544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2" idx="1"/>
            <a:endCxn id="562" idx="1"/>
          </p:cNvCxnSpPr>
          <p:nvPr/>
        </p:nvCxnSpPr>
        <p:spPr>
          <a:xfrm rot="10800000">
            <a:off x="222012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4" name=""/>
          <p:cNvCxnSpPr>
            <a:stCxn id="571" idx="0"/>
            <a:endCxn id="561" idx="4"/>
          </p:cNvCxnSpPr>
          <p:nvPr/>
        </p:nvCxnSpPr>
        <p:spPr>
          <a:xfrm flipH="1" flipV="1">
            <a:off x="201708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71" idx="0"/>
            <a:endCxn id="567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19080">
            <a:solidFill>
              <a:srgbClr val="96969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331800" y="4587840"/>
            <a:ext cx="214560" cy="174600"/>
            <a:chOff x="3331800" y="4587840"/>
            <a:chExt cx="214560" cy="174600"/>
          </a:xfrm>
        </p:grpSpPr>
        <p:sp>
          <p:nvSpPr>
            <p:cNvPr id="578" name=""/>
            <p:cNvSpPr/>
            <p:nvPr/>
          </p:nvSpPr>
          <p:spPr>
            <a:xfrm>
              <a:off x="333216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33180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072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5724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2084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6" idx="0"/>
            <a:endCxn id="589" idx="3"/>
          </p:cNvCxnSpPr>
          <p:nvPr/>
        </p:nvCxnSpPr>
        <p:spPr>
          <a:xfrm flipV="1">
            <a:off x="279864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6" idx="3"/>
            <a:endCxn id="588" idx="3"/>
          </p:cNvCxnSpPr>
          <p:nvPr/>
        </p:nvCxnSpPr>
        <p:spPr>
          <a:xfrm flipH="1" flipV="1">
            <a:off x="2833200" y="2976120"/>
            <a:ext cx="145440" cy="2625120"/>
          </a:xfrm>
          <a:prstGeom prst="curvedConnector5">
            <a:avLst>
              <a:gd name="adj1" fmla="val -732754"/>
              <a:gd name="adj2" fmla="val 49993"/>
              <a:gd name="adj3" fmla="val -73275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8" name=""/>
          <p:cNvCxnSpPr>
            <a:stCxn id="595" idx="0"/>
            <a:endCxn id="592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7080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7064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3" idx="0"/>
            <a:endCxn id="606" idx="3"/>
          </p:cNvCxnSpPr>
          <p:nvPr/>
        </p:nvCxnSpPr>
        <p:spPr>
          <a:xfrm flipV="1">
            <a:off x="724860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05" idx="3"/>
          </p:cNvCxnSpPr>
          <p:nvPr/>
        </p:nvCxnSpPr>
        <p:spPr>
          <a:xfrm flipH="1" flipV="1">
            <a:off x="7283160" y="2976120"/>
            <a:ext cx="144720" cy="2625120"/>
          </a:xfrm>
          <a:prstGeom prst="curvedConnector5">
            <a:avLst>
              <a:gd name="adj1" fmla="val -909725"/>
              <a:gd name="adj2" fmla="val 49993"/>
              <a:gd name="adj3" fmla="val -909725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5" name=""/>
          <p:cNvCxnSpPr>
            <a:stCxn id="612" idx="0"/>
            <a:endCxn id="609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8478720" y="1530360"/>
            <a:ext cx="123840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86280" y="1571760"/>
            <a:ext cx="1238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 MIH outside 3G-PD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02200" y="1790640"/>
            <a:ext cx="612720" cy="260280"/>
          </a:xfrm>
          <a:prstGeom prst="rect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4720" y="2206800"/>
            <a:ext cx="1222200" cy="50292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3" idx="0"/>
            <a:endCxn id="626" idx="3"/>
          </p:cNvCxnSpPr>
          <p:nvPr/>
        </p:nvCxnSpPr>
        <p:spPr>
          <a:xfrm flipV="1">
            <a:off x="2798640" y="2636280"/>
            <a:ext cx="766080" cy="146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25" idx="2"/>
          </p:cNvCxnSpPr>
          <p:nvPr/>
        </p:nvCxnSpPr>
        <p:spPr>
          <a:xfrm flipH="1" flipV="1" rot="5400000">
            <a:off x="1834920" y="2887200"/>
            <a:ext cx="3410640" cy="173736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stCxn id="632" idx="0"/>
            <a:endCxn id="629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666280" y="1765440"/>
            <a:ext cx="612720" cy="260280"/>
          </a:xfrm>
          <a:prstGeom prst="rect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34320" y="220500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0" idx="0"/>
            <a:endCxn id="643" idx="3"/>
          </p:cNvCxnSpPr>
          <p:nvPr/>
        </p:nvCxnSpPr>
        <p:spPr>
          <a:xfrm flipV="1">
            <a:off x="7248240" y="2634840"/>
            <a:ext cx="765720" cy="148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49" idx="0"/>
            <a:endCxn id="646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endCxn id="642" idx="2"/>
          </p:cNvCxnSpPr>
          <p:nvPr/>
        </p:nvCxnSpPr>
        <p:spPr>
          <a:xfrm flipH="1" flipV="1" rot="5400000">
            <a:off x="6279840" y="2882520"/>
            <a:ext cx="3550320" cy="1836000"/>
          </a:xfrm>
          <a:prstGeom prst="curvedConnector5">
            <a:avLst>
              <a:gd name="adj1" fmla="val 49994"/>
              <a:gd name="adj2" fmla="val 49990"/>
              <a:gd name="adj3" fmla="val 4999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"/>
          <p:cNvCxnSpPr>
            <a:stCxn id="624" idx="7"/>
            <a:endCxn id="625" idx="2"/>
          </p:cNvCxnSpPr>
          <p:nvPr/>
        </p:nvCxnSpPr>
        <p:spPr>
          <a:xfrm flipH="1" flipV="1" rot="5400000">
            <a:off x="2964240" y="1739880"/>
            <a:ext cx="1134360" cy="1755000"/>
          </a:xfrm>
          <a:prstGeom prst="curvedConnector5">
            <a:avLst>
              <a:gd name="adj1" fmla="val 58666"/>
              <a:gd name="adj2" fmla="val 50000"/>
              <a:gd name="adj3" fmla="val 58666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4332600" y="15969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875800" y="156852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/>
          <p:nvPr/>
        </p:nvCxnSpPr>
        <p:spPr>
          <a:xfrm flipH="1" flipV="1" rot="5400000">
            <a:off x="7210800" y="1673280"/>
            <a:ext cx="1134360" cy="1755000"/>
          </a:xfrm>
          <a:prstGeom prst="curvedConnector5">
            <a:avLst>
              <a:gd name="adj1" fmla="val 58666"/>
              <a:gd name="adj2" fmla="val 50000"/>
              <a:gd name="adj3" fmla="val 58666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3GPP2-WL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057320" y="785880"/>
            <a:ext cx="7910640" cy="5743440"/>
            <a:chOff x="1057320" y="785880"/>
            <a:chExt cx="7910640" cy="5743440"/>
          </a:xfrm>
        </p:grpSpPr>
        <p:sp>
          <p:nvSpPr>
            <p:cNvPr id="662" name=""/>
            <p:cNvSpPr/>
            <p:nvPr/>
          </p:nvSpPr>
          <p:spPr>
            <a:xfrm>
              <a:off x="157788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6108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8436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3240" y="1042920"/>
              <a:ext cx="1800" cy="548640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08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9692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88200" y="785880"/>
              <a:ext cx="766800" cy="315720"/>
            </a:xfrm>
            <a:custGeom>
              <a:avLst/>
              <a:gdLst/>
              <a:ahLst/>
              <a:rect l="l" t="t" r="r" b="b"/>
              <a:pathLst>
                <a:path w="483" h="199">
                  <a:moveTo>
                    <a:pt x="0" y="0"/>
                  </a:moveTo>
                  <a:lnTo>
                    <a:pt x="0" y="199"/>
                  </a:lnTo>
                  <a:lnTo>
                    <a:pt x="483" y="199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88200" y="785880"/>
              <a:ext cx="76680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61800" y="80820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3360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43720" y="95400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IH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2080" y="95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97600" y="954000"/>
              <a:ext cx="17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71000" y="785880"/>
              <a:ext cx="696960" cy="315720"/>
            </a:xfrm>
            <a:custGeom>
              <a:avLst/>
              <a:gdLst/>
              <a:ahLst/>
              <a:rect l="l" t="t" r="r" b="b"/>
              <a:pathLst>
                <a:path w="439" h="199">
                  <a:moveTo>
                    <a:pt x="0" y="0"/>
                  </a:moveTo>
                  <a:lnTo>
                    <a:pt x="0" y="199"/>
                  </a:lnTo>
                  <a:lnTo>
                    <a:pt x="439" y="199"/>
                  </a:lnTo>
                  <a:lnTo>
                    <a:pt x="4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71000" y="785880"/>
              <a:ext cx="69696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525520" y="80820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72892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784720" y="8082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637840" y="954000"/>
              <a:ext cx="15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882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0724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1320" y="1182600"/>
              <a:ext cx="482400" cy="277920"/>
            </a:xfrm>
            <a:custGeom>
              <a:avLst/>
              <a:gdLst/>
              <a:ahLst/>
              <a:rect l="l" t="t" r="r" b="b"/>
              <a:pathLst>
                <a:path w="304" h="175">
                  <a:moveTo>
                    <a:pt x="0" y="0"/>
                  </a:moveTo>
                  <a:lnTo>
                    <a:pt x="0" y="175"/>
                  </a:lnTo>
                  <a:lnTo>
                    <a:pt x="304" y="175"/>
                  </a:lnTo>
                  <a:lnTo>
                    <a:pt x="30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0960" y="11844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99560" y="11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49080" y="1317600"/>
              <a:ext cx="17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3320" y="785880"/>
              <a:ext cx="695520" cy="315720"/>
            </a:xfrm>
            <a:custGeom>
              <a:avLst/>
              <a:gdLst/>
              <a:ahLst/>
              <a:rect l="l" t="t" r="r" b="b"/>
              <a:pathLst>
                <a:path w="438" h="199">
                  <a:moveTo>
                    <a:pt x="0" y="0"/>
                  </a:moveTo>
                  <a:lnTo>
                    <a:pt x="0" y="199"/>
                  </a:lnTo>
                  <a:lnTo>
                    <a:pt x="438" y="199"/>
                  </a:lnTo>
                  <a:lnTo>
                    <a:pt x="4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13320" y="785880"/>
              <a:ext cx="69552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39480" y="808200"/>
              <a:ext cx="5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10760" y="80820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08320" y="8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28680" y="9540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0320" y="785880"/>
              <a:ext cx="2300040" cy="315720"/>
            </a:xfrm>
            <a:custGeom>
              <a:avLst/>
              <a:gdLst/>
              <a:ahLst/>
              <a:rect l="l" t="t" r="r" b="b"/>
              <a:pathLst>
                <a:path w="1449" h="199">
                  <a:moveTo>
                    <a:pt x="0" y="0"/>
                  </a:moveTo>
                  <a:lnTo>
                    <a:pt x="0" y="199"/>
                  </a:lnTo>
                  <a:lnTo>
                    <a:pt x="1449" y="199"/>
                  </a:lnTo>
                  <a:lnTo>
                    <a:pt x="14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00320" y="785880"/>
              <a:ext cx="230004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0280" y="88092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120" y="88092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27280" y="880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2404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3680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9952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5136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132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9408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5824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1008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87400" y="1182600"/>
              <a:ext cx="487440" cy="277920"/>
            </a:xfrm>
            <a:custGeom>
              <a:avLst/>
              <a:gdLst/>
              <a:ahLst/>
              <a:rect l="l" t="t" r="r" b="b"/>
              <a:pathLst>
                <a:path w="307" h="175">
                  <a:moveTo>
                    <a:pt x="0" y="0"/>
                  </a:moveTo>
                  <a:lnTo>
                    <a:pt x="0" y="175"/>
                  </a:lnTo>
                  <a:lnTo>
                    <a:pt x="307" y="175"/>
                  </a:lnTo>
                  <a:lnTo>
                    <a:pt x="30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79640" y="120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MIH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65600" y="13302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68360" y="121284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0" y="0"/>
                  </a:moveTo>
                  <a:lnTo>
                    <a:pt x="0" y="118"/>
                  </a:lnTo>
                  <a:lnTo>
                    <a:pt x="246" y="118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70240" y="1251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84360" y="4516560"/>
              <a:ext cx="1800" cy="992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90840" y="4575240"/>
              <a:ext cx="1800" cy="9334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96920" y="4624560"/>
              <a:ext cx="1800" cy="714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84360" y="4654440"/>
              <a:ext cx="1800" cy="6559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90840" y="4664160"/>
              <a:ext cx="1800" cy="6746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94040" y="4556160"/>
              <a:ext cx="1440" cy="9525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8160" y="3925800"/>
              <a:ext cx="53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93760" y="466092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24320" y="48132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91160" y="409104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973240" y="3121200"/>
              <a:ext cx="335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81400" y="307980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0" y="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97320" y="3273480"/>
              <a:ext cx="329724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667560" y="3232080"/>
              <a:ext cx="109440" cy="828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65720" y="3220920"/>
              <a:ext cx="143352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0280" y="321804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EV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737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14760" y="32180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69200" y="32180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6520" y="321804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913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96920" y="404172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1400" y="400068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054240" y="4200120"/>
              <a:ext cx="336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240" y="4160880"/>
              <a:ext cx="108000" cy="810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199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73240" y="4782960"/>
              <a:ext cx="3351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81400" y="4743360"/>
              <a:ext cx="10944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200" y="101"/>
                  </a:moveTo>
                  <a:lnTo>
                    <a:pt x="0" y="199"/>
                  </a:lnTo>
                  <a:cubicBezTo>
                    <a:pt x="31" y="137"/>
                    <a:pt x="32" y="63"/>
                    <a:pt x="1" y="0"/>
                  </a:cubicBezTo>
                  <a:lnTo>
                    <a:pt x="1" y="0"/>
                  </a:lnTo>
                  <a:lnTo>
                    <a:pt x="20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9720" y="4923000"/>
              <a:ext cx="131292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96920" y="488160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96920" y="564660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81400" y="56055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26480" y="554040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67160" y="5826240"/>
              <a:ext cx="82368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84360" y="578484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00"/>
                  </a:moveTo>
                  <a:lnTo>
                    <a:pt x="200" y="0"/>
                  </a:lnTo>
                  <a:cubicBezTo>
                    <a:pt x="168" y="63"/>
                    <a:pt x="168" y="137"/>
                    <a:pt x="200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73240" y="4556160"/>
              <a:ext cx="1800" cy="19350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90920" y="1535040"/>
              <a:ext cx="1055520" cy="196920"/>
            </a:xfrm>
            <a:custGeom>
              <a:avLst/>
              <a:gdLst/>
              <a:ahLst/>
              <a:rect l="l" t="t" r="r" b="b"/>
              <a:pathLst>
                <a:path w="665" h="124">
                  <a:moveTo>
                    <a:pt x="0" y="0"/>
                  </a:moveTo>
                  <a:lnTo>
                    <a:pt x="0" y="124"/>
                  </a:lnTo>
                  <a:lnTo>
                    <a:pt x="665" y="124"/>
                  </a:lnTo>
                  <a:lnTo>
                    <a:pt x="66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03320" y="15494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03640" y="154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16320" y="1549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71360" y="1574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27880" y="1574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71360" y="1925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27880" y="1925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71360" y="25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7880" y="25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71360" y="2706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27880" y="2706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71360" y="28735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27880" y="2873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1360" y="30178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27880" y="3017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57320" y="5229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62800" y="522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57320" y="55926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62800" y="5592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57320" y="57452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2800" y="574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57320" y="5983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62800" y="5983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57320" y="62816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2800" y="6281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57840" y="4102200"/>
              <a:ext cx="1440" cy="950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02560" y="4102200"/>
              <a:ext cx="1440" cy="911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73280" y="2577960"/>
              <a:ext cx="33339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90840" y="25383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19560" y="2525760"/>
              <a:ext cx="175104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24760" y="2522520"/>
              <a:ext cx="133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13160" y="2738520"/>
              <a:ext cx="333360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9760" y="269712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06960" y="2684520"/>
              <a:ext cx="1819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23320" y="2681280"/>
              <a:ext cx="1384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SPON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57480" y="2927520"/>
              <a:ext cx="5545080" cy="18720"/>
            </a:xfrm>
            <a:custGeom>
              <a:avLst/>
              <a:gdLst/>
              <a:ahLst/>
              <a:rect l="l" t="t" r="r" b="b"/>
              <a:pathLst>
                <a:path w="10186" h="46">
                  <a:moveTo>
                    <a:pt x="23" y="0"/>
                  </a:moveTo>
                  <a:lnTo>
                    <a:pt x="23" y="0"/>
                  </a:lnTo>
                  <a:cubicBezTo>
                    <a:pt x="36" y="0"/>
                    <a:pt x="46" y="11"/>
                    <a:pt x="46" y="23"/>
                  </a:cubicBezTo>
                  <a:cubicBezTo>
                    <a:pt x="46" y="36"/>
                    <a:pt x="36" y="46"/>
                    <a:pt x="23" y="46"/>
                  </a:cubicBezTo>
                  <a:lnTo>
                    <a:pt x="23" y="46"/>
                  </a:ln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lose/>
                  <a:moveTo>
                    <a:pt x="254" y="0"/>
                  </a:moveTo>
                  <a:lnTo>
                    <a:pt x="254" y="0"/>
                  </a:lnTo>
                  <a:cubicBezTo>
                    <a:pt x="267" y="0"/>
                    <a:pt x="277" y="11"/>
                    <a:pt x="277" y="23"/>
                  </a:cubicBezTo>
                  <a:cubicBezTo>
                    <a:pt x="277" y="36"/>
                    <a:pt x="267" y="46"/>
                    <a:pt x="254" y="46"/>
                  </a:cubicBezTo>
                  <a:lnTo>
                    <a:pt x="254" y="46"/>
                  </a:lnTo>
                  <a:cubicBezTo>
                    <a:pt x="241" y="46"/>
                    <a:pt x="231" y="36"/>
                    <a:pt x="231" y="23"/>
                  </a:cubicBezTo>
                  <a:cubicBezTo>
                    <a:pt x="231" y="11"/>
                    <a:pt x="241" y="0"/>
                    <a:pt x="254" y="0"/>
                  </a:cubicBezTo>
                  <a:close/>
                  <a:moveTo>
                    <a:pt x="484" y="0"/>
                  </a:moveTo>
                  <a:lnTo>
                    <a:pt x="484" y="0"/>
                  </a:lnTo>
                  <a:cubicBezTo>
                    <a:pt x="497" y="0"/>
                    <a:pt x="507" y="11"/>
                    <a:pt x="507" y="23"/>
                  </a:cubicBezTo>
                  <a:cubicBezTo>
                    <a:pt x="507" y="36"/>
                    <a:pt x="497" y="46"/>
                    <a:pt x="484" y="46"/>
                  </a:cubicBezTo>
                  <a:lnTo>
                    <a:pt x="484" y="46"/>
                  </a:lnTo>
                  <a:cubicBezTo>
                    <a:pt x="472" y="46"/>
                    <a:pt x="461" y="36"/>
                    <a:pt x="461" y="23"/>
                  </a:cubicBezTo>
                  <a:cubicBezTo>
                    <a:pt x="461" y="11"/>
                    <a:pt x="472" y="0"/>
                    <a:pt x="484" y="0"/>
                  </a:cubicBezTo>
                  <a:close/>
                  <a:moveTo>
                    <a:pt x="715" y="0"/>
                  </a:moveTo>
                  <a:lnTo>
                    <a:pt x="715" y="0"/>
                  </a:lnTo>
                  <a:cubicBezTo>
                    <a:pt x="727" y="0"/>
                    <a:pt x="738" y="11"/>
                    <a:pt x="738" y="23"/>
                  </a:cubicBezTo>
                  <a:cubicBezTo>
                    <a:pt x="738" y="36"/>
                    <a:pt x="727" y="46"/>
                    <a:pt x="715" y="46"/>
                  </a:cubicBezTo>
                  <a:lnTo>
                    <a:pt x="715" y="46"/>
                  </a:lnTo>
                  <a:cubicBezTo>
                    <a:pt x="702" y="46"/>
                    <a:pt x="692" y="36"/>
                    <a:pt x="692" y="23"/>
                  </a:cubicBezTo>
                  <a:cubicBezTo>
                    <a:pt x="692" y="11"/>
                    <a:pt x="702" y="0"/>
                    <a:pt x="715" y="0"/>
                  </a:cubicBezTo>
                  <a:close/>
                  <a:moveTo>
                    <a:pt x="945" y="0"/>
                  </a:moveTo>
                  <a:lnTo>
                    <a:pt x="945" y="0"/>
                  </a:lnTo>
                  <a:cubicBezTo>
                    <a:pt x="958" y="0"/>
                    <a:pt x="968" y="11"/>
                    <a:pt x="968" y="23"/>
                  </a:cubicBezTo>
                  <a:cubicBezTo>
                    <a:pt x="968" y="36"/>
                    <a:pt x="958" y="46"/>
                    <a:pt x="945" y="46"/>
                  </a:cubicBezTo>
                  <a:lnTo>
                    <a:pt x="945" y="46"/>
                  </a:lnTo>
                  <a:cubicBezTo>
                    <a:pt x="932" y="46"/>
                    <a:pt x="922" y="36"/>
                    <a:pt x="922" y="23"/>
                  </a:cubicBezTo>
                  <a:cubicBezTo>
                    <a:pt x="922" y="11"/>
                    <a:pt x="932" y="0"/>
                    <a:pt x="945" y="0"/>
                  </a:cubicBezTo>
                  <a:close/>
                  <a:moveTo>
                    <a:pt x="1176" y="0"/>
                  </a:moveTo>
                  <a:lnTo>
                    <a:pt x="1176" y="0"/>
                  </a:lnTo>
                  <a:cubicBezTo>
                    <a:pt x="1188" y="0"/>
                    <a:pt x="1199" y="11"/>
                    <a:pt x="1199" y="23"/>
                  </a:cubicBezTo>
                  <a:cubicBezTo>
                    <a:pt x="1199" y="36"/>
                    <a:pt x="1188" y="46"/>
                    <a:pt x="1176" y="46"/>
                  </a:cubicBezTo>
                  <a:lnTo>
                    <a:pt x="1176" y="46"/>
                  </a:lnTo>
                  <a:cubicBezTo>
                    <a:pt x="1163" y="46"/>
                    <a:pt x="1153" y="36"/>
                    <a:pt x="1153" y="23"/>
                  </a:cubicBezTo>
                  <a:cubicBezTo>
                    <a:pt x="1153" y="11"/>
                    <a:pt x="1163" y="0"/>
                    <a:pt x="1176" y="0"/>
                  </a:cubicBezTo>
                  <a:close/>
                  <a:moveTo>
                    <a:pt x="1406" y="0"/>
                  </a:moveTo>
                  <a:lnTo>
                    <a:pt x="1406" y="0"/>
                  </a:lnTo>
                  <a:cubicBezTo>
                    <a:pt x="1419" y="0"/>
                    <a:pt x="1429" y="11"/>
                    <a:pt x="1429" y="23"/>
                  </a:cubicBezTo>
                  <a:cubicBezTo>
                    <a:pt x="1429" y="36"/>
                    <a:pt x="1419" y="46"/>
                    <a:pt x="1406" y="46"/>
                  </a:cubicBezTo>
                  <a:lnTo>
                    <a:pt x="1406" y="46"/>
                  </a:lnTo>
                  <a:cubicBezTo>
                    <a:pt x="1393" y="46"/>
                    <a:pt x="1383" y="36"/>
                    <a:pt x="1383" y="23"/>
                  </a:cubicBezTo>
                  <a:cubicBezTo>
                    <a:pt x="1383" y="11"/>
                    <a:pt x="1393" y="0"/>
                    <a:pt x="1406" y="0"/>
                  </a:cubicBezTo>
                  <a:close/>
                  <a:moveTo>
                    <a:pt x="1636" y="0"/>
                  </a:moveTo>
                  <a:lnTo>
                    <a:pt x="1637" y="0"/>
                  </a:lnTo>
                  <a:cubicBezTo>
                    <a:pt x="1649" y="0"/>
                    <a:pt x="1660" y="11"/>
                    <a:pt x="1660" y="23"/>
                  </a:cubicBezTo>
                  <a:cubicBezTo>
                    <a:pt x="1660" y="36"/>
                    <a:pt x="1649" y="46"/>
                    <a:pt x="1637" y="46"/>
                  </a:cubicBezTo>
                  <a:lnTo>
                    <a:pt x="1636" y="46"/>
                  </a:lnTo>
                  <a:cubicBezTo>
                    <a:pt x="1624" y="46"/>
                    <a:pt x="1613" y="36"/>
                    <a:pt x="1613" y="23"/>
                  </a:cubicBezTo>
                  <a:cubicBezTo>
                    <a:pt x="1613" y="11"/>
                    <a:pt x="1624" y="0"/>
                    <a:pt x="1636" y="0"/>
                  </a:cubicBezTo>
                  <a:close/>
                  <a:moveTo>
                    <a:pt x="1867" y="0"/>
                  </a:moveTo>
                  <a:lnTo>
                    <a:pt x="1867" y="0"/>
                  </a:lnTo>
                  <a:cubicBezTo>
                    <a:pt x="1880" y="0"/>
                    <a:pt x="1890" y="11"/>
                    <a:pt x="1890" y="23"/>
                  </a:cubicBezTo>
                  <a:cubicBezTo>
                    <a:pt x="1890" y="36"/>
                    <a:pt x="1880" y="46"/>
                    <a:pt x="1867" y="46"/>
                  </a:cubicBezTo>
                  <a:lnTo>
                    <a:pt x="1867" y="46"/>
                  </a:lnTo>
                  <a:cubicBezTo>
                    <a:pt x="1854" y="46"/>
                    <a:pt x="1844" y="36"/>
                    <a:pt x="1844" y="23"/>
                  </a:cubicBezTo>
                  <a:cubicBezTo>
                    <a:pt x="1844" y="11"/>
                    <a:pt x="1854" y="0"/>
                    <a:pt x="1867" y="0"/>
                  </a:cubicBezTo>
                  <a:close/>
                  <a:moveTo>
                    <a:pt x="2097" y="0"/>
                  </a:moveTo>
                  <a:lnTo>
                    <a:pt x="2097" y="0"/>
                  </a:lnTo>
                  <a:cubicBezTo>
                    <a:pt x="2110" y="0"/>
                    <a:pt x="2120" y="11"/>
                    <a:pt x="2120" y="23"/>
                  </a:cubicBezTo>
                  <a:cubicBezTo>
                    <a:pt x="2120" y="36"/>
                    <a:pt x="2110" y="46"/>
                    <a:pt x="2097" y="46"/>
                  </a:cubicBezTo>
                  <a:lnTo>
                    <a:pt x="2097" y="46"/>
                  </a:lnTo>
                  <a:cubicBezTo>
                    <a:pt x="2085" y="46"/>
                    <a:pt x="2074" y="36"/>
                    <a:pt x="2074" y="23"/>
                  </a:cubicBezTo>
                  <a:cubicBezTo>
                    <a:pt x="2074" y="11"/>
                    <a:pt x="2085" y="0"/>
                    <a:pt x="2097" y="0"/>
                  </a:cubicBezTo>
                  <a:close/>
                  <a:moveTo>
                    <a:pt x="2328" y="0"/>
                  </a:moveTo>
                  <a:lnTo>
                    <a:pt x="2328" y="0"/>
                  </a:lnTo>
                  <a:cubicBezTo>
                    <a:pt x="2341" y="0"/>
                    <a:pt x="2351" y="11"/>
                    <a:pt x="2351" y="23"/>
                  </a:cubicBezTo>
                  <a:cubicBezTo>
                    <a:pt x="2351" y="36"/>
                    <a:pt x="2341" y="46"/>
                    <a:pt x="2328" y="46"/>
                  </a:cubicBezTo>
                  <a:lnTo>
                    <a:pt x="2328" y="46"/>
                  </a:lnTo>
                  <a:cubicBezTo>
                    <a:pt x="2315" y="46"/>
                    <a:pt x="2305" y="36"/>
                    <a:pt x="2305" y="23"/>
                  </a:cubicBezTo>
                  <a:cubicBezTo>
                    <a:pt x="2305" y="11"/>
                    <a:pt x="2315" y="0"/>
                    <a:pt x="2328" y="0"/>
                  </a:cubicBezTo>
                  <a:close/>
                  <a:moveTo>
                    <a:pt x="2558" y="0"/>
                  </a:moveTo>
                  <a:lnTo>
                    <a:pt x="2558" y="0"/>
                  </a:lnTo>
                  <a:cubicBezTo>
                    <a:pt x="2571" y="0"/>
                    <a:pt x="2581" y="11"/>
                    <a:pt x="2581" y="23"/>
                  </a:cubicBezTo>
                  <a:cubicBezTo>
                    <a:pt x="2581" y="36"/>
                    <a:pt x="2571" y="46"/>
                    <a:pt x="2558" y="46"/>
                  </a:cubicBezTo>
                  <a:lnTo>
                    <a:pt x="2558" y="46"/>
                  </a:lnTo>
                  <a:cubicBezTo>
                    <a:pt x="2546" y="46"/>
                    <a:pt x="2535" y="36"/>
                    <a:pt x="2535" y="23"/>
                  </a:cubicBezTo>
                  <a:cubicBezTo>
                    <a:pt x="2535" y="11"/>
                    <a:pt x="2546" y="0"/>
                    <a:pt x="2558" y="0"/>
                  </a:cubicBezTo>
                  <a:close/>
                  <a:moveTo>
                    <a:pt x="2789" y="0"/>
                  </a:moveTo>
                  <a:lnTo>
                    <a:pt x="2789" y="0"/>
                  </a:lnTo>
                  <a:cubicBezTo>
                    <a:pt x="2801" y="0"/>
                    <a:pt x="2812" y="11"/>
                    <a:pt x="2812" y="23"/>
                  </a:cubicBezTo>
                  <a:cubicBezTo>
                    <a:pt x="2812" y="36"/>
                    <a:pt x="2801" y="46"/>
                    <a:pt x="2789" y="46"/>
                  </a:cubicBezTo>
                  <a:lnTo>
                    <a:pt x="2789" y="46"/>
                  </a:lnTo>
                  <a:cubicBezTo>
                    <a:pt x="2776" y="46"/>
                    <a:pt x="2766" y="36"/>
                    <a:pt x="2766" y="23"/>
                  </a:cubicBezTo>
                  <a:cubicBezTo>
                    <a:pt x="2766" y="11"/>
                    <a:pt x="2776" y="0"/>
                    <a:pt x="2789" y="0"/>
                  </a:cubicBezTo>
                  <a:close/>
                  <a:moveTo>
                    <a:pt x="3019" y="0"/>
                  </a:moveTo>
                  <a:lnTo>
                    <a:pt x="3019" y="0"/>
                  </a:lnTo>
                  <a:cubicBezTo>
                    <a:pt x="3032" y="0"/>
                    <a:pt x="3042" y="11"/>
                    <a:pt x="3042" y="23"/>
                  </a:cubicBezTo>
                  <a:cubicBezTo>
                    <a:pt x="3042" y="36"/>
                    <a:pt x="3032" y="46"/>
                    <a:pt x="3019" y="46"/>
                  </a:cubicBezTo>
                  <a:lnTo>
                    <a:pt x="3019" y="46"/>
                  </a:lnTo>
                  <a:cubicBezTo>
                    <a:pt x="3006" y="46"/>
                    <a:pt x="2996" y="36"/>
                    <a:pt x="2996" y="23"/>
                  </a:cubicBezTo>
                  <a:cubicBezTo>
                    <a:pt x="2996" y="11"/>
                    <a:pt x="3006" y="0"/>
                    <a:pt x="3019" y="0"/>
                  </a:cubicBezTo>
                  <a:close/>
                  <a:moveTo>
                    <a:pt x="3250" y="0"/>
                  </a:moveTo>
                  <a:lnTo>
                    <a:pt x="3250" y="0"/>
                  </a:lnTo>
                  <a:cubicBezTo>
                    <a:pt x="3262" y="0"/>
                    <a:pt x="3273" y="11"/>
                    <a:pt x="3273" y="23"/>
                  </a:cubicBezTo>
                  <a:cubicBezTo>
                    <a:pt x="3273" y="36"/>
                    <a:pt x="3262" y="46"/>
                    <a:pt x="3250" y="46"/>
                  </a:cubicBezTo>
                  <a:lnTo>
                    <a:pt x="3250" y="46"/>
                  </a:lnTo>
                  <a:cubicBezTo>
                    <a:pt x="3237" y="46"/>
                    <a:pt x="3227" y="36"/>
                    <a:pt x="3227" y="23"/>
                  </a:cubicBezTo>
                  <a:cubicBezTo>
                    <a:pt x="3227" y="11"/>
                    <a:pt x="3237" y="0"/>
                    <a:pt x="3250" y="0"/>
                  </a:cubicBezTo>
                  <a:close/>
                  <a:moveTo>
                    <a:pt x="3480" y="0"/>
                  </a:moveTo>
                  <a:lnTo>
                    <a:pt x="3480" y="0"/>
                  </a:lnTo>
                  <a:cubicBezTo>
                    <a:pt x="3493" y="0"/>
                    <a:pt x="3503" y="11"/>
                    <a:pt x="3503" y="23"/>
                  </a:cubicBezTo>
                  <a:cubicBezTo>
                    <a:pt x="3503" y="36"/>
                    <a:pt x="3493" y="46"/>
                    <a:pt x="3480" y="46"/>
                  </a:cubicBezTo>
                  <a:lnTo>
                    <a:pt x="3480" y="46"/>
                  </a:lnTo>
                  <a:cubicBezTo>
                    <a:pt x="3467" y="46"/>
                    <a:pt x="3457" y="36"/>
                    <a:pt x="3457" y="23"/>
                  </a:cubicBezTo>
                  <a:cubicBezTo>
                    <a:pt x="3457" y="11"/>
                    <a:pt x="3467" y="0"/>
                    <a:pt x="3480" y="0"/>
                  </a:cubicBezTo>
                  <a:close/>
                  <a:moveTo>
                    <a:pt x="3710" y="0"/>
                  </a:moveTo>
                  <a:lnTo>
                    <a:pt x="3711" y="0"/>
                  </a:lnTo>
                  <a:cubicBezTo>
                    <a:pt x="3723" y="0"/>
                    <a:pt x="3734" y="11"/>
                    <a:pt x="3734" y="23"/>
                  </a:cubicBezTo>
                  <a:cubicBezTo>
                    <a:pt x="3734" y="36"/>
                    <a:pt x="3723" y="46"/>
                    <a:pt x="3711" y="46"/>
                  </a:cubicBezTo>
                  <a:lnTo>
                    <a:pt x="3710" y="46"/>
                  </a:lnTo>
                  <a:cubicBezTo>
                    <a:pt x="3698" y="46"/>
                    <a:pt x="3687" y="36"/>
                    <a:pt x="3687" y="23"/>
                  </a:cubicBezTo>
                  <a:cubicBezTo>
                    <a:pt x="3687" y="11"/>
                    <a:pt x="3698" y="0"/>
                    <a:pt x="3710" y="0"/>
                  </a:cubicBezTo>
                  <a:close/>
                  <a:moveTo>
                    <a:pt x="3941" y="0"/>
                  </a:moveTo>
                  <a:lnTo>
                    <a:pt x="3941" y="0"/>
                  </a:lnTo>
                  <a:cubicBezTo>
                    <a:pt x="3954" y="0"/>
                    <a:pt x="3964" y="11"/>
                    <a:pt x="3964" y="23"/>
                  </a:cubicBezTo>
                  <a:cubicBezTo>
                    <a:pt x="3964" y="36"/>
                    <a:pt x="3954" y="46"/>
                    <a:pt x="3941" y="46"/>
                  </a:cubicBezTo>
                  <a:lnTo>
                    <a:pt x="3941" y="46"/>
                  </a:lnTo>
                  <a:cubicBezTo>
                    <a:pt x="3928" y="46"/>
                    <a:pt x="3918" y="36"/>
                    <a:pt x="3918" y="23"/>
                  </a:cubicBezTo>
                  <a:cubicBezTo>
                    <a:pt x="3918" y="11"/>
                    <a:pt x="3928" y="0"/>
                    <a:pt x="3941" y="0"/>
                  </a:cubicBezTo>
                  <a:close/>
                  <a:moveTo>
                    <a:pt x="4171" y="0"/>
                  </a:moveTo>
                  <a:lnTo>
                    <a:pt x="4171" y="0"/>
                  </a:lnTo>
                  <a:cubicBezTo>
                    <a:pt x="4184" y="0"/>
                    <a:pt x="4194" y="11"/>
                    <a:pt x="4194" y="23"/>
                  </a:cubicBezTo>
                  <a:cubicBezTo>
                    <a:pt x="4194" y="36"/>
                    <a:pt x="4184" y="46"/>
                    <a:pt x="4171" y="46"/>
                  </a:cubicBezTo>
                  <a:lnTo>
                    <a:pt x="4171" y="46"/>
                  </a:lnTo>
                  <a:cubicBezTo>
                    <a:pt x="4159" y="46"/>
                    <a:pt x="4148" y="36"/>
                    <a:pt x="4148" y="23"/>
                  </a:cubicBezTo>
                  <a:cubicBezTo>
                    <a:pt x="4148" y="11"/>
                    <a:pt x="4159" y="0"/>
                    <a:pt x="4171" y="0"/>
                  </a:cubicBezTo>
                  <a:close/>
                  <a:moveTo>
                    <a:pt x="4402" y="0"/>
                  </a:moveTo>
                  <a:lnTo>
                    <a:pt x="4402" y="0"/>
                  </a:lnTo>
                  <a:cubicBezTo>
                    <a:pt x="4415" y="0"/>
                    <a:pt x="4425" y="11"/>
                    <a:pt x="4425" y="23"/>
                  </a:cubicBezTo>
                  <a:cubicBezTo>
                    <a:pt x="4425" y="36"/>
                    <a:pt x="4415" y="46"/>
                    <a:pt x="4402" y="46"/>
                  </a:cubicBezTo>
                  <a:lnTo>
                    <a:pt x="4402" y="46"/>
                  </a:lnTo>
                  <a:cubicBezTo>
                    <a:pt x="4389" y="46"/>
                    <a:pt x="4379" y="36"/>
                    <a:pt x="4379" y="23"/>
                  </a:cubicBezTo>
                  <a:cubicBezTo>
                    <a:pt x="4379" y="11"/>
                    <a:pt x="4389" y="0"/>
                    <a:pt x="4402" y="0"/>
                  </a:cubicBezTo>
                  <a:close/>
                  <a:moveTo>
                    <a:pt x="4632" y="0"/>
                  </a:moveTo>
                  <a:lnTo>
                    <a:pt x="4632" y="0"/>
                  </a:lnTo>
                  <a:cubicBezTo>
                    <a:pt x="4645" y="0"/>
                    <a:pt x="4655" y="11"/>
                    <a:pt x="4655" y="23"/>
                  </a:cubicBezTo>
                  <a:cubicBezTo>
                    <a:pt x="4655" y="36"/>
                    <a:pt x="4645" y="46"/>
                    <a:pt x="4632" y="46"/>
                  </a:cubicBezTo>
                  <a:lnTo>
                    <a:pt x="4632" y="46"/>
                  </a:lnTo>
                  <a:cubicBezTo>
                    <a:pt x="4620" y="46"/>
                    <a:pt x="4609" y="36"/>
                    <a:pt x="4609" y="23"/>
                  </a:cubicBezTo>
                  <a:cubicBezTo>
                    <a:pt x="4609" y="11"/>
                    <a:pt x="4620" y="0"/>
                    <a:pt x="4632" y="0"/>
                  </a:cubicBezTo>
                  <a:close/>
                  <a:moveTo>
                    <a:pt x="4863" y="0"/>
                  </a:moveTo>
                  <a:lnTo>
                    <a:pt x="4863" y="0"/>
                  </a:lnTo>
                  <a:cubicBezTo>
                    <a:pt x="4875" y="0"/>
                    <a:pt x="4886" y="11"/>
                    <a:pt x="4886" y="23"/>
                  </a:cubicBezTo>
                  <a:cubicBezTo>
                    <a:pt x="4886" y="36"/>
                    <a:pt x="4875" y="46"/>
                    <a:pt x="4863" y="46"/>
                  </a:cubicBezTo>
                  <a:lnTo>
                    <a:pt x="4863" y="46"/>
                  </a:lnTo>
                  <a:cubicBezTo>
                    <a:pt x="4850" y="46"/>
                    <a:pt x="4840" y="36"/>
                    <a:pt x="4840" y="23"/>
                  </a:cubicBezTo>
                  <a:cubicBezTo>
                    <a:pt x="4840" y="11"/>
                    <a:pt x="4850" y="0"/>
                    <a:pt x="4863" y="0"/>
                  </a:cubicBezTo>
                  <a:close/>
                  <a:moveTo>
                    <a:pt x="5093" y="0"/>
                  </a:moveTo>
                  <a:lnTo>
                    <a:pt x="5093" y="0"/>
                  </a:lnTo>
                  <a:cubicBezTo>
                    <a:pt x="5106" y="0"/>
                    <a:pt x="5116" y="11"/>
                    <a:pt x="5116" y="23"/>
                  </a:cubicBezTo>
                  <a:cubicBezTo>
                    <a:pt x="5116" y="36"/>
                    <a:pt x="5106" y="46"/>
                    <a:pt x="5093" y="46"/>
                  </a:cubicBezTo>
                  <a:lnTo>
                    <a:pt x="5093" y="46"/>
                  </a:lnTo>
                  <a:cubicBezTo>
                    <a:pt x="5080" y="46"/>
                    <a:pt x="5070" y="36"/>
                    <a:pt x="5070" y="23"/>
                  </a:cubicBezTo>
                  <a:cubicBezTo>
                    <a:pt x="5070" y="11"/>
                    <a:pt x="5080" y="0"/>
                    <a:pt x="5093" y="0"/>
                  </a:cubicBezTo>
                  <a:close/>
                  <a:moveTo>
                    <a:pt x="5324" y="0"/>
                  </a:moveTo>
                  <a:lnTo>
                    <a:pt x="5324" y="0"/>
                  </a:lnTo>
                  <a:cubicBezTo>
                    <a:pt x="5336" y="0"/>
                    <a:pt x="5347" y="11"/>
                    <a:pt x="5347" y="23"/>
                  </a:cubicBezTo>
                  <a:cubicBezTo>
                    <a:pt x="5347" y="36"/>
                    <a:pt x="5336" y="46"/>
                    <a:pt x="5324" y="46"/>
                  </a:cubicBezTo>
                  <a:lnTo>
                    <a:pt x="5324" y="46"/>
                  </a:lnTo>
                  <a:cubicBezTo>
                    <a:pt x="5311" y="46"/>
                    <a:pt x="5301" y="36"/>
                    <a:pt x="5301" y="23"/>
                  </a:cubicBezTo>
                  <a:cubicBezTo>
                    <a:pt x="5301" y="11"/>
                    <a:pt x="5311" y="0"/>
                    <a:pt x="5324" y="0"/>
                  </a:cubicBezTo>
                  <a:close/>
                  <a:moveTo>
                    <a:pt x="5554" y="0"/>
                  </a:moveTo>
                  <a:lnTo>
                    <a:pt x="5554" y="0"/>
                  </a:lnTo>
                  <a:cubicBezTo>
                    <a:pt x="5567" y="0"/>
                    <a:pt x="5577" y="11"/>
                    <a:pt x="5577" y="23"/>
                  </a:cubicBezTo>
                  <a:cubicBezTo>
                    <a:pt x="5577" y="36"/>
                    <a:pt x="5567" y="46"/>
                    <a:pt x="5554" y="46"/>
                  </a:cubicBezTo>
                  <a:lnTo>
                    <a:pt x="5554" y="46"/>
                  </a:lnTo>
                  <a:cubicBezTo>
                    <a:pt x="5541" y="46"/>
                    <a:pt x="5531" y="36"/>
                    <a:pt x="5531" y="23"/>
                  </a:cubicBezTo>
                  <a:cubicBezTo>
                    <a:pt x="5531" y="11"/>
                    <a:pt x="5541" y="0"/>
                    <a:pt x="5554" y="0"/>
                  </a:cubicBezTo>
                  <a:close/>
                  <a:moveTo>
                    <a:pt x="5784" y="0"/>
                  </a:moveTo>
                  <a:lnTo>
                    <a:pt x="5785" y="0"/>
                  </a:lnTo>
                  <a:cubicBezTo>
                    <a:pt x="5797" y="0"/>
                    <a:pt x="5808" y="11"/>
                    <a:pt x="5808" y="23"/>
                  </a:cubicBezTo>
                  <a:cubicBezTo>
                    <a:pt x="5808" y="36"/>
                    <a:pt x="5797" y="46"/>
                    <a:pt x="5785" y="46"/>
                  </a:cubicBezTo>
                  <a:lnTo>
                    <a:pt x="5784" y="46"/>
                  </a:lnTo>
                  <a:cubicBezTo>
                    <a:pt x="5772" y="46"/>
                    <a:pt x="5761" y="36"/>
                    <a:pt x="5761" y="23"/>
                  </a:cubicBezTo>
                  <a:cubicBezTo>
                    <a:pt x="5761" y="11"/>
                    <a:pt x="5772" y="0"/>
                    <a:pt x="5784" y="0"/>
                  </a:cubicBezTo>
                  <a:close/>
                  <a:moveTo>
                    <a:pt x="6015" y="0"/>
                  </a:moveTo>
                  <a:lnTo>
                    <a:pt x="6015" y="0"/>
                  </a:lnTo>
                  <a:cubicBezTo>
                    <a:pt x="6028" y="0"/>
                    <a:pt x="6038" y="11"/>
                    <a:pt x="6038" y="23"/>
                  </a:cubicBezTo>
                  <a:cubicBezTo>
                    <a:pt x="6038" y="36"/>
                    <a:pt x="6028" y="46"/>
                    <a:pt x="6015" y="46"/>
                  </a:cubicBezTo>
                  <a:lnTo>
                    <a:pt x="6015" y="46"/>
                  </a:lnTo>
                  <a:cubicBezTo>
                    <a:pt x="6002" y="46"/>
                    <a:pt x="5992" y="36"/>
                    <a:pt x="5992" y="23"/>
                  </a:cubicBezTo>
                  <a:cubicBezTo>
                    <a:pt x="5992" y="11"/>
                    <a:pt x="6002" y="0"/>
                    <a:pt x="6015" y="0"/>
                  </a:cubicBezTo>
                  <a:close/>
                  <a:moveTo>
                    <a:pt x="6245" y="0"/>
                  </a:moveTo>
                  <a:lnTo>
                    <a:pt x="6245" y="0"/>
                  </a:lnTo>
                  <a:cubicBezTo>
                    <a:pt x="6258" y="0"/>
                    <a:pt x="6268" y="11"/>
                    <a:pt x="6268" y="23"/>
                  </a:cubicBezTo>
                  <a:cubicBezTo>
                    <a:pt x="6268" y="36"/>
                    <a:pt x="6258" y="46"/>
                    <a:pt x="6245" y="46"/>
                  </a:cubicBezTo>
                  <a:lnTo>
                    <a:pt x="6245" y="46"/>
                  </a:lnTo>
                  <a:cubicBezTo>
                    <a:pt x="6233" y="46"/>
                    <a:pt x="6222" y="36"/>
                    <a:pt x="6222" y="23"/>
                  </a:cubicBezTo>
                  <a:cubicBezTo>
                    <a:pt x="6222" y="11"/>
                    <a:pt x="6233" y="0"/>
                    <a:pt x="6245" y="0"/>
                  </a:cubicBezTo>
                  <a:close/>
                  <a:moveTo>
                    <a:pt x="6476" y="0"/>
                  </a:moveTo>
                  <a:lnTo>
                    <a:pt x="6476" y="0"/>
                  </a:lnTo>
                  <a:cubicBezTo>
                    <a:pt x="6489" y="0"/>
                    <a:pt x="6499" y="11"/>
                    <a:pt x="6499" y="23"/>
                  </a:cubicBezTo>
                  <a:cubicBezTo>
                    <a:pt x="6499" y="36"/>
                    <a:pt x="6489" y="46"/>
                    <a:pt x="6476" y="46"/>
                  </a:cubicBezTo>
                  <a:lnTo>
                    <a:pt x="6476" y="46"/>
                  </a:lnTo>
                  <a:cubicBezTo>
                    <a:pt x="6463" y="46"/>
                    <a:pt x="6453" y="36"/>
                    <a:pt x="6453" y="23"/>
                  </a:cubicBezTo>
                  <a:cubicBezTo>
                    <a:pt x="6453" y="11"/>
                    <a:pt x="6463" y="0"/>
                    <a:pt x="6476" y="0"/>
                  </a:cubicBezTo>
                  <a:close/>
                  <a:moveTo>
                    <a:pt x="6706" y="0"/>
                  </a:moveTo>
                  <a:lnTo>
                    <a:pt x="6706" y="0"/>
                  </a:lnTo>
                  <a:cubicBezTo>
                    <a:pt x="6719" y="0"/>
                    <a:pt x="6729" y="11"/>
                    <a:pt x="6729" y="23"/>
                  </a:cubicBezTo>
                  <a:cubicBezTo>
                    <a:pt x="6729" y="36"/>
                    <a:pt x="6719" y="46"/>
                    <a:pt x="6706" y="46"/>
                  </a:cubicBezTo>
                  <a:lnTo>
                    <a:pt x="6706" y="46"/>
                  </a:lnTo>
                  <a:cubicBezTo>
                    <a:pt x="6694" y="46"/>
                    <a:pt x="6683" y="36"/>
                    <a:pt x="6683" y="23"/>
                  </a:cubicBezTo>
                  <a:cubicBezTo>
                    <a:pt x="6683" y="11"/>
                    <a:pt x="6694" y="0"/>
                    <a:pt x="6706" y="0"/>
                  </a:cubicBezTo>
                  <a:close/>
                  <a:moveTo>
                    <a:pt x="6937" y="0"/>
                  </a:moveTo>
                  <a:lnTo>
                    <a:pt x="6937" y="0"/>
                  </a:lnTo>
                  <a:cubicBezTo>
                    <a:pt x="6950" y="0"/>
                    <a:pt x="6960" y="11"/>
                    <a:pt x="6960" y="23"/>
                  </a:cubicBezTo>
                  <a:cubicBezTo>
                    <a:pt x="6960" y="36"/>
                    <a:pt x="6950" y="46"/>
                    <a:pt x="6937" y="46"/>
                  </a:cubicBezTo>
                  <a:lnTo>
                    <a:pt x="6937" y="46"/>
                  </a:lnTo>
                  <a:cubicBezTo>
                    <a:pt x="6924" y="46"/>
                    <a:pt x="6914" y="36"/>
                    <a:pt x="6914" y="23"/>
                  </a:cubicBezTo>
                  <a:cubicBezTo>
                    <a:pt x="6914" y="11"/>
                    <a:pt x="6924" y="0"/>
                    <a:pt x="6937" y="0"/>
                  </a:cubicBezTo>
                  <a:close/>
                  <a:moveTo>
                    <a:pt x="7167" y="0"/>
                  </a:moveTo>
                  <a:lnTo>
                    <a:pt x="7167" y="0"/>
                  </a:lnTo>
                  <a:cubicBezTo>
                    <a:pt x="7180" y="0"/>
                    <a:pt x="7190" y="11"/>
                    <a:pt x="7190" y="23"/>
                  </a:cubicBezTo>
                  <a:cubicBezTo>
                    <a:pt x="7190" y="36"/>
                    <a:pt x="7180" y="46"/>
                    <a:pt x="7167" y="46"/>
                  </a:cubicBezTo>
                  <a:lnTo>
                    <a:pt x="7167" y="46"/>
                  </a:lnTo>
                  <a:cubicBezTo>
                    <a:pt x="7154" y="46"/>
                    <a:pt x="7144" y="36"/>
                    <a:pt x="7144" y="23"/>
                  </a:cubicBezTo>
                  <a:cubicBezTo>
                    <a:pt x="7144" y="11"/>
                    <a:pt x="7154" y="0"/>
                    <a:pt x="7167" y="0"/>
                  </a:cubicBezTo>
                  <a:close/>
                  <a:moveTo>
                    <a:pt x="7398" y="0"/>
                  </a:moveTo>
                  <a:lnTo>
                    <a:pt x="7398" y="0"/>
                  </a:lnTo>
                  <a:cubicBezTo>
                    <a:pt x="7410" y="0"/>
                    <a:pt x="7421" y="11"/>
                    <a:pt x="7421" y="23"/>
                  </a:cubicBezTo>
                  <a:cubicBezTo>
                    <a:pt x="7421" y="36"/>
                    <a:pt x="7410" y="46"/>
                    <a:pt x="7398" y="46"/>
                  </a:cubicBezTo>
                  <a:lnTo>
                    <a:pt x="7398" y="46"/>
                  </a:lnTo>
                  <a:cubicBezTo>
                    <a:pt x="7385" y="46"/>
                    <a:pt x="7375" y="36"/>
                    <a:pt x="7375" y="23"/>
                  </a:cubicBezTo>
                  <a:cubicBezTo>
                    <a:pt x="7375" y="11"/>
                    <a:pt x="7385" y="0"/>
                    <a:pt x="7398" y="0"/>
                  </a:cubicBezTo>
                  <a:close/>
                  <a:moveTo>
                    <a:pt x="7628" y="0"/>
                  </a:moveTo>
                  <a:lnTo>
                    <a:pt x="7628" y="0"/>
                  </a:lnTo>
                  <a:cubicBezTo>
                    <a:pt x="7641" y="0"/>
                    <a:pt x="7651" y="11"/>
                    <a:pt x="7651" y="23"/>
                  </a:cubicBezTo>
                  <a:cubicBezTo>
                    <a:pt x="7651" y="36"/>
                    <a:pt x="7641" y="46"/>
                    <a:pt x="7628" y="46"/>
                  </a:cubicBezTo>
                  <a:lnTo>
                    <a:pt x="7628" y="46"/>
                  </a:lnTo>
                  <a:cubicBezTo>
                    <a:pt x="7615" y="46"/>
                    <a:pt x="7605" y="36"/>
                    <a:pt x="7605" y="23"/>
                  </a:cubicBezTo>
                  <a:cubicBezTo>
                    <a:pt x="7605" y="11"/>
                    <a:pt x="7615" y="0"/>
                    <a:pt x="7628" y="0"/>
                  </a:cubicBezTo>
                  <a:close/>
                  <a:moveTo>
                    <a:pt x="7859" y="0"/>
                  </a:moveTo>
                  <a:lnTo>
                    <a:pt x="7859" y="0"/>
                  </a:lnTo>
                  <a:cubicBezTo>
                    <a:pt x="7871" y="0"/>
                    <a:pt x="7882" y="11"/>
                    <a:pt x="7882" y="23"/>
                  </a:cubicBezTo>
                  <a:cubicBezTo>
                    <a:pt x="7882" y="36"/>
                    <a:pt x="7871" y="46"/>
                    <a:pt x="7859" y="46"/>
                  </a:cubicBezTo>
                  <a:lnTo>
                    <a:pt x="7859" y="46"/>
                  </a:lnTo>
                  <a:cubicBezTo>
                    <a:pt x="7846" y="46"/>
                    <a:pt x="7835" y="36"/>
                    <a:pt x="7835" y="23"/>
                  </a:cubicBezTo>
                  <a:cubicBezTo>
                    <a:pt x="7835" y="11"/>
                    <a:pt x="7846" y="0"/>
                    <a:pt x="7859" y="0"/>
                  </a:cubicBezTo>
                  <a:close/>
                  <a:moveTo>
                    <a:pt x="8089" y="0"/>
                  </a:moveTo>
                  <a:lnTo>
                    <a:pt x="8089" y="0"/>
                  </a:lnTo>
                  <a:cubicBezTo>
                    <a:pt x="8102" y="0"/>
                    <a:pt x="8112" y="11"/>
                    <a:pt x="8112" y="23"/>
                  </a:cubicBezTo>
                  <a:cubicBezTo>
                    <a:pt x="8112" y="36"/>
                    <a:pt x="8102" y="46"/>
                    <a:pt x="8089" y="46"/>
                  </a:cubicBezTo>
                  <a:lnTo>
                    <a:pt x="8089" y="46"/>
                  </a:lnTo>
                  <a:cubicBezTo>
                    <a:pt x="8076" y="46"/>
                    <a:pt x="8066" y="36"/>
                    <a:pt x="8066" y="23"/>
                  </a:cubicBezTo>
                  <a:cubicBezTo>
                    <a:pt x="8066" y="11"/>
                    <a:pt x="8076" y="0"/>
                    <a:pt x="8089" y="0"/>
                  </a:cubicBezTo>
                  <a:close/>
                  <a:moveTo>
                    <a:pt x="8319" y="0"/>
                  </a:moveTo>
                  <a:lnTo>
                    <a:pt x="8319" y="0"/>
                  </a:lnTo>
                  <a:cubicBezTo>
                    <a:pt x="8332" y="0"/>
                    <a:pt x="8342" y="11"/>
                    <a:pt x="8342" y="23"/>
                  </a:cubicBezTo>
                  <a:cubicBezTo>
                    <a:pt x="8342" y="36"/>
                    <a:pt x="8332" y="46"/>
                    <a:pt x="8319" y="46"/>
                  </a:cubicBezTo>
                  <a:lnTo>
                    <a:pt x="8319" y="46"/>
                  </a:lnTo>
                  <a:cubicBezTo>
                    <a:pt x="8307" y="46"/>
                    <a:pt x="8296" y="36"/>
                    <a:pt x="8296" y="23"/>
                  </a:cubicBezTo>
                  <a:cubicBezTo>
                    <a:pt x="8296" y="11"/>
                    <a:pt x="8307" y="0"/>
                    <a:pt x="8319" y="0"/>
                  </a:cubicBezTo>
                  <a:close/>
                  <a:moveTo>
                    <a:pt x="8550" y="0"/>
                  </a:moveTo>
                  <a:lnTo>
                    <a:pt x="8550" y="0"/>
                  </a:lnTo>
                  <a:cubicBezTo>
                    <a:pt x="8563" y="0"/>
                    <a:pt x="8573" y="11"/>
                    <a:pt x="8573" y="23"/>
                  </a:cubicBezTo>
                  <a:cubicBezTo>
                    <a:pt x="8573" y="36"/>
                    <a:pt x="8563" y="46"/>
                    <a:pt x="8550" y="46"/>
                  </a:cubicBezTo>
                  <a:lnTo>
                    <a:pt x="8550" y="46"/>
                  </a:lnTo>
                  <a:cubicBezTo>
                    <a:pt x="8537" y="46"/>
                    <a:pt x="8527" y="36"/>
                    <a:pt x="8527" y="23"/>
                  </a:cubicBezTo>
                  <a:cubicBezTo>
                    <a:pt x="8527" y="11"/>
                    <a:pt x="8537" y="0"/>
                    <a:pt x="8550" y="0"/>
                  </a:cubicBezTo>
                  <a:close/>
                  <a:moveTo>
                    <a:pt x="8780" y="0"/>
                  </a:moveTo>
                  <a:lnTo>
                    <a:pt x="8780" y="0"/>
                  </a:lnTo>
                  <a:cubicBezTo>
                    <a:pt x="8793" y="0"/>
                    <a:pt x="8803" y="11"/>
                    <a:pt x="8803" y="23"/>
                  </a:cubicBezTo>
                  <a:cubicBezTo>
                    <a:pt x="8803" y="36"/>
                    <a:pt x="8793" y="46"/>
                    <a:pt x="8780" y="46"/>
                  </a:cubicBezTo>
                  <a:lnTo>
                    <a:pt x="8780" y="46"/>
                  </a:lnTo>
                  <a:cubicBezTo>
                    <a:pt x="8768" y="46"/>
                    <a:pt x="8757" y="36"/>
                    <a:pt x="8757" y="23"/>
                  </a:cubicBezTo>
                  <a:cubicBezTo>
                    <a:pt x="8757" y="11"/>
                    <a:pt x="8768" y="0"/>
                    <a:pt x="8780" y="0"/>
                  </a:cubicBezTo>
                  <a:close/>
                  <a:moveTo>
                    <a:pt x="9011" y="0"/>
                  </a:moveTo>
                  <a:lnTo>
                    <a:pt x="9011" y="0"/>
                  </a:lnTo>
                  <a:cubicBezTo>
                    <a:pt x="9024" y="0"/>
                    <a:pt x="9034" y="11"/>
                    <a:pt x="9034" y="23"/>
                  </a:cubicBezTo>
                  <a:cubicBezTo>
                    <a:pt x="9034" y="36"/>
                    <a:pt x="9024" y="46"/>
                    <a:pt x="9011" y="46"/>
                  </a:cubicBezTo>
                  <a:lnTo>
                    <a:pt x="9011" y="46"/>
                  </a:lnTo>
                  <a:cubicBezTo>
                    <a:pt x="8998" y="46"/>
                    <a:pt x="8988" y="36"/>
                    <a:pt x="8988" y="23"/>
                  </a:cubicBezTo>
                  <a:cubicBezTo>
                    <a:pt x="8988" y="11"/>
                    <a:pt x="8998" y="0"/>
                    <a:pt x="9011" y="0"/>
                  </a:cubicBezTo>
                  <a:close/>
                  <a:moveTo>
                    <a:pt x="9241" y="0"/>
                  </a:moveTo>
                  <a:lnTo>
                    <a:pt x="9241" y="0"/>
                  </a:lnTo>
                  <a:cubicBezTo>
                    <a:pt x="9254" y="0"/>
                    <a:pt x="9264" y="11"/>
                    <a:pt x="9264" y="23"/>
                  </a:cubicBezTo>
                  <a:cubicBezTo>
                    <a:pt x="9264" y="36"/>
                    <a:pt x="9254" y="46"/>
                    <a:pt x="9241" y="46"/>
                  </a:cubicBezTo>
                  <a:lnTo>
                    <a:pt x="9241" y="46"/>
                  </a:lnTo>
                  <a:cubicBezTo>
                    <a:pt x="9228" y="46"/>
                    <a:pt x="9218" y="36"/>
                    <a:pt x="9218" y="23"/>
                  </a:cubicBezTo>
                  <a:cubicBezTo>
                    <a:pt x="9218" y="11"/>
                    <a:pt x="9228" y="0"/>
                    <a:pt x="9241" y="0"/>
                  </a:cubicBezTo>
                  <a:close/>
                  <a:moveTo>
                    <a:pt x="9472" y="0"/>
                  </a:moveTo>
                  <a:lnTo>
                    <a:pt x="9472" y="0"/>
                  </a:lnTo>
                  <a:cubicBezTo>
                    <a:pt x="9484" y="0"/>
                    <a:pt x="9495" y="11"/>
                    <a:pt x="9495" y="23"/>
                  </a:cubicBezTo>
                  <a:cubicBezTo>
                    <a:pt x="9495" y="36"/>
                    <a:pt x="9484" y="46"/>
                    <a:pt x="9472" y="46"/>
                  </a:cubicBezTo>
                  <a:lnTo>
                    <a:pt x="9472" y="46"/>
                  </a:lnTo>
                  <a:cubicBezTo>
                    <a:pt x="9459" y="46"/>
                    <a:pt x="9449" y="36"/>
                    <a:pt x="9449" y="23"/>
                  </a:cubicBezTo>
                  <a:cubicBezTo>
                    <a:pt x="9449" y="11"/>
                    <a:pt x="9459" y="0"/>
                    <a:pt x="9472" y="0"/>
                  </a:cubicBezTo>
                  <a:close/>
                  <a:moveTo>
                    <a:pt x="9702" y="0"/>
                  </a:moveTo>
                  <a:lnTo>
                    <a:pt x="9702" y="0"/>
                  </a:lnTo>
                  <a:cubicBezTo>
                    <a:pt x="9715" y="0"/>
                    <a:pt x="9725" y="11"/>
                    <a:pt x="9725" y="23"/>
                  </a:cubicBezTo>
                  <a:cubicBezTo>
                    <a:pt x="9725" y="36"/>
                    <a:pt x="9715" y="46"/>
                    <a:pt x="9702" y="46"/>
                  </a:cubicBezTo>
                  <a:lnTo>
                    <a:pt x="9702" y="46"/>
                  </a:lnTo>
                  <a:cubicBezTo>
                    <a:pt x="9689" y="46"/>
                    <a:pt x="9679" y="36"/>
                    <a:pt x="9679" y="23"/>
                  </a:cubicBezTo>
                  <a:cubicBezTo>
                    <a:pt x="9679" y="11"/>
                    <a:pt x="9689" y="0"/>
                    <a:pt x="9702" y="0"/>
                  </a:cubicBezTo>
                  <a:close/>
                  <a:moveTo>
                    <a:pt x="9933" y="0"/>
                  </a:moveTo>
                  <a:lnTo>
                    <a:pt x="9933" y="0"/>
                  </a:lnTo>
                  <a:cubicBezTo>
                    <a:pt x="9945" y="0"/>
                    <a:pt x="9956" y="11"/>
                    <a:pt x="9956" y="23"/>
                  </a:cubicBezTo>
                  <a:cubicBezTo>
                    <a:pt x="9956" y="36"/>
                    <a:pt x="9945" y="46"/>
                    <a:pt x="9933" y="46"/>
                  </a:cubicBezTo>
                  <a:lnTo>
                    <a:pt x="9933" y="46"/>
                  </a:lnTo>
                  <a:cubicBezTo>
                    <a:pt x="9920" y="46"/>
                    <a:pt x="9910" y="36"/>
                    <a:pt x="9910" y="23"/>
                  </a:cubicBezTo>
                  <a:cubicBezTo>
                    <a:pt x="9910" y="11"/>
                    <a:pt x="9920" y="0"/>
                    <a:pt x="9933" y="0"/>
                  </a:cubicBezTo>
                  <a:close/>
                  <a:moveTo>
                    <a:pt x="10163" y="0"/>
                  </a:moveTo>
                  <a:lnTo>
                    <a:pt x="10163" y="0"/>
                  </a:lnTo>
                  <a:cubicBezTo>
                    <a:pt x="10176" y="0"/>
                    <a:pt x="10186" y="11"/>
                    <a:pt x="10186" y="23"/>
                  </a:cubicBezTo>
                  <a:cubicBezTo>
                    <a:pt x="10186" y="36"/>
                    <a:pt x="10176" y="46"/>
                    <a:pt x="10163" y="46"/>
                  </a:cubicBezTo>
                  <a:lnTo>
                    <a:pt x="10163" y="46"/>
                  </a:lnTo>
                  <a:cubicBezTo>
                    <a:pt x="10150" y="46"/>
                    <a:pt x="10140" y="36"/>
                    <a:pt x="10140" y="23"/>
                  </a:cubicBezTo>
                  <a:cubicBezTo>
                    <a:pt x="10140" y="11"/>
                    <a:pt x="10150" y="0"/>
                    <a:pt x="10163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87640" y="2895480"/>
              <a:ext cx="10800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9560" y="2841480"/>
              <a:ext cx="344520" cy="1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21480" y="28400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Beac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43440" y="185112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12160" y="186696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ot Associ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8120" y="2135160"/>
              <a:ext cx="5095800" cy="265320"/>
            </a:xfrm>
            <a:custGeom>
              <a:avLst/>
              <a:gdLst/>
              <a:ahLst/>
              <a:rect l="l" t="t" r="r" b="b"/>
              <a:pathLst>
                <a:path w="9360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210" y="640"/>
                  </a:lnTo>
                  <a:cubicBezTo>
                    <a:pt x="9293" y="640"/>
                    <a:pt x="9360" y="592"/>
                    <a:pt x="9360" y="533"/>
                  </a:cubicBezTo>
                  <a:lnTo>
                    <a:pt x="9360" y="107"/>
                  </a:lnTo>
                  <a:cubicBezTo>
                    <a:pt x="9360" y="48"/>
                    <a:pt x="9293" y="0"/>
                    <a:pt x="921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6040" y="2135160"/>
              <a:ext cx="5087880" cy="265320"/>
            </a:xfrm>
            <a:custGeom>
              <a:avLst/>
              <a:gdLst/>
              <a:ahLst/>
              <a:rect l="l" t="t" r="r" b="b"/>
              <a:pathLst>
                <a:path w="9347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198" y="640"/>
                  </a:lnTo>
                  <a:cubicBezTo>
                    <a:pt x="9280" y="640"/>
                    <a:pt x="9347" y="592"/>
                    <a:pt x="9347" y="533"/>
                  </a:cubicBezTo>
                  <a:lnTo>
                    <a:pt x="9347" y="107"/>
                  </a:lnTo>
                  <a:cubicBezTo>
                    <a:pt x="9347" y="48"/>
                    <a:pt x="9280" y="0"/>
                    <a:pt x="9198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31960" y="211284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vious MI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35200" y="2257560"/>
              <a:ext cx="76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gistration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71360" y="22114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27880" y="22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71360" y="3176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27880" y="3176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61840" y="334332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vorable Networ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55080" y="3489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53360" y="3489480"/>
              <a:ext cx="10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44880" y="34894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73280" y="374976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90840" y="3710160"/>
              <a:ext cx="109440" cy="806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80040" y="3697200"/>
              <a:ext cx="162864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74440" y="3693960"/>
              <a:ext cx="123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COMMAND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06720" y="3879720"/>
              <a:ext cx="1290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25720" y="383868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06360" y="3760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67560" y="3760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10840" y="37609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witch reques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33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84040" y="37609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40280" y="3760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07600" y="376092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609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57320" y="4680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62800" y="4680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57320" y="43941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2800" y="4394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57320" y="4857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2800" y="4857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57320" y="4122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62800" y="4122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57320" y="3978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62800" y="3978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57320" y="3805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62800" y="3805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7320" y="3660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62800" y="3660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71360" y="34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27880" y="34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74840" y="5911920"/>
              <a:ext cx="3625920" cy="263520"/>
            </a:xfrm>
            <a:custGeom>
              <a:avLst/>
              <a:gdLst/>
              <a:ahLst/>
              <a:rect l="l" t="t" r="r" b="b"/>
              <a:pathLst>
                <a:path w="6659" h="640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48" y="640"/>
                    <a:pt x="107" y="640"/>
                  </a:cubicBezTo>
                  <a:lnTo>
                    <a:pt x="6552" y="640"/>
                  </a:lnTo>
                  <a:cubicBezTo>
                    <a:pt x="6611" y="640"/>
                    <a:pt x="6659" y="592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9040" y="5925960"/>
              <a:ext cx="946440" cy="196920"/>
            </a:xfrm>
            <a:custGeom>
              <a:avLst/>
              <a:gdLst/>
              <a:ahLst/>
              <a:rect l="l" t="t" r="r" b="b"/>
              <a:pathLst>
                <a:path w="596" h="124">
                  <a:moveTo>
                    <a:pt x="0" y="0"/>
                  </a:moveTo>
                  <a:lnTo>
                    <a:pt x="0" y="124"/>
                  </a:lnTo>
                  <a:lnTo>
                    <a:pt x="596" y="124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58840" y="59641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73840" y="596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84360" y="59641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43440" y="434664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6000" y="428940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07680" y="4289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67960" y="443556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uthent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93760" y="302580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08640" y="571968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0840" y="638172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6697800" y="6340320"/>
            <a:ext cx="109440" cy="82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2" y="137"/>
                  <a:pt x="32" y="63"/>
                  <a:pt x="0" y="0"/>
                </a:cubicBezTo>
                <a:lnTo>
                  <a:pt x="0" y="0"/>
                </a:ln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6327720"/>
            <a:ext cx="16984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55720" y="6327720"/>
            <a:ext cx="129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MIH REMOTE COMMAND RESPON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19480" y="5110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22800" y="51102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05680" y="511020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71600" y="51102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25960" y="51102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94720" y="5110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4044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1820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388400" y="525636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98600" y="5256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004760" y="76212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-28800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WLAN-3GPP2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501480" y="771480"/>
            <a:ext cx="8991720" cy="570564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-29592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onclus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3GPP2 has identified inter-system/inter-technology mobility requirements that might benefit from IEEE 802.21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would like to work together with 3GPP2 experts to find how IEEE 802.21 might satisfy these requiremen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Appendix: Background Slid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520560" y="993600"/>
            <a:ext cx="4975200" cy="18781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30280" y="2900520"/>
            <a:ext cx="4879800" cy="18745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501480" y="4718160"/>
            <a:ext cx="4962600" cy="188424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Link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MIH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tivation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o be added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Command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601560" y="932040"/>
            <a:ext cx="4856400" cy="18270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581040" y="2781360"/>
            <a:ext cx="4889520" cy="18493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571680" y="4710240"/>
            <a:ext cx="4892400" cy="18540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at is 802.21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is being developed to facilitate smooth  interaction and media independent handover between 802 technologies and other access technolog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Membership spans over 70 members from more that 20 companies in over 10 Countr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offers an open interface that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link state event reporting in real time (Event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intersystem information, automatically and on demand (Information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lows a user to control handover link state (Command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y are we here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ork actively within relevant standard bodies in order to introduce applicable IEEE 802.21 requirements (E.g., where does IEEE 802.21 fit?)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Update relevant 3GPP2 groups with latest development in IEEE 802.21 standard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Request your feed back and support in the determination of the optimal placement of IEEE 802.21 Func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Enthuse the 3GPP2 community about the development of requirement on IEEE 802.21 technology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ome Defini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Function (MIHF): 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IH is a cross-layer entity that provides mobility support through well defined Service Access Points offering Event, Information and Command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User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local entity that avails of MIHF services through the MIH Service Access Poi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Network Entity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remote entity that is able to communicate with an MIHF over a transport that supports Media Independent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Nokia Sans Wide"/>
                <a:ea typeface="Times New Roman"/>
              </a:rPr>
              <a:t>IEEE 802.21 DOs and DON’T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handover decision making, providing link layer state information to MIH users.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ow latency handovers across multi-technology acces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defin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methods and semantic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acquisition of heterogeneous network information and the basic content of the this information, thereby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network availability detec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command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seamless service continuity across heterogeneou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executes handovers nor defines handover policies leading to handover execu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controls network detection nor specifies network selection proced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standard consists of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at enables transparent service continuity while a mobile node (MN) switches between heterogeneous link-layer technolog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set of handover-enabling func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within the mobility-management protocol stacks of the network elements and the creation therein of a new entity called the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IH Function (MIHF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edia Independent Service Access Point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(MIH_SAP) and associated primitives are defined to provide MIH users with access to the services of the MIH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new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ink Layer SAPs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d associated primitives for each specific access technolog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e MIH Function provides three service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Event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tects events and delivers triggers from both local as well as remote interfa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nk_available, Link_up, Link_dow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Command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a set of commands for the MIH users to control handover relevant link stat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MIH_Link_Switch, MIH_Configure_Link, MIH_Handover_Initiate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Information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the information model and an information repository to make more effective handover decisions. The mobile terminal obtains information from the repository using its current network points of attach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st of available networks, network operator, IP version, neighbor informatio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1:00:08Z</dcterms:created>
  <dc:creator>ssreeman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olveraux</cp:lastModifiedBy>
  <cp:lastPrinted>2000-03-20T15:35:04Z</cp:lastPrinted>
  <dcterms:modified xsi:type="dcterms:W3CDTF">2005-10-13T12:53:33Z</dcterms:modified>
  <cp:revision>118</cp:revision>
  <dc:subject/>
  <dc:title>MIH Scenarios</dc:title>
</cp:coreProperties>
</file>