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C5B0-FB1D-4227-AB14-031D0B620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878F-008E-47AA-9D4E-055A78A4C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FD76-AFD4-4EC0-88F1-75951C666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84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46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22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84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46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48EB-E2E1-4046-BF26-DD72898FAC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F360E-5D8C-4789-ABB2-A922E5EBFC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20EA1-2C8D-4FAD-A9CF-A8CA49C65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4742-DC41-4A80-A78E-63B3450F3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69D1F-A745-4869-883F-41F19FE84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1920" y="228240"/>
            <a:ext cx="827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59D3A-44DE-462E-993D-D311D6911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07D5-6C7B-4F1C-94E4-43442423B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6315-C7BF-4DB5-89E8-0D73E234C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5D12A-C125-4F9B-BB4B-917A4615A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400440"/>
            <a:ext cx="19814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040" y="64008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9373-5F70-46CA-B881-0F1C4C9AB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er layer services and information 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22280" y="1218960"/>
            <a:ext cx="829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already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subnets (per Po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A capabilities bitmap (per Po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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Available (y/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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oS Available (y/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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 Access Available (y/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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Version 4 supported (y/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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Version 6 supported (y/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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ergency Services available (y/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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ly propo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IP address configuration method supported (per Po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DHCP address (per PoA or per AN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AAA address (per PoA or per AN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Oth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to incorporate the new IEs (Option 1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22280" y="1219320"/>
            <a:ext cx="8299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 1: Add them in parallel to the existing IEs in Table 6 under per PoA higher layer services/info. 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14400" y="2209680"/>
          <a:ext cx="7543800" cy="4019760"/>
        </p:xfrm>
        <a:graphic>
          <a:graphicData uri="http://schemas.openxmlformats.org/drawingml/2006/table">
            <a:tbl>
              <a:tblPr/>
              <a:tblGrid>
                <a:gridCol w="685800"/>
                <a:gridCol w="1600200"/>
                <a:gridCol w="2239920"/>
                <a:gridCol w="2179800"/>
                <a:gridCol w="8380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 of  Information 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gth  (octe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TYPE_IE_POA_IP_CONFIG_METH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IP address configuration method suppor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bit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TYPE_IE_POA_ DHCP_AD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DHCP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IP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TYPE_IE_POA_ AAA_AD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AAA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IP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to incorporate the new IEs (Option 2a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2280" y="1219320"/>
            <a:ext cx="8299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79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on 2a: Add them to the existing POA capabilities IE in Table 6 (of cause we no longer can use the bitmap representation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914400" y="2209680"/>
          <a:ext cx="7543800" cy="4191120"/>
        </p:xfrm>
        <a:graphic>
          <a:graphicData uri="http://schemas.openxmlformats.org/drawingml/2006/table">
            <a:tbl>
              <a:tblPr/>
              <a:tblGrid>
                <a:gridCol w="685800"/>
                <a:gridCol w="1600200"/>
                <a:gridCol w="1600200"/>
                <a:gridCol w="2819520"/>
                <a:gridCol w="838080"/>
              </a:tblGrid>
              <a:tr h="96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 of  Information 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gth  (octe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_IE_POA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A li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f PoA capab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urity Available            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oS Available                 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et Access Available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P Version 4 supported    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P Version 6 supported    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ergency Services              Y/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IP Address config methods    bit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DHCP address                       IP ad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AAA address                         IP ad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th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to incorporate the new IEs (Option 2b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on 2b: Should there be an Access Network specific capabilities IE in Table 6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14400" y="2209680"/>
          <a:ext cx="7543800" cy="3886200"/>
        </p:xfrm>
        <a:graphic>
          <a:graphicData uri="http://schemas.openxmlformats.org/drawingml/2006/table">
            <a:tbl>
              <a:tblPr/>
              <a:tblGrid>
                <a:gridCol w="685800"/>
                <a:gridCol w="1600200"/>
                <a:gridCol w="1600200"/>
                <a:gridCol w="2819520"/>
                <a:gridCol w="838080"/>
              </a:tblGrid>
              <a:tr h="96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 of  Information 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gth  (octe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TYPE_IE_AN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HIGH_LAYER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CAPABILITI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A list of AN higher layer capab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IP Address config methods    bit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DHCP address                       IP ad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AAA address                         IP ad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_IE_POA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map</a:t>
                      </a:r>
                      <a:r>
                        <a:rPr b="0" lang="en-US" sz="16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 PoA capab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urity Available            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oS Available                 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et Access Available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P Version 4 supported    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P Version 6 supported    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ergency Services              Y/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th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3:24:18Z</dcterms:created>
  <dc:creator/>
  <dc:description/>
  <dc:language>en-US</dc:language>
  <cp:lastModifiedBy>Qiaobing Xie</cp:lastModifiedBy>
  <cp:lastPrinted>1999-04-27T06:51:51Z</cp:lastPrinted>
  <dcterms:modified xsi:type="dcterms:W3CDTF">2006-02-14T01:35:50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10311101</vt:r8>
  </property>
  <property fmtid="{D5CDD505-2E9C-101B-9397-08002B2CF9AE}" pid="3" name="_AuthorEmail">
    <vt:lpwstr>Alistair.Buttar@motorola.com</vt:lpwstr>
  </property>
  <property fmtid="{D5CDD505-2E9C-101B-9397-08002B2CF9AE}" pid="4" name="_AuthorEmailDisplayName">
    <vt:lpwstr>Buttar Alistair-tdes38</vt:lpwstr>
  </property>
  <property fmtid="{D5CDD505-2E9C-101B-9397-08002B2CF9AE}" pid="5" name="_EmailSubject">
    <vt:lpwstr>FW: Draft Motorola contribution for July 05 IEEE 802.21 Plenary</vt:lpwstr>
  </property>
  <property fmtid="{D5CDD505-2E9C-101B-9397-08002B2CF9AE}" pid="6" name="_NewReviewCycle">
    <vt:lpwstr/>
  </property>
</Properties>
</file>