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A567-BDEE-4968-8C17-12D670A75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12AB-9766-4CC8-8A98-856FBA96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AB27-BF37-4707-A892-50B22DF8F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FF86-41D5-44A1-A4F1-438F26540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708B-8935-4427-8BDC-FECE726870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233A-A6A6-43B0-8782-4EF33633D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7EDA-5FAE-497D-B031-6C9C153A7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2B55-FEDC-4E23-917E-FB040D0CA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A630-F157-4434-BC65-F96B41E48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A3DB-7073-4DD3-ADF8-811721753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F203-4F15-40DC-AB99-9C7E34E5D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2D75-6C26-4728-AEBE-8DA7C06B8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5A2-0FE8-4D35-A258-2595D7B0B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layer services and information 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2280" y="1218960"/>
            <a:ext cx="829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already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subnets (per P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 capabilities bitmap (per P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oS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Access Available (y/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Version 4 supported (y/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Version 6 supported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Services available (y/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P address configuration method supported (per Po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DHCP address (per PoA or per A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AA address (per PoA or per A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2280" y="1219320"/>
            <a:ext cx="8299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1: Add them in parallel to the existing IEs in Table 6 under per PoA higher layer services/info.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2209680"/>
          <a:ext cx="7543800" cy="401976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2239920"/>
                <a:gridCol w="2179800"/>
                <a:gridCol w="8380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IP_CONFIG_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uration method suppor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 DHCP_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POA_ AAA_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2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2280" y="121932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2a: Add them to the existing POA capabilities IE in Table 6 (of cause we no longer can use the bitmap representatio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2209680"/>
          <a:ext cx="7543800" cy="419112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1600200"/>
                <a:gridCol w="2819520"/>
                <a:gridCol w="838080"/>
              </a:tblGrid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_IE_POA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 li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f PoA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Available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S Available     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 Access Available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4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6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cy Services              Y/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 methods    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  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th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incorporate the new IEs (Option 2b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2b: Should there be an Access Network specific capabilities IE in Table 6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209680"/>
          <a:ext cx="7543800" cy="3886200"/>
        </p:xfrm>
        <a:graphic>
          <a:graphicData uri="http://schemas.openxmlformats.org/drawingml/2006/table">
            <a:tbl>
              <a:tblPr/>
              <a:tblGrid>
                <a:gridCol w="685800"/>
                <a:gridCol w="1600200"/>
                <a:gridCol w="1600200"/>
                <a:gridCol w="2819520"/>
                <a:gridCol w="838080"/>
              </a:tblGrid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 of  Information 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 (oct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TYPE_IE_AN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HIGH_LAYER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CAPABILIT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 list of AN higher layer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IP Address config methods    bit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DHCP address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AAA address                         IP ad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_IE_POA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map</a:t>
                      </a:r>
                      <a:r>
                        <a:rPr b="0" lang="en-US" sz="1600" spc="-1" strike="noStrike">
                          <a:solidFill>
                            <a:srgbClr val="fc012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PoA capab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Available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S Available             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 Access Available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4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P Version 6 supported         Y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ergency Services              Y/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th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/>
  <dc:description/>
  <dc:language>en-US</dc:language>
  <cp:lastModifiedBy>Qiaobing Xie</cp:lastModifiedBy>
  <cp:lastPrinted>1999-04-27T06:51:51Z</cp:lastPrinted>
  <dcterms:modified xsi:type="dcterms:W3CDTF">2006-02-14T01:35:5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0311101</vt:r8>
  </property>
  <property fmtid="{D5CDD505-2E9C-101B-9397-08002B2CF9AE}" pid="3" name="_AuthorEmail">
    <vt:lpwstr>Alistair.Buttar@motorola.com</vt:lpwstr>
  </property>
  <property fmtid="{D5CDD505-2E9C-101B-9397-08002B2CF9AE}" pid="4" name="_AuthorEmailDisplayName">
    <vt:lpwstr>Buttar Alistair-tdes38</vt:lpwstr>
  </property>
  <property fmtid="{D5CDD505-2E9C-101B-9397-08002B2CF9AE}" pid="5" name="_EmailSubject">
    <vt:lpwstr>FW: Draft Motorola contribution for July 05 IEEE 802.21 Plenary</vt:lpwstr>
  </property>
  <property fmtid="{D5CDD505-2E9C-101B-9397-08002B2CF9AE}" pid="6" name="_NewReviewCycle">
    <vt:lpwstr/>
  </property>
</Properties>
</file>