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
          <p:cNvSpPr/>
          <p:nvPr/>
        </p:nvSpPr>
        <p:spPr>
          <a:xfrm>
            <a:off x="8008920" y="6324480"/>
            <a:ext cx="184320" cy="28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Click to edit the title text format</a:t>
            </a:r>
            <a:endParaRPr b="0" lang="en-US" sz="3400" spc="-1" strike="noStrike">
              <a:solidFill>
                <a:srgbClr val="000000"/>
              </a:solidFill>
              <a:latin typeface="Times New Roman"/>
            </a:endParaRPr>
          </a:p>
        </p:txBody>
      </p:sp>
      <p:sp>
        <p:nvSpPr>
          <p:cNvPr id="40"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66672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114768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805040" indent="-27792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42" name=""/>
          <p:cNvSpPr/>
          <p:nvPr/>
        </p:nvSpPr>
        <p:spPr>
          <a:xfrm>
            <a:off x="-156240" y="6697080"/>
            <a:ext cx="1276200" cy="12348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1-05-0348-04-annex-0000</a:t>
            </a:r>
            <a:endParaRPr b="0" lang="en-US" sz="9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6-0348-05-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MIIS and Its Higher Layer Transport Requirements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February 23, 2006</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IS  Team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400" spc="-1" strike="noStrike">
                <a:solidFill>
                  <a:srgbClr val="000000"/>
                </a:solidFill>
                <a:latin typeface="Times New Roman"/>
                <a:ea typeface="ＭＳ Ｐゴシック"/>
              </a:rPr>
              <a:t>This document describes brief summary of IETF draft on MIIS and Its Higher Layer Transport requirements</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457200" y="57240"/>
            <a:ext cx="754200" cy="857160"/>
          </a:xfrm>
          <a:prstGeom prst="rect">
            <a:avLst/>
          </a:prstGeom>
          <a:ln w="0">
            <a:noFill/>
          </a:ln>
        </p:spPr>
      </p:pic>
      <p:pic>
        <p:nvPicPr>
          <p:cNvPr id="81"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21920" y="85320"/>
            <a:ext cx="872172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quirements for Transport Over IP (Section 4) </a:t>
            </a:r>
            <a:endParaRPr b="1" lang="en-US" sz="3200" spc="-1" strike="noStrike">
              <a:solidFill>
                <a:srgbClr val="000000"/>
              </a:solidFill>
              <a:latin typeface="Times New Roman"/>
            </a:endParaRPr>
          </a:p>
        </p:txBody>
      </p:sp>
      <p:sp>
        <p:nvSpPr>
          <p:cNvPr id="208" name="PlaceHolder 2"/>
          <p:cNvSpPr>
            <a:spLocks noGrp="1"/>
          </p:cNvSpPr>
          <p:nvPr>
            <p:ph/>
          </p:nvPr>
        </p:nvSpPr>
        <p:spPr>
          <a:xfrm>
            <a:off x="421920" y="956880"/>
            <a:ext cx="8109000" cy="536724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S transport MUST work both for IPv4 and IPv6 network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choice of transport mechanism should work with both IPv4 and IPv6 networks.</a:t>
            </a:r>
            <a:endParaRPr b="0" lang="en-US" sz="20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S protocol requires that security MUST be provided at the transport layer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MIIS message exchanges are critical to handover decision process. Therefore it has to be trusted. However, IS protocol framework does not add security at every message level. Thus it relies upon the underlying security. In such cases, the transport mechanism MUST support the necessary security.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S transport MUST provide peer authentication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S transport MUST provide message authentication and may provide confidentiality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S transport MUST provide replay protection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21920" y="85320"/>
            <a:ext cx="8721720" cy="685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quirements for Transport Over IP (Section 4) </a:t>
            </a:r>
            <a:endParaRPr b="1" lang="en-US" sz="3200" spc="-1" strike="noStrike">
              <a:solidFill>
                <a:srgbClr val="000000"/>
              </a:solidFill>
              <a:latin typeface="Times New Roman"/>
            </a:endParaRPr>
          </a:p>
        </p:txBody>
      </p:sp>
      <p:sp>
        <p:nvSpPr>
          <p:cNvPr id="210" name="PlaceHolder 2"/>
          <p:cNvSpPr>
            <a:spLocks noGrp="1"/>
          </p:cNvSpPr>
          <p:nvPr>
            <p:ph/>
          </p:nvPr>
        </p:nvSpPr>
        <p:spPr>
          <a:xfrm>
            <a:off x="421920" y="956880"/>
            <a:ext cx="8109000" cy="536724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S transport MUST support the NAT traversal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ransport protocol should allow the communication between MIHFs if they are behind the NAT box. </a:t>
            </a:r>
            <a:endParaRPr b="0" lang="en-US" sz="2400" spc="-1" strike="noStrike">
              <a:solidFill>
                <a:srgbClr val="000000"/>
              </a:solidFill>
              <a:latin typeface="Times New Roman"/>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S transport MUST  support the firewall traversal</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transport protocol should allow the communication between MIHFs if they are behind the firewall. </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hanges to the header fields, IEs and structure messages should not affect the security mechanisms defined for underlying transmission.</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IS defines the IE and MIH protocol formats that are processed by only MIHF peer entities. Any changes to these formats and fields MUST not require modifying the underlying security mechanisms in future. </a:t>
            </a:r>
            <a:endParaRPr b="0" lang="en-US" sz="2400" spc="-1" strike="noStrike">
              <a:solidFill>
                <a:srgbClr val="000000"/>
              </a:solidFill>
              <a:latin typeface="Times New Roman"/>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57240"/>
            <a:ext cx="754200" cy="857160"/>
          </a:xfrm>
          <a:prstGeom prst="rect">
            <a:avLst/>
          </a:prstGeom>
          <a:ln w="0">
            <a:noFill/>
          </a:ln>
        </p:spPr>
      </p:pic>
      <p:pic>
        <p:nvPicPr>
          <p:cNvPr id="83" name="" descr=""/>
          <p:cNvPicPr/>
          <p:nvPr/>
        </p:nvPicPr>
        <p:blipFill>
          <a:blip r:embed="rId2"/>
          <a:stretch/>
        </p:blipFill>
        <p:spPr>
          <a:xfrm>
            <a:off x="8161200" y="152280"/>
            <a:ext cx="754200" cy="777960"/>
          </a:xfrm>
          <a:prstGeom prst="rect">
            <a:avLst/>
          </a:prstGeom>
          <a:ln w="0">
            <a:noFill/>
          </a:ln>
        </p:spPr>
      </p:pic>
      <p:sp>
        <p:nvSpPr>
          <p:cNvPr id="84"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000000"/>
                </a:solidFill>
                <a:latin typeface="Times New Roman"/>
              </a:rPr>
              <a:t>Outline of the Draft</a:t>
            </a: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86" name="PlaceHolder 2"/>
          <p:cNvSpPr>
            <a:spLocks noGrp="1"/>
          </p:cNvSpPr>
          <p:nvPr>
            <p:ph/>
          </p:nvPr>
        </p:nvSpPr>
        <p:spPr>
          <a:xfrm>
            <a:off x="250920" y="980640"/>
            <a:ext cx="8540640" cy="5475240"/>
          </a:xfrm>
          <a:prstGeom prst="rect">
            <a:avLst/>
          </a:prstGeom>
          <a:noFill/>
          <a:ln w="0">
            <a:noFill/>
          </a:ln>
        </p:spPr>
        <p:txBody>
          <a:bodyPr lIns="90360" rIns="90360" tIns="44280" bIns="44280" anchor="t">
            <a:normAutofit fontScale="95000"/>
          </a:bodyPr>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Introduction </a:t>
            </a:r>
            <a:endParaRPr b="0" lang="en-US" sz="2000" spc="-1" strike="noStrike">
              <a:solidFill>
                <a:srgbClr val="000000"/>
              </a:solidFill>
              <a:latin typeface="Times New Roman"/>
            </a:endParaRPr>
          </a:p>
          <a:p>
            <a:pPr marL="2667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formation Service Reference Model</a:t>
            </a:r>
            <a:endParaRPr b="0" lang="en-US" sz="2000" spc="-1" strike="noStrike">
              <a:solidFill>
                <a:srgbClr val="000000"/>
              </a:solidFill>
              <a:latin typeface="Times New Roman"/>
            </a:endParaRPr>
          </a:p>
          <a:p>
            <a:pPr marL="2667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Scenarios for IS Transport over IP </a:t>
            </a:r>
            <a:endParaRPr b="0" lang="en-US" sz="2000" spc="-1" strike="noStrike">
              <a:solidFill>
                <a:srgbClr val="000000"/>
              </a:solidFill>
              <a:latin typeface="Times New Roman"/>
            </a:endParaRPr>
          </a:p>
          <a:p>
            <a:pPr marL="2667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Information Service Reference Model and Interfaces</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Transport Layer Issues </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2 Information Service Discovery Issues</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3 Reliability Issues </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4 Congestion Control Issues </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5 Security Issues </a:t>
            </a:r>
            <a:endParaRPr b="0" lang="en-US" sz="2000" spc="-1" strike="noStrike">
              <a:solidFill>
                <a:srgbClr val="000000"/>
              </a:solidFill>
              <a:latin typeface="Times New Roman"/>
            </a:endParaRPr>
          </a:p>
          <a:p>
            <a:pPr lvl="1" marL="70128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ments for Transport over IP</a:t>
            </a:r>
            <a:endParaRPr b="0" lang="en-US" sz="2000" spc="-1" strike="noStrike">
              <a:solidFill>
                <a:srgbClr val="000000"/>
              </a:solidFill>
              <a:latin typeface="Times New Roman"/>
            </a:endParaRPr>
          </a:p>
          <a:p>
            <a:pPr marL="2667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66760" indent="-266760">
              <a:lnSpc>
                <a:spcPct val="80000"/>
              </a:lnSpc>
              <a:spcBef>
                <a:spcPts val="1001"/>
              </a:spcBef>
              <a:buClr>
                <a:srgbClr val="618ffd"/>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ecurity Considerations  </a:t>
            </a:r>
            <a:endParaRPr b="0" lang="en-US" sz="2000" spc="-1" strike="noStrike">
              <a:solidFill>
                <a:srgbClr val="000000"/>
              </a:solidFill>
              <a:latin typeface="Times New Roman"/>
            </a:endParaRPr>
          </a:p>
          <a:p>
            <a:pPr marL="2667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40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IS) Reference Model (Section 2)</a:t>
            </a:r>
            <a:endParaRPr b="1" lang="en-US" sz="3200" spc="-1" strike="noStrike">
              <a:solidFill>
                <a:srgbClr val="000000"/>
              </a:solidFill>
              <a:latin typeface="Times New Roman"/>
            </a:endParaRPr>
          </a:p>
        </p:txBody>
      </p:sp>
      <p:sp>
        <p:nvSpPr>
          <p:cNvPr id="88" name=""/>
          <p:cNvSpPr/>
          <p:nvPr/>
        </p:nvSpPr>
        <p:spPr>
          <a:xfrm>
            <a:off x="1417680" y="208296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Client</a:t>
            </a:r>
            <a:endParaRPr b="0" lang="en-US" sz="1400" spc="-1" strike="noStrike">
              <a:solidFill>
                <a:srgbClr val="000000"/>
              </a:solidFill>
              <a:latin typeface="Rotis Sans Serif for Nokia"/>
            </a:endParaRPr>
          </a:p>
        </p:txBody>
      </p:sp>
      <p:sp>
        <p:nvSpPr>
          <p:cNvPr id="89" name=""/>
          <p:cNvSpPr/>
          <p:nvPr/>
        </p:nvSpPr>
        <p:spPr>
          <a:xfrm>
            <a:off x="5435640" y="1989000"/>
            <a:ext cx="115236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erver</a:t>
            </a:r>
            <a:endParaRPr b="0" lang="en-US" sz="1400" spc="-1" strike="noStrike">
              <a:solidFill>
                <a:srgbClr val="000000"/>
              </a:solidFill>
              <a:latin typeface="Rotis Sans Serif for Nokia"/>
            </a:endParaRPr>
          </a:p>
        </p:txBody>
      </p:sp>
      <p:sp>
        <p:nvSpPr>
          <p:cNvPr id="90" name=""/>
          <p:cNvSpPr/>
          <p:nvPr/>
        </p:nvSpPr>
        <p:spPr>
          <a:xfrm>
            <a:off x="2627280" y="2349360"/>
            <a:ext cx="280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91" name=""/>
          <p:cNvSpPr/>
          <p:nvPr/>
        </p:nvSpPr>
        <p:spPr>
          <a:xfrm>
            <a:off x="356400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 </a:t>
            </a:r>
            <a:r>
              <a:rPr b="1" i="1" lang="en-US" sz="1400" spc="-1" strike="noStrike">
                <a:solidFill>
                  <a:srgbClr val="000000"/>
                </a:solidFill>
                <a:latin typeface="Times New Roman"/>
                <a:ea typeface="ＭＳ Ｐゴシック"/>
              </a:rPr>
              <a:t>R1/R3</a:t>
            </a:r>
            <a:endParaRPr b="0" lang="en-US" sz="1400" spc="-1" strike="noStrike">
              <a:solidFill>
                <a:srgbClr val="000000"/>
              </a:solidFill>
              <a:latin typeface="Rotis Sans Serif for Nokia"/>
            </a:endParaRPr>
          </a:p>
        </p:txBody>
      </p:sp>
      <p:sp>
        <p:nvSpPr>
          <p:cNvPr id="92" name=""/>
          <p:cNvSpPr/>
          <p:nvPr/>
        </p:nvSpPr>
        <p:spPr>
          <a:xfrm>
            <a:off x="1258920" y="414828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Client</a:t>
            </a:r>
            <a:endParaRPr b="0" lang="en-US" sz="1400" spc="-1" strike="noStrike">
              <a:solidFill>
                <a:srgbClr val="000000"/>
              </a:solidFill>
              <a:latin typeface="Rotis Sans Serif for Nokia"/>
            </a:endParaRPr>
          </a:p>
        </p:txBody>
      </p:sp>
      <p:sp>
        <p:nvSpPr>
          <p:cNvPr id="93" name=""/>
          <p:cNvSpPr/>
          <p:nvPr/>
        </p:nvSpPr>
        <p:spPr>
          <a:xfrm>
            <a:off x="4067280" y="407520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Proxy</a:t>
            </a:r>
            <a:endParaRPr b="0" lang="en-US" sz="1400" spc="-1" strike="noStrike">
              <a:solidFill>
                <a:srgbClr val="000000"/>
              </a:solidFill>
              <a:latin typeface="Rotis Sans Serif for Nokia"/>
            </a:endParaRPr>
          </a:p>
        </p:txBody>
      </p:sp>
      <p:sp>
        <p:nvSpPr>
          <p:cNvPr id="94" name=""/>
          <p:cNvSpPr/>
          <p:nvPr/>
        </p:nvSpPr>
        <p:spPr>
          <a:xfrm>
            <a:off x="4471920" y="4578480"/>
            <a:ext cx="18432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5" name=""/>
          <p:cNvSpPr/>
          <p:nvPr/>
        </p:nvSpPr>
        <p:spPr>
          <a:xfrm>
            <a:off x="6516720" y="40766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erver</a:t>
            </a:r>
            <a:endParaRPr b="0" lang="en-US" sz="1400" spc="-1" strike="noStrike">
              <a:solidFill>
                <a:srgbClr val="000000"/>
              </a:solidFill>
              <a:latin typeface="Rotis Sans Serif for Nokia"/>
            </a:endParaRPr>
          </a:p>
        </p:txBody>
      </p:sp>
      <p:sp>
        <p:nvSpPr>
          <p:cNvPr id="96" name=""/>
          <p:cNvSpPr/>
          <p:nvPr/>
        </p:nvSpPr>
        <p:spPr>
          <a:xfrm>
            <a:off x="2266920" y="4506840"/>
            <a:ext cx="1800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97" name=""/>
          <p:cNvSpPr/>
          <p:nvPr/>
        </p:nvSpPr>
        <p:spPr>
          <a:xfrm>
            <a:off x="5075280" y="4435560"/>
            <a:ext cx="14414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98" name=""/>
          <p:cNvSpPr/>
          <p:nvPr/>
        </p:nvSpPr>
        <p:spPr>
          <a:xfrm>
            <a:off x="2700360" y="4722840"/>
            <a:ext cx="934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R1/R3 </a:t>
            </a:r>
            <a:endParaRPr b="0" lang="en-US" sz="1400" spc="-1" strike="noStrike">
              <a:solidFill>
                <a:srgbClr val="000000"/>
              </a:solidFill>
              <a:latin typeface="Rotis Sans Serif for Nokia"/>
            </a:endParaRPr>
          </a:p>
        </p:txBody>
      </p:sp>
      <p:sp>
        <p:nvSpPr>
          <p:cNvPr id="99" name=""/>
          <p:cNvSpPr/>
          <p:nvPr/>
        </p:nvSpPr>
        <p:spPr>
          <a:xfrm>
            <a:off x="3348000" y="5514840"/>
            <a:ext cx="244944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Multi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00" name=""/>
          <p:cNvSpPr/>
          <p:nvPr/>
        </p:nvSpPr>
        <p:spPr>
          <a:xfrm>
            <a:off x="2843280" y="328464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ingle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01" name=""/>
          <p:cNvSpPr/>
          <p:nvPr/>
        </p:nvSpPr>
        <p:spPr>
          <a:xfrm>
            <a:off x="5435640" y="4651200"/>
            <a:ext cx="1008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R4/R5</a:t>
            </a:r>
            <a:endParaRPr b="0" lang="en-US" sz="1400" spc="-1" strike="noStrike">
              <a:solidFill>
                <a:srgbClr val="000000"/>
              </a:solidFill>
              <a:latin typeface="Rotis Sans Serif for Nokia"/>
            </a:endParaRPr>
          </a:p>
        </p:txBody>
      </p:sp>
      <p:sp>
        <p:nvSpPr>
          <p:cNvPr id="102" name=""/>
          <p:cNvSpPr/>
          <p:nvPr/>
        </p:nvSpPr>
        <p:spPr>
          <a:xfrm>
            <a:off x="3995640" y="220500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3" name=""/>
          <p:cNvSpPr/>
          <p:nvPr/>
        </p:nvSpPr>
        <p:spPr>
          <a:xfrm>
            <a:off x="3060720" y="436392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4" name=""/>
          <p:cNvSpPr/>
          <p:nvPr/>
        </p:nvSpPr>
        <p:spPr>
          <a:xfrm>
            <a:off x="5796000" y="4290840"/>
            <a:ext cx="0" cy="2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Cases (Section 3) </a:t>
            </a:r>
            <a:endParaRPr b="1" lang="en-US" sz="3600" spc="-1" strike="noStrike">
              <a:solidFill>
                <a:srgbClr val="000000"/>
              </a:solidFill>
              <a:latin typeface="Times New Roman"/>
            </a:endParaRPr>
          </a:p>
        </p:txBody>
      </p:sp>
      <p:sp>
        <p:nvSpPr>
          <p:cNvPr id="106" name=""/>
          <p:cNvSpPr/>
          <p:nvPr/>
        </p:nvSpPr>
        <p:spPr>
          <a:xfrm>
            <a:off x="468360" y="5013360"/>
            <a:ext cx="8299440" cy="12240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7" name="PlaceHolder 2"/>
          <p:cNvSpPr>
            <a:spLocks noGrp="1"/>
          </p:cNvSpPr>
          <p:nvPr>
            <p:ph/>
          </p:nvPr>
        </p:nvSpPr>
        <p:spPr>
          <a:xfrm>
            <a:off x="179280" y="1196640"/>
            <a:ext cx="8785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1:  IS-Server on the Access Point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2:  IS-Server on the Access Rout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3: IS-Server on the Core Network (Hom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4: IS-Server on the Core Network (Visi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620640"/>
            <a:ext cx="7750080" cy="1008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ea typeface="ＭＳ Ｐゴシック"/>
              </a:rPr>
              <a:t>Case 1: IS-Server on Access Point  </a:t>
            </a:r>
            <a:endParaRPr b="1" lang="en-US" sz="3600" spc="-1" strike="noStrike">
              <a:solidFill>
                <a:srgbClr val="000000"/>
              </a:solidFill>
              <a:latin typeface="Times New Roman"/>
            </a:endParaRPr>
          </a:p>
        </p:txBody>
      </p:sp>
      <p:sp>
        <p:nvSpPr>
          <p:cNvPr id="109" name=""/>
          <p:cNvSpPr/>
          <p:nvPr/>
        </p:nvSpPr>
        <p:spPr>
          <a:xfrm>
            <a:off x="4067280" y="2492280"/>
            <a:ext cx="129672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10" name=""/>
          <p:cNvGrpSpPr/>
          <p:nvPr/>
        </p:nvGrpSpPr>
        <p:grpSpPr>
          <a:xfrm>
            <a:off x="179280" y="2708280"/>
            <a:ext cx="933120" cy="717480"/>
            <a:chOff x="179280" y="2708280"/>
            <a:chExt cx="933120" cy="717480"/>
          </a:xfrm>
        </p:grpSpPr>
        <p:sp>
          <p:nvSpPr>
            <p:cNvPr id="111" name=""/>
            <p:cNvSpPr/>
            <p:nvPr/>
          </p:nvSpPr>
          <p:spPr>
            <a:xfrm>
              <a:off x="179280" y="2708280"/>
              <a:ext cx="93312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2" name=""/>
            <p:cNvSpPr/>
            <p:nvPr/>
          </p:nvSpPr>
          <p:spPr>
            <a:xfrm>
              <a:off x="179280" y="2708280"/>
              <a:ext cx="93312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grpSp>
      <p:sp>
        <p:nvSpPr>
          <p:cNvPr id="113" name=""/>
          <p:cNvSpPr/>
          <p:nvPr/>
        </p:nvSpPr>
        <p:spPr>
          <a:xfrm>
            <a:off x="403560" y="3645000"/>
            <a:ext cx="519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Host</a:t>
            </a:r>
            <a:endParaRPr b="0" lang="en-US" sz="1400" spc="-1" strike="noStrike">
              <a:solidFill>
                <a:srgbClr val="000000"/>
              </a:solidFill>
              <a:latin typeface="Rotis Sans Serif for Nokia"/>
            </a:endParaRPr>
          </a:p>
        </p:txBody>
      </p:sp>
      <p:sp>
        <p:nvSpPr>
          <p:cNvPr id="114" name=""/>
          <p:cNvSpPr/>
          <p:nvPr/>
        </p:nvSpPr>
        <p:spPr>
          <a:xfrm>
            <a:off x="4140360" y="4365720"/>
            <a:ext cx="136836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15" name=""/>
          <p:cNvGrpSpPr/>
          <p:nvPr/>
        </p:nvGrpSpPr>
        <p:grpSpPr>
          <a:xfrm>
            <a:off x="2195640" y="2637000"/>
            <a:ext cx="933120" cy="717480"/>
            <a:chOff x="2195640" y="2637000"/>
            <a:chExt cx="933120" cy="717480"/>
          </a:xfrm>
        </p:grpSpPr>
        <p:sp>
          <p:nvSpPr>
            <p:cNvPr id="116" name=""/>
            <p:cNvSpPr/>
            <p:nvPr/>
          </p:nvSpPr>
          <p:spPr>
            <a:xfrm>
              <a:off x="2195640" y="2637000"/>
              <a:ext cx="93312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7" name=""/>
            <p:cNvSpPr/>
            <p:nvPr/>
          </p:nvSpPr>
          <p:spPr>
            <a:xfrm>
              <a:off x="2195640" y="2637000"/>
              <a:ext cx="93312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grpSp>
      <p:sp>
        <p:nvSpPr>
          <p:cNvPr id="118" name=""/>
          <p:cNvSpPr/>
          <p:nvPr/>
        </p:nvSpPr>
        <p:spPr>
          <a:xfrm>
            <a:off x="6084720" y="2637000"/>
            <a:ext cx="2519640" cy="223200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19" name=""/>
          <p:cNvSpPr/>
          <p:nvPr/>
        </p:nvSpPr>
        <p:spPr>
          <a:xfrm>
            <a:off x="6599160" y="2832120"/>
            <a:ext cx="184320" cy="30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20" name=""/>
          <p:cNvSpPr/>
          <p:nvPr/>
        </p:nvSpPr>
        <p:spPr>
          <a:xfrm>
            <a:off x="6889680" y="5013360"/>
            <a:ext cx="1285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Network </a:t>
            </a:r>
            <a:endParaRPr b="0" lang="en-US" sz="1400" spc="-1" strike="noStrike">
              <a:solidFill>
                <a:srgbClr val="000000"/>
              </a:solidFill>
              <a:latin typeface="Rotis Sans Serif for Nokia"/>
            </a:endParaRPr>
          </a:p>
        </p:txBody>
      </p:sp>
      <p:sp>
        <p:nvSpPr>
          <p:cNvPr id="121" name=""/>
          <p:cNvSpPr/>
          <p:nvPr/>
        </p:nvSpPr>
        <p:spPr>
          <a:xfrm>
            <a:off x="4069440" y="357336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22" name=""/>
          <p:cNvSpPr/>
          <p:nvPr/>
        </p:nvSpPr>
        <p:spPr>
          <a:xfrm>
            <a:off x="4226400" y="537372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23" name=""/>
          <p:cNvSpPr/>
          <p:nvPr/>
        </p:nvSpPr>
        <p:spPr>
          <a:xfrm>
            <a:off x="2048040" y="3573360"/>
            <a:ext cx="119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124" name=""/>
          <p:cNvSpPr/>
          <p:nvPr/>
        </p:nvSpPr>
        <p:spPr>
          <a:xfrm>
            <a:off x="1116000" y="3068640"/>
            <a:ext cx="10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5" name=""/>
          <p:cNvSpPr/>
          <p:nvPr/>
        </p:nvSpPr>
        <p:spPr>
          <a:xfrm>
            <a:off x="3132000" y="2997360"/>
            <a:ext cx="9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a:off x="3635280" y="2997360"/>
            <a:ext cx="0" cy="18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a:off x="3635280" y="4869000"/>
            <a:ext cx="50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8" name=""/>
          <p:cNvSpPr/>
          <p:nvPr/>
        </p:nvSpPr>
        <p:spPr>
          <a:xfrm>
            <a:off x="5364000" y="2924280"/>
            <a:ext cx="79236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flipV="1">
            <a:off x="5508720" y="4365360"/>
            <a:ext cx="64764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640" y="620640"/>
            <a:ext cx="7750080" cy="1008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ea typeface="ＭＳ Ｐゴシック"/>
              </a:rPr>
              <a:t>Case 2: IS-Server on Access Router </a:t>
            </a:r>
            <a:endParaRPr b="1" lang="en-US" sz="3600" spc="-1" strike="noStrike">
              <a:solidFill>
                <a:srgbClr val="000000"/>
              </a:solidFill>
              <a:latin typeface="Times New Roman"/>
            </a:endParaRPr>
          </a:p>
        </p:txBody>
      </p:sp>
      <p:sp>
        <p:nvSpPr>
          <p:cNvPr id="131" name=""/>
          <p:cNvSpPr/>
          <p:nvPr/>
        </p:nvSpPr>
        <p:spPr>
          <a:xfrm>
            <a:off x="4067280" y="2492280"/>
            <a:ext cx="129672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32" name=""/>
          <p:cNvGrpSpPr/>
          <p:nvPr/>
        </p:nvGrpSpPr>
        <p:grpSpPr>
          <a:xfrm>
            <a:off x="179280" y="2708280"/>
            <a:ext cx="933120" cy="717480"/>
            <a:chOff x="179280" y="2708280"/>
            <a:chExt cx="933120" cy="717480"/>
          </a:xfrm>
        </p:grpSpPr>
        <p:sp>
          <p:nvSpPr>
            <p:cNvPr id="133" name=""/>
            <p:cNvSpPr/>
            <p:nvPr/>
          </p:nvSpPr>
          <p:spPr>
            <a:xfrm>
              <a:off x="179280" y="2708280"/>
              <a:ext cx="93312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4" name=""/>
            <p:cNvSpPr/>
            <p:nvPr/>
          </p:nvSpPr>
          <p:spPr>
            <a:xfrm>
              <a:off x="179280" y="2708280"/>
              <a:ext cx="93312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grpSp>
      <p:sp>
        <p:nvSpPr>
          <p:cNvPr id="135" name=""/>
          <p:cNvSpPr/>
          <p:nvPr/>
        </p:nvSpPr>
        <p:spPr>
          <a:xfrm>
            <a:off x="403560" y="3645000"/>
            <a:ext cx="519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Host</a:t>
            </a:r>
            <a:endParaRPr b="0" lang="en-US" sz="1400" spc="-1" strike="noStrike">
              <a:solidFill>
                <a:srgbClr val="000000"/>
              </a:solidFill>
              <a:latin typeface="Rotis Sans Serif for Nokia"/>
            </a:endParaRPr>
          </a:p>
        </p:txBody>
      </p:sp>
      <p:sp>
        <p:nvSpPr>
          <p:cNvPr id="136" name=""/>
          <p:cNvSpPr/>
          <p:nvPr/>
        </p:nvSpPr>
        <p:spPr>
          <a:xfrm>
            <a:off x="4140360" y="4365720"/>
            <a:ext cx="136836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2195640" y="2637000"/>
            <a:ext cx="934920" cy="71892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8" name=""/>
          <p:cNvSpPr/>
          <p:nvPr/>
        </p:nvSpPr>
        <p:spPr>
          <a:xfrm>
            <a:off x="6084720" y="2637000"/>
            <a:ext cx="2519640" cy="223200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39" name=""/>
          <p:cNvSpPr/>
          <p:nvPr/>
        </p:nvSpPr>
        <p:spPr>
          <a:xfrm>
            <a:off x="6599160" y="2832120"/>
            <a:ext cx="184320" cy="30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40" name=""/>
          <p:cNvSpPr/>
          <p:nvPr/>
        </p:nvSpPr>
        <p:spPr>
          <a:xfrm>
            <a:off x="6889680" y="5013360"/>
            <a:ext cx="1285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Network </a:t>
            </a:r>
            <a:endParaRPr b="0" lang="en-US" sz="1400" spc="-1" strike="noStrike">
              <a:solidFill>
                <a:srgbClr val="000000"/>
              </a:solidFill>
              <a:latin typeface="Rotis Sans Serif for Nokia"/>
            </a:endParaRPr>
          </a:p>
        </p:txBody>
      </p:sp>
      <p:sp>
        <p:nvSpPr>
          <p:cNvPr id="141" name=""/>
          <p:cNvSpPr/>
          <p:nvPr/>
        </p:nvSpPr>
        <p:spPr>
          <a:xfrm>
            <a:off x="4069440" y="357336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42" name=""/>
          <p:cNvSpPr/>
          <p:nvPr/>
        </p:nvSpPr>
        <p:spPr>
          <a:xfrm>
            <a:off x="4226400" y="537372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43" name=""/>
          <p:cNvSpPr/>
          <p:nvPr/>
        </p:nvSpPr>
        <p:spPr>
          <a:xfrm>
            <a:off x="2048040" y="3573360"/>
            <a:ext cx="119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144" name=""/>
          <p:cNvSpPr/>
          <p:nvPr/>
        </p:nvSpPr>
        <p:spPr>
          <a:xfrm>
            <a:off x="1116000" y="3068640"/>
            <a:ext cx="10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5" name=""/>
          <p:cNvSpPr/>
          <p:nvPr/>
        </p:nvSpPr>
        <p:spPr>
          <a:xfrm>
            <a:off x="3132000" y="2997360"/>
            <a:ext cx="9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6" name=""/>
          <p:cNvSpPr/>
          <p:nvPr/>
        </p:nvSpPr>
        <p:spPr>
          <a:xfrm>
            <a:off x="3635280" y="2997360"/>
            <a:ext cx="0" cy="18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7" name=""/>
          <p:cNvSpPr/>
          <p:nvPr/>
        </p:nvSpPr>
        <p:spPr>
          <a:xfrm>
            <a:off x="3635280" y="4869000"/>
            <a:ext cx="50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5364000" y="2924280"/>
            <a:ext cx="79236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9" name=""/>
          <p:cNvSpPr/>
          <p:nvPr/>
        </p:nvSpPr>
        <p:spPr>
          <a:xfrm flipV="1">
            <a:off x="5508720" y="4365360"/>
            <a:ext cx="64764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50" name=""/>
          <p:cNvSpPr/>
          <p:nvPr/>
        </p:nvSpPr>
        <p:spPr>
          <a:xfrm>
            <a:off x="4284720" y="2565360"/>
            <a:ext cx="934920" cy="7192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151" name=""/>
          <p:cNvSpPr/>
          <p:nvPr/>
        </p:nvSpPr>
        <p:spPr>
          <a:xfrm>
            <a:off x="4356000" y="4437000"/>
            <a:ext cx="935280" cy="7192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4076640"/>
            <a:ext cx="4753080" cy="180036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3" name="PlaceHolder 1"/>
          <p:cNvSpPr>
            <a:spLocks noGrp="1"/>
          </p:cNvSpPr>
          <p:nvPr>
            <p:ph type="title"/>
          </p:nvPr>
        </p:nvSpPr>
        <p:spPr>
          <a:xfrm>
            <a:off x="611280" y="404280"/>
            <a:ext cx="7750080" cy="1008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ea typeface="ＭＳ Ｐゴシック"/>
              </a:rPr>
              <a:t>Case 3: IS-Server on Core Network (Home) </a:t>
            </a:r>
            <a:endParaRPr b="1" lang="en-US" sz="3200" spc="-1" strike="noStrike">
              <a:solidFill>
                <a:srgbClr val="000000"/>
              </a:solidFill>
              <a:latin typeface="Times New Roman"/>
            </a:endParaRPr>
          </a:p>
        </p:txBody>
      </p:sp>
      <p:sp>
        <p:nvSpPr>
          <p:cNvPr id="154" name=""/>
          <p:cNvSpPr/>
          <p:nvPr/>
        </p:nvSpPr>
        <p:spPr>
          <a:xfrm>
            <a:off x="4067280" y="2492280"/>
            <a:ext cx="129672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55" name=""/>
          <p:cNvGrpSpPr/>
          <p:nvPr/>
        </p:nvGrpSpPr>
        <p:grpSpPr>
          <a:xfrm>
            <a:off x="179280" y="2708280"/>
            <a:ext cx="933120" cy="717480"/>
            <a:chOff x="179280" y="2708280"/>
            <a:chExt cx="933120" cy="717480"/>
          </a:xfrm>
        </p:grpSpPr>
        <p:sp>
          <p:nvSpPr>
            <p:cNvPr id="156" name=""/>
            <p:cNvSpPr/>
            <p:nvPr/>
          </p:nvSpPr>
          <p:spPr>
            <a:xfrm>
              <a:off x="179280" y="2708280"/>
              <a:ext cx="93312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7" name=""/>
            <p:cNvSpPr/>
            <p:nvPr/>
          </p:nvSpPr>
          <p:spPr>
            <a:xfrm>
              <a:off x="179280" y="2708280"/>
              <a:ext cx="93312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grpSp>
      <p:sp>
        <p:nvSpPr>
          <p:cNvPr id="158" name=""/>
          <p:cNvSpPr/>
          <p:nvPr/>
        </p:nvSpPr>
        <p:spPr>
          <a:xfrm>
            <a:off x="403560" y="3645000"/>
            <a:ext cx="519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Host</a:t>
            </a:r>
            <a:endParaRPr b="0" lang="en-US" sz="1400" spc="-1" strike="noStrike">
              <a:solidFill>
                <a:srgbClr val="000000"/>
              </a:solidFill>
              <a:latin typeface="Rotis Sans Serif for Nokia"/>
            </a:endParaRPr>
          </a:p>
        </p:txBody>
      </p:sp>
      <p:sp>
        <p:nvSpPr>
          <p:cNvPr id="159" name=""/>
          <p:cNvSpPr/>
          <p:nvPr/>
        </p:nvSpPr>
        <p:spPr>
          <a:xfrm>
            <a:off x="3419640" y="4365720"/>
            <a:ext cx="100800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0" name=""/>
          <p:cNvSpPr/>
          <p:nvPr/>
        </p:nvSpPr>
        <p:spPr>
          <a:xfrm>
            <a:off x="2195640" y="2637000"/>
            <a:ext cx="934920" cy="71892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1" name=""/>
          <p:cNvSpPr/>
          <p:nvPr/>
        </p:nvSpPr>
        <p:spPr>
          <a:xfrm>
            <a:off x="6948360" y="2852640"/>
            <a:ext cx="935280" cy="7192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162" name=""/>
          <p:cNvSpPr/>
          <p:nvPr/>
        </p:nvSpPr>
        <p:spPr>
          <a:xfrm>
            <a:off x="1835280" y="4437000"/>
            <a:ext cx="934920" cy="7192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3" name=""/>
          <p:cNvSpPr/>
          <p:nvPr/>
        </p:nvSpPr>
        <p:spPr>
          <a:xfrm>
            <a:off x="6156360" y="2276640"/>
            <a:ext cx="2519280" cy="223200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64" name=""/>
          <p:cNvSpPr/>
          <p:nvPr/>
        </p:nvSpPr>
        <p:spPr>
          <a:xfrm>
            <a:off x="6599160" y="2832120"/>
            <a:ext cx="184320" cy="30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65" name=""/>
          <p:cNvSpPr/>
          <p:nvPr/>
        </p:nvSpPr>
        <p:spPr>
          <a:xfrm>
            <a:off x="6658920" y="4581360"/>
            <a:ext cx="1884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Network (Home) </a:t>
            </a:r>
            <a:endParaRPr b="0" lang="en-US" sz="1400" spc="-1" strike="noStrike">
              <a:solidFill>
                <a:srgbClr val="000000"/>
              </a:solidFill>
              <a:latin typeface="Rotis Sans Serif for Nokia"/>
            </a:endParaRPr>
          </a:p>
        </p:txBody>
      </p:sp>
      <p:sp>
        <p:nvSpPr>
          <p:cNvPr id="166" name=""/>
          <p:cNvSpPr/>
          <p:nvPr/>
        </p:nvSpPr>
        <p:spPr>
          <a:xfrm>
            <a:off x="4069440" y="357336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67" name=""/>
          <p:cNvSpPr/>
          <p:nvPr/>
        </p:nvSpPr>
        <p:spPr>
          <a:xfrm>
            <a:off x="3204000" y="530064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68" name=""/>
          <p:cNvSpPr/>
          <p:nvPr/>
        </p:nvSpPr>
        <p:spPr>
          <a:xfrm>
            <a:off x="2048040" y="3573360"/>
            <a:ext cx="119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169" name=""/>
          <p:cNvSpPr/>
          <p:nvPr/>
        </p:nvSpPr>
        <p:spPr>
          <a:xfrm>
            <a:off x="1747800" y="5229360"/>
            <a:ext cx="1154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170" name=""/>
          <p:cNvSpPr/>
          <p:nvPr/>
        </p:nvSpPr>
        <p:spPr>
          <a:xfrm>
            <a:off x="1116000" y="3068640"/>
            <a:ext cx="10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1" name=""/>
          <p:cNvSpPr/>
          <p:nvPr/>
        </p:nvSpPr>
        <p:spPr>
          <a:xfrm>
            <a:off x="3132000" y="2997360"/>
            <a:ext cx="9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2" name=""/>
          <p:cNvSpPr/>
          <p:nvPr/>
        </p:nvSpPr>
        <p:spPr>
          <a:xfrm>
            <a:off x="5364000" y="2924280"/>
            <a:ext cx="79236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3" name=""/>
          <p:cNvSpPr/>
          <p:nvPr/>
        </p:nvSpPr>
        <p:spPr>
          <a:xfrm>
            <a:off x="2771640" y="4797360"/>
            <a:ext cx="64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4" name=""/>
          <p:cNvSpPr/>
          <p:nvPr/>
        </p:nvSpPr>
        <p:spPr>
          <a:xfrm>
            <a:off x="755640" y="3429000"/>
            <a:ext cx="1079640" cy="1224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5" name=""/>
          <p:cNvSpPr/>
          <p:nvPr/>
        </p:nvSpPr>
        <p:spPr>
          <a:xfrm>
            <a:off x="4390560" y="5445000"/>
            <a:ext cx="2055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ed   Network (Core)  </a:t>
            </a:r>
            <a:endParaRPr b="0" lang="en-US" sz="1400" spc="-1" strike="noStrike">
              <a:solidFill>
                <a:srgbClr val="000000"/>
              </a:solidFill>
              <a:latin typeface="Rotis Sans Serif for Nokia"/>
            </a:endParaRPr>
          </a:p>
        </p:txBody>
      </p:sp>
      <p:sp>
        <p:nvSpPr>
          <p:cNvPr id="176" name=""/>
          <p:cNvSpPr/>
          <p:nvPr/>
        </p:nvSpPr>
        <p:spPr>
          <a:xfrm>
            <a:off x="4859280" y="4365720"/>
            <a:ext cx="1297080" cy="96336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77" name=""/>
          <p:cNvSpPr/>
          <p:nvPr/>
        </p:nvSpPr>
        <p:spPr>
          <a:xfrm>
            <a:off x="4427640" y="4797360"/>
            <a:ext cx="50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flipV="1">
            <a:off x="6084720" y="4149720"/>
            <a:ext cx="792360" cy="57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547640" y="4076640"/>
            <a:ext cx="7201080" cy="2089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0" name="PlaceHolder 1"/>
          <p:cNvSpPr>
            <a:spLocks noGrp="1"/>
          </p:cNvSpPr>
          <p:nvPr>
            <p:ph type="title"/>
          </p:nvPr>
        </p:nvSpPr>
        <p:spPr>
          <a:xfrm>
            <a:off x="611280" y="404280"/>
            <a:ext cx="8353440" cy="1008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ea typeface="ＭＳ Ｐゴシック"/>
              </a:rPr>
              <a:t>Case 4: IS-Server on Core Network (Visited) </a:t>
            </a:r>
            <a:endParaRPr b="1" lang="en-US" sz="3200" spc="-1" strike="noStrike">
              <a:solidFill>
                <a:srgbClr val="000000"/>
              </a:solidFill>
              <a:latin typeface="Times New Roman"/>
            </a:endParaRPr>
          </a:p>
        </p:txBody>
      </p:sp>
      <p:sp>
        <p:nvSpPr>
          <p:cNvPr id="181" name=""/>
          <p:cNvSpPr/>
          <p:nvPr/>
        </p:nvSpPr>
        <p:spPr>
          <a:xfrm>
            <a:off x="4067280" y="2492280"/>
            <a:ext cx="129672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82" name=""/>
          <p:cNvGrpSpPr/>
          <p:nvPr/>
        </p:nvGrpSpPr>
        <p:grpSpPr>
          <a:xfrm>
            <a:off x="179280" y="2708280"/>
            <a:ext cx="933120" cy="717480"/>
            <a:chOff x="179280" y="2708280"/>
            <a:chExt cx="933120" cy="717480"/>
          </a:xfrm>
        </p:grpSpPr>
        <p:sp>
          <p:nvSpPr>
            <p:cNvPr id="183" name=""/>
            <p:cNvSpPr/>
            <p:nvPr/>
          </p:nvSpPr>
          <p:spPr>
            <a:xfrm>
              <a:off x="179280" y="2708280"/>
              <a:ext cx="93312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4" name=""/>
            <p:cNvSpPr/>
            <p:nvPr/>
          </p:nvSpPr>
          <p:spPr>
            <a:xfrm>
              <a:off x="179280" y="2708280"/>
              <a:ext cx="93312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grpSp>
      <p:sp>
        <p:nvSpPr>
          <p:cNvPr id="185" name=""/>
          <p:cNvSpPr/>
          <p:nvPr/>
        </p:nvSpPr>
        <p:spPr>
          <a:xfrm>
            <a:off x="403560" y="3645000"/>
            <a:ext cx="519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Host</a:t>
            </a:r>
            <a:endParaRPr b="0" lang="en-US" sz="1400" spc="-1" strike="noStrike">
              <a:solidFill>
                <a:srgbClr val="000000"/>
              </a:solidFill>
              <a:latin typeface="Rotis Sans Serif for Nokia"/>
            </a:endParaRPr>
          </a:p>
        </p:txBody>
      </p:sp>
      <p:sp>
        <p:nvSpPr>
          <p:cNvPr id="186" name=""/>
          <p:cNvSpPr/>
          <p:nvPr/>
        </p:nvSpPr>
        <p:spPr>
          <a:xfrm>
            <a:off x="2195640" y="2637000"/>
            <a:ext cx="934920" cy="71892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7" name=""/>
          <p:cNvSpPr/>
          <p:nvPr/>
        </p:nvSpPr>
        <p:spPr>
          <a:xfrm>
            <a:off x="7093080" y="2349360"/>
            <a:ext cx="934920" cy="7192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188" name=""/>
          <p:cNvSpPr/>
          <p:nvPr/>
        </p:nvSpPr>
        <p:spPr>
          <a:xfrm>
            <a:off x="6300720" y="1700280"/>
            <a:ext cx="2519280" cy="201600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89" name=""/>
          <p:cNvSpPr/>
          <p:nvPr/>
        </p:nvSpPr>
        <p:spPr>
          <a:xfrm>
            <a:off x="6599160" y="2832120"/>
            <a:ext cx="184320" cy="30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90" name=""/>
          <p:cNvSpPr/>
          <p:nvPr/>
        </p:nvSpPr>
        <p:spPr>
          <a:xfrm>
            <a:off x="5650920" y="3645000"/>
            <a:ext cx="1884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Network (Home) </a:t>
            </a:r>
            <a:endParaRPr b="0" lang="en-US" sz="1400" spc="-1" strike="noStrike">
              <a:solidFill>
                <a:srgbClr val="000000"/>
              </a:solidFill>
              <a:latin typeface="Rotis Sans Serif for Nokia"/>
            </a:endParaRPr>
          </a:p>
        </p:txBody>
      </p:sp>
      <p:sp>
        <p:nvSpPr>
          <p:cNvPr id="191" name=""/>
          <p:cNvSpPr/>
          <p:nvPr/>
        </p:nvSpPr>
        <p:spPr>
          <a:xfrm>
            <a:off x="4069440" y="357336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192" name=""/>
          <p:cNvSpPr/>
          <p:nvPr/>
        </p:nvSpPr>
        <p:spPr>
          <a:xfrm>
            <a:off x="2048040" y="3573360"/>
            <a:ext cx="119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193" name=""/>
          <p:cNvSpPr/>
          <p:nvPr/>
        </p:nvSpPr>
        <p:spPr>
          <a:xfrm>
            <a:off x="1116000" y="3068640"/>
            <a:ext cx="10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94" name=""/>
          <p:cNvSpPr/>
          <p:nvPr/>
        </p:nvSpPr>
        <p:spPr>
          <a:xfrm>
            <a:off x="3132000" y="2997360"/>
            <a:ext cx="9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95" name=""/>
          <p:cNvSpPr/>
          <p:nvPr/>
        </p:nvSpPr>
        <p:spPr>
          <a:xfrm>
            <a:off x="5364000" y="2924280"/>
            <a:ext cx="100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96" name=""/>
          <p:cNvSpPr/>
          <p:nvPr/>
        </p:nvSpPr>
        <p:spPr>
          <a:xfrm>
            <a:off x="755640" y="3429000"/>
            <a:ext cx="1079640" cy="1224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97" name=""/>
          <p:cNvSpPr/>
          <p:nvPr/>
        </p:nvSpPr>
        <p:spPr>
          <a:xfrm>
            <a:off x="6659640" y="4149720"/>
            <a:ext cx="1944720" cy="1584360"/>
          </a:xfrm>
          <a:custGeom>
            <a:avLst/>
            <a:gdLst/>
            <a:ahLst/>
            <a:rect l="l" t="t" r="r" b="b"/>
            <a:pathLst>
              <a:path w="2339" h="2262">
                <a:moveTo>
                  <a:pt x="1754" y="398"/>
                </a:moveTo>
                <a:lnTo>
                  <a:pt x="1746" y="359"/>
                </a:lnTo>
                <a:lnTo>
                  <a:pt x="1736" y="321"/>
                </a:lnTo>
                <a:lnTo>
                  <a:pt x="1725" y="283"/>
                </a:lnTo>
                <a:lnTo>
                  <a:pt x="1710" y="249"/>
                </a:lnTo>
                <a:lnTo>
                  <a:pt x="1694" y="215"/>
                </a:lnTo>
                <a:lnTo>
                  <a:pt x="1675" y="185"/>
                </a:lnTo>
                <a:lnTo>
                  <a:pt x="1655" y="156"/>
                </a:lnTo>
                <a:lnTo>
                  <a:pt x="1635" y="130"/>
                </a:lnTo>
                <a:lnTo>
                  <a:pt x="1623" y="116"/>
                </a:lnTo>
                <a:lnTo>
                  <a:pt x="1611" y="105"/>
                </a:lnTo>
                <a:lnTo>
                  <a:pt x="1598" y="95"/>
                </a:lnTo>
                <a:lnTo>
                  <a:pt x="1587" y="85"/>
                </a:lnTo>
                <a:lnTo>
                  <a:pt x="1574" y="74"/>
                </a:lnTo>
                <a:lnTo>
                  <a:pt x="1561" y="66"/>
                </a:lnTo>
                <a:lnTo>
                  <a:pt x="1547" y="57"/>
                </a:lnTo>
                <a:lnTo>
                  <a:pt x="1534" y="50"/>
                </a:lnTo>
                <a:lnTo>
                  <a:pt x="1520" y="44"/>
                </a:lnTo>
                <a:lnTo>
                  <a:pt x="1505" y="38"/>
                </a:lnTo>
                <a:lnTo>
                  <a:pt x="1491" y="32"/>
                </a:lnTo>
                <a:lnTo>
                  <a:pt x="1476" y="29"/>
                </a:lnTo>
                <a:lnTo>
                  <a:pt x="1462" y="25"/>
                </a:lnTo>
                <a:lnTo>
                  <a:pt x="1447" y="24"/>
                </a:lnTo>
                <a:lnTo>
                  <a:pt x="1431" y="22"/>
                </a:lnTo>
                <a:lnTo>
                  <a:pt x="1417" y="22"/>
                </a:lnTo>
                <a:lnTo>
                  <a:pt x="1395" y="22"/>
                </a:lnTo>
                <a:lnTo>
                  <a:pt x="1373" y="25"/>
                </a:lnTo>
                <a:lnTo>
                  <a:pt x="1351" y="29"/>
                </a:lnTo>
                <a:lnTo>
                  <a:pt x="1331" y="37"/>
                </a:lnTo>
                <a:lnTo>
                  <a:pt x="1311" y="45"/>
                </a:lnTo>
                <a:lnTo>
                  <a:pt x="1291" y="54"/>
                </a:lnTo>
                <a:lnTo>
                  <a:pt x="1272" y="66"/>
                </a:lnTo>
                <a:lnTo>
                  <a:pt x="1253" y="79"/>
                </a:lnTo>
                <a:lnTo>
                  <a:pt x="1235" y="93"/>
                </a:lnTo>
                <a:lnTo>
                  <a:pt x="1218" y="109"/>
                </a:lnTo>
                <a:lnTo>
                  <a:pt x="1200" y="127"/>
                </a:lnTo>
                <a:lnTo>
                  <a:pt x="1186" y="146"/>
                </a:lnTo>
                <a:lnTo>
                  <a:pt x="1170" y="166"/>
                </a:lnTo>
                <a:lnTo>
                  <a:pt x="1157" y="186"/>
                </a:lnTo>
                <a:lnTo>
                  <a:pt x="1144" y="209"/>
                </a:lnTo>
                <a:lnTo>
                  <a:pt x="1131" y="233"/>
                </a:lnTo>
                <a:lnTo>
                  <a:pt x="1119" y="207"/>
                </a:lnTo>
                <a:lnTo>
                  <a:pt x="1106" y="182"/>
                </a:lnTo>
                <a:lnTo>
                  <a:pt x="1092" y="159"/>
                </a:lnTo>
                <a:lnTo>
                  <a:pt x="1077" y="137"/>
                </a:lnTo>
                <a:lnTo>
                  <a:pt x="1061" y="116"/>
                </a:lnTo>
                <a:lnTo>
                  <a:pt x="1044" y="98"/>
                </a:lnTo>
                <a:lnTo>
                  <a:pt x="1026" y="80"/>
                </a:lnTo>
                <a:lnTo>
                  <a:pt x="1007" y="64"/>
                </a:lnTo>
                <a:lnTo>
                  <a:pt x="989" y="50"/>
                </a:lnTo>
                <a:lnTo>
                  <a:pt x="968" y="37"/>
                </a:lnTo>
                <a:lnTo>
                  <a:pt x="948" y="25"/>
                </a:lnTo>
                <a:lnTo>
                  <a:pt x="926" y="16"/>
                </a:lnTo>
                <a:lnTo>
                  <a:pt x="904" y="9"/>
                </a:lnTo>
                <a:lnTo>
                  <a:pt x="883" y="3"/>
                </a:lnTo>
                <a:lnTo>
                  <a:pt x="859" y="0"/>
                </a:lnTo>
                <a:lnTo>
                  <a:pt x="836" y="0"/>
                </a:lnTo>
                <a:lnTo>
                  <a:pt x="819" y="0"/>
                </a:lnTo>
                <a:lnTo>
                  <a:pt x="803" y="2"/>
                </a:lnTo>
                <a:lnTo>
                  <a:pt x="785" y="5"/>
                </a:lnTo>
                <a:lnTo>
                  <a:pt x="769" y="9"/>
                </a:lnTo>
                <a:lnTo>
                  <a:pt x="753" y="13"/>
                </a:lnTo>
                <a:lnTo>
                  <a:pt x="737" y="19"/>
                </a:lnTo>
                <a:lnTo>
                  <a:pt x="723" y="26"/>
                </a:lnTo>
                <a:lnTo>
                  <a:pt x="707" y="34"/>
                </a:lnTo>
                <a:lnTo>
                  <a:pt x="692" y="42"/>
                </a:lnTo>
                <a:lnTo>
                  <a:pt x="678" y="53"/>
                </a:lnTo>
                <a:lnTo>
                  <a:pt x="665" y="63"/>
                </a:lnTo>
                <a:lnTo>
                  <a:pt x="650" y="74"/>
                </a:lnTo>
                <a:lnTo>
                  <a:pt x="637" y="87"/>
                </a:lnTo>
                <a:lnTo>
                  <a:pt x="624" y="100"/>
                </a:lnTo>
                <a:lnTo>
                  <a:pt x="612" y="114"/>
                </a:lnTo>
                <a:lnTo>
                  <a:pt x="601" y="130"/>
                </a:lnTo>
                <a:lnTo>
                  <a:pt x="589" y="144"/>
                </a:lnTo>
                <a:lnTo>
                  <a:pt x="579" y="160"/>
                </a:lnTo>
                <a:lnTo>
                  <a:pt x="569" y="177"/>
                </a:lnTo>
                <a:lnTo>
                  <a:pt x="559" y="195"/>
                </a:lnTo>
                <a:lnTo>
                  <a:pt x="550" y="212"/>
                </a:lnTo>
                <a:lnTo>
                  <a:pt x="541" y="231"/>
                </a:lnTo>
                <a:lnTo>
                  <a:pt x="533" y="250"/>
                </a:lnTo>
                <a:lnTo>
                  <a:pt x="525" y="270"/>
                </a:lnTo>
                <a:lnTo>
                  <a:pt x="518" y="291"/>
                </a:lnTo>
                <a:lnTo>
                  <a:pt x="512" y="311"/>
                </a:lnTo>
                <a:lnTo>
                  <a:pt x="508" y="333"/>
                </a:lnTo>
                <a:lnTo>
                  <a:pt x="502" y="353"/>
                </a:lnTo>
                <a:lnTo>
                  <a:pt x="499" y="376"/>
                </a:lnTo>
                <a:lnTo>
                  <a:pt x="496" y="398"/>
                </a:lnTo>
                <a:lnTo>
                  <a:pt x="493" y="421"/>
                </a:lnTo>
                <a:lnTo>
                  <a:pt x="492" y="445"/>
                </a:lnTo>
                <a:lnTo>
                  <a:pt x="470" y="430"/>
                </a:lnTo>
                <a:lnTo>
                  <a:pt x="448" y="419"/>
                </a:lnTo>
                <a:lnTo>
                  <a:pt x="427" y="408"/>
                </a:lnTo>
                <a:lnTo>
                  <a:pt x="403" y="398"/>
                </a:lnTo>
                <a:lnTo>
                  <a:pt x="382" y="391"/>
                </a:lnTo>
                <a:lnTo>
                  <a:pt x="360" y="384"/>
                </a:lnTo>
                <a:lnTo>
                  <a:pt x="338" y="379"/>
                </a:lnTo>
                <a:lnTo>
                  <a:pt x="315" y="375"/>
                </a:lnTo>
                <a:lnTo>
                  <a:pt x="293" y="374"/>
                </a:lnTo>
                <a:lnTo>
                  <a:pt x="271" y="374"/>
                </a:lnTo>
                <a:lnTo>
                  <a:pt x="250" y="375"/>
                </a:lnTo>
                <a:lnTo>
                  <a:pt x="229" y="378"/>
                </a:lnTo>
                <a:lnTo>
                  <a:pt x="209" y="382"/>
                </a:lnTo>
                <a:lnTo>
                  <a:pt x="189" y="388"/>
                </a:lnTo>
                <a:lnTo>
                  <a:pt x="168" y="395"/>
                </a:lnTo>
                <a:lnTo>
                  <a:pt x="149" y="405"/>
                </a:lnTo>
                <a:lnTo>
                  <a:pt x="133" y="414"/>
                </a:lnTo>
                <a:lnTo>
                  <a:pt x="119" y="424"/>
                </a:lnTo>
                <a:lnTo>
                  <a:pt x="106" y="436"/>
                </a:lnTo>
                <a:lnTo>
                  <a:pt x="93" y="448"/>
                </a:lnTo>
                <a:lnTo>
                  <a:pt x="81" y="461"/>
                </a:lnTo>
                <a:lnTo>
                  <a:pt x="69" y="475"/>
                </a:lnTo>
                <a:lnTo>
                  <a:pt x="59" y="490"/>
                </a:lnTo>
                <a:lnTo>
                  <a:pt x="51" y="504"/>
                </a:lnTo>
                <a:lnTo>
                  <a:pt x="42" y="520"/>
                </a:lnTo>
                <a:lnTo>
                  <a:pt x="33" y="536"/>
                </a:lnTo>
                <a:lnTo>
                  <a:pt x="27" y="554"/>
                </a:lnTo>
                <a:lnTo>
                  <a:pt x="20" y="571"/>
                </a:lnTo>
                <a:lnTo>
                  <a:pt x="16" y="590"/>
                </a:lnTo>
                <a:lnTo>
                  <a:pt x="11" y="609"/>
                </a:lnTo>
                <a:lnTo>
                  <a:pt x="7" y="628"/>
                </a:lnTo>
                <a:lnTo>
                  <a:pt x="4" y="648"/>
                </a:lnTo>
                <a:lnTo>
                  <a:pt x="3" y="668"/>
                </a:lnTo>
                <a:lnTo>
                  <a:pt x="1" y="689"/>
                </a:lnTo>
                <a:lnTo>
                  <a:pt x="1" y="709"/>
                </a:lnTo>
                <a:lnTo>
                  <a:pt x="3" y="731"/>
                </a:lnTo>
                <a:lnTo>
                  <a:pt x="4" y="753"/>
                </a:lnTo>
                <a:lnTo>
                  <a:pt x="7" y="774"/>
                </a:lnTo>
                <a:lnTo>
                  <a:pt x="10" y="796"/>
                </a:lnTo>
                <a:lnTo>
                  <a:pt x="14" y="818"/>
                </a:lnTo>
                <a:lnTo>
                  <a:pt x="20" y="840"/>
                </a:lnTo>
                <a:lnTo>
                  <a:pt x="26" y="862"/>
                </a:lnTo>
                <a:lnTo>
                  <a:pt x="33" y="885"/>
                </a:lnTo>
                <a:lnTo>
                  <a:pt x="40" y="907"/>
                </a:lnTo>
                <a:lnTo>
                  <a:pt x="49" y="928"/>
                </a:lnTo>
                <a:lnTo>
                  <a:pt x="59" y="952"/>
                </a:lnTo>
                <a:lnTo>
                  <a:pt x="69" y="973"/>
                </a:lnTo>
                <a:lnTo>
                  <a:pt x="81" y="995"/>
                </a:lnTo>
                <a:lnTo>
                  <a:pt x="88" y="1005"/>
                </a:lnTo>
                <a:lnTo>
                  <a:pt x="94" y="1016"/>
                </a:lnTo>
                <a:lnTo>
                  <a:pt x="100" y="1027"/>
                </a:lnTo>
                <a:lnTo>
                  <a:pt x="107" y="1037"/>
                </a:lnTo>
                <a:lnTo>
                  <a:pt x="115" y="1047"/>
                </a:lnTo>
                <a:lnTo>
                  <a:pt x="120" y="1056"/>
                </a:lnTo>
                <a:lnTo>
                  <a:pt x="128" y="1066"/>
                </a:lnTo>
                <a:lnTo>
                  <a:pt x="135" y="1077"/>
                </a:lnTo>
                <a:lnTo>
                  <a:pt x="119" y="1097"/>
                </a:lnTo>
                <a:lnTo>
                  <a:pt x="103" y="1120"/>
                </a:lnTo>
                <a:lnTo>
                  <a:pt x="87" y="1143"/>
                </a:lnTo>
                <a:lnTo>
                  <a:pt x="74" y="1167"/>
                </a:lnTo>
                <a:lnTo>
                  <a:pt x="61" y="1193"/>
                </a:lnTo>
                <a:lnTo>
                  <a:pt x="49" y="1219"/>
                </a:lnTo>
                <a:lnTo>
                  <a:pt x="38" y="1245"/>
                </a:lnTo>
                <a:lnTo>
                  <a:pt x="29" y="1273"/>
                </a:lnTo>
                <a:lnTo>
                  <a:pt x="22" y="1299"/>
                </a:lnTo>
                <a:lnTo>
                  <a:pt x="14" y="1325"/>
                </a:lnTo>
                <a:lnTo>
                  <a:pt x="10" y="1350"/>
                </a:lnTo>
                <a:lnTo>
                  <a:pt x="6" y="1376"/>
                </a:lnTo>
                <a:lnTo>
                  <a:pt x="3" y="1402"/>
                </a:lnTo>
                <a:lnTo>
                  <a:pt x="1" y="1427"/>
                </a:lnTo>
                <a:lnTo>
                  <a:pt x="0" y="1453"/>
                </a:lnTo>
                <a:lnTo>
                  <a:pt x="1" y="1477"/>
                </a:lnTo>
                <a:lnTo>
                  <a:pt x="3" y="1502"/>
                </a:lnTo>
                <a:lnTo>
                  <a:pt x="4" y="1527"/>
                </a:lnTo>
                <a:lnTo>
                  <a:pt x="9" y="1551"/>
                </a:lnTo>
                <a:lnTo>
                  <a:pt x="13" y="1575"/>
                </a:lnTo>
                <a:lnTo>
                  <a:pt x="19" y="1598"/>
                </a:lnTo>
                <a:lnTo>
                  <a:pt x="26" y="1621"/>
                </a:lnTo>
                <a:lnTo>
                  <a:pt x="33" y="1644"/>
                </a:lnTo>
                <a:lnTo>
                  <a:pt x="42" y="1666"/>
                </a:lnTo>
                <a:lnTo>
                  <a:pt x="52" y="1688"/>
                </a:lnTo>
                <a:lnTo>
                  <a:pt x="62" y="1708"/>
                </a:lnTo>
                <a:lnTo>
                  <a:pt x="74" y="1729"/>
                </a:lnTo>
                <a:lnTo>
                  <a:pt x="87" y="1748"/>
                </a:lnTo>
                <a:lnTo>
                  <a:pt x="100" y="1766"/>
                </a:lnTo>
                <a:lnTo>
                  <a:pt x="115" y="1784"/>
                </a:lnTo>
                <a:lnTo>
                  <a:pt x="129" y="1801"/>
                </a:lnTo>
                <a:lnTo>
                  <a:pt x="145" y="1817"/>
                </a:lnTo>
                <a:lnTo>
                  <a:pt x="162" y="1832"/>
                </a:lnTo>
                <a:lnTo>
                  <a:pt x="180" y="1846"/>
                </a:lnTo>
                <a:lnTo>
                  <a:pt x="197" y="1859"/>
                </a:lnTo>
                <a:lnTo>
                  <a:pt x="216" y="1872"/>
                </a:lnTo>
                <a:lnTo>
                  <a:pt x="236" y="1883"/>
                </a:lnTo>
                <a:lnTo>
                  <a:pt x="257" y="1893"/>
                </a:lnTo>
                <a:lnTo>
                  <a:pt x="279" y="1902"/>
                </a:lnTo>
                <a:lnTo>
                  <a:pt x="300" y="1910"/>
                </a:lnTo>
                <a:lnTo>
                  <a:pt x="328" y="1918"/>
                </a:lnTo>
                <a:lnTo>
                  <a:pt x="354" y="1923"/>
                </a:lnTo>
                <a:lnTo>
                  <a:pt x="382" y="1926"/>
                </a:lnTo>
                <a:lnTo>
                  <a:pt x="409" y="1929"/>
                </a:lnTo>
                <a:lnTo>
                  <a:pt x="437" y="1928"/>
                </a:lnTo>
                <a:lnTo>
                  <a:pt x="463" y="1926"/>
                </a:lnTo>
                <a:lnTo>
                  <a:pt x="491" y="1922"/>
                </a:lnTo>
                <a:lnTo>
                  <a:pt x="517" y="1918"/>
                </a:lnTo>
                <a:lnTo>
                  <a:pt x="544" y="1910"/>
                </a:lnTo>
                <a:lnTo>
                  <a:pt x="570" y="1902"/>
                </a:lnTo>
                <a:lnTo>
                  <a:pt x="595" y="1890"/>
                </a:lnTo>
                <a:lnTo>
                  <a:pt x="621" y="1878"/>
                </a:lnTo>
                <a:lnTo>
                  <a:pt x="646" y="1865"/>
                </a:lnTo>
                <a:lnTo>
                  <a:pt x="669" y="1849"/>
                </a:lnTo>
                <a:lnTo>
                  <a:pt x="692" y="1833"/>
                </a:lnTo>
                <a:lnTo>
                  <a:pt x="716" y="1814"/>
                </a:lnTo>
                <a:lnTo>
                  <a:pt x="717" y="1838"/>
                </a:lnTo>
                <a:lnTo>
                  <a:pt x="721" y="1861"/>
                </a:lnTo>
                <a:lnTo>
                  <a:pt x="726" y="1884"/>
                </a:lnTo>
                <a:lnTo>
                  <a:pt x="730" y="1906"/>
                </a:lnTo>
                <a:lnTo>
                  <a:pt x="737" y="1928"/>
                </a:lnTo>
                <a:lnTo>
                  <a:pt x="745" y="1948"/>
                </a:lnTo>
                <a:lnTo>
                  <a:pt x="752" y="1970"/>
                </a:lnTo>
                <a:lnTo>
                  <a:pt x="762" y="1990"/>
                </a:lnTo>
                <a:lnTo>
                  <a:pt x="772" y="2010"/>
                </a:lnTo>
                <a:lnTo>
                  <a:pt x="782" y="2029"/>
                </a:lnTo>
                <a:lnTo>
                  <a:pt x="794" y="2048"/>
                </a:lnTo>
                <a:lnTo>
                  <a:pt x="807" y="2066"/>
                </a:lnTo>
                <a:lnTo>
                  <a:pt x="820" y="2083"/>
                </a:lnTo>
                <a:lnTo>
                  <a:pt x="835" y="2101"/>
                </a:lnTo>
                <a:lnTo>
                  <a:pt x="849" y="2116"/>
                </a:lnTo>
                <a:lnTo>
                  <a:pt x="865" y="2132"/>
                </a:lnTo>
                <a:lnTo>
                  <a:pt x="881" y="2147"/>
                </a:lnTo>
                <a:lnTo>
                  <a:pt x="899" y="2162"/>
                </a:lnTo>
                <a:lnTo>
                  <a:pt x="916" y="2175"/>
                </a:lnTo>
                <a:lnTo>
                  <a:pt x="935" y="2186"/>
                </a:lnTo>
                <a:lnTo>
                  <a:pt x="954" y="2198"/>
                </a:lnTo>
                <a:lnTo>
                  <a:pt x="973" y="2209"/>
                </a:lnTo>
                <a:lnTo>
                  <a:pt x="993" y="2218"/>
                </a:lnTo>
                <a:lnTo>
                  <a:pt x="1013" y="2227"/>
                </a:lnTo>
                <a:lnTo>
                  <a:pt x="1034" y="2236"/>
                </a:lnTo>
                <a:lnTo>
                  <a:pt x="1055" y="2243"/>
                </a:lnTo>
                <a:lnTo>
                  <a:pt x="1077" y="2249"/>
                </a:lnTo>
                <a:lnTo>
                  <a:pt x="1099" y="2253"/>
                </a:lnTo>
                <a:lnTo>
                  <a:pt x="1121" y="2257"/>
                </a:lnTo>
                <a:lnTo>
                  <a:pt x="1144" y="2260"/>
                </a:lnTo>
                <a:lnTo>
                  <a:pt x="1167" y="2262"/>
                </a:lnTo>
                <a:lnTo>
                  <a:pt x="1190" y="2262"/>
                </a:lnTo>
                <a:lnTo>
                  <a:pt x="1215" y="2262"/>
                </a:lnTo>
                <a:lnTo>
                  <a:pt x="1240" y="2260"/>
                </a:lnTo>
                <a:lnTo>
                  <a:pt x="1263" y="2257"/>
                </a:lnTo>
                <a:lnTo>
                  <a:pt x="1286" y="2253"/>
                </a:lnTo>
                <a:lnTo>
                  <a:pt x="1309" y="2247"/>
                </a:lnTo>
                <a:lnTo>
                  <a:pt x="1333" y="2241"/>
                </a:lnTo>
                <a:lnTo>
                  <a:pt x="1354" y="2233"/>
                </a:lnTo>
                <a:lnTo>
                  <a:pt x="1376" y="2224"/>
                </a:lnTo>
                <a:lnTo>
                  <a:pt x="1396" y="2215"/>
                </a:lnTo>
                <a:lnTo>
                  <a:pt x="1417" y="2204"/>
                </a:lnTo>
                <a:lnTo>
                  <a:pt x="1437" y="2192"/>
                </a:lnTo>
                <a:lnTo>
                  <a:pt x="1456" y="2180"/>
                </a:lnTo>
                <a:lnTo>
                  <a:pt x="1475" y="2167"/>
                </a:lnTo>
                <a:lnTo>
                  <a:pt x="1494" y="2153"/>
                </a:lnTo>
                <a:lnTo>
                  <a:pt x="1511" y="2137"/>
                </a:lnTo>
                <a:lnTo>
                  <a:pt x="1527" y="2121"/>
                </a:lnTo>
                <a:lnTo>
                  <a:pt x="1543" y="2105"/>
                </a:lnTo>
                <a:lnTo>
                  <a:pt x="1558" y="2087"/>
                </a:lnTo>
                <a:lnTo>
                  <a:pt x="1572" y="2069"/>
                </a:lnTo>
                <a:lnTo>
                  <a:pt x="1585" y="2050"/>
                </a:lnTo>
                <a:lnTo>
                  <a:pt x="1598" y="2031"/>
                </a:lnTo>
                <a:lnTo>
                  <a:pt x="1610" y="2010"/>
                </a:lnTo>
                <a:lnTo>
                  <a:pt x="1620" y="1990"/>
                </a:lnTo>
                <a:lnTo>
                  <a:pt x="1629" y="1968"/>
                </a:lnTo>
                <a:lnTo>
                  <a:pt x="1637" y="1947"/>
                </a:lnTo>
                <a:lnTo>
                  <a:pt x="1645" y="1925"/>
                </a:lnTo>
                <a:lnTo>
                  <a:pt x="1652" y="1902"/>
                </a:lnTo>
                <a:lnTo>
                  <a:pt x="1658" y="1878"/>
                </a:lnTo>
                <a:lnTo>
                  <a:pt x="1661" y="1855"/>
                </a:lnTo>
                <a:lnTo>
                  <a:pt x="1665" y="1830"/>
                </a:lnTo>
                <a:lnTo>
                  <a:pt x="1667" y="1806"/>
                </a:lnTo>
                <a:lnTo>
                  <a:pt x="1667" y="1781"/>
                </a:lnTo>
                <a:lnTo>
                  <a:pt x="1667" y="1781"/>
                </a:lnTo>
                <a:lnTo>
                  <a:pt x="1667" y="1780"/>
                </a:lnTo>
                <a:lnTo>
                  <a:pt x="1667" y="1778"/>
                </a:lnTo>
                <a:lnTo>
                  <a:pt x="1667" y="1777"/>
                </a:lnTo>
                <a:lnTo>
                  <a:pt x="1667" y="1777"/>
                </a:lnTo>
                <a:lnTo>
                  <a:pt x="1667" y="1775"/>
                </a:lnTo>
                <a:lnTo>
                  <a:pt x="1667" y="1774"/>
                </a:lnTo>
                <a:lnTo>
                  <a:pt x="1667" y="1772"/>
                </a:lnTo>
                <a:lnTo>
                  <a:pt x="1690" y="1788"/>
                </a:lnTo>
                <a:lnTo>
                  <a:pt x="1713" y="1803"/>
                </a:lnTo>
                <a:lnTo>
                  <a:pt x="1738" y="1814"/>
                </a:lnTo>
                <a:lnTo>
                  <a:pt x="1761" y="1827"/>
                </a:lnTo>
                <a:lnTo>
                  <a:pt x="1786" y="1838"/>
                </a:lnTo>
                <a:lnTo>
                  <a:pt x="1812" y="1846"/>
                </a:lnTo>
                <a:lnTo>
                  <a:pt x="1836" y="1855"/>
                </a:lnTo>
                <a:lnTo>
                  <a:pt x="1863" y="1861"/>
                </a:lnTo>
                <a:lnTo>
                  <a:pt x="1887" y="1867"/>
                </a:lnTo>
                <a:lnTo>
                  <a:pt x="1913" y="1870"/>
                </a:lnTo>
                <a:lnTo>
                  <a:pt x="1939" y="1872"/>
                </a:lnTo>
                <a:lnTo>
                  <a:pt x="1966" y="1872"/>
                </a:lnTo>
                <a:lnTo>
                  <a:pt x="1990" y="1872"/>
                </a:lnTo>
                <a:lnTo>
                  <a:pt x="2016" y="1870"/>
                </a:lnTo>
                <a:lnTo>
                  <a:pt x="2041" y="1867"/>
                </a:lnTo>
                <a:lnTo>
                  <a:pt x="2066" y="1861"/>
                </a:lnTo>
                <a:lnTo>
                  <a:pt x="2088" y="1855"/>
                </a:lnTo>
                <a:lnTo>
                  <a:pt x="2108" y="1848"/>
                </a:lnTo>
                <a:lnTo>
                  <a:pt x="2128" y="1839"/>
                </a:lnTo>
                <a:lnTo>
                  <a:pt x="2147" y="1830"/>
                </a:lnTo>
                <a:lnTo>
                  <a:pt x="2166" y="1820"/>
                </a:lnTo>
                <a:lnTo>
                  <a:pt x="2183" y="1809"/>
                </a:lnTo>
                <a:lnTo>
                  <a:pt x="2199" y="1797"/>
                </a:lnTo>
                <a:lnTo>
                  <a:pt x="2215" y="1784"/>
                </a:lnTo>
                <a:lnTo>
                  <a:pt x="2230" y="1769"/>
                </a:lnTo>
                <a:lnTo>
                  <a:pt x="2244" y="1755"/>
                </a:lnTo>
                <a:lnTo>
                  <a:pt x="2257" y="1739"/>
                </a:lnTo>
                <a:lnTo>
                  <a:pt x="2271" y="1723"/>
                </a:lnTo>
                <a:lnTo>
                  <a:pt x="2281" y="1707"/>
                </a:lnTo>
                <a:lnTo>
                  <a:pt x="2291" y="1688"/>
                </a:lnTo>
                <a:lnTo>
                  <a:pt x="2301" y="1671"/>
                </a:lnTo>
                <a:lnTo>
                  <a:pt x="2310" y="1652"/>
                </a:lnTo>
                <a:lnTo>
                  <a:pt x="2317" y="1631"/>
                </a:lnTo>
                <a:lnTo>
                  <a:pt x="2323" y="1612"/>
                </a:lnTo>
                <a:lnTo>
                  <a:pt x="2329" y="1592"/>
                </a:lnTo>
                <a:lnTo>
                  <a:pt x="2333" y="1570"/>
                </a:lnTo>
                <a:lnTo>
                  <a:pt x="2336" y="1550"/>
                </a:lnTo>
                <a:lnTo>
                  <a:pt x="2339" y="1528"/>
                </a:lnTo>
                <a:lnTo>
                  <a:pt x="2339" y="1505"/>
                </a:lnTo>
                <a:lnTo>
                  <a:pt x="2339" y="1483"/>
                </a:lnTo>
                <a:lnTo>
                  <a:pt x="2339" y="1460"/>
                </a:lnTo>
                <a:lnTo>
                  <a:pt x="2336" y="1438"/>
                </a:lnTo>
                <a:lnTo>
                  <a:pt x="2333" y="1415"/>
                </a:lnTo>
                <a:lnTo>
                  <a:pt x="2329" y="1392"/>
                </a:lnTo>
                <a:lnTo>
                  <a:pt x="2323" y="1368"/>
                </a:lnTo>
                <a:lnTo>
                  <a:pt x="2316" y="1344"/>
                </a:lnTo>
                <a:lnTo>
                  <a:pt x="2308" y="1321"/>
                </a:lnTo>
                <a:lnTo>
                  <a:pt x="2300" y="1297"/>
                </a:lnTo>
                <a:lnTo>
                  <a:pt x="2285" y="1265"/>
                </a:lnTo>
                <a:lnTo>
                  <a:pt x="2268" y="1233"/>
                </a:lnTo>
                <a:lnTo>
                  <a:pt x="2250" y="1204"/>
                </a:lnTo>
                <a:lnTo>
                  <a:pt x="2230" y="1175"/>
                </a:lnTo>
                <a:lnTo>
                  <a:pt x="2210" y="1148"/>
                </a:lnTo>
                <a:lnTo>
                  <a:pt x="2186" y="1123"/>
                </a:lnTo>
                <a:lnTo>
                  <a:pt x="2163" y="1098"/>
                </a:lnTo>
                <a:lnTo>
                  <a:pt x="2138" y="1075"/>
                </a:lnTo>
                <a:lnTo>
                  <a:pt x="2165" y="1036"/>
                </a:lnTo>
                <a:lnTo>
                  <a:pt x="2189" y="995"/>
                </a:lnTo>
                <a:lnTo>
                  <a:pt x="2210" y="953"/>
                </a:lnTo>
                <a:lnTo>
                  <a:pt x="2228" y="911"/>
                </a:lnTo>
                <a:lnTo>
                  <a:pt x="2243" y="867"/>
                </a:lnTo>
                <a:lnTo>
                  <a:pt x="2256" y="825"/>
                </a:lnTo>
                <a:lnTo>
                  <a:pt x="2266" y="783"/>
                </a:lnTo>
                <a:lnTo>
                  <a:pt x="2272" y="740"/>
                </a:lnTo>
                <a:lnTo>
                  <a:pt x="2275" y="719"/>
                </a:lnTo>
                <a:lnTo>
                  <a:pt x="2276" y="699"/>
                </a:lnTo>
                <a:lnTo>
                  <a:pt x="2276" y="677"/>
                </a:lnTo>
                <a:lnTo>
                  <a:pt x="2276" y="657"/>
                </a:lnTo>
                <a:lnTo>
                  <a:pt x="2276" y="636"/>
                </a:lnTo>
                <a:lnTo>
                  <a:pt x="2275" y="618"/>
                </a:lnTo>
                <a:lnTo>
                  <a:pt x="2272" y="597"/>
                </a:lnTo>
                <a:lnTo>
                  <a:pt x="2269" y="578"/>
                </a:lnTo>
                <a:lnTo>
                  <a:pt x="2265" y="559"/>
                </a:lnTo>
                <a:lnTo>
                  <a:pt x="2260" y="542"/>
                </a:lnTo>
                <a:lnTo>
                  <a:pt x="2255" y="525"/>
                </a:lnTo>
                <a:lnTo>
                  <a:pt x="2247" y="507"/>
                </a:lnTo>
                <a:lnTo>
                  <a:pt x="2240" y="490"/>
                </a:lnTo>
                <a:lnTo>
                  <a:pt x="2233" y="474"/>
                </a:lnTo>
                <a:lnTo>
                  <a:pt x="2224" y="458"/>
                </a:lnTo>
                <a:lnTo>
                  <a:pt x="2214" y="443"/>
                </a:lnTo>
                <a:lnTo>
                  <a:pt x="2204" y="430"/>
                </a:lnTo>
                <a:lnTo>
                  <a:pt x="2194" y="417"/>
                </a:lnTo>
                <a:lnTo>
                  <a:pt x="2183" y="407"/>
                </a:lnTo>
                <a:lnTo>
                  <a:pt x="2173" y="395"/>
                </a:lnTo>
                <a:lnTo>
                  <a:pt x="2162" y="385"/>
                </a:lnTo>
                <a:lnTo>
                  <a:pt x="2150" y="376"/>
                </a:lnTo>
                <a:lnTo>
                  <a:pt x="2137" y="368"/>
                </a:lnTo>
                <a:lnTo>
                  <a:pt x="2124" y="360"/>
                </a:lnTo>
                <a:lnTo>
                  <a:pt x="2112" y="355"/>
                </a:lnTo>
                <a:lnTo>
                  <a:pt x="2098" y="347"/>
                </a:lnTo>
                <a:lnTo>
                  <a:pt x="2085" y="343"/>
                </a:lnTo>
                <a:lnTo>
                  <a:pt x="2070" y="337"/>
                </a:lnTo>
                <a:lnTo>
                  <a:pt x="2056" y="334"/>
                </a:lnTo>
                <a:lnTo>
                  <a:pt x="2041" y="331"/>
                </a:lnTo>
                <a:lnTo>
                  <a:pt x="2027" y="329"/>
                </a:lnTo>
                <a:lnTo>
                  <a:pt x="2012" y="327"/>
                </a:lnTo>
                <a:lnTo>
                  <a:pt x="1996" y="326"/>
                </a:lnTo>
                <a:lnTo>
                  <a:pt x="1982" y="326"/>
                </a:lnTo>
                <a:lnTo>
                  <a:pt x="1966" y="326"/>
                </a:lnTo>
                <a:lnTo>
                  <a:pt x="1950" y="327"/>
                </a:lnTo>
                <a:lnTo>
                  <a:pt x="1918" y="333"/>
                </a:lnTo>
                <a:lnTo>
                  <a:pt x="1884" y="340"/>
                </a:lnTo>
                <a:lnTo>
                  <a:pt x="1852" y="350"/>
                </a:lnTo>
                <a:lnTo>
                  <a:pt x="1819" y="363"/>
                </a:lnTo>
                <a:lnTo>
                  <a:pt x="1787" y="379"/>
                </a:lnTo>
                <a:lnTo>
                  <a:pt x="1754" y="398"/>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98" name=""/>
          <p:cNvSpPr/>
          <p:nvPr/>
        </p:nvSpPr>
        <p:spPr>
          <a:xfrm>
            <a:off x="4067280" y="4221000"/>
            <a:ext cx="1296720" cy="8636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9" name=""/>
          <p:cNvSpPr/>
          <p:nvPr/>
        </p:nvSpPr>
        <p:spPr>
          <a:xfrm>
            <a:off x="1836720" y="4365720"/>
            <a:ext cx="934920" cy="71892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0" name=""/>
          <p:cNvSpPr/>
          <p:nvPr/>
        </p:nvSpPr>
        <p:spPr>
          <a:xfrm>
            <a:off x="4140720" y="5229360"/>
            <a:ext cx="1306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Router  </a:t>
            </a:r>
            <a:endParaRPr b="0" lang="en-US" sz="1400" spc="-1" strike="noStrike">
              <a:solidFill>
                <a:srgbClr val="000000"/>
              </a:solidFill>
              <a:latin typeface="Rotis Sans Serif for Nokia"/>
            </a:endParaRPr>
          </a:p>
        </p:txBody>
      </p:sp>
      <p:sp>
        <p:nvSpPr>
          <p:cNvPr id="201" name=""/>
          <p:cNvSpPr/>
          <p:nvPr/>
        </p:nvSpPr>
        <p:spPr>
          <a:xfrm>
            <a:off x="1870200" y="5300640"/>
            <a:ext cx="119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Point  </a:t>
            </a:r>
            <a:endParaRPr b="0" lang="en-US" sz="1400" spc="-1" strike="noStrike">
              <a:solidFill>
                <a:srgbClr val="000000"/>
              </a:solidFill>
              <a:latin typeface="Rotis Sans Serif for Nokia"/>
            </a:endParaRPr>
          </a:p>
        </p:txBody>
      </p:sp>
      <p:sp>
        <p:nvSpPr>
          <p:cNvPr id="202" name=""/>
          <p:cNvSpPr/>
          <p:nvPr/>
        </p:nvSpPr>
        <p:spPr>
          <a:xfrm flipV="1">
            <a:off x="2773440" y="4723920"/>
            <a:ext cx="129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Rotis Sans Serif for Nokia"/>
            </a:endParaRPr>
          </a:p>
        </p:txBody>
      </p:sp>
      <p:sp>
        <p:nvSpPr>
          <p:cNvPr id="203" name=""/>
          <p:cNvSpPr/>
          <p:nvPr/>
        </p:nvSpPr>
        <p:spPr>
          <a:xfrm>
            <a:off x="5364000" y="472428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04" name=""/>
          <p:cNvSpPr/>
          <p:nvPr/>
        </p:nvSpPr>
        <p:spPr>
          <a:xfrm flipV="1">
            <a:off x="7812000" y="364500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05" name=""/>
          <p:cNvSpPr/>
          <p:nvPr/>
        </p:nvSpPr>
        <p:spPr>
          <a:xfrm>
            <a:off x="7164360" y="4581360"/>
            <a:ext cx="934920" cy="7192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IS-</a:t>
            </a:r>
            <a:r>
              <a:rPr b="0" lang="en-GB"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206" name=""/>
          <p:cNvSpPr/>
          <p:nvPr/>
        </p:nvSpPr>
        <p:spPr>
          <a:xfrm>
            <a:off x="6619320" y="5734080"/>
            <a:ext cx="1966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Network (Visited) </a:t>
            </a:r>
            <a:endParaRPr b="0" lang="en-US" sz="1400" spc="-1" strike="noStrike">
              <a:solidFill>
                <a:srgbClr val="000000"/>
              </a:solidFill>
              <a:latin typeface="Rotis Sans Serif for Nok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admin</cp:lastModifiedBy>
  <cp:lastPrinted>1999-04-27T06:51:51Z</cp:lastPrinted>
  <dcterms:modified xsi:type="dcterms:W3CDTF">2006-02-23T00:57:18Z</dcterms:modified>
  <cp:revision>193</cp:revision>
  <dc:subject/>
  <dc:title>PowerPoint Presentation</dc:title>
</cp:coreProperties>
</file>