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987F3C-71AE-4717-8C91-22D6717ABB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4DD79-B58D-47AB-B633-F846A76B4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4C14B1-DCB6-4CE1-8A05-CDEB8389F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11CC0B-A67E-44B0-99B9-96DDC8B33C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3AB411-7772-4D5F-818B-B7A7E14069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8D144F-9841-443F-AE7B-65BF31F8EF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E49906-883B-4320-9184-4E5546CDB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5BE239-BB46-422C-A731-994115C564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2CB462-D4C3-46CC-ADE9-30546D7021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4CF7F-2ECF-4559-905E-8B20752E1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814FC1-F0DB-4DD7-A742-34822D03F3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A3809-07B6-42C3-A9A5-9C3CBDCD9C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21-06-0498-02-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62D5-BACC-461E-97D0-F17C27D710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6-0498-02-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a:t>
            </a:r>
            <a:r>
              <a:rPr b="1" lang="en-US" sz="2400" spc="-1" strike="noStrike">
                <a:solidFill>
                  <a:srgbClr val="000000"/>
                </a:solidFill>
                <a:latin typeface="Times New Roman"/>
                <a:ea typeface="宋体"/>
              </a:rPr>
              <a:t>An optimal method to reserve</a:t>
            </a:r>
            <a:r>
              <a:rPr b="0"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resources in a handover operation</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April, 20, 2006</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Presented at IEEE 802.21 session #14 in Den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Zhuang HongCheng,</a:t>
            </a:r>
            <a:r>
              <a:rPr b="0"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Guo Junxiang</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bstract: This document  proposes an optimal method to reserve resources in a handover operation between heterogeneous networks .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a:t>
            </a:r>
            <a:r>
              <a:rPr b="0" lang="en-US" sz="2000" spc="-1" strike="noStrike" u="sng">
                <a:solidFill>
                  <a:srgbClr val="fc0128"/>
                </a:solidFill>
                <a:uFillTx/>
                <a:latin typeface="Times New Roman"/>
                <a:ea typeface="宋体"/>
              </a:rPr>
              <a:t>http://standards.ieee.org/guides/opman/sect6.html#6.3</a:t>
            </a:r>
            <a:r>
              <a:rPr b="0" lang="en-US" sz="2000" spc="-1" strike="noStrike">
                <a:solidFill>
                  <a:srgbClr val="000000"/>
                </a:solidFill>
                <a:latin typeface="Times New Roman"/>
                <a:ea typeface="宋体"/>
              </a:rPr>
              <a:t>&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2"/>
              </a:rPr>
              <a:t>http://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619280" y="333000"/>
            <a:ext cx="5689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ea typeface="宋体"/>
              </a:rPr>
              <a:t>Problems </a:t>
            </a:r>
            <a:endParaRPr b="1" lang="en-US" sz="3200" spc="-1" strike="noStrike">
              <a:solidFill>
                <a:srgbClr val="000000"/>
              </a:solidFill>
              <a:latin typeface="Times New Roman"/>
            </a:endParaRPr>
          </a:p>
        </p:txBody>
      </p:sp>
      <p:sp>
        <p:nvSpPr>
          <p:cNvPr id="45" name="PlaceHolder 2"/>
          <p:cNvSpPr>
            <a:spLocks noGrp="1"/>
          </p:cNvSpPr>
          <p:nvPr>
            <p:ph/>
          </p:nvPr>
        </p:nvSpPr>
        <p:spPr>
          <a:xfrm>
            <a:off x="468360" y="1341360"/>
            <a:ext cx="8299440" cy="44640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In the current draft, upper layers may utilize services provided by the MIH Function across different entities to reserve resources required for a handover operation between heterogeneous networks, but  none of the MIH services can offer indication to upper layer to immediately withdraw the reserved resources in target APs  not selected  by the terminal ,thus it leads to wasting of resource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o release resources, Timer can be used. However, it is difficult to configure Timer an accurate value and can not release resources in time. So it maybe affect resources availability when handover, especially heterogeneous hand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宋体"/>
              </a:rPr>
              <a:t>Solution</a:t>
            </a:r>
            <a:endParaRPr b="1" lang="en-US" sz="3600" spc="-1" strike="noStrike">
              <a:solidFill>
                <a:srgbClr val="000000"/>
              </a:solidFill>
              <a:latin typeface="Times New Roman"/>
            </a:endParaRPr>
          </a:p>
        </p:txBody>
      </p:sp>
      <p:sp>
        <p:nvSpPr>
          <p:cNvPr id="4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o solve the problem , a new primitive  as follows is added to realize the function.</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MIH_Handover_Withdraw.indication</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SourceIdentifier,</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DestinationIdentifier,</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CurrentLinkIdentifier,</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ReleaseResourceList</a:t>
            </a:r>
            <a:endParaRPr b="0" lang="en-US" sz="20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When generated</a:t>
            </a:r>
            <a:endParaRPr b="0" lang="en-US" sz="24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MIH Function responds with this primitive in response to a MIH_Handover_Complete.request command from a peer MIH Function entity.</a:t>
            </a:r>
            <a:endParaRPr b="0" lang="en-US" sz="2000" spc="-1" strike="noStrike">
              <a:solidFill>
                <a:srgbClr val="000000"/>
              </a:solidFill>
              <a:latin typeface="Times New Roman"/>
            </a:endParaRPr>
          </a:p>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Effect on receipt</a:t>
            </a:r>
            <a:endParaRPr b="0" lang="en-US" sz="2400" spc="-1" strike="noStrike">
              <a:solidFill>
                <a:srgbClr val="000000"/>
              </a:solidFill>
              <a:latin typeface="Times New Roman"/>
            </a:endParaRPr>
          </a:p>
          <a:p>
            <a:pPr marL="28116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On receiving the indication the entity informs MIH user to release the reserve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
  <dc:language>en-US</dc:language>
  <cp:lastModifiedBy>bluex</cp:lastModifiedBy>
  <cp:lastPrinted>1999-04-27T06:51:51Z</cp:lastPrinted>
  <dcterms:modified xsi:type="dcterms:W3CDTF">2006-04-20T08:15:41Z</dcterms:modified>
  <cp:revision>1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411923</vt:r8>
  </property>
  <property fmtid="{D5CDD505-2E9C-101B-9397-08002B2CF9AE}" pid="3" name="_AuthorEmail">
    <vt:lpwstr>guojx@huawei.com</vt:lpwstr>
  </property>
  <property fmtid="{D5CDD505-2E9C-101B-9397-08002B2CF9AE}" pid="4" name="_AuthorEmailDisplayName">
    <vt:lpwstr>guojunxiang</vt:lpwstr>
  </property>
  <property fmtid="{D5CDD505-2E9C-101B-9397-08002B2CF9AE}" pid="5" name="_EmailSubject">
    <vt:lpwstr>[802.21] Telecon April 27</vt:lpwstr>
  </property>
</Properties>
</file>