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77762A-7FF2-49C5-A274-4D637AFEC4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FD0101-ED71-4D19-92F7-DF8D5F5294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10D43D-FF1A-44C8-AC9F-A1E1D3227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FB7C35-C6DE-427A-A8AD-2E139F428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F34DA6-D3D7-49FE-B205-A7429C5F8F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FF8886-A13D-48A3-BB93-EA61DD9A21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192B50-8DBD-413F-8ABF-922B16CF49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6BE4D-71AC-426C-B9FF-EE58416160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33EB4A-0D8C-4E1C-8BCF-D738420C9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124E8-DFBD-4B81-820A-79A976796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70FBB-ECBF-4D1C-9337-F0FBC71478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0F0AA-75AD-4784-B16A-E1863CA05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5-0430-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FC7A-17C3-4C33-9F34-976BAD3F0966}"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smllieee" descr=""/>
          <p:cNvPicPr/>
          <p:nvPr/>
        </p:nvPicPr>
        <p:blipFill>
          <a:blip r:embed="rId2"/>
          <a:stretch/>
        </p:blipFill>
        <p:spPr>
          <a:xfrm>
            <a:off x="228600" y="57240"/>
            <a:ext cx="754200" cy="857160"/>
          </a:xfrm>
          <a:prstGeom prst="rect">
            <a:avLst/>
          </a:prstGeom>
          <a:ln w="0">
            <a:noFill/>
          </a:ln>
        </p:spPr>
      </p:pic>
      <p:pic>
        <p:nvPicPr>
          <p:cNvPr id="5" name="802logo"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430-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802.21 Expected Development Timelin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14,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11 in Vancouver, Canad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jay Rajkumar</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is the current expectation of the Development Timeline for the 802.21 draft standard</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2"/>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 Timeline</a:t>
            </a:r>
            <a:endParaRPr b="1" lang="en-US" sz="3600" spc="-1" strike="noStrike">
              <a:solidFill>
                <a:srgbClr val="000000"/>
              </a:solidFill>
              <a:latin typeface="Times New Roman"/>
            </a:endParaRPr>
          </a:p>
        </p:txBody>
      </p:sp>
      <p:sp>
        <p:nvSpPr>
          <p:cNvPr id="4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IEEE 802.21 WG formed – March 2004</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Requirements development – September 2004</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Call for Proposals – October 2004</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Harmonized Single Proposal Confirmed by the WG – May 2005</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Ongoing WG Comment Resolution started – July 2005</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G Comment Resolution completed – January 2006</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tart of WG Letter Ballot – March 2006</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tart of IEEE 802 Sponsor Ballot – September 2006</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EE 802 Draft Standard Approved – March 2007</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3300"/>
                </a:solidFill>
                <a:latin typeface="Times New Roman"/>
              </a:rPr>
              <a:t>Ongoing Interaction with Other Standards Organization (3GPP, 3GPP2, IETF, 802.11, 802.16, 802.3)  - adoption of it depends on the timeline of work items within these grou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
  <dc:language>en-US</dc:language>
  <cp:lastModifiedBy>ajayrajkumar</cp:lastModifiedBy>
  <cp:lastPrinted>1999-04-27T06:51:51Z</cp:lastPrinted>
  <dcterms:modified xsi:type="dcterms:W3CDTF">2005-11-13T18:49:56Z</dcterms:modified>
  <cp:revision>30</cp:revision>
  <dc:subject/>
  <dc:title>PowerPoint Presentation</dc:title>
</cp:coreProperties>
</file>