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A9D9BB-A085-4F27-9156-50343606A6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FD67B4-F0AD-4907-9D83-A674ED896C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D6DA8F-A97B-43EE-9081-1C8CFD2DE9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7A440E-4D9F-4CC7-BE36-2AEF6D7016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E63377-7FD1-4657-ABBA-EB6B8335AD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737B86-C656-4C17-9E8A-D6E519DE08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914341-5815-4DC5-86E2-847E6AFD38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9347B4-59AB-484E-99C2-3EDA57F019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9200DB-B0F6-4A1C-B2DE-BA6AAC70A8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89A583-AE0B-4B27-8894-02BDD970F8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71211B-31E6-4990-A497-0A4F9B5C94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CC09DE-9CAB-40A3-A15A-C50E116462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5-0430-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1A8A-048C-403E-82CD-A002BAF7ED95}"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smllieee" descr=""/>
          <p:cNvPicPr/>
          <p:nvPr/>
        </p:nvPicPr>
        <p:blipFill>
          <a:blip r:embed="rId2"/>
          <a:stretch/>
        </p:blipFill>
        <p:spPr>
          <a:xfrm>
            <a:off x="228600" y="57240"/>
            <a:ext cx="754200" cy="857160"/>
          </a:xfrm>
          <a:prstGeom prst="rect">
            <a:avLst/>
          </a:prstGeom>
          <a:ln w="0">
            <a:noFill/>
          </a:ln>
        </p:spPr>
      </p:pic>
      <p:pic>
        <p:nvPicPr>
          <p:cNvPr id="5" name="802logo"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5-0430-00-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802.21 Expected Development Timeline</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November 14, 2005</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11 in Vancouver, Canada</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jay Rajkumar</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is the current expectation of the Development Timeline for the 802.21 draft standard</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2"/>
              </a:rPr>
              <a:t>http://standards.ieee.org/board/pat/guide.html</a:t>
            </a:r>
            <a:r>
              <a:rPr b="0" lang="en-US" sz="2000" spc="-1" strike="noStrike">
                <a:solidFill>
                  <a:srgbClr val="000000"/>
                </a:solidFill>
                <a:latin typeface="Times New Roman"/>
                <a:ea typeface="Times New Roman"/>
              </a:rPr>
              <a:t>&g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21 Timeline</a:t>
            </a:r>
            <a:endParaRPr b="1" lang="en-US" sz="3600" spc="-1" strike="noStrike">
              <a:solidFill>
                <a:srgbClr val="000000"/>
              </a:solidFill>
              <a:latin typeface="Times New Roman"/>
            </a:endParaRPr>
          </a:p>
        </p:txBody>
      </p:sp>
      <p:sp>
        <p:nvSpPr>
          <p:cNvPr id="4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Times New Roman"/>
              </a:rPr>
              <a:t>IEEE 802.21 WG formed – March 2004</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Times New Roman"/>
              </a:rPr>
              <a:t>Requirements development – September 2004</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Times New Roman"/>
              </a:rPr>
              <a:t>Call for Proposals – October 2004</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Times New Roman"/>
              </a:rPr>
              <a:t>Harmonized Single Proposal Confirmed by the WG – May 2005</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Times New Roman"/>
              </a:rPr>
              <a:t>Ongoing WG Comment Resolution started – July 2005</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G Comment Resolution completed – January 2006</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tart of WG Letter Ballot – March 2006</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tart of IEEE 802 Sponsor Ballot – September 2006</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EEE 802 Draft Standard Approved – March 2007</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3300"/>
                </a:solidFill>
                <a:latin typeface="Times New Roman"/>
              </a:rPr>
              <a:t>Ongoing Interaction with Other Standards Organization (3GPP, 3GPP2, IETF, 802.11, 802.16, 802.3)  - adoption of it depends on the timeline of work items within these grou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
  <dc:language>en-US</dc:language>
  <cp:lastModifiedBy>ajayrajkumar</cp:lastModifiedBy>
  <cp:lastPrinted>1999-04-27T06:51:51Z</cp:lastPrinted>
  <dcterms:modified xsi:type="dcterms:W3CDTF">2005-11-13T18:49:56Z</dcterms:modified>
  <cp:revision>30</cp:revision>
  <dc:subject/>
  <dc:title>PowerPoint Presentation</dc:title>
</cp:coreProperties>
</file>