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93F-DA3B-4498-AF14-F05088BD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7B0-A215-4D3A-B29C-97F028DB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F16-56DE-4B36-B2D3-84FFB605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A88-FB00-4FDF-A0D4-81C94922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CE2-E9B1-4785-BCC2-D6FE23AF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505-0DCD-47E9-8B57-8D029C29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C54-42BD-46B3-85E9-29338721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067-4B0E-461F-9542-9A0CE66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601-6BAE-4E5E-BDB2-D032EE72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905-8FBB-4AE9-8DFF-E41F9AC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E4F-51CA-4ACE-93C2-FA7189E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6DC-E58E-40B9-BB3B-66DBD2E6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39564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FE79EB-D573-4930-AD19-FC6B5F470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31160" y="396000"/>
            <a:ext cx="323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 18-07-0052-00-0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1981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76520" y="266688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ort on IMT Advanced WP8F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March plenary 802.18 decided to continue working by conference calls to complete a joint 802 input on IMT Advance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 calls held – summaries of each provided to 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April 802.18 met by conference call and approved Doc. 18-07-0026 for input to WP8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 email ballot held 1 – 12 M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approv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ted to ITU-R 16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Lynch, Nortel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ort on IMT Advanced WP8F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8F held their 22d meeting in Kyoto, 22 – 31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joint input one of six proposing revision of the draf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of what Doc. 18-07-0026 contained is included in the draft WP8F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[square] brackets need to be resolved at next WP8F meeting – planned for January 2008 – work continues by correspo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Lynch, Nortel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ort on IMT Advanced WP8F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e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8 will meet Tuesday and Thursday eve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r of the WP8F drafting group will present an update at the Tuesday evening IMT-Advanced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eems likely that work will begin on further input to the next meeting of WP8F using the same format as previous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8 will hold discussions about possible new work for IMT-Adv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if we will develop a joint IEEE 802 technology input for IMT-Adavnced, to be completed by Q4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Lynch, Nortel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09:08:50Z</dcterms:created>
  <dc:creator>Michael Lynch</dc:creator>
  <dc:description/>
  <dc:language>en-US</dc:language>
  <cp:lastModifiedBy>Michael Lynch</cp:lastModifiedBy>
  <cp:lastPrinted>2001-07-13T22:49:12Z</cp:lastPrinted>
  <dcterms:modified xsi:type="dcterms:W3CDTF">2007-07-12T21:08:39Z</dcterms:modified>
  <cp:revision>173</cp:revision>
  <dc:subject/>
  <dc:title>PowerPoint Presentation</dc:title>
</cp:coreProperties>
</file>