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A67A-F68D-4BF1-ADAA-1B752E491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03E3-729D-49CD-823B-893E9D676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484C-A500-4CEA-AE2A-9F6E18816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90C8-5D30-48C7-9FF1-043C2874E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252C-6572-4A08-849F-766F06ADF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BE91-29A2-4CC6-A652-B1AC4EF07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7F8C-50F5-4329-A2EB-8CC2DED15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2086-1604-4114-8F97-AF5EC635E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DD1A-EF2C-47B5-B419-335B8714D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8C98-4812-41BF-A0F9-9FB5D95B1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AA81-78C9-4198-A032-FCA30F187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F438-7144-4C33-9BFD-20D95964B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61760" y="39564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8143920" y="6474960"/>
            <a:ext cx="466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28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26CB743-9F03-46C9-B758-411E31E50D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231160" y="396000"/>
            <a:ext cx="3237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 18-07-0052-00-000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80880" y="19810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676520" y="2666880"/>
            <a:ext cx="6858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port on IMT Advanced WP8F Inp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ckgrou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e March plenary 802.18 decided to continue working by conference calls to complete a joint 802 input on IMT Advanced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 calls held – summaries of each provided to 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 April 802.18 met by conference call and approved Doc. 18-07-0026 for input to WP8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 email ballot held 1 – 12 M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cument approv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mitted to ITU-R 16 M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hael Lynch, Nortel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port on IMT Advanced WP8F Inp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ckgrou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P8F held their 22d meeting in Kyoto, 22 – 31 M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 joint input one of six proposing revision of the draft 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ch of what Doc. 18-07-0026 contained is included in the draft WP8F 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y [square] brackets need to be resolved at next WP8F meeting – planned for January 2008 – work continues by correspond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hael Lynch, Nortel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port on IMT Advanced WP8F Inp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meet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2.18 will meet Tuesday and Thursday even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ir of the WP8F drafting group will present an update at the Tuesday evening IMT-Advanced 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seems likely that work will begin on further input to the next meeting of WP8F using the same format as previously u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2.18 will hold discussions about possible new work for IMT-Adv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ide if we will develop a joint IEEE 802 technology input for IMT-Adavnced, to be completed by Q4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hael Lynch, Nortel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1T09:08:50Z</dcterms:created>
  <dc:creator>Michael Lynch</dc:creator>
  <dc:description/>
  <dc:language>en-US</dc:language>
  <cp:lastModifiedBy>Michael Lynch</cp:lastModifiedBy>
  <cp:lastPrinted>2001-07-13T22:49:12Z</cp:lastPrinted>
  <dcterms:modified xsi:type="dcterms:W3CDTF">2007-07-12T21:08:39Z</dcterms:modified>
  <cp:revision>173</cp:revision>
  <dc:subject/>
  <dc:title>PowerPoint Presentation</dc:title>
</cp:coreProperties>
</file>