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F9D-891A-4FAE-AD60-E1D11A10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C2A-D459-42E6-BEF4-603224A3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D4A-6FA1-4CA6-B3B1-235D9D24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A47-0DB9-4AF1-A34D-B717F001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A53-5416-4304-A9F0-24E44AB9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2A4-9AA5-4634-B2C1-2DF4DF18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A74-E3D9-4956-949A-C172AB58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C9B-3EEE-4F3F-A09F-0B97D717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791-55B3-4435-82F8-D9D2DABE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B54-33D4-4115-830C-D29F29BC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228-C5E3-4C00-B771-0AB431E2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6A5-063E-4A1E-9E92-BA9C0E71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913B-DC68-4606-BBF7-C36BA83098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T-Advanced Technic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status after 2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eting of WP8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technology criteria for evaluation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um requiremen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parameters for eval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IP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Technology complexity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l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CDF of user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city considerations/supported user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6093000"/>
            <a:ext cx="72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Requirements (and other criteria) evaluated according to details in IMT.EVAL/Annex 7 of Circular L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 and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spondence group on ITU Jive forum, concluding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v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T.TECH and Circular Letter to be finalised at next WP8F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January – 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to be d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 IMT-Advanced Common Text into the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 on peak data rate/spectral efficiency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 all numbers for minimum requirement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and harmonise text in chapt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and harmonise text in chapter 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ider requirements currently held in Appendi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appendic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viously take into account new contributions to 2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et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 [Report on] Requirements Related To Technical System Performance for IMT-Advanced Radio Interface(s) [IMT.TECH], ITU-R documen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8F/1322 attachment 6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view of Circular Letter on IMT-Adva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view of IMT.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onship between IMT.TECH and Circular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detailed look at current draft of IMT.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xt steps and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rcular Letter on an invitation to propose candidate radio interface technologies for IMT-Advanced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1: Background on IMT-Adv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2: Submission and evaluation process and consensus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3: Requirements related to service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4: Requirements related to technical system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5: Spectrum related issues including relevant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6: Submission guidelines and template for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7: Evaluation guidelines and criteria and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8: Relevant ITU-R Recommendations, Reports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 9: IPR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 [report on] requirements related to technical system performance for imt-advanced radio interface(s) [IMT.TEC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and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ed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u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cal Items Required To Describe Candidate Ai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quired technology criteria for evalu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ology, abbre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end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lationship between IMT.TECH and Circular L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T.TECH chapter 4 = CL Anne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T.TECH chapter 5 -&gt; CL Annex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T.TECH chapter 6 -&gt; CL Anne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 provides input to IMT.EVAL, which forms primary basis of CL Annex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T TECH chapter 3 -&gt; CL Annex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progress on IMT.TECH at 22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meeting of WP8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requirements 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-sections agreed and baselin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numbers in square br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line for Circular Letter Annex 4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ical items to describe ai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ms (sub-sections) 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discussion 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d technology items for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d all minimum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items (headings) 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discussion 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ted general requirement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put material retained in an appen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nimum requirement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ues to be set per test environment, downlink/uplink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ak data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ed as peak spectral efficiency with data rates given as an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countries would prefer peak data rate, current text all in square br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 edge user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ceholder for Q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classes defined: stationary, pedestrian, vehicular, high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pped to test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timisation of performance to mobility class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 for continuous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upption times will be set: intra/inter-frequency, [inter-syste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6093000"/>
            <a:ext cx="72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Requirements (and other criteria) evaluated according to details in IMT.EVAL/Annex 7 of Circular L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ological items required to describe candidate air interfac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acces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ulation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ror control coding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channel structure and multipl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trum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of advanced antenna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 adaptation and powe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 channe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Scheduling algorith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ological items required to describe candidate air interfac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dio interface architecture and protocol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of multicast and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 support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urity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bility management and R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erence mitigation within radio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08:15:26Z</dcterms:created>
  <dc:creator>pollarda</dc:creator>
  <dc:description/>
  <dc:language>en-US</dc:language>
  <cp:lastModifiedBy>Michael Lynch</cp:lastModifiedBy>
  <dcterms:modified xsi:type="dcterms:W3CDTF">2007-07-09T20:05:22Z</dcterms:modified>
  <cp:revision>20</cp:revision>
  <dc:subject/>
  <dc:title>IMT-Advanced Technical Requirements</dc:title>
</cp:coreProperties>
</file>