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62E-6E7F-4801-81B1-F232B637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BBC-25E2-4F99-A66D-0335876E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6D9-1F45-453E-A213-141EC744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99F-A81F-4784-91DF-D494D7AB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F10-96F0-4984-952D-8B61FE73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CB4-F84D-453F-AA18-B5B4F1B4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191-FBB2-4156-9F38-0847AF83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2024-2497-49AB-A989-AE70DF1F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204-A60B-4469-95FF-3EDC8A2B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B8D-5C31-4480-BC03-70E14FEB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EB3-FC60-4A52-9BF5-1653B0F2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685-9F48-424A-A097-3E6B68E9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CC65-E6C0-4F1B-9435-164012957BA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T-Advanced Technic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status after 2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eeting of WP8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technology criteria for evaluation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um requirement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parameters for eval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IP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Technology complexity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ll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CDF of user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acity considerations/supported user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6093000"/>
            <a:ext cx="720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 Requirements (and other criteria) evaluated according to details in IMT.EVAL/Annex 7 of Circular Le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 and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respondence group on ITU Jive forum, concluding 1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ov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T.TECH and Circular Letter to be finalised at next WP8F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January – 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ebr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 to be d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e IMT-Advanced Common Text into the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ree on peak data rate/spectral efficiency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ree all numbers for minimum requirement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and harmonise text in chapte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and harmonise text in chapter 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ider requirements currently held in Appendix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appendice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viously take into account new contributions to 2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et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ft [Report on] Requirements Related To Technical System Performance for IMT-Advanced Radio Interface(s) [IMT.TECH], ITU-R documen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8F/1322 attachment 6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view of Circular Letter on IMT-Adva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view of IMT.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ationship between IMT.TECH and Circular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detailed look at current draft of IMT.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xt steps and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rcular Letter on an invitation to propose candidate radio interface technologies for IMT-Advanced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ex 1: Background on IMT-Adva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ex 2: Submission and evaluation process and consensus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ex 3: Requirements related to service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ex 4: Requirements related to technical system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ex 5: Spectrum related issues including relevant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ex 6: Submission guidelines and template for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ex 7: Evaluation guidelines and criteria and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ex 8: Relevant ITU-R Recommendations, Reports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ex 9: IPR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 [report on] requirements related to technical system performance for imt-advanced radio interface(s) [IMT.TECH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and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ed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imu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ical Items Required To Describe Candidate Ai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quired technology criteria for evaluat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ology, abbre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end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lationship between IMT.TECH and Circular Le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T.TECH chapter 4 = CL Anne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T.TECH chapter 5 -&gt; CL Annex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T.TECH chapter 6 -&gt; CL Annex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so provides input to IMT.EVAL, which forms primary basis of CL Annex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T TECH chapter 3 -&gt; CL Annex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progress on IMT.TECH at 22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meeting of WP8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um requirements 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-sections agreed and baselin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numbers in square br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line for Circular Letter Annex 4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ological items to describe ai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ems (sub-sections) 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discussion 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d technology items for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ed all minimum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items (headings) 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discussion 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eted general requirement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put material retained in an append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nimum requirement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ll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lues to be set per test environment, downlink/uplink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ak data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ined as peak spectral efficiency with data rates given as an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 countries would prefer peak data rate, current text all in square bra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ll edge user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ceholder for Q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 classes defined: stationary, pedestrian, vehicular, high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pped to test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timisation of performance to mobility class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port for continuous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upption times will be set: intra/inter-frequency, [inter-syste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6093000"/>
            <a:ext cx="720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 Requirements (and other criteria) evaluated according to details in IMT.EVAL/Annex 7 of Circular Le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echnological items required to describe candidate air interfac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e access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ulation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ror control coding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ysical channel structure and multipl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am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trum capabi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of advanced antenna capabi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 adaptation and powe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 channel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Scheduling algorith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echnological items required to describe candidate air interfac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dio interface architecture and protocol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of multicast and broad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oS support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urity a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bility management and R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ference mitigation within radio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nchro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er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08:15:26Z</dcterms:created>
  <dc:creator>pollarda</dc:creator>
  <dc:description/>
  <dc:language>en-US</dc:language>
  <cp:lastModifiedBy>Michael Lynch</cp:lastModifiedBy>
  <dcterms:modified xsi:type="dcterms:W3CDTF">2007-07-09T20:05:22Z</dcterms:modified>
  <cp:revision>20</cp:revision>
  <dc:subject/>
  <dc:title>IMT-Advanced Technical Requirements</dc:title>
</cp:coreProperties>
</file>