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ED83C-F3B8-4C55-B563-60F2098E2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078CD-C8F4-4034-8186-F56C14E43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54846-5BF6-41E1-B9EA-20E6CFBBE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DFA77-2E91-44A6-98B4-C46AE145F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F42DE-8F98-4B96-AEAD-7F6E42537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F8431-CFCD-408B-A27F-C392069F3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B6AEA-2D99-44C5-8EE3-C64A5953F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FDBA3-EA88-43A2-B15B-DDF5661EA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53E2C-F369-45D7-A5EE-7119D92AA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FF2A4-7A9C-4CF6-AC49-D6CF2CF3F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992B0-583E-4047-B9E5-7503A0406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E0346-0B34-428E-9F83-5497B665F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4440"/>
            <a:ext cx="151272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BDFF5A-1ECD-41BD-A9CF-E6D9E9D50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0356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mentor.ieee.org/802.11/dcn/09/11-09-0286-03-0000-plenary-information-mar-09.ppt"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mentor.ieee.org/802.22/dcn/09/22-09-0030-01-0000-draft-22a-5c.doc"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eee802.org/1/files/public/docs2008/bb-thaler-pfc-frame-par-1108.pdf" TargetMode="External"/><Relationship Id="rId2" Type="http://schemas.openxmlformats.org/officeDocument/2006/relationships/hyperlink" Target="http://www.ieee802.org/1/files/public/docs2008/new-dcb-thaler-draft-pfc-5c-0208-v3.pdf"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ew WG PARs that WG11 must consider in March 2009</a:t>
            </a:r>
            <a:endParaRPr b="1" lang="en-US" sz="2400" spc="-1" strike="noStrike">
              <a:solidFill>
                <a:srgbClr val="000000"/>
              </a:solidFill>
              <a:latin typeface="Times New Roman"/>
            </a:endParaRPr>
          </a:p>
        </p:txBody>
      </p:sp>
      <p:sp>
        <p:nvSpPr>
          <p:cNvPr id="4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03-09</a:t>
            </a:r>
            <a:endParaRPr b="1" lang="en-US" sz="2000" spc="-1" strike="noStrike">
              <a:solidFill>
                <a:srgbClr val="000000"/>
              </a:solidFill>
              <a:latin typeface="Times New Roman"/>
            </a:endParaRPr>
          </a:p>
        </p:txBody>
      </p:sp>
      <p:graphicFrame>
        <p:nvGraphicFramePr>
          <p:cNvPr id="47" name=""/>
          <p:cNvGraphicFramePr/>
          <p:nvPr/>
        </p:nvGraphicFramePr>
        <p:xfrm>
          <a:off x="514440" y="2274840"/>
          <a:ext cx="8093160" cy="2490840"/>
        </p:xfrm>
        <a:graphic>
          <a:graphicData uri="http://schemas.openxmlformats.org/presentationml/2006/ole">
            <p:oleObj progId="Word.Document.12" r:id="rId1" spid="">
              <p:embed/>
              <p:pic>
                <p:nvPicPr>
                  <p:cNvPr id="48" name="" descr=""/>
                  <p:cNvPicPr/>
                  <p:nvPr/>
                </p:nvPicPr>
                <p:blipFill>
                  <a:blip r:embed="rId2"/>
                  <a:stretch/>
                </p:blipFill>
                <p:spPr>
                  <a:xfrm>
                    <a:off x="514440" y="2274840"/>
                    <a:ext cx="8093160" cy="2490840"/>
                  </a:xfrm>
                  <a:prstGeom prst="rect">
                    <a:avLst/>
                  </a:prstGeom>
                  <a:ln w="0">
                    <a:noFill/>
                  </a:ln>
                </p:spPr>
              </p:pic>
            </p:oleObj>
          </a:graphicData>
        </a:graphic>
      </p:graphicFrame>
      <p:sp>
        <p:nvSpPr>
          <p:cNvPr id="4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3F9CC03-9C7D-415E-AF31-4F147A86C29F}" type="slidenum">
              <a:t>1</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1)</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comment: 802.22 is described as a Regional Area Network that is reusing the TV Bands.  All PARs from this WG should reflect this in their scope and purpos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 – The Number of people claimed in the PAR does not match current voter list numbers or attendees of recent meetings of 802.22.  Please explain the number of Attendees us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19581F6-F00A-4882-8E61-11F6A73441B8}" type="slidenum">
              <a:t>10</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2)</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 Information indicating the restricted network area that is envisioned should be added.  Suggested change “…Operation is limited to operation </a:t>
            </a:r>
            <a:r>
              <a:rPr b="1" lang="en-US" sz="2400" spc="-1" strike="noStrike">
                <a:solidFill>
                  <a:srgbClr val="ff0000"/>
                </a:solidFill>
                <a:latin typeface="Times New Roman"/>
              </a:rPr>
              <a:t>in regional area networks utilizing the</a:t>
            </a:r>
            <a:r>
              <a:rPr b="1" lang="en-US" sz="2400" spc="-1" strike="noStrike">
                <a:solidFill>
                  <a:srgbClr val="000000"/>
                </a:solidFill>
                <a:latin typeface="Times New Roman"/>
              </a:rPr>
              <a:t> TV bands between….”</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3 – The PAR claims that work needs to start now so that changes to the current draft can be identified prior to completion of the base draft; however, this suggests that the PAR for the base standard should be revised.  Suggest that a PAR revision be considered prior to requesting This new PAR.</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AC08D72-4888-4246-8AAD-2FE21A597B99}" type="slidenum">
              <a:t>11</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3)</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Broad Market Potential</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three paragraphs address the fixed 802.22 standard, not the topic of this 5C. It is very unclear that there is a broad market for fixed 802.22 in United States under the FCC 08-260 rules. Nothing here addresses whether the 802.22 fixed vendors will also vend mobile and portable user terminals, and nothing addresses the cost benefits of volume production (see Technical Feasibility). While 802.16 and 802.11 vendors are in volume production, 802.22 vendors are not. Nothing addresses whether silicon vendors who already have PAN, LAN and MAN circuits in their products would add another LAN or PAN for this band, when the others could be us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EB46FB0-19E7-42BA-AB97-D99C876B40D4}" type="slidenum">
              <a:t>12</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4)</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a:t>
            </a:r>
            <a:r>
              <a:rPr b="0" lang="en-GB" sz="2400" spc="-1" strike="noStrike" u="sng">
                <a:solidFill>
                  <a:srgbClr val="000000"/>
                </a:solidFill>
                <a:uFillTx/>
                <a:latin typeface="Times New Roman"/>
              </a:rPr>
              <a:t>Compatibilit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paragraph addresses the fixed 802.22 standard, not the topic of this 5C.</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Distinct Identit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inct Identify has not been establish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a:t>
            </a:r>
            <a:r>
              <a:rPr b="0" lang="en-GB" sz="2000" spc="-1" strike="noStrike">
                <a:solidFill>
                  <a:srgbClr val="000000"/>
                </a:solidFill>
                <a:latin typeface="Times New Roman"/>
              </a:rPr>
              <a:t>802.11-2007 provides means to operate in bands with fixed and mobile licensed devices (see Technical Feasibility). 802.11y provides the control means for a database to allow operation on white space channels at a location, and to control power level and other operational characteristics. It is clear that 802.22a mobile and personal devices will use shorter symbol times than 802.22 fixed devices, and it is not clear how they differ from 802.16h mobile and portable devi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2877531-8D4B-438A-9B3D-ED79DCC765D6}" type="slidenum">
              <a:t>13</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5)</a:t>
            </a: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Technical Feasibil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HF is not allowed for personal/portable operation, only TV channels 21-51 in lower UHF.</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C: Technical Feasibil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22 type protocols which are optimized for licensed bands, and yet are being applied to unlicensed bands.  For Example, the sharing of the overlap RF coverage areas will degrade faster with a .16/.22 type protocol than a .11 protoco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A08D0C4-805E-42CC-AB2C-28DD989CAAF7}" type="slidenum">
              <a:t>14</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9/0286r3</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09/11-09-0286-03-0000-plenary-information-mar-09.pp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09-0027r0</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mentor.ieee.org/802.21/file/09/21-09-0027-00-00es-emergency-services-par-and-5c.do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09-0021r0</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mentor.ieee.org/802.21/file/09/21-09-0021-00-mrpm-mrpm-revised-par-5c.do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09-0029r0 and 0030r1</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s://mentor.ieee.org/802.22/file/09/22-09-0029-00-0000-draft-22a-par.doc</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s://mentor.ieee.org/802.22/dcn/09/22-09-0030-01-0000-draft-22a-5c.do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3 and 802.1 docs:</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ee802.org/1/files/public/docs2008/bb-thaler-pfc-frame-par-1108.pdf:</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ee802.org/1/files/public/docs2008/new-dcb-thaler-draft-pfc-5c-0208-v3.pdf</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620A35E-7B25-4ABC-9D1F-69C7E79C2108}" type="slidenum">
              <a:t>15</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document contains the comment responses received from members of 802.11 WG.  The WG has requested that this submission be used as the 802.11 WG response to the new 802 PARs that were under consideration for March 2009.</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AEE2D41-0CD7-4285-81D6-ABB3F3410079}" type="slidenum">
              <a:t>2</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02840" y="685440"/>
            <a:ext cx="8240760" cy="81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rom Monday Agenda 4.1.5 </a:t>
            </a:r>
            <a:br>
              <a:rPr sz="2400"/>
            </a:br>
            <a:r>
              <a:rPr b="1" lang="en-US" sz="2400" spc="-1" strike="noStrike" u="sng">
                <a:solidFill>
                  <a:srgbClr val="000000"/>
                </a:solidFill>
                <a:uFillTx/>
                <a:latin typeface="Times New Roman"/>
              </a:rPr>
              <a:t>New WG PARs that WG11 must consider in March</a:t>
            </a:r>
            <a:endParaRPr b="1" lang="en-US" sz="2400" spc="-1" strike="noStrike">
              <a:solidFill>
                <a:srgbClr val="000000"/>
              </a:solidFill>
              <a:latin typeface="Times New Roman"/>
            </a:endParaRPr>
          </a:p>
        </p:txBody>
      </p:sp>
      <p:sp>
        <p:nvSpPr>
          <p:cNvPr id="53" name="PlaceHolder 2"/>
          <p:cNvSpPr>
            <a:spLocks noGrp="1"/>
          </p:cNvSpPr>
          <p:nvPr>
            <p:ph/>
          </p:nvPr>
        </p:nvSpPr>
        <p:spPr>
          <a:xfrm>
            <a:off x="414000" y="1600200"/>
            <a:ext cx="8218440" cy="4495680"/>
          </a:xfrm>
          <a:prstGeom prst="rect">
            <a:avLst/>
          </a:prstGeom>
          <a:noFill/>
          <a:ln w="0">
            <a:noFill/>
          </a:ln>
        </p:spPr>
        <p:txBody>
          <a:bodyPr lIns="92160" rIns="92160" tIns="46080" bIns="46080" anchor="t">
            <a:normAutofit/>
          </a:bodyPr>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21 WG : Support for Emergency Services</a:t>
            </a:r>
            <a:endParaRPr b="1" lang="en-US" sz="20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5C can be found at:</a:t>
            </a:r>
            <a:endParaRPr b="0" lang="en-US" sz="18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mentor.ieee.org/802.21/file/09/21-09-0027-00-00es-emergency-services-par-and-5c.doc</a:t>
            </a:r>
            <a:endParaRPr b="0" lang="en-US" sz="1800" spc="-1" strike="noStrike">
              <a:solidFill>
                <a:srgbClr val="000000"/>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en-US" sz="2000" spc="-1" strike="noStrike">
                <a:solidFill>
                  <a:srgbClr val="000000"/>
                </a:solidFill>
                <a:latin typeface="Times New Roman"/>
              </a:rPr>
              <a:t>	</a:t>
            </a:r>
            <a:r>
              <a:rPr b="1" lang="en-US" sz="2000" spc="-1" strike="noStrike">
                <a:solidFill>
                  <a:srgbClr val="000000"/>
                </a:solidFill>
                <a:latin typeface="Times New Roman"/>
              </a:rPr>
              <a:t>802.21 WG : Multi-Radio Power Management</a:t>
            </a:r>
            <a:endParaRPr b="1" lang="en-US" sz="20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5C can be found at:</a:t>
            </a:r>
            <a:endParaRPr b="0" lang="en-US" sz="18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mentor.ieee.org/802.21/file/09/21-09-0021-00-mrpm-mrpm-revised-par-5c.doc</a:t>
            </a:r>
            <a:endParaRPr b="0" lang="en-US" sz="1800" spc="-1" strike="noStrike">
              <a:solidFill>
                <a:srgbClr val="000000"/>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en-US" sz="2000" spc="-1" strike="noStrike">
                <a:solidFill>
                  <a:srgbClr val="000000"/>
                </a:solidFill>
                <a:latin typeface="Times New Roman"/>
              </a:rPr>
              <a:t>	</a:t>
            </a:r>
            <a:r>
              <a:rPr b="1" lang="en-US" sz="2000" spc="-1" strike="noStrike">
                <a:solidFill>
                  <a:srgbClr val="000000"/>
                </a:solidFill>
                <a:latin typeface="Times New Roman"/>
              </a:rPr>
              <a:t>802.22 WG : TV WhiteSpace PAR Amendment to add mobile and portable device functionality</a:t>
            </a:r>
            <a:endParaRPr b="1" lang="en-US" sz="20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22/file/09/22-09-0029-00-0000-draft-22a-par.doc</a:t>
            </a:r>
            <a:endParaRPr b="0" lang="en-US" sz="18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22/dcn/09/22-09-0030-01-0000-draft-22a-5c.doc</a:t>
            </a:r>
            <a:endParaRPr b="0" lang="en-US" sz="1800" spc="-1" strike="noStrike">
              <a:solidFill>
                <a:srgbClr val="000000"/>
              </a:solidFill>
              <a:latin typeface="Times New Roman"/>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FA6E7B7-4AD2-4404-8C5F-EE007C8FAB40}" type="slidenum">
              <a:t>3</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rom Monday Agenda 4.1.5 </a:t>
            </a:r>
            <a:br>
              <a:rPr sz="2400"/>
            </a:br>
            <a:r>
              <a:rPr b="1" lang="en-US" sz="2400" spc="-1" strike="noStrike" u="sng">
                <a:solidFill>
                  <a:srgbClr val="000000"/>
                </a:solidFill>
                <a:uFillTx/>
                <a:latin typeface="Times New Roman"/>
              </a:rPr>
              <a:t>New WG PARs that WG11 must consider in March</a:t>
            </a:r>
            <a:endParaRPr b="1" lang="en-US" sz="2400" spc="-1" strike="noStrike">
              <a:solidFill>
                <a:srgbClr val="000000"/>
              </a:solidFill>
              <a:latin typeface="Times New Roman"/>
            </a:endParaRPr>
          </a:p>
        </p:txBody>
      </p:sp>
      <p:sp>
        <p:nvSpPr>
          <p:cNvPr id="55" name="PlaceHolder 2"/>
          <p:cNvSpPr>
            <a:spLocks noGrp="1"/>
          </p:cNvSpPr>
          <p:nvPr>
            <p:ph/>
          </p:nvPr>
        </p:nvSpPr>
        <p:spPr>
          <a:xfrm>
            <a:off x="401760" y="1839600"/>
            <a:ext cx="8361360" cy="443052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3ad PAR for Priority-based Flow Control MAC Control Frame</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proposed PAR is to add a MAC Control Frame to IEEE 802.3 to support 802.1Qbb Priority-based Flow Control. Note that the 802.1 Working Group will be responsible for this PAR. As usual when doing a cross group PAR, 802.3 voters who request it will be added to the Working Group voting pool on this project.</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R is at:</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www.ieee802.org/1/files/public/docs2008/bb-thaler-pfc-frame-par-1108.pdf</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nce this PAR is to support the 802.1Qbb PAR, the same 5 criteria applies to it:</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www.ieee802.org/1/files/public/docs2008/new-dcb-thaler-draft-pfc-5c-0208-v3.pdf</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5E75B91-5281-4429-B475-5C6224CD7757}" type="slidenum">
              <a:t>4</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52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Monday Agenda item 4.1.6</a:t>
            </a:r>
            <a:r>
              <a:rPr b="1" lang="en-US" sz="2400" spc="-1" strike="noStrike">
                <a:solidFill>
                  <a:srgbClr val="000000"/>
                </a:solidFill>
                <a:latin typeface="Times New Roman"/>
              </a:rPr>
              <a:t>    March 2009 - Tutorials</a:t>
            </a:r>
            <a:endParaRPr b="1" lang="en-US" sz="2400" spc="-1" strike="noStrike">
              <a:solidFill>
                <a:srgbClr val="000000"/>
              </a:solidFill>
              <a:latin typeface="Times New Roman"/>
            </a:endParaRPr>
          </a:p>
        </p:txBody>
      </p:sp>
      <p:sp>
        <p:nvSpPr>
          <p:cNvPr id="57" name="PlaceHolder 2"/>
          <p:cNvSpPr>
            <a:spLocks noGrp="1"/>
          </p:cNvSpPr>
          <p:nvPr>
            <p:ph/>
          </p:nvPr>
        </p:nvSpPr>
        <p:spPr>
          <a:xfrm>
            <a:off x="544680" y="1174680"/>
            <a:ext cx="8294400" cy="52372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nday, March 9, 2009</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torial #1 (6:30 pm): Multi-radio Power Conservation Management sponsored by Vivek Gupta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nnis Edwards - CoCo Communication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ghoon Jee - ETRI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 Anthony Chan - Huawei Technology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interest (8:00 pm): IEEE 802.3 Support for IEEE 802.1AS Time and Synchronization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ve Carlson - High Speed Design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id Law - IEEE 802.3 WG Chair </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esday, March 10, 2009</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torial #2 (6:30 pm): White Space Tutorial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thew Sherman - BAE Systems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torial #3 (9:00 pm): IEEE-SA Patent Pool Collaboration with Via Licensing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ward Rashba - IEEE Standards Association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rey Bruno - Via Licensing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4BAF0C3-62CD-466D-AC7B-5FF50E88F73C}" type="slidenum">
              <a:t>5</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dback to 802.1/802.3</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ment feedback receiv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AA4F81C-0B86-4908-B3DB-6B3C581B2176}" type="slidenum">
              <a:t>6</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1 PAR Feedback (1)</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1 WG : Multi-Radio Power Managemen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commen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are managing Watts, then measure Watts.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 consumption is not generally available from Radio interfaces, so it is not meaningful to manage power control using measurements that are not available. (802.2 LLC does not expose power consump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Radio Power Management does not belong in 802.21.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ndover control is not the same as Power management.</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management in a client is truly an implementation issue not a standardization iss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5C provide insufficient justification for starting this projec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0EF8717-F6D1-44D2-AB1C-C1689E9A459F}" type="slidenum">
              <a:t>7</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1 PAR Feedback (2)</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1 WG : Support for Emergency Servic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comment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ergency Services (E-911, PSAP, etc) are important services that may benefit from standardization.  This needs to start soon, but we do not believe that 802.21 is not the proper plac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uggest that a separate 802 WG be considered to allow the autonomy  and focus necessary to create a standard in a timely manner.  This WG would also need to ensure cooperation and coexistence with the other 802 WG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should be broken up into 3 separate destinct PARS</a:t>
            </a:r>
            <a:endParaRPr b="0" lang="en-US" sz="18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Client to Authority (E-911)</a:t>
            </a:r>
            <a:endParaRPr b="0" lang="en-US" sz="16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 Authority to client (emergency warning broadcast – Amber alert)</a:t>
            </a:r>
            <a:endParaRPr b="0" lang="en-US" sz="16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 Authority to Authority (network prioritization and contro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ED104A3-A65B-41E9-A296-81FB269D9469}" type="slidenum">
              <a:t>8</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1 PAR Feedback (3)</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1 WG : Support for Emergency Services</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7486526-A640-4ADD-9111-89599A3C8FEA}" type="slidenum">
              <a:t>9</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0T02:03:19Z</dcterms:created>
  <dc:creator>Jon Rosdahl</dc:creator>
  <dc:description/>
  <dc:language>en-US</dc:language>
  <cp:lastModifiedBy>jr05</cp:lastModifiedBy>
  <cp:lastPrinted>1998-02-10T13:28:06Z</cp:lastPrinted>
  <dcterms:modified xsi:type="dcterms:W3CDTF">2009-03-10T20:24:18Z</dcterms:modified>
  <cp:revision>4</cp:revision>
  <dc:subject/>
  <dc:title>Feedback on New WG PARs from WG11</dc:title>
</cp:coreProperties>
</file>