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8920" y="368100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080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576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260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892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576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260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9280" y="-360"/>
            <a:ext cx="880272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080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78920" y="368100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080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5576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260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7892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5576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260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9280" y="-360"/>
            <a:ext cx="880272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080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145080" cy="743040"/>
            <a:chOff x="0" y="6114960"/>
            <a:chExt cx="914508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14364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794000" y="6114960"/>
              <a:ext cx="135108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05920" y="6524640"/>
            <a:ext cx="390996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10EDCA0-707E-4B22-A54F-85C15BE7998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8360" y="6216480"/>
            <a:ext cx="28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14868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1360" y="120240"/>
            <a:ext cx="65534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144000" cy="743040"/>
            <a:chOff x="0" y="6114960"/>
            <a:chExt cx="914400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14400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7792560" y="6114960"/>
              <a:ext cx="135108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198000" y="6524640"/>
            <a:ext cx="390852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3C8A01D-783F-4299-803C-BBBAD956E51C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9000" y="6216480"/>
            <a:ext cx="28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802.21 Higher Layer requirements for IETF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178560" indent="-1785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Purpose of discussion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Identify the scenarios that 802.21 wants to enable through “L3 and above transport”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Identify the requirements 802.21 has for IETF in order to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067040" indent="-1814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Steer the creation of a work item in IETF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067040" indent="-1814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Steer the work progress in IETF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067040" indent="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178560" indent="-1785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ummary of situation wrt IETF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No conclusions yet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Internet AD and MIPSHOP WG chair have offered to host the work in MIPSHOP after an appropriate re-chartering of the WG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At next IETF (Aug. 1-5) 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067040" indent="-1814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802.21 has a slot for IS requirements in MIPSHOP under “Some Requirements for a Media Independent Handover Information Service” (draft-faccin-mih-infoserv-00.txt). Authors will give up willingly the slot for more generic presentation on 802.21 requirements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067040" indent="-1814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A MIHEP bar BOF still will take place (details TBD, waiting on AD for room assignment) to discuss further with experts present at IETF (and to create more awareness)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Though MIPSHOP is currently very FMIP oriented, there is actual willingness to re-charter and include 802.21 work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However, even with re-chartering, MIPSHOP can cater mainly for IS aspects. ES and CS might need a different location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Some Questions for 802.21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What scenarios do we want to enable?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Essential to identify requirement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Independently of what is in current draft,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re we willing, or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Do we need to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onsider IS separately from ES and CS from an IETF point of view?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e need to keep in mind requirements from a “L3 and above transport” may be quite different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uggestion: for the identification of requirements, let’s consider them separatel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If requirements match, then we know we can consider them together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What are the requirements needed to support such scenarios?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802.21 “L3 and above “ transport: what do we mean?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When approaching IETF, it is essential to clarify what we mea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efining “L3 and above transport” for 802.21 implies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Defining architectural aspects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MIHF discovery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 IETF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Security aspects (e.g. )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 IETF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ddressing?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hat messages and IEs and according to MIH logic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Reliable transport versus not-reliabl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Scenarios for MIIS with “L3 and above” transpor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Three main scenarios identified for IS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776160" indent="-30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MIHF in UE contacts MIHF in cPoA using L3 connectivity over current acces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219320" indent="-2667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when no MIHF is present in sPoA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219320" indent="-2667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cPoA is used as transport for L3 connectivity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776160" indent="-30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MIHF in UE contacts MIHF in cPoA using L3 connectivity over current acces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219320" indent="-2667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when MIHF in sPoA has no relationship with MIHF in cPoA and no data can be retrieved, but UE ahs visibility of MIHF in cPoA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219320" indent="-2667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cPoA is used as transport for L3 connectivity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776160" indent="-30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MIHF in UE contacts MIHF in sPoA using L3 connectivity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219320" indent="-2667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E.g. when L2 transport for specific access technology has not yet been defined or has not yet been deployed/implemented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Please add …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ll three scenarios can be used to help with network selection problem at roaming/handoff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Initial network selection (I.e. no connection established with any access/network/domain yet) cannot be supported through “L3 or above” transport, unless specific tricks are done at L2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Requirements for MII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80360" indent="-180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Discovery capability: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2640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The MIHF in the UE must be able to discover presence of MIHF in the sPoA/network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2640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The MIHF in the UE must be able to discover address of MIHF in the sPoA/network to exchange L3 or above traffic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2640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It should be possible to drive discovery of MIHF though information provided by UE (e.g. UE indicates that MIHF for 802.11 wrt 802.16 is needed, if there is one)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180360" indent="-180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Security: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2640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As part of discovery, the MIHF in the UE must be able to discover whether a security association can/shall be established with the MIHF in sPoA/network, and if yes which credentials can be used to authenticate with MIHF in sPoA/network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2640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Encryption: 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07856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encryption of 802.21 traffic on “L3 transport and above) for MIIS can optionally be used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07856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On/off decision can be made during discovery phase (e.g. mandated by UE or network policies)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2640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Integrity protection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2640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Replay detection: optional for MIIS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2640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The MIHF in the UE must be capable to discover presence of MIHF in the sPoA/network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180360" indent="-180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Reliability: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2640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180360" indent="-180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Protocol requirements: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2640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Capable to transport MIIS IEs according to current 802.21 draft (end future evolutions) in an efficient manner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Scenarios for MIES/MIC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B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Requirements for MIES/MIC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B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17:25:38Z</dcterms:created>
  <dc:creator>sfaccin</dc:creator>
  <dc:description>Nokia Standard Presentation Template - Letter
v. 6 2002/06/12 Juhani Pitkänen
Nokia Corporate Fonts
Provided by: NBI\IMS\ITP\CP\Office Platforms
NBI Owner:  Eric Beasley</dc:description>
  <dc:language>en-US</dc:language>
  <cp:lastModifiedBy>sfaccin</cp:lastModifiedBy>
  <cp:lastPrinted>2000-03-20T15:35:04Z</cp:lastPrinted>
  <dcterms:modified xsi:type="dcterms:W3CDTF">2005-07-26T12:56:26Z</dcterms:modified>
  <cp:revision>11</cp:revision>
  <dc:subject>Slide set rules</dc:subject>
  <dc:title>802.21 Slides</dc:title>
</cp:coreProperties>
</file>