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576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260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892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576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260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880272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5576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3260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892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5576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3260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880272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145080" cy="743040"/>
            <a:chOff x="0" y="6114960"/>
            <a:chExt cx="914508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14364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794000" y="6114960"/>
              <a:ext cx="135108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05920" y="6524640"/>
            <a:ext cx="390996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BA3B2E3-422D-40F4-BD0C-833188A9E0B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-3240"/>
            <a:ext cx="914868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1360" y="120240"/>
            <a:ext cx="65534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114960"/>
            <a:ext cx="9144000" cy="743040"/>
            <a:chOff x="0" y="6114960"/>
            <a:chExt cx="9144000" cy="743040"/>
          </a:xfrm>
        </p:grpSpPr>
        <p:sp>
          <p:nvSpPr>
            <p:cNvPr id="45" name=""/>
            <p:cNvSpPr/>
            <p:nvPr/>
          </p:nvSpPr>
          <p:spPr>
            <a:xfrm>
              <a:off x="0" y="6114960"/>
              <a:ext cx="914400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792560" y="6114960"/>
              <a:ext cx="135108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198000" y="6524640"/>
            <a:ext cx="390852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9F4AF97-65B4-4A4F-A66B-8986EBD9993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9000" y="6216480"/>
            <a:ext cx="28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802.21 Higher Layer requirements for IETF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178560" indent="-1785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Purpose of discussion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dentify the scenarios that 802.21 wants to enable through “L3 and above transport”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dentify the requirements 802.21 has for IETF in order to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Steer the creation of a work item in IETF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Steer the work progress in IETF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Focus is specifically on I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78560" indent="-1785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ummary of situation wrt IET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No conclusions yet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nternet AD and MIPSHOP WG chair have offered to host the work in MIPSHOP after an appropriate re-chartering of the W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At next IETF (Aug. 1-5) 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802.21 has a slot for IS requirements in MIPSHOP under “Some Requirements for a Media Independent Handover Information Service” (draft-faccin-mih-infoserv-00.txt). Authors will give up willingly the slot for more generic presentation on 802.21 requirement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A MIHEP bar BOF still will take place (details TBD, waiting on AD for room assignment) to discuss further with experts present at IETF (and to create more awareness)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Though MIPSHOP is currently very FMIP oriented, there is actual willingness to re-charter and include 802.21 work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However, even with re-chartering, MIPSHOP can cater mainly for IS aspects. ES and CS might need a different location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ome Questions for 802.21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at scenarios do we want to enable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Essential to identify requiremen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ndependently of what is in current draft,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re we willing, o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Do we need to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onsider IS separately from ES and CS from an IETF point of view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e need to keep in mind requirements from a “L3 and above transport” may be quite differen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urrent assumption: for the identification of requirements they are considered separatel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at are the requirements needed to support such scenarios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802.21 “L3 and above “ transport: what do we mean?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en approaching IETF, it is essential to clarify what we me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efining “L3 and above transport” for 802.21 impli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Defining architectural aspects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discovery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 IETF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Security aspects (e.g. 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 IETF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ddressing?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hat messages and IEs and according to MIH logic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liable transport versus not-reliabl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cenarios for MIIS with “L3 and above” transpor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hree main scenarios identified for IS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721800" indent="-282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mmunicates with MIHF in cPoA using L3 connectivity over current acces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when no MIHF is present in sPoA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cPoA is used as transport for L3 connectivity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721800" indent="-282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mmunicates with MIHF in cPoA using L3 connectivity over current acces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when MIHF in sPoA has no relationship with MIHF in cPoA and no data can be retrieved, but UE ahs visibility of MIHF in cPoA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cPoA is used as transport for L3 connectivity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721800" indent="-282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mmunicates with MIHF in sPoA using L3 connectivity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E.g. when L2 transport for specific access technology has not yet been defined or has not yet been deployed/implemented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721800" indent="-2829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mmunicates with MIHF in sPoA using L2 or L3, MIHF in sPoA communicates with other MIHF in network using L3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33640" indent="-2480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E.g. proxy case, retrieval of IS info from “deeper” in the network, retrieval of dynamic IS information from new/target network/acces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ll these scenarios can be used to help with network selection problem at roaming/handoff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18960" indent="-3189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Initial network selection (I.e. no connection established with any access/network/domain yet) cannot be supported through “L3 or above” transport, unless specific tricks are done at L2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Requirement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wo types of requirement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ransport requiremen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rchitectural/protocol requiremen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Protocol vs. interfaces: two interfaces considered (separately) to identify requirement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UE MIHF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MIHF on network side (here referred to as “access” MIIS I/F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IHF on network sid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MIHF on network side (here referred to as “network” MIIS I/F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Transport Requirements for MII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ccess” MIIS I/F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Reliability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Please add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network” MIIS I/F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Reliability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Please add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Architectural/Protocol Requirements for MII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54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ccess” MIIS I/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Discovery capability: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e MIHF in the UE must be able to discover presence of MIHF in the sPoA/cPoA/network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e MIHF in the UE must be able to discover address of MIHF in the sPoA/cPoA/network to exchange L3 or above traffic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It should be possible to drive discovery of MIHF though information provided by UE (e.g. UE indicates that MIHF for 802.11 wrt 802.16 is needed, if there is one)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Security: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As part of discovery, the MIHF in the UE must be able to discover whether a security association can/shall be established with the MIHF in sPoA/network, and if yes which credentials can be used to authenticate with MIHF in sPoA/cPoA/network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Encryption: 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encryption of 802.21 traffic on “L3 transport and above) for MIIS can optionally be used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On/off decision can be made during discovery phase (e.g. mandated by UE or network policies)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Integrity protection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Replay detection: optional for MIIS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Protocol requirements: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224"/>
              </a:spcBef>
              <a:spcAft>
                <a:spcPts val="22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apable to transport MIIS IEs according to current 802.21 draft (and future evolutions) in an efficient manner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etwork” MIIS I/F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Please add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264"/>
              </a:spcBef>
              <a:spcAft>
                <a:spcPts val="26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cenarios for MIES/MIC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BD (current discussion focuses mainly on I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Requirements for MIES/MIC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BD (current discussion focuses mainly on I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7:25:38Z</dcterms:created>
  <dc:creator>sfaccin</dc:creator>
  <dc:description>Nokia Standard Presentation Template - Letter
v. 6 2002/06/12 Juhani Pitkänen
Nokia Corporate Fonts
Provided by: NBI\IMS\ITP\CP\Office Platforms
NBI Owner:  Eric Beasley</dc:description>
  <dc:language>en-US</dc:language>
  <cp:lastModifiedBy>sfaccin</cp:lastModifiedBy>
  <cp:lastPrinted>2000-03-20T15:35:04Z</cp:lastPrinted>
  <dcterms:modified xsi:type="dcterms:W3CDTF">2005-07-27T15:18:33Z</dcterms:modified>
  <cp:revision>16</cp:revision>
  <dc:subject>Slide set rules</dc:subject>
  <dc:title>802.21 Slides</dc:title>
</cp:coreProperties>
</file>