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4D5-68B9-4491-BD96-507D03F1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2DF7-1C9E-493A-94F3-83CF602C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138-1605-4B77-9608-9F6BD1CC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C0E-8EB6-4399-8721-9E29D943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E1A-1715-4E15-B49C-368777E3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1A86-75AB-48FE-9EAC-2B3C487F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0E6-A2E7-4EDF-A002-B9B2D8D8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6E8-9380-41BB-B497-F5E0353F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920-4D87-4617-9F5F-D012BE8C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6B6-E68E-4E36-A49F-30B4B84F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F69-5641-4642-9FD9-63BAF508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EED-EC62-44C3-838D-BA8065B4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8D1E-E637-4A93-B02C-7BE751CE3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7772400" cy="30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33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logo(1)" descr=""/>
          <p:cNvPicPr/>
          <p:nvPr/>
        </p:nvPicPr>
        <p:blipFill>
          <a:blip r:embed="rId2"/>
          <a:stretch/>
        </p:blipFill>
        <p:spPr>
          <a:xfrm>
            <a:off x="7772400" y="6248520"/>
            <a:ext cx="99072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248520"/>
            <a:ext cx="7772400" cy="30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33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logo(1)" descr=""/>
          <p:cNvPicPr/>
          <p:nvPr/>
        </p:nvPicPr>
        <p:blipFill>
          <a:blip r:embed="rId1"/>
          <a:stretch/>
        </p:blipFill>
        <p:spPr>
          <a:xfrm>
            <a:off x="7772400" y="6248520"/>
            <a:ext cx="990720" cy="350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1440" y="1143000"/>
            <a:ext cx="91411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523880"/>
            <a:ext cx="7315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GBASE-CX4 Study Group</a:t>
            </a:r>
            <a:br>
              <a:rPr sz="60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1960" y="4902120"/>
            <a:ext cx="26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 Di Minic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T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@mohawk-cdt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304920"/>
            <a:ext cx="7848360" cy="71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 Specificatio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5 meter (24 AWG)  - InfiniBand Cable Assemb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Transmission Characterist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orst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dance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-to-Pair Sk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(?) Models for worst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440" y="1143000"/>
            <a:ext cx="91411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52280"/>
            <a:ext cx="886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GBASE-CX4 Cable Assembly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1430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295280"/>
            <a:ext cx="57913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11430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3520" y="685800"/>
            <a:ext cx="38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X InfiniBand Cable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057400" y="2082960"/>
          <a:ext cx="5715000" cy="25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82960"/>
                    <a:ext cx="571500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823400" y="1538280"/>
            <a:ext cx="54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iniBand 4X Electrical Requirements (1.25 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5320" y="4586400"/>
            <a:ext cx="64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GBASE-T Additional Electrical Requirements (1.56 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984320" y="5100480"/>
          <a:ext cx="5213520" cy="1343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4320" y="5100480"/>
                    <a:ext cx="521352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07760" y="4876920"/>
            <a:ext cx="813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GBASE-CX4- Compliance Channel Insertion lo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sertion loss of each pair of the CX4 cable assembly shall be less th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ion_Loss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&lt; TBD (d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all frequencies from TBD MHz to TBD GH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cludes the attenuation of the differential cabling pairs, and th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.e., the assembl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4105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228600"/>
            <a:ext cx="7315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GBASE-CX4 Complianc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3920" y="490680"/>
            <a:ext cx="869292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14360" y="620640"/>
            <a:ext cx="831204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3T19:17:23Z</dcterms:created>
  <dc:creator>Chris DiMinico</dc:creator>
  <dc:description/>
  <dc:language>en-US</dc:language>
  <cp:lastModifiedBy>Chris DiMinico</cp:lastModifiedBy>
  <dcterms:modified xsi:type="dcterms:W3CDTF">2002-12-16T22:38:58Z</dcterms:modified>
  <cp:revision>8</cp:revision>
  <dc:subject/>
  <dc:title>Slide 1</dc:title>
</cp:coreProperties>
</file>