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92F-6B85-4736-8742-4B3EC88F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A5C-BB65-4D9E-9AE7-A718EED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6B1-00A8-4290-BCD2-001282B6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E19-9AD9-4F40-A423-8401E0BC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FDE-114E-4DB5-9A95-76F21FB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3F1-947D-41CF-BB36-3A66FDA7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30E-BEA5-448B-9DD3-E0D912A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808-6AAB-4446-B17F-99F7AD6B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47B-433B-4C4C-A018-125D9DF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02D-CB49-4C36-888E-B0D6F24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1DA-96A7-4C7E-BF7F-6200F36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7FC-EAE0-4753-821B-53ABF62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1C51-E985-4C82-993C-7E0203173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GBASE-CX4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use 10GBASE-X PCS with minimal changes to 10GBASE-X P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finiband 4X type cable and 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distances up to 15m with a BER better tha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transmit voltage levels no higher than XA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mpatibility with 130nm and 90nm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ompatibility of XAUI and –CX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meet or exceed FCC/CISPR Class A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 Bradshaw/K. Dal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: 30, N: 0, A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04:28Z</dcterms:created>
  <dc:creator>Bob Grow</dc:creator>
  <dc:description/>
  <dc:language>en-US</dc:language>
  <cp:lastModifiedBy>daniel_dove</cp:lastModifiedBy>
  <dcterms:modified xsi:type="dcterms:W3CDTF">2002-12-17T23:29:57Z</dcterms:modified>
  <cp:revision>1</cp:revision>
  <dc:subject/>
  <dc:title>10GBASE-CX4 Objectives</dc:title>
</cp:coreProperties>
</file>