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213-64F1-441B-BF3B-FB66A37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E65-8024-4EE9-A489-8F4E27B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370-AD58-429E-BD29-393E70A7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AAC-E8E5-4C3D-80D6-C7522C8C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099-7285-43CF-942B-1A428379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445-A463-42CE-8E9F-1CD922D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C28-A77E-4962-BED9-03D22C2C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7A9-21A6-4752-BBA2-691E7622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4A2-F843-45AE-A984-37184AF8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790-555A-4CE7-B7AB-FC24C00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28A-25BD-499D-BD27-130FD23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713-C0C2-426E-BB60-0D8240CA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582-A5F4-4772-B72A-FA42BC003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dr_systimax" descr=""/>
          <p:cNvPicPr/>
          <p:nvPr/>
        </p:nvPicPr>
        <p:blipFill>
          <a:blip r:embed="rId2"/>
          <a:stretch/>
        </p:blipFill>
        <p:spPr>
          <a:xfrm>
            <a:off x="0" y="144360"/>
            <a:ext cx="703440" cy="669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Channel Configu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85800" y="1295280"/>
            <a:ext cx="8229240" cy="3706920"/>
            <a:chOff x="685800" y="1295280"/>
            <a:chExt cx="8229240" cy="3706920"/>
          </a:xfrm>
        </p:grpSpPr>
        <p:sp>
          <p:nvSpPr>
            <p:cNvPr id="44" name=""/>
            <p:cNvSpPr/>
            <p:nvPr/>
          </p:nvSpPr>
          <p:spPr>
            <a:xfrm>
              <a:off x="4682880" y="2512800"/>
              <a:ext cx="626760" cy="1379880"/>
            </a:xfrm>
            <a:custGeom>
              <a:avLst/>
              <a:gdLst/>
              <a:ahLst/>
              <a:rect l="l" t="t" r="r" b="b"/>
              <a:pathLst>
                <a:path w="1318" h="1424">
                  <a:moveTo>
                    <a:pt x="0" y="21"/>
                  </a:moveTo>
                  <a:cubicBezTo>
                    <a:pt x="103" y="10"/>
                    <a:pt x="207" y="0"/>
                    <a:pt x="311" y="73"/>
                  </a:cubicBezTo>
                  <a:cubicBezTo>
                    <a:pt x="415" y="146"/>
                    <a:pt x="580" y="339"/>
                    <a:pt x="622" y="459"/>
                  </a:cubicBezTo>
                  <a:cubicBezTo>
                    <a:pt x="664" y="579"/>
                    <a:pt x="479" y="648"/>
                    <a:pt x="562" y="792"/>
                  </a:cubicBezTo>
                  <a:cubicBezTo>
                    <a:pt x="645" y="936"/>
                    <a:pt x="992" y="1226"/>
                    <a:pt x="1118" y="1325"/>
                  </a:cubicBezTo>
                  <a:cubicBezTo>
                    <a:pt x="1244" y="1424"/>
                    <a:pt x="1286" y="1375"/>
                    <a:pt x="1318" y="1385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8026920" y="3729960"/>
              <a:ext cx="574560" cy="82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7739280" y="3649320"/>
              <a:ext cx="367200" cy="310680"/>
              <a:chOff x="7739280" y="3649320"/>
              <a:chExt cx="367200" cy="310680"/>
            </a:xfrm>
          </p:grpSpPr>
          <p:sp>
            <p:nvSpPr>
              <p:cNvPr id="47" name=""/>
              <p:cNvSpPr/>
              <p:nvPr/>
            </p:nvSpPr>
            <p:spPr>
              <a:xfrm flipH="1" flipV="1">
                <a:off x="7766640" y="3670920"/>
                <a:ext cx="45720" cy="25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flipV="1">
                <a:off x="7738920" y="3801600"/>
                <a:ext cx="22680" cy="6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7951680" y="3649320"/>
                <a:ext cx="154800" cy="196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flipV="1">
                <a:off x="7752600" y="3661200"/>
                <a:ext cx="348480" cy="1692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7977600" y="3836160"/>
                <a:ext cx="128880" cy="123480"/>
              </a:xfrm>
              <a:custGeom>
                <a:avLst/>
                <a:gdLst/>
                <a:ahLst/>
                <a:rect l="l" t="t" r="r" b="b"/>
                <a:pathLst>
                  <a:path w="116" h="76">
                    <a:moveTo>
                      <a:pt x="27" y="65"/>
                    </a:moveTo>
                    <a:lnTo>
                      <a:pt x="116" y="60"/>
                    </a:lnTo>
                    <a:lnTo>
                      <a:pt x="92" y="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29" y="76"/>
                    </a:lnTo>
                    <a:lnTo>
                      <a:pt x="27" y="65"/>
                    </a:ln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7745400" y="3845160"/>
                <a:ext cx="231480" cy="109800"/>
              </a:xfrm>
              <a:custGeom>
                <a:avLst/>
                <a:gdLst/>
                <a:ahLst/>
                <a:rect l="l" t="t" r="r" b="b"/>
                <a:pathLst>
                  <a:path w="237" h="68">
                    <a:moveTo>
                      <a:pt x="237" y="60"/>
                    </a:moveTo>
                    <a:lnTo>
                      <a:pt x="149" y="41"/>
                    </a:lnTo>
                    <a:lnTo>
                      <a:pt x="146" y="3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34" y="68"/>
                    </a:lnTo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8523360" y="3649320"/>
              <a:ext cx="366840" cy="324360"/>
              <a:chOff x="8523360" y="3649320"/>
              <a:chExt cx="366840" cy="324360"/>
            </a:xfrm>
          </p:grpSpPr>
          <p:sp>
            <p:nvSpPr>
              <p:cNvPr id="54" name=""/>
              <p:cNvSpPr/>
              <p:nvPr/>
            </p:nvSpPr>
            <p:spPr>
              <a:xfrm flipV="1">
                <a:off x="8817120" y="3670200"/>
                <a:ext cx="45360" cy="270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867520" y="3806280"/>
                <a:ext cx="22680" cy="691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8523360" y="3649320"/>
                <a:ext cx="154800" cy="204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8528040" y="3660480"/>
                <a:ext cx="349200" cy="177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8523360" y="3845520"/>
                <a:ext cx="128520" cy="128160"/>
              </a:xfrm>
              <a:custGeom>
                <a:avLst/>
                <a:gdLst/>
                <a:ahLst/>
                <a:rect l="l" t="t" r="r" b="b"/>
                <a:pathLst>
                  <a:path w="116" h="76">
                    <a:moveTo>
                      <a:pt x="27" y="65"/>
                    </a:moveTo>
                    <a:lnTo>
                      <a:pt x="116" y="60"/>
                    </a:lnTo>
                    <a:lnTo>
                      <a:pt x="92" y="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29" y="76"/>
                    </a:lnTo>
                    <a:lnTo>
                      <a:pt x="27" y="65"/>
                    </a:ln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8651880" y="3853800"/>
                <a:ext cx="231840" cy="114480"/>
              </a:xfrm>
              <a:custGeom>
                <a:avLst/>
                <a:gdLst/>
                <a:ahLst/>
                <a:rect l="l" t="t" r="r" b="b"/>
                <a:pathLst>
                  <a:path w="237" h="68">
                    <a:moveTo>
                      <a:pt x="237" y="60"/>
                    </a:moveTo>
                    <a:lnTo>
                      <a:pt x="149" y="41"/>
                    </a:lnTo>
                    <a:lnTo>
                      <a:pt x="146" y="3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34" y="68"/>
                    </a:lnTo>
                  </a:path>
                </a:pathLst>
              </a:custGeom>
              <a:solidFill>
                <a:srgbClr val="ff0000">
                  <a:alpha val="50000"/>
                </a:srgbClr>
              </a:solidFill>
              <a:ln w="1260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369320" y="1863360"/>
              <a:ext cx="856440" cy="677160"/>
              <a:chOff x="4369320" y="1863360"/>
              <a:chExt cx="856440" cy="677160"/>
            </a:xfrm>
          </p:grpSpPr>
          <p:sp>
            <p:nvSpPr>
              <p:cNvPr id="61" name=""/>
              <p:cNvSpPr/>
              <p:nvPr/>
            </p:nvSpPr>
            <p:spPr>
              <a:xfrm>
                <a:off x="4369320" y="1879920"/>
                <a:ext cx="848880" cy="645480"/>
              </a:xfrm>
              <a:prstGeom prst="roundRect">
                <a:avLst>
                  <a:gd name="adj" fmla="val 5528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85520" y="2001960"/>
                <a:ext cx="793800" cy="13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512960" y="2015280"/>
                <a:ext cx="541080" cy="134280"/>
                <a:chOff x="4512960" y="2015280"/>
                <a:chExt cx="541080" cy="1342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51296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4940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77756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9258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5404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4633920" y="1863360"/>
                <a:ext cx="324360" cy="11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97040" y="1871640"/>
                <a:ext cx="2368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Lucen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53600" y="1871640"/>
                <a:ext cx="27216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PATCHMAX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4372560" y="2311200"/>
                <a:ext cx="832680" cy="229320"/>
                <a:chOff x="4372560" y="2311200"/>
                <a:chExt cx="832680" cy="22932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4372560" y="2311200"/>
                  <a:ext cx="135360" cy="229320"/>
                  <a:chOff x="4372560" y="2311200"/>
                  <a:chExt cx="135360" cy="22932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4372560" y="2311200"/>
                    <a:ext cx="1353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4399560" y="239760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41576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4512600" y="2311200"/>
                  <a:ext cx="135360" cy="229320"/>
                  <a:chOff x="4512600" y="2311200"/>
                  <a:chExt cx="135360" cy="22932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4512600" y="2311200"/>
                    <a:ext cx="1353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540320" y="239760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55580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4652640" y="2311200"/>
                  <a:ext cx="135360" cy="229320"/>
                  <a:chOff x="4652640" y="2311200"/>
                  <a:chExt cx="135360" cy="22932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4652640" y="2311200"/>
                    <a:ext cx="1353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680360" y="239760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4696560" y="242784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4793400" y="2311200"/>
                  <a:ext cx="135360" cy="229320"/>
                  <a:chOff x="4793400" y="2311200"/>
                  <a:chExt cx="135360" cy="22932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4793400" y="2311200"/>
                    <a:ext cx="1306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816800" y="2397600"/>
                    <a:ext cx="957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83660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4933440" y="2311200"/>
                  <a:ext cx="131040" cy="229320"/>
                  <a:chOff x="4933440" y="2311200"/>
                  <a:chExt cx="131040" cy="2293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4933440" y="2311200"/>
                    <a:ext cx="13104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956840" y="239760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4973040" y="242784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5073480" y="2311200"/>
                  <a:ext cx="131760" cy="229320"/>
                  <a:chOff x="5073480" y="2311200"/>
                  <a:chExt cx="131760" cy="22932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5073480" y="2311200"/>
                    <a:ext cx="1317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097600" y="2397600"/>
                    <a:ext cx="9108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113080" y="2427840"/>
                    <a:ext cx="92160" cy="11268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" name=""/>
              <p:cNvSpPr/>
              <p:nvPr/>
            </p:nvSpPr>
            <p:spPr>
              <a:xfrm>
                <a:off x="4658400" y="1863360"/>
                <a:ext cx="270720" cy="118080"/>
              </a:xfrm>
              <a:custGeom>
                <a:avLst/>
                <a:gdLst/>
                <a:ahLst/>
                <a:rect l="l" t="t" r="r" b="b"/>
                <a:pathLst>
                  <a:path w="68" h="27">
                    <a:moveTo>
                      <a:pt x="0" y="25"/>
                    </a:moveTo>
                    <a:lnTo>
                      <a:pt x="3" y="0"/>
                    </a:lnTo>
                    <a:lnTo>
                      <a:pt x="64" y="0"/>
                    </a:lnTo>
                    <a:lnTo>
                      <a:pt x="67" y="26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937480" y="3649680"/>
              <a:ext cx="939600" cy="258120"/>
              <a:chOff x="5937480" y="3649680"/>
              <a:chExt cx="939600" cy="258120"/>
            </a:xfrm>
          </p:grpSpPr>
          <p:sp>
            <p:nvSpPr>
              <p:cNvPr id="99" name=""/>
              <p:cNvSpPr/>
              <p:nvPr/>
            </p:nvSpPr>
            <p:spPr>
              <a:xfrm>
                <a:off x="6190200" y="3723480"/>
                <a:ext cx="686880" cy="684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937480" y="3649680"/>
                <a:ext cx="324360" cy="258120"/>
                <a:chOff x="5937480" y="3649680"/>
                <a:chExt cx="324360" cy="258120"/>
              </a:xfrm>
            </p:grpSpPr>
            <p:sp>
              <p:nvSpPr>
                <p:cNvPr id="101" name=""/>
                <p:cNvSpPr/>
                <p:nvPr/>
              </p:nvSpPr>
              <p:spPr>
                <a:xfrm flipH="1" flipV="1">
                  <a:off x="5961960" y="3667320"/>
                  <a:ext cx="40320" cy="2160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>
                  <a:off x="5937120" y="3775680"/>
                  <a:ext cx="20520" cy="5400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flipV="1">
                  <a:off x="6124320" y="3649320"/>
                  <a:ext cx="137160" cy="1623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5949000" y="3658680"/>
                  <a:ext cx="308880" cy="1407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flipV="1">
                  <a:off x="6147360" y="3804840"/>
                  <a:ext cx="114480" cy="10260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flipV="1">
                  <a:off x="5942880" y="3811680"/>
                  <a:ext cx="204120" cy="9180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6798960" y="3568320"/>
              <a:ext cx="903600" cy="676080"/>
              <a:chOff x="6798960" y="3568320"/>
              <a:chExt cx="903600" cy="67608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7121520" y="3696480"/>
                <a:ext cx="47160" cy="59040"/>
              </a:xfrm>
              <a:prstGeom prst="line">
                <a:avLst/>
              </a:prstGeom>
              <a:ln w="12600">
                <a:solidFill>
                  <a:srgbClr val="d9319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17440" y="3931560"/>
                <a:ext cx="97560" cy="23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7224840" y="3568320"/>
                <a:ext cx="120960" cy="57240"/>
              </a:xfrm>
              <a:custGeom>
                <a:avLst/>
                <a:gdLst/>
                <a:ahLst/>
                <a:rect l="l" t="t" r="r" b="b"/>
                <a:pathLst>
                  <a:path w="75" h="33">
                    <a:moveTo>
                      <a:pt x="0" y="32"/>
                    </a:moveTo>
                    <a:lnTo>
                      <a:pt x="20" y="0"/>
                    </a:lnTo>
                    <a:lnTo>
                      <a:pt x="74" y="0"/>
                    </a:lnTo>
                    <a:lnTo>
                      <a:pt x="74" y="31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6980040" y="3571200"/>
                <a:ext cx="192240" cy="48960"/>
              </a:xfrm>
              <a:custGeom>
                <a:avLst/>
                <a:gdLst>
                  <a:gd name="textAreaLeft" fmla="*/ 42120 w 192240"/>
                  <a:gd name="textAreaRight" fmla="*/ 150120 w 192240"/>
                  <a:gd name="textAreaTop" fmla="*/ 10800 h 48960"/>
                  <a:gd name="textAreaBottom" fmla="*/ 38160 h 4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7" y="21600"/>
                    </a:lnTo>
                    <a:lnTo>
                      <a:pt x="539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7318080" y="3902760"/>
                <a:ext cx="79920" cy="11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7317360" y="3623760"/>
                <a:ext cx="384840" cy="620640"/>
              </a:xfrm>
              <a:custGeom>
                <a:avLst/>
                <a:gdLst/>
                <a:ahLst/>
                <a:rect l="l" t="t" r="r" b="b"/>
                <a:pathLst>
                  <a:path w="238" h="356">
                    <a:moveTo>
                      <a:pt x="237" y="0"/>
                    </a:moveTo>
                    <a:lnTo>
                      <a:pt x="0" y="0"/>
                    </a:lnTo>
                    <a:lnTo>
                      <a:pt x="0" y="355"/>
                    </a:lnTo>
                    <a:lnTo>
                      <a:pt x="119" y="355"/>
                    </a:lnTo>
                    <a:lnTo>
                      <a:pt x="237" y="232"/>
                    </a:lnTo>
                    <a:lnTo>
                      <a:pt x="71" y="231"/>
                    </a:lnTo>
                    <a:lnTo>
                      <a:pt x="69" y="222"/>
                    </a:lnTo>
                    <a:lnTo>
                      <a:pt x="74" y="215"/>
                    </a:lnTo>
                    <a:lnTo>
                      <a:pt x="139" y="213"/>
                    </a:lnTo>
                    <a:lnTo>
                      <a:pt x="139" y="180"/>
                    </a:lnTo>
                    <a:lnTo>
                      <a:pt x="70" y="180"/>
                    </a:lnTo>
                    <a:lnTo>
                      <a:pt x="69" y="172"/>
                    </a:lnTo>
                    <a:lnTo>
                      <a:pt x="73" y="162"/>
                    </a:lnTo>
                    <a:lnTo>
                      <a:pt x="237" y="162"/>
                    </a:lnTo>
                    <a:lnTo>
                      <a:pt x="23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7320960" y="4026240"/>
                <a:ext cx="74880" cy="48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6" y="0"/>
                    </a:moveTo>
                    <a:lnTo>
                      <a:pt x="0" y="0"/>
                    </a:lnTo>
                    <a:lnTo>
                      <a:pt x="22" y="26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13920" y="3960360"/>
                <a:ext cx="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437240" y="3664440"/>
                <a:ext cx="2088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846120" y="3605400"/>
                <a:ext cx="466560" cy="21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825960" y="3714840"/>
                <a:ext cx="492840" cy="439560"/>
              </a:xfrm>
              <a:custGeom>
                <a:avLst/>
                <a:gdLst/>
                <a:ahLst/>
                <a:rect l="l" t="t" r="r" b="b"/>
                <a:pathLst>
                  <a:path w="303" h="252">
                    <a:moveTo>
                      <a:pt x="2" y="59"/>
                    </a:moveTo>
                    <a:lnTo>
                      <a:pt x="0" y="231"/>
                    </a:lnTo>
                    <a:lnTo>
                      <a:pt x="24" y="231"/>
                    </a:lnTo>
                    <a:lnTo>
                      <a:pt x="31" y="218"/>
                    </a:lnTo>
                    <a:lnTo>
                      <a:pt x="35" y="110"/>
                    </a:lnTo>
                    <a:lnTo>
                      <a:pt x="51" y="110"/>
                    </a:lnTo>
                    <a:lnTo>
                      <a:pt x="56" y="220"/>
                    </a:lnTo>
                    <a:lnTo>
                      <a:pt x="78" y="251"/>
                    </a:lnTo>
                    <a:lnTo>
                      <a:pt x="101" y="220"/>
                    </a:lnTo>
                    <a:lnTo>
                      <a:pt x="106" y="113"/>
                    </a:lnTo>
                    <a:lnTo>
                      <a:pt x="125" y="113"/>
                    </a:lnTo>
                    <a:lnTo>
                      <a:pt x="129" y="220"/>
                    </a:lnTo>
                    <a:lnTo>
                      <a:pt x="140" y="231"/>
                    </a:lnTo>
                    <a:lnTo>
                      <a:pt x="165" y="230"/>
                    </a:lnTo>
                    <a:lnTo>
                      <a:pt x="171" y="220"/>
                    </a:lnTo>
                    <a:lnTo>
                      <a:pt x="176" y="114"/>
                    </a:lnTo>
                    <a:lnTo>
                      <a:pt x="195" y="114"/>
                    </a:lnTo>
                    <a:lnTo>
                      <a:pt x="199" y="222"/>
                    </a:lnTo>
                    <a:lnTo>
                      <a:pt x="221" y="251"/>
                    </a:lnTo>
                    <a:lnTo>
                      <a:pt x="244" y="221"/>
                    </a:lnTo>
                    <a:lnTo>
                      <a:pt x="246" y="115"/>
                    </a:lnTo>
                    <a:lnTo>
                      <a:pt x="268" y="115"/>
                    </a:lnTo>
                    <a:lnTo>
                      <a:pt x="273" y="220"/>
                    </a:lnTo>
                    <a:lnTo>
                      <a:pt x="288" y="232"/>
                    </a:lnTo>
                    <a:lnTo>
                      <a:pt x="302" y="232"/>
                    </a:lnTo>
                    <a:lnTo>
                      <a:pt x="302" y="114"/>
                    </a:lnTo>
                    <a:lnTo>
                      <a:pt x="301" y="1"/>
                    </a:lnTo>
                    <a:lnTo>
                      <a:pt x="289" y="0"/>
                    </a:lnTo>
                    <a:lnTo>
                      <a:pt x="289" y="59"/>
                    </a:lnTo>
                    <a:lnTo>
                      <a:pt x="2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211160" y="3819960"/>
                <a:ext cx="26280" cy="8928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990840" y="3826440"/>
                <a:ext cx="2916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142760" y="3825000"/>
                <a:ext cx="2772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16" y="51"/>
                    </a:moveTo>
                    <a:lnTo>
                      <a:pt x="0" y="5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925320" y="3830040"/>
                <a:ext cx="26280" cy="91080"/>
              </a:xfrm>
              <a:custGeom>
                <a:avLst/>
                <a:gdLst/>
                <a:ahLst/>
                <a:rect l="l" t="t" r="r" b="b"/>
                <a:pathLst>
                  <a:path w="17" h="53">
                    <a:moveTo>
                      <a:pt x="16" y="52"/>
                    </a:moveTo>
                    <a:lnTo>
                      <a:pt x="0" y="5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182720" y="4075560"/>
                <a:ext cx="20880" cy="972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950520" y="4075560"/>
                <a:ext cx="18000" cy="1476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6798960" y="3613680"/>
                <a:ext cx="482760" cy="200520"/>
                <a:chOff x="6798960" y="3613680"/>
                <a:chExt cx="482760" cy="20052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6980760" y="3623400"/>
                  <a:ext cx="9612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6879600" y="3626640"/>
                  <a:ext cx="100080" cy="8316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6980760" y="3718800"/>
                  <a:ext cx="96120" cy="9360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6878160" y="3724920"/>
                  <a:ext cx="99720" cy="8496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7185240" y="3625200"/>
                  <a:ext cx="939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7083720" y="3629160"/>
                  <a:ext cx="100080" cy="8568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7185960" y="3720960"/>
                  <a:ext cx="957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7081920" y="3726720"/>
                  <a:ext cx="100080" cy="8568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798960" y="3613680"/>
                  <a:ext cx="4795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3  6  1  2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3193920" y="2107080"/>
              <a:ext cx="1176120" cy="296640"/>
              <a:chOff x="3193920" y="2107080"/>
              <a:chExt cx="1176120" cy="29664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3493800" y="2188080"/>
                <a:ext cx="639360" cy="144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3193920" y="2107440"/>
                <a:ext cx="324360" cy="285480"/>
                <a:chOff x="3193920" y="2107440"/>
                <a:chExt cx="324360" cy="285480"/>
              </a:xfrm>
            </p:grpSpPr>
            <p:sp>
              <p:nvSpPr>
                <p:cNvPr id="138" name=""/>
                <p:cNvSpPr/>
                <p:nvPr/>
              </p:nvSpPr>
              <p:spPr>
                <a:xfrm flipH="1" flipV="1">
                  <a:off x="3218400" y="2126880"/>
                  <a:ext cx="40320" cy="237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>
                  <a:off x="3193560" y="2246760"/>
                  <a:ext cx="20520" cy="597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3380760" y="2107440"/>
                  <a:ext cx="137160" cy="17928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3205440" y="2118240"/>
                  <a:ext cx="308880" cy="1555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3403800" y="2279160"/>
                  <a:ext cx="114480" cy="11340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3199320" y="2287080"/>
                  <a:ext cx="204120" cy="10152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45680" y="2107080"/>
                <a:ext cx="324360" cy="296640"/>
                <a:chOff x="4045680" y="2107080"/>
                <a:chExt cx="324360" cy="296640"/>
              </a:xfrm>
            </p:grpSpPr>
            <p:sp>
              <p:nvSpPr>
                <p:cNvPr id="145" name=""/>
                <p:cNvSpPr/>
                <p:nvPr/>
              </p:nvSpPr>
              <p:spPr>
                <a:xfrm flipV="1">
                  <a:off x="4305240" y="2126880"/>
                  <a:ext cx="40320" cy="248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349520" y="2251440"/>
                  <a:ext cx="20520" cy="6228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4045680" y="2107080"/>
                  <a:ext cx="137160" cy="18648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49640" y="2117880"/>
                  <a:ext cx="308880" cy="16164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045680" y="2285640"/>
                  <a:ext cx="114480" cy="11808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160160" y="2293560"/>
                  <a:ext cx="204120" cy="10548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4839480" y="4136040"/>
              <a:ext cx="1087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17800" y="2512800"/>
              <a:ext cx="1567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Pan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4400" y="2918520"/>
              <a:ext cx="18810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ble (245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3560" y="1620000"/>
              <a:ext cx="1097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tch Cord (9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1620000"/>
              <a:ext cx="15670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pment Cord  (5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68240" y="129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6920" y="129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68040" y="454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92080" y="454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331360" y="1863360"/>
              <a:ext cx="891000" cy="675720"/>
              <a:chOff x="2331360" y="1863360"/>
              <a:chExt cx="891000" cy="675720"/>
            </a:xfrm>
          </p:grpSpPr>
          <p:sp>
            <p:nvSpPr>
              <p:cNvPr id="161" name=""/>
              <p:cNvSpPr/>
              <p:nvPr/>
            </p:nvSpPr>
            <p:spPr>
              <a:xfrm>
                <a:off x="2331360" y="1879920"/>
                <a:ext cx="883080" cy="644040"/>
              </a:xfrm>
              <a:prstGeom prst="roundRect">
                <a:avLst>
                  <a:gd name="adj" fmla="val 5528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47560" y="2001960"/>
                <a:ext cx="824040" cy="13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2478240" y="2015280"/>
                <a:ext cx="572040" cy="134280"/>
                <a:chOff x="2478240" y="2015280"/>
                <a:chExt cx="572040" cy="134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47824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200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622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9080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50280" y="2015280"/>
                  <a:ext cx="0" cy="13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2607120" y="1863360"/>
                <a:ext cx="339120" cy="11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47560" y="1871640"/>
                <a:ext cx="26748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Lucen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38320" y="1871640"/>
                <a:ext cx="28404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6480" bIns="6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15840"/>
                    <a:tab algn="l" pos="31680"/>
                    <a:tab algn="l" pos="47520"/>
                    <a:tab algn="l" pos="63360"/>
                    <a:tab algn="l" pos="79200"/>
                    <a:tab algn="l" pos="95400"/>
                    <a:tab algn="l" pos="111240"/>
                    <a:tab algn="l" pos="127080"/>
                    <a:tab algn="l" pos="142920"/>
                    <a:tab algn="l" pos="158760"/>
                    <a:tab algn="l" pos="174600"/>
                    <a:tab algn="l" pos="190440"/>
                    <a:tab algn="l" pos="206280"/>
                    <a:tab algn="l" pos="222120"/>
                    <a:tab algn="l" pos="237960"/>
                    <a:tab algn="l" pos="254160"/>
                    <a:tab algn="l" pos="270000"/>
                    <a:tab algn="l" pos="285840"/>
                    <a:tab algn="l" pos="301680"/>
                    <a:tab algn="l" pos="317520"/>
                  </a:tabLst>
                </a:pPr>
                <a:r>
                  <a:rPr b="1" lang="en-US" sz="100" spc="-1" strike="noStrike">
                    <a:solidFill>
                      <a:srgbClr val="393939"/>
                    </a:solidFill>
                    <a:latin typeface="Arial"/>
                  </a:rPr>
                  <a:t>PATCHMAX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2331360" y="2311200"/>
                <a:ext cx="868320" cy="227880"/>
                <a:chOff x="2331360" y="2311200"/>
                <a:chExt cx="868320" cy="22788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2331360" y="2311200"/>
                  <a:ext cx="141120" cy="227880"/>
                  <a:chOff x="2331360" y="2311200"/>
                  <a:chExt cx="141120" cy="2278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2331360" y="2311200"/>
                    <a:ext cx="1411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365200" y="239688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377440" y="242712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2477880" y="2311200"/>
                  <a:ext cx="141120" cy="227880"/>
                  <a:chOff x="2477880" y="2311200"/>
                  <a:chExt cx="141120" cy="22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2477880" y="2311200"/>
                    <a:ext cx="1411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510640" y="239688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522880" y="242712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2623680" y="2311200"/>
                  <a:ext cx="141120" cy="227880"/>
                  <a:chOff x="2623680" y="2311200"/>
                  <a:chExt cx="141120" cy="2278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2623680" y="2311200"/>
                    <a:ext cx="1411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656440" y="239688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669760" y="242712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778120" y="2311200"/>
                  <a:ext cx="132120" cy="227880"/>
                  <a:chOff x="2778120" y="2311200"/>
                  <a:chExt cx="132120" cy="2278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2778120" y="2311200"/>
                    <a:ext cx="12852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798640" y="239688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815560" y="2427120"/>
                    <a:ext cx="946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925000" y="2311200"/>
                  <a:ext cx="127800" cy="227880"/>
                  <a:chOff x="2925000" y="2311200"/>
                  <a:chExt cx="127800" cy="2278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2925000" y="2311200"/>
                    <a:ext cx="12780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945520" y="2396880"/>
                    <a:ext cx="946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957760" y="2427120"/>
                    <a:ext cx="946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3070800" y="2311200"/>
                  <a:ext cx="128880" cy="227880"/>
                  <a:chOff x="3070800" y="2311200"/>
                  <a:chExt cx="128880" cy="2278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070800" y="2311200"/>
                    <a:ext cx="12888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91320" y="2396880"/>
                    <a:ext cx="9504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103560" y="2427120"/>
                    <a:ext cx="95760" cy="111960"/>
                  </a:xfrm>
                  <a:prstGeom prst="rect">
                    <a:avLst/>
                  </a:prstGeom>
                  <a:solidFill>
                    <a:srgbClr val="80808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>
                <a:off x="2623320" y="1863360"/>
                <a:ext cx="289080" cy="11664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5"/>
                    </a:moveTo>
                    <a:lnTo>
                      <a:pt x="3" y="0"/>
                    </a:lnTo>
                    <a:lnTo>
                      <a:pt x="65" y="0"/>
                    </a:lnTo>
                    <a:lnTo>
                      <a:pt x="68" y="26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74560" y="2025720"/>
              <a:ext cx="1567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Pan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58640" y="3892680"/>
              <a:ext cx="1018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 Cable (50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63880" y="4136040"/>
              <a:ext cx="1087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ar 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074560" y="3568320"/>
              <a:ext cx="903960" cy="676080"/>
              <a:chOff x="5074560" y="3568320"/>
              <a:chExt cx="903960" cy="67608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5397120" y="3696480"/>
                <a:ext cx="47160" cy="59040"/>
              </a:xfrm>
              <a:prstGeom prst="line">
                <a:avLst/>
              </a:prstGeom>
              <a:ln w="12600">
                <a:solidFill>
                  <a:srgbClr val="d9319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693040" y="3931560"/>
                <a:ext cx="97920" cy="230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499720" y="3568320"/>
                <a:ext cx="120600" cy="57240"/>
              </a:xfrm>
              <a:custGeom>
                <a:avLst/>
                <a:gdLst/>
                <a:ahLst/>
                <a:rect l="l" t="t" r="r" b="b"/>
                <a:pathLst>
                  <a:path w="75" h="33">
                    <a:moveTo>
                      <a:pt x="0" y="32"/>
                    </a:moveTo>
                    <a:lnTo>
                      <a:pt x="20" y="0"/>
                    </a:lnTo>
                    <a:lnTo>
                      <a:pt x="74" y="0"/>
                    </a:lnTo>
                    <a:lnTo>
                      <a:pt x="74" y="31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5255280" y="3571200"/>
                <a:ext cx="192240" cy="48960"/>
              </a:xfrm>
              <a:custGeom>
                <a:avLst/>
                <a:gdLst>
                  <a:gd name="textAreaLeft" fmla="*/ 42120 w 192240"/>
                  <a:gd name="textAreaRight" fmla="*/ 150120 w 192240"/>
                  <a:gd name="textAreaTop" fmla="*/ 10800 h 48960"/>
                  <a:gd name="textAreaBottom" fmla="*/ 38160 h 4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7" y="21600"/>
                    </a:lnTo>
                    <a:lnTo>
                      <a:pt x="539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593320" y="3902760"/>
                <a:ext cx="79920" cy="11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5593320" y="3623760"/>
                <a:ext cx="385200" cy="620640"/>
              </a:xfrm>
              <a:custGeom>
                <a:avLst/>
                <a:gdLst/>
                <a:ahLst/>
                <a:rect l="l" t="t" r="r" b="b"/>
                <a:pathLst>
                  <a:path w="238" h="356">
                    <a:moveTo>
                      <a:pt x="237" y="0"/>
                    </a:moveTo>
                    <a:lnTo>
                      <a:pt x="0" y="0"/>
                    </a:lnTo>
                    <a:lnTo>
                      <a:pt x="0" y="355"/>
                    </a:lnTo>
                    <a:lnTo>
                      <a:pt x="119" y="355"/>
                    </a:lnTo>
                    <a:lnTo>
                      <a:pt x="237" y="232"/>
                    </a:lnTo>
                    <a:lnTo>
                      <a:pt x="71" y="231"/>
                    </a:lnTo>
                    <a:lnTo>
                      <a:pt x="69" y="222"/>
                    </a:lnTo>
                    <a:lnTo>
                      <a:pt x="74" y="215"/>
                    </a:lnTo>
                    <a:lnTo>
                      <a:pt x="139" y="213"/>
                    </a:lnTo>
                    <a:lnTo>
                      <a:pt x="139" y="180"/>
                    </a:lnTo>
                    <a:lnTo>
                      <a:pt x="70" y="180"/>
                    </a:lnTo>
                    <a:lnTo>
                      <a:pt x="69" y="172"/>
                    </a:lnTo>
                    <a:lnTo>
                      <a:pt x="73" y="162"/>
                    </a:lnTo>
                    <a:lnTo>
                      <a:pt x="237" y="162"/>
                    </a:lnTo>
                    <a:lnTo>
                      <a:pt x="23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596560" y="4026240"/>
                <a:ext cx="74880" cy="48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6" y="0"/>
                    </a:moveTo>
                    <a:lnTo>
                      <a:pt x="0" y="0"/>
                    </a:lnTo>
                    <a:lnTo>
                      <a:pt x="22" y="26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89160" y="3960360"/>
                <a:ext cx="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712480" y="3664440"/>
                <a:ext cx="2088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5121720" y="3605400"/>
                <a:ext cx="466560" cy="21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5102280" y="3714840"/>
                <a:ext cx="492480" cy="439560"/>
              </a:xfrm>
              <a:custGeom>
                <a:avLst/>
                <a:gdLst/>
                <a:ahLst/>
                <a:rect l="l" t="t" r="r" b="b"/>
                <a:pathLst>
                  <a:path w="303" h="252">
                    <a:moveTo>
                      <a:pt x="2" y="59"/>
                    </a:moveTo>
                    <a:lnTo>
                      <a:pt x="0" y="231"/>
                    </a:lnTo>
                    <a:lnTo>
                      <a:pt x="24" y="231"/>
                    </a:lnTo>
                    <a:lnTo>
                      <a:pt x="31" y="218"/>
                    </a:lnTo>
                    <a:lnTo>
                      <a:pt x="35" y="110"/>
                    </a:lnTo>
                    <a:lnTo>
                      <a:pt x="51" y="110"/>
                    </a:lnTo>
                    <a:lnTo>
                      <a:pt x="56" y="220"/>
                    </a:lnTo>
                    <a:lnTo>
                      <a:pt x="78" y="251"/>
                    </a:lnTo>
                    <a:lnTo>
                      <a:pt x="101" y="220"/>
                    </a:lnTo>
                    <a:lnTo>
                      <a:pt x="106" y="113"/>
                    </a:lnTo>
                    <a:lnTo>
                      <a:pt x="125" y="113"/>
                    </a:lnTo>
                    <a:lnTo>
                      <a:pt x="129" y="220"/>
                    </a:lnTo>
                    <a:lnTo>
                      <a:pt x="140" y="231"/>
                    </a:lnTo>
                    <a:lnTo>
                      <a:pt x="165" y="230"/>
                    </a:lnTo>
                    <a:lnTo>
                      <a:pt x="171" y="220"/>
                    </a:lnTo>
                    <a:lnTo>
                      <a:pt x="176" y="114"/>
                    </a:lnTo>
                    <a:lnTo>
                      <a:pt x="195" y="114"/>
                    </a:lnTo>
                    <a:lnTo>
                      <a:pt x="199" y="222"/>
                    </a:lnTo>
                    <a:lnTo>
                      <a:pt x="221" y="251"/>
                    </a:lnTo>
                    <a:lnTo>
                      <a:pt x="244" y="221"/>
                    </a:lnTo>
                    <a:lnTo>
                      <a:pt x="246" y="115"/>
                    </a:lnTo>
                    <a:lnTo>
                      <a:pt x="268" y="115"/>
                    </a:lnTo>
                    <a:lnTo>
                      <a:pt x="273" y="220"/>
                    </a:lnTo>
                    <a:lnTo>
                      <a:pt x="288" y="232"/>
                    </a:lnTo>
                    <a:lnTo>
                      <a:pt x="302" y="232"/>
                    </a:lnTo>
                    <a:lnTo>
                      <a:pt x="302" y="114"/>
                    </a:lnTo>
                    <a:lnTo>
                      <a:pt x="301" y="1"/>
                    </a:lnTo>
                    <a:lnTo>
                      <a:pt x="289" y="0"/>
                    </a:lnTo>
                    <a:lnTo>
                      <a:pt x="289" y="59"/>
                    </a:lnTo>
                    <a:lnTo>
                      <a:pt x="2" y="5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5486400" y="3819960"/>
                <a:ext cx="26280" cy="8928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5266080" y="3826440"/>
                <a:ext cx="2916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51"/>
                    </a:moveTo>
                    <a:lnTo>
                      <a:pt x="16" y="5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418000" y="3825000"/>
                <a:ext cx="27720" cy="896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16" y="51"/>
                    </a:moveTo>
                    <a:lnTo>
                      <a:pt x="0" y="5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5200920" y="3830040"/>
                <a:ext cx="25560" cy="91080"/>
              </a:xfrm>
              <a:custGeom>
                <a:avLst/>
                <a:gdLst/>
                <a:ahLst/>
                <a:rect l="l" t="t" r="r" b="b"/>
                <a:pathLst>
                  <a:path w="17" h="53">
                    <a:moveTo>
                      <a:pt x="16" y="52"/>
                    </a:moveTo>
                    <a:lnTo>
                      <a:pt x="0" y="5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457960" y="4075560"/>
                <a:ext cx="20880" cy="972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225400" y="4075560"/>
                <a:ext cx="17640" cy="14760"/>
              </a:xfrm>
              <a:prstGeom prst="roundRect">
                <a:avLst>
                  <a:gd name="adj" fmla="val 1246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5074560" y="3613680"/>
                <a:ext cx="482400" cy="200520"/>
                <a:chOff x="5074560" y="3613680"/>
                <a:chExt cx="482400" cy="200520"/>
              </a:xfrm>
            </p:grpSpPr>
            <p:sp>
              <p:nvSpPr>
                <p:cNvPr id="220" name=""/>
                <p:cNvSpPr/>
                <p:nvPr/>
              </p:nvSpPr>
              <p:spPr>
                <a:xfrm flipH="1">
                  <a:off x="5256360" y="3623400"/>
                  <a:ext cx="9612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5155200" y="3626640"/>
                  <a:ext cx="100080" cy="8316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5256360" y="3718800"/>
                  <a:ext cx="96120" cy="9360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5153400" y="3724920"/>
                  <a:ext cx="99360" cy="8496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5460480" y="3625200"/>
                  <a:ext cx="939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5358960" y="3629160"/>
                  <a:ext cx="100080" cy="85680"/>
                </a:xfrm>
                <a:prstGeom prst="rtTriangl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461200" y="3720960"/>
                  <a:ext cx="95760" cy="93240"/>
                </a:xfrm>
                <a:prstGeom prst="roundRect">
                  <a:avLst>
                    <a:gd name="adj" fmla="val 12468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5357160" y="3726720"/>
                  <a:ext cx="100080" cy="85680"/>
                </a:xfrm>
                <a:prstGeom prst="rtTriangl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74560" y="3613680"/>
                  <a:ext cx="4795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3  6  1  2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469520" y="2107440"/>
              <a:ext cx="861480" cy="284760"/>
              <a:chOff x="1469520" y="2107440"/>
              <a:chExt cx="861480" cy="28476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1722240" y="2188080"/>
                <a:ext cx="608760" cy="144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69520" y="2107440"/>
                <a:ext cx="324000" cy="284760"/>
                <a:chOff x="1469520" y="2107440"/>
                <a:chExt cx="324000" cy="28476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>
                  <a:off x="1494000" y="2126880"/>
                  <a:ext cx="40320" cy="237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1469160" y="2246400"/>
                  <a:ext cx="20520" cy="597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1656720" y="2107080"/>
                  <a:ext cx="136800" cy="178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1480680" y="2117520"/>
                  <a:ext cx="308520" cy="1551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1679040" y="2278440"/>
                  <a:ext cx="114480" cy="113400"/>
                </a:xfrm>
                <a:custGeom>
                  <a:avLst/>
                  <a:gdLst/>
                  <a:ahLst/>
                  <a:rect l="l" t="t" r="r" b="b"/>
                  <a:pathLst>
                    <a:path w="116" h="76">
                      <a:moveTo>
                        <a:pt x="27" y="65"/>
                      </a:moveTo>
                      <a:lnTo>
                        <a:pt x="116" y="60"/>
                      </a:lnTo>
                      <a:lnTo>
                        <a:pt x="92" y="0"/>
                      </a:lnTo>
                      <a:lnTo>
                        <a:pt x="0" y="65"/>
                      </a:lnTo>
                      <a:lnTo>
                        <a:pt x="0" y="76"/>
                      </a:lnTo>
                      <a:lnTo>
                        <a:pt x="29" y="76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1474560" y="2286360"/>
                  <a:ext cx="204120" cy="101520"/>
                </a:xfrm>
                <a:custGeom>
                  <a:avLst/>
                  <a:gdLst/>
                  <a:ahLst/>
                  <a:rect l="l" t="t" r="r" b="b"/>
                  <a:pathLst>
                    <a:path w="237" h="68">
                      <a:moveTo>
                        <a:pt x="237" y="60"/>
                      </a:moveTo>
                      <a:lnTo>
                        <a:pt x="149" y="41"/>
                      </a:lnTo>
                      <a:lnTo>
                        <a:pt x="146" y="33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234" y="68"/>
                      </a:lnTo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1260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7818120" y="3974040"/>
              <a:ext cx="1096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80920"/>
                  <a:tab algn="l" pos="1762200"/>
                  <a:tab algn="l" pos="2643120"/>
                  <a:tab algn="l" pos="3524400"/>
                  <a:tab algn="l" pos="4405320"/>
                  <a:tab algn="l" pos="5286240"/>
                  <a:tab algn="l" pos="6167520"/>
                  <a:tab algn="l" pos="7048440"/>
                  <a:tab algn="l" pos="7929720"/>
                  <a:tab algn="l" pos="8810640"/>
                  <a:tab algn="l" pos="9691560"/>
                  <a:tab algn="l" pos="10572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tch Cord (5 f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60200" y="4038480"/>
            <a:ext cx="32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Connector Chann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sured out to 65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762120" y="380880"/>
          <a:ext cx="82296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82296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62120" y="304920"/>
          <a:ext cx="8229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8229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762120" y="304920"/>
          <a:ext cx="82296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8229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5:20:28Z</dcterms:created>
  <dc:creator>Richard Y. Mei</dc:creator>
  <dc:description/>
  <dc:language>en-US</dc:language>
  <cp:lastModifiedBy>Richard Y. Mei</cp:lastModifiedBy>
  <dcterms:modified xsi:type="dcterms:W3CDTF">2003-03-19T17:34:41Z</dcterms:modified>
  <cp:revision>12</cp:revision>
  <dc:subject/>
  <dc:title>PowerPoint Presentation</dc:title>
</cp:coreProperties>
</file>