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B1A2-893F-4F0E-A30A-450F6D86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7B6-C904-4E72-8870-8FE0FB85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6CD-758A-4D1E-82F9-A91637C3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4DE-E179-40CC-8141-0B8AFD8C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883-74F7-45D6-8D89-C5B21C29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27F-49DD-440C-9A0F-9C66A916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0AB0-DC4C-40F9-8273-E4DD9B95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A4D-D875-404E-B8DB-24172DB9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1D4F-E748-40EA-A3BB-BD97CB76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2AF8-1BEA-4E53-A4DF-EDE43BF7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3A88-5A87-40AF-BB81-28CB5060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96C3-EC1E-4214-A224-EBB2FF75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C6C1-82DE-43F0-99E5-DB4AB845A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76880" y="177840"/>
            <a:ext cx="56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ation of connector offset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981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981080" y="10663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16002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9720" y="9144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252960" y="1143000"/>
                <a:ext cx="41605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θ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419720" y="1981080"/>
                <a:ext cx="1218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,2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2217240" y="838080"/>
            <a:ext cx="34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895480" y="2809800"/>
                <a:ext cx="2217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l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10560" y="2779560"/>
            <a:ext cx="2055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al field of L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,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562720" y="2743200"/>
                <a:ext cx="1218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,2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286000" y="1219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447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22600" y="35046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590920" y="3276720"/>
                <a:ext cx="316224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600360" y="3728880"/>
                <a:ext cx="12384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143000" y="4437000"/>
                <a:ext cx="736452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nary>
                          <m:naryPr>
                            <m:chr m:val="∬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r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l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drd</m:t>
                            </m:r>
                            <m:r>
                              <m:t xml:space="preserve">θ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l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drd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l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drd</m:t>
                        </m:r>
                        <m:r>
                          <m:t xml:space="preserve">θ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902520" y="407520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coupling coeffici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17784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ation of connector offse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838080"/>
            <a:ext cx="3276720" cy="1219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1066680"/>
            <a:ext cx="1143000" cy="1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1371600"/>
            <a:ext cx="838080" cy="144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676520"/>
            <a:ext cx="457200" cy="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46440" y="83808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al gro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7840" y="114300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al grou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13280" y="14479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al grou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2096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put electrical field to the next fiber needs to be reconstructed from the modes of previous f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lectrical field profile at the end of the first fiber varies wit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electrical field profile of each modal group may not be symmetric around the fiber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685800"/>
            <a:ext cx="3276720" cy="1219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88560" y="106668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xt f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638680" y="388620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562720" y="6019920"/>
            <a:ext cx="30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eld profile of 10 m fiber with 5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 offset at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905120" y="4267080"/>
                <a:ext cx="26668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lθ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l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828800" y="4800600"/>
            <a:ext cx="2666880" cy="2000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5640" y="5105520"/>
            <a:ext cx="1177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…,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22200" y="3962520"/>
            <a:ext cx="39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fix r, modal field can be written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76520" y="177840"/>
            <a:ext cx="58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ation of connector offset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4952880"/>
            <a:ext cx="710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mong of mismatch from fiber core to fiber core may cause different mode cross coupling. Simulation of connector offset should take this into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21400" y="1336680"/>
            <a:ext cx="2249280" cy="229392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67560" y="2427120"/>
            <a:ext cx="88920" cy="88920"/>
          </a:xfrm>
          <a:prstGeom prst="ellipse">
            <a:avLst/>
          </a:prstGeom>
          <a:solidFill>
            <a:srgbClr val="80808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4720" y="1303200"/>
            <a:ext cx="2249280" cy="229392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90880" y="2379600"/>
            <a:ext cx="88920" cy="88920"/>
          </a:xfrm>
          <a:prstGeom prst="ellipse">
            <a:avLst/>
          </a:prstGeom>
          <a:solidFill>
            <a:srgbClr val="80808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295280"/>
            <a:ext cx="2249640" cy="2293920"/>
          </a:xfrm>
          <a:prstGeom prst="ellipse">
            <a:avLst/>
          </a:prstGeom>
          <a:solidFill>
            <a:srgbClr val="ffffff">
              <a:alpha val="17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66720" y="1665360"/>
            <a:ext cx="1144800" cy="1204920"/>
          </a:xfrm>
          <a:prstGeom prst="ellipse">
            <a:avLst/>
          </a:prstGeom>
          <a:gradFill rotWithShape="0">
            <a:gsLst>
              <a:gs pos="0">
                <a:srgbClr val="005e75"/>
              </a:gs>
              <a:gs pos="100000">
                <a:srgbClr val="00ccff">
                  <a:alpha val="5607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36760" y="2508120"/>
            <a:ext cx="404964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63400" y="151596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ion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3760" y="38084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1280" y="420696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59600" y="1700280"/>
            <a:ext cx="1144440" cy="1204920"/>
          </a:xfrm>
          <a:prstGeom prst="ellipse">
            <a:avLst/>
          </a:prstGeom>
          <a:gradFill rotWithShape="0">
            <a:gsLst>
              <a:gs pos="0">
                <a:srgbClr val="005e75"/>
              </a:gs>
              <a:gs pos="100000">
                <a:srgbClr val="00ccff">
                  <a:alpha val="64313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626080" y="1770120"/>
            <a:ext cx="2249640" cy="2293920"/>
            <a:chOff x="5626080" y="1770120"/>
            <a:chExt cx="2249640" cy="2293920"/>
          </a:xfrm>
        </p:grpSpPr>
        <p:sp>
          <p:nvSpPr>
            <p:cNvPr id="98" name=""/>
            <p:cNvSpPr/>
            <p:nvPr/>
          </p:nvSpPr>
          <p:spPr>
            <a:xfrm>
              <a:off x="5626080" y="1770120"/>
              <a:ext cx="2249640" cy="22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72240" y="2889360"/>
              <a:ext cx="88920" cy="88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238000" y="548640"/>
            <a:ext cx="3003840" cy="3025440"/>
            <a:chOff x="5238000" y="548640"/>
            <a:chExt cx="3003840" cy="3025440"/>
          </a:xfrm>
        </p:grpSpPr>
        <p:sp>
          <p:nvSpPr>
            <p:cNvPr id="101" name=""/>
            <p:cNvSpPr/>
            <p:nvPr/>
          </p:nvSpPr>
          <p:spPr>
            <a:xfrm rot="20113800">
              <a:off x="5614920" y="914040"/>
              <a:ext cx="2249640" cy="22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0113800">
              <a:off x="6671160" y="2045880"/>
              <a:ext cx="88920" cy="88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84840" y="83808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al field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12193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3:22:07Z</dcterms:created>
  <dc:creator>ysun</dc:creator>
  <dc:description/>
  <dc:language>en-US</dc:language>
  <cp:lastModifiedBy>ysun</cp:lastModifiedBy>
  <dcterms:modified xsi:type="dcterms:W3CDTF">2004-10-15T21:54:28Z</dcterms:modified>
  <cp:revision>6</cp:revision>
  <dc:subject/>
  <dc:title>Slide 1</dc:title>
</cp:coreProperties>
</file>