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9CF3F-5293-4A1F-8AC2-638805157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55320" y="126720"/>
            <a:ext cx="859788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e0e57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5320" y="1472760"/>
            <a:ext cx="859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e0e57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5320" y="3814560"/>
            <a:ext cx="859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e0e5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B6452-3FCE-416C-BC80-0BB8C4A7E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55320" y="126720"/>
            <a:ext cx="859788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e0e57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55320" y="1472760"/>
            <a:ext cx="419544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e0e57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61000" y="1472760"/>
            <a:ext cx="419544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e0e57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55320" y="3814560"/>
            <a:ext cx="419544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e0e57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61000" y="3814560"/>
            <a:ext cx="419544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e0e57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53F804-65AB-4FF9-9BEB-9FCA942DE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55320" y="126720"/>
            <a:ext cx="859788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e0e57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55320" y="1472760"/>
            <a:ext cx="2768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e0e57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2680" y="1472760"/>
            <a:ext cx="2768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e0e57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69680" y="1472760"/>
            <a:ext cx="2768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e0e57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55320" y="3814560"/>
            <a:ext cx="2768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e0e57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2680" y="3814560"/>
            <a:ext cx="2768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e0e57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69680" y="3814560"/>
            <a:ext cx="2768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e0e57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9D48E-ABAC-465D-ACDA-CD3AAF7F3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5320" y="126720"/>
            <a:ext cx="859788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e0e57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55320" y="1472760"/>
            <a:ext cx="859788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0e5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5320" y="126720"/>
            <a:ext cx="859788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e0e57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55320" y="1472760"/>
            <a:ext cx="859788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e0e5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5320" y="126720"/>
            <a:ext cx="859788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e0e57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55320" y="1472760"/>
            <a:ext cx="419544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e0e57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61000" y="1472760"/>
            <a:ext cx="419544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e0e5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5320" y="126720"/>
            <a:ext cx="859788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e0e5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55320" y="126720"/>
            <a:ext cx="859788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0e5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55320" y="126720"/>
            <a:ext cx="859788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e0e57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55320" y="1472760"/>
            <a:ext cx="419544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e0e57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61000" y="1472760"/>
            <a:ext cx="419544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e0e57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55320" y="3814560"/>
            <a:ext cx="419544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e0e5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5320" y="126720"/>
            <a:ext cx="859788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e0e57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55320" y="1472760"/>
            <a:ext cx="8597880" cy="44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0e5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A63C1-5719-411C-ABFE-8288DE03B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55320" y="126720"/>
            <a:ext cx="859788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e0e57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55320" y="1472760"/>
            <a:ext cx="419544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e0e57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61000" y="1472760"/>
            <a:ext cx="419544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e0e57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61000" y="3814560"/>
            <a:ext cx="419544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e0e5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55320" y="126720"/>
            <a:ext cx="859788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e0e57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55320" y="1472760"/>
            <a:ext cx="419544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e0e57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61000" y="1472760"/>
            <a:ext cx="419544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e0e57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55320" y="3814560"/>
            <a:ext cx="859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e0e5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55320" y="126720"/>
            <a:ext cx="859788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e0e57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55320" y="1472760"/>
            <a:ext cx="859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e0e57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55320" y="3814560"/>
            <a:ext cx="859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e0e5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55320" y="126720"/>
            <a:ext cx="859788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e0e57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55320" y="1472760"/>
            <a:ext cx="419544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e0e57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61000" y="1472760"/>
            <a:ext cx="419544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e0e57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55320" y="3814560"/>
            <a:ext cx="419544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e0e57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61000" y="3814560"/>
            <a:ext cx="419544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e0e57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5320" y="126720"/>
            <a:ext cx="859788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e0e57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55320" y="1472760"/>
            <a:ext cx="2768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e0e57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2680" y="1472760"/>
            <a:ext cx="2768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e0e57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69680" y="1472760"/>
            <a:ext cx="2768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e0e57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55320" y="3814560"/>
            <a:ext cx="2768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e0e57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2680" y="3814560"/>
            <a:ext cx="2768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e0e57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69680" y="3814560"/>
            <a:ext cx="27684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e0e57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5320" y="126720"/>
            <a:ext cx="859788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e0e57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55320" y="1472760"/>
            <a:ext cx="859788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e0e5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FDE89-6465-409C-A8A5-38C41ABA7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55320" y="126720"/>
            <a:ext cx="859788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e0e57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55320" y="1472760"/>
            <a:ext cx="419544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e0e57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61000" y="1472760"/>
            <a:ext cx="419544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e0e5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92330-ADED-46A5-B4CD-BA902660D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5320" y="126720"/>
            <a:ext cx="859788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e0e5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292F1-2C82-4EBC-8C6E-07903C75A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55320" y="126720"/>
            <a:ext cx="859788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0e5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CB0B7-6ADB-4159-91AC-05E09D120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55320" y="126720"/>
            <a:ext cx="859788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e0e57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55320" y="1472760"/>
            <a:ext cx="419544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e0e57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61000" y="1472760"/>
            <a:ext cx="419544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e0e57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55320" y="3814560"/>
            <a:ext cx="419544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e0e5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4778E-CC2A-4D7E-9032-08F763FA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55320" y="126720"/>
            <a:ext cx="859788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e0e57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55320" y="1472760"/>
            <a:ext cx="419544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e0e57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61000" y="1472760"/>
            <a:ext cx="419544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e0e57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61000" y="3814560"/>
            <a:ext cx="419544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e0e5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D3953-C57F-45AC-9771-B4CDC6954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55320" y="126720"/>
            <a:ext cx="859788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e0e57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55320" y="1472760"/>
            <a:ext cx="419544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e0e57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61000" y="1472760"/>
            <a:ext cx="419544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e0e57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55320" y="3814560"/>
            <a:ext cx="859788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e0e5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0FD07-6EE8-41EC-9026-1C5ACD916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203040"/>
          </a:xfrm>
          <a:prstGeom prst="rect">
            <a:avLst/>
          </a:prstGeom>
          <a:gradFill rotWithShape="0">
            <a:gsLst>
              <a:gs pos="0">
                <a:srgbClr val="a6a6a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383080" y="4125960"/>
            <a:ext cx="7920" cy="3240"/>
          </a:xfrm>
          <a:custGeom>
            <a:avLst/>
            <a:gdLst/>
            <a:ahLst/>
            <a:rect l="l" t="t" r="r" b="b"/>
            <a:pathLst>
              <a:path w="5" h="2">
                <a:moveTo>
                  <a:pt x="0" y="2"/>
                </a:moveTo>
                <a:lnTo>
                  <a:pt x="3" y="0"/>
                </a:lnTo>
                <a:lnTo>
                  <a:pt x="5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55320" y="126720"/>
            <a:ext cx="859788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0e57"/>
                </a:solidFill>
                <a:latin typeface="Tahoma"/>
              </a:rPr>
              <a:t>Click to edit the title text format</a:t>
            </a:r>
            <a:endParaRPr b="1" lang="en-US" sz="2800" spc="-1" strike="noStrike">
              <a:solidFill>
                <a:srgbClr val="1e0e5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55320" y="1472760"/>
            <a:ext cx="859788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e0e5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e0e57"/>
                </a:solidFill>
                <a:latin typeface="Verdana"/>
              </a:rPr>
              <a:t>Click to edit the outline text format</a:t>
            </a:r>
            <a:endParaRPr b="0" lang="en-US" sz="2200" spc="-1" strike="noStrike">
              <a:solidFill>
                <a:srgbClr val="1e0e57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1e0e57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e0e57"/>
                </a:solidFill>
                <a:latin typeface="Verdana"/>
              </a:rPr>
              <a:t>Second Outline Level</a:t>
            </a:r>
            <a:endParaRPr b="0" lang="en-US" sz="2200" spc="-1" strike="noStrike">
              <a:solidFill>
                <a:srgbClr val="1e0e57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1e0e5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e0e57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1e0e57"/>
              </a:solidFill>
              <a:latin typeface="Verdana"/>
            </a:endParaRPr>
          </a:p>
          <a:p>
            <a:pPr lvl="3" marL="1600200" indent="-228600">
              <a:spcBef>
                <a:spcPts val="550"/>
              </a:spcBef>
              <a:buClr>
                <a:srgbClr val="1e0e57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e0e57"/>
                </a:solidFill>
                <a:latin typeface="Verdana"/>
              </a:rPr>
              <a:t>Fourth Outline Level</a:t>
            </a:r>
            <a:endParaRPr b="0" lang="en-US" sz="2200" spc="-1" strike="noStrike">
              <a:solidFill>
                <a:srgbClr val="1e0e57"/>
              </a:solidFill>
              <a:latin typeface="Verdana"/>
            </a:endParaRPr>
          </a:p>
          <a:p>
            <a:pPr lvl="4" marL="2057400" indent="-228600">
              <a:spcBef>
                <a:spcPts val="550"/>
              </a:spcBef>
              <a:buClr>
                <a:srgbClr val="1e0e57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e0e57"/>
                </a:solidFill>
                <a:latin typeface="Verdana"/>
              </a:rPr>
              <a:t>Fifth Outline Level</a:t>
            </a:r>
            <a:endParaRPr b="0" lang="en-US" sz="2200" spc="-1" strike="noStrike">
              <a:solidFill>
                <a:srgbClr val="1e0e57"/>
              </a:solidFill>
              <a:latin typeface="Verdana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e0e57"/>
                </a:solidFill>
                <a:latin typeface="Verdana"/>
              </a:rPr>
              <a:t>Sixth Outline Level</a:t>
            </a:r>
            <a:endParaRPr b="0" lang="en-US" sz="2200" spc="-1" strike="noStrike">
              <a:solidFill>
                <a:srgbClr val="1e0e57"/>
              </a:solidFill>
              <a:latin typeface="Verdana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e0e57"/>
                </a:solidFill>
                <a:latin typeface="Verdana"/>
              </a:rPr>
              <a:t>Seventh Outline Level</a:t>
            </a:r>
            <a:endParaRPr b="0" lang="en-US" sz="2200" spc="-1" strike="noStrike">
              <a:solidFill>
                <a:srgbClr val="1e0e57"/>
              </a:solidFill>
              <a:latin typeface="Verdana"/>
            </a:endParaRPr>
          </a:p>
        </p:txBody>
      </p:sp>
      <p:sp>
        <p:nvSpPr>
          <p:cNvPr id="4" name=""/>
          <p:cNvSpPr/>
          <p:nvPr/>
        </p:nvSpPr>
        <p:spPr>
          <a:xfrm>
            <a:off x="0" y="6343560"/>
            <a:ext cx="9144000" cy="0"/>
          </a:xfrm>
          <a:prstGeom prst="line">
            <a:avLst/>
          </a:prstGeom>
          <a:ln w="9360">
            <a:solidFill>
              <a:srgbClr val="e60d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4000320" y="6400800"/>
            <a:ext cx="1143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8682120" y="6400800"/>
            <a:ext cx="3636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EA227-FE76-4494-8213-EB9FCE9664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dt" idx="3"/>
          </p:nvPr>
        </p:nvSpPr>
        <p:spPr>
          <a:xfrm>
            <a:off x="469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469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e0e57"/>
                </a:solidFill>
                <a:latin typeface="Tahoma"/>
              </a:rPr>
              <a:t>Click to edit the title text format</a:t>
            </a:r>
            <a:endParaRPr b="1" lang="en-US" sz="3900" spc="-1" strike="noStrike">
              <a:solidFill>
                <a:srgbClr val="1e0e57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0e57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1e0e57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0e57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1e0e57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1e0e57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0e57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1e0e57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1e0e57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0e57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1e0e57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1e0e57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0e57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1e0e57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0e57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1e0e57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0e57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1e0e57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1e0e57"/>
                </a:solidFill>
                <a:latin typeface="Arial"/>
              </a:rPr>
              <a:t>TP3 (Informative) Simple Rx Sensitivity Test</a:t>
            </a:r>
            <a:endParaRPr b="1" lang="en-US" sz="3900" spc="-1" strike="noStrike">
              <a:solidFill>
                <a:srgbClr val="1e0e57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492120" y="3859200"/>
            <a:ext cx="777240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e0e57"/>
                </a:solidFill>
                <a:latin typeface="Tahoma"/>
              </a:rPr>
              <a:t>Sudeep Bhoja</a:t>
            </a:r>
            <a:br>
              <a:rPr sz="2800"/>
            </a:br>
            <a:r>
              <a:rPr b="0" lang="en-GB" sz="2800" spc="-1" strike="noStrike">
                <a:solidFill>
                  <a:srgbClr val="1e0e57"/>
                </a:solidFill>
                <a:latin typeface="Tahoma"/>
              </a:rPr>
              <a:t>Big Bear Networ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bhoja_12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5320" y="126720"/>
            <a:ext cx="859788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0e57"/>
                </a:solidFill>
                <a:latin typeface="Tahoma"/>
              </a:rPr>
              <a:t>Background</a:t>
            </a:r>
            <a:endParaRPr b="1" lang="en-US" sz="2800" spc="-1" strike="noStrike">
              <a:solidFill>
                <a:srgbClr val="1e0e57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5000" y="937800"/>
            <a:ext cx="8597880" cy="44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451"/>
              </a:spcBef>
              <a:buClr>
                <a:srgbClr val="1e0e5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0e57"/>
                </a:solidFill>
                <a:latin typeface="Verdana"/>
              </a:rPr>
              <a:t>Table 68.4 has TBD for Bessel-Thompson Filter Bandwidth</a:t>
            </a:r>
            <a:endParaRPr b="0" lang="en-US" sz="1800" spc="-1" strike="noStrike">
              <a:solidFill>
                <a:srgbClr val="1e0e57"/>
              </a:solidFill>
              <a:latin typeface="Verdana"/>
            </a:endParaRPr>
          </a:p>
          <a:p>
            <a:pPr lvl="1" marL="631440" indent="-242640">
              <a:lnSpc>
                <a:spcPct val="90000"/>
              </a:lnSpc>
              <a:spcBef>
                <a:spcPts val="451"/>
              </a:spcBef>
              <a:buClr>
                <a:srgbClr val="1e0e57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0e57"/>
                </a:solidFill>
                <a:latin typeface="Verdana"/>
              </a:rPr>
              <a:t>Informative test of Fig 68-9</a:t>
            </a:r>
            <a:endParaRPr b="0" lang="en-US" sz="1800" spc="-1" strike="noStrike">
              <a:solidFill>
                <a:srgbClr val="1e0e57"/>
              </a:solidFill>
              <a:latin typeface="Verdana"/>
            </a:endParaRPr>
          </a:p>
          <a:p>
            <a:pPr marL="291600" indent="-291600">
              <a:lnSpc>
                <a:spcPct val="90000"/>
              </a:lnSpc>
              <a:spcBef>
                <a:spcPts val="451"/>
              </a:spcBef>
              <a:buClr>
                <a:srgbClr val="1e0e5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0e57"/>
                </a:solidFill>
                <a:latin typeface="Verdana"/>
              </a:rPr>
              <a:t>Previously popescu_1_0904 suggested BT4 of 2.3GHz</a:t>
            </a:r>
            <a:endParaRPr b="0" lang="en-US" sz="1800" spc="-1" strike="noStrike">
              <a:solidFill>
                <a:srgbClr val="1e0e57"/>
              </a:solidFill>
              <a:latin typeface="Verdana"/>
            </a:endParaRPr>
          </a:p>
          <a:p>
            <a:pPr lvl="1" marL="631440" indent="-242640">
              <a:lnSpc>
                <a:spcPct val="90000"/>
              </a:lnSpc>
              <a:spcBef>
                <a:spcPts val="451"/>
              </a:spcBef>
              <a:buClr>
                <a:srgbClr val="1e0e57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0e57"/>
                </a:solidFill>
                <a:latin typeface="Verdana"/>
              </a:rPr>
              <a:t>300m of Cambridge 65 fiber model</a:t>
            </a:r>
            <a:endParaRPr b="0" lang="en-US" sz="1800" spc="-1" strike="noStrike">
              <a:solidFill>
                <a:srgbClr val="1e0e57"/>
              </a:solidFill>
              <a:latin typeface="Verdana"/>
            </a:endParaRPr>
          </a:p>
          <a:p>
            <a:pPr lvl="1" marL="631440" indent="-242640">
              <a:lnSpc>
                <a:spcPct val="90000"/>
              </a:lnSpc>
              <a:spcBef>
                <a:spcPts val="451"/>
              </a:spcBef>
              <a:buClr>
                <a:srgbClr val="1e0e57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0e57"/>
                </a:solidFill>
                <a:latin typeface="Verdana"/>
              </a:rPr>
              <a:t>However, connector effects were not included</a:t>
            </a:r>
            <a:endParaRPr b="0" lang="en-US" sz="1800" spc="-1" strike="noStrike">
              <a:solidFill>
                <a:srgbClr val="1e0e57"/>
              </a:solidFill>
              <a:latin typeface="Verdana"/>
            </a:endParaRPr>
          </a:p>
          <a:p>
            <a:pPr lvl="1" marL="631440" indent="-242640">
              <a:lnSpc>
                <a:spcPct val="90000"/>
              </a:lnSpc>
              <a:spcBef>
                <a:spcPts val="451"/>
              </a:spcBef>
              <a:buClr>
                <a:srgbClr val="1e0e57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0e57"/>
                </a:solidFill>
                <a:latin typeface="Verdana"/>
              </a:rPr>
              <a:t>No final conclusion was reached</a:t>
            </a:r>
            <a:endParaRPr b="0" lang="en-US" sz="1800" spc="-1" strike="noStrike">
              <a:solidFill>
                <a:srgbClr val="1e0e57"/>
              </a:solidFill>
              <a:latin typeface="Verdana"/>
            </a:endParaRPr>
          </a:p>
          <a:p>
            <a:pPr marL="291600" indent="-291600">
              <a:lnSpc>
                <a:spcPct val="90000"/>
              </a:lnSpc>
              <a:spcBef>
                <a:spcPts val="451"/>
              </a:spcBef>
              <a:buClr>
                <a:srgbClr val="1e0e5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0e57"/>
                </a:solidFill>
                <a:latin typeface="Verdana"/>
              </a:rPr>
              <a:t>Simulated Fiber Model details</a:t>
            </a:r>
            <a:endParaRPr b="0" lang="en-US" sz="1800" spc="-1" strike="noStrike">
              <a:solidFill>
                <a:srgbClr val="1e0e57"/>
              </a:solidFill>
              <a:latin typeface="Verdana"/>
            </a:endParaRPr>
          </a:p>
          <a:p>
            <a:pPr lvl="1" marL="631440" indent="-242640">
              <a:lnSpc>
                <a:spcPct val="90000"/>
              </a:lnSpc>
              <a:spcBef>
                <a:spcPts val="451"/>
              </a:spcBef>
              <a:buClr>
                <a:srgbClr val="1e0e57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0e57"/>
                </a:solidFill>
                <a:latin typeface="Verdana"/>
              </a:rPr>
              <a:t>300m of Cambridge 108 fiber model </a:t>
            </a:r>
            <a:endParaRPr b="0" lang="en-US" sz="1800" spc="-1" strike="noStrike">
              <a:solidFill>
                <a:srgbClr val="1e0e57"/>
              </a:solidFill>
              <a:latin typeface="Verdana"/>
            </a:endParaRPr>
          </a:p>
          <a:p>
            <a:pPr lvl="1" marL="631440" indent="-242640">
              <a:lnSpc>
                <a:spcPct val="90000"/>
              </a:lnSpc>
              <a:spcBef>
                <a:spcPts val="451"/>
              </a:spcBef>
              <a:buClr>
                <a:srgbClr val="1e0e57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0e57"/>
                </a:solidFill>
                <a:latin typeface="Verdana"/>
              </a:rPr>
              <a:t>2 worst case connectors at 7um offsets</a:t>
            </a:r>
            <a:endParaRPr b="0" lang="en-US" sz="1800" spc="-1" strike="noStrike">
              <a:solidFill>
                <a:srgbClr val="1e0e57"/>
              </a:solidFill>
              <a:latin typeface="Verdana"/>
            </a:endParaRPr>
          </a:p>
          <a:p>
            <a:pPr lvl="1" marL="631440" indent="-242640">
              <a:lnSpc>
                <a:spcPct val="90000"/>
              </a:lnSpc>
              <a:spcBef>
                <a:spcPts val="451"/>
              </a:spcBef>
              <a:buClr>
                <a:srgbClr val="1e0e57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0e57"/>
                </a:solidFill>
                <a:latin typeface="Verdana"/>
              </a:rPr>
              <a:t>47.1ps (20-80%) rise time, 7.5GHz BT4 Rx filter</a:t>
            </a:r>
            <a:endParaRPr b="0" lang="en-US" sz="1800" spc="-1" strike="noStrike">
              <a:solidFill>
                <a:srgbClr val="1e0e57"/>
              </a:solidFill>
              <a:latin typeface="Verdana"/>
            </a:endParaRPr>
          </a:p>
          <a:p>
            <a:pPr lvl="1" marL="631440" indent="-242640">
              <a:lnSpc>
                <a:spcPct val="90000"/>
              </a:lnSpc>
              <a:spcBef>
                <a:spcPts val="451"/>
              </a:spcBef>
              <a:buClr>
                <a:srgbClr val="1e0e57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0e57"/>
                </a:solidFill>
                <a:latin typeface="Verdana"/>
              </a:rPr>
              <a:t>6.5dB of dispersion budget </a:t>
            </a:r>
            <a:endParaRPr b="0" lang="en-US" sz="1800" spc="-1" strike="noStrike">
              <a:solidFill>
                <a:srgbClr val="1e0e57"/>
              </a:solidFill>
              <a:latin typeface="Verdana"/>
            </a:endParaRPr>
          </a:p>
          <a:p>
            <a:pPr marL="291600" indent="-291600">
              <a:lnSpc>
                <a:spcPct val="90000"/>
              </a:lnSpc>
              <a:spcBef>
                <a:spcPts val="451"/>
              </a:spcBef>
              <a:buClr>
                <a:srgbClr val="1e0e5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0e57"/>
                </a:solidFill>
                <a:latin typeface="Verdana"/>
              </a:rPr>
              <a:t>Symmetric impulse responses were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utomatically</a:t>
            </a:r>
            <a:r>
              <a:rPr b="0" lang="en-US" sz="1800" spc="-1" strike="noStrike">
                <a:solidFill>
                  <a:srgbClr val="1e0e57"/>
                </a:solidFill>
                <a:latin typeface="Verdana"/>
              </a:rPr>
              <a:t> sorted from model</a:t>
            </a:r>
            <a:endParaRPr b="0" lang="en-US" sz="1800" spc="-1" strike="noStrike">
              <a:solidFill>
                <a:srgbClr val="1e0e57"/>
              </a:solidFill>
              <a:latin typeface="Verdana"/>
            </a:endParaRPr>
          </a:p>
          <a:p>
            <a:pPr lvl="1" marL="631440" indent="-242640">
              <a:lnSpc>
                <a:spcPct val="90000"/>
              </a:lnSpc>
              <a:spcBef>
                <a:spcPts val="451"/>
              </a:spcBef>
              <a:buClr>
                <a:srgbClr val="1e0e57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0e57"/>
                </a:solidFill>
                <a:latin typeface="Verdana"/>
              </a:rPr>
              <a:t>PIE-D range was 4.5 +/- 0.5dB</a:t>
            </a:r>
            <a:endParaRPr b="0" lang="en-US" sz="1800" spc="-1" strike="noStrike">
              <a:solidFill>
                <a:srgbClr val="1e0e57"/>
              </a:solidFill>
              <a:latin typeface="Verdana"/>
            </a:endParaRPr>
          </a:p>
          <a:p>
            <a:pPr lvl="1" marL="631440" indent="-242640">
              <a:lnSpc>
                <a:spcPct val="90000"/>
              </a:lnSpc>
              <a:spcBef>
                <a:spcPts val="451"/>
              </a:spcBef>
              <a:buClr>
                <a:srgbClr val="1e0e57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0e57"/>
                </a:solidFill>
                <a:latin typeface="Verdana"/>
              </a:rPr>
              <a:t>DC group delay of the pulse response was computed </a:t>
            </a:r>
            <a:endParaRPr b="0" lang="en-US" sz="1800" spc="-1" strike="noStrike">
              <a:solidFill>
                <a:srgbClr val="1e0e57"/>
              </a:solidFill>
              <a:latin typeface="Verdana"/>
            </a:endParaRPr>
          </a:p>
          <a:p>
            <a:pPr lvl="2" marL="971280" indent="-194040">
              <a:lnSpc>
                <a:spcPct val="90000"/>
              </a:lnSpc>
              <a:spcBef>
                <a:spcPts val="451"/>
              </a:spcBef>
              <a:buClr>
                <a:srgbClr val="1e0e57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0e57"/>
                </a:solidFill>
                <a:latin typeface="Verdana"/>
              </a:rPr>
              <a:t>Measure of “center of gravity” of pulse</a:t>
            </a:r>
            <a:endParaRPr b="0" lang="en-US" sz="1800" spc="-1" strike="noStrike">
              <a:solidFill>
                <a:srgbClr val="1e0e57"/>
              </a:solidFill>
              <a:latin typeface="Verdana"/>
            </a:endParaRPr>
          </a:p>
          <a:p>
            <a:pPr lvl="1" marL="631440" indent="-242640">
              <a:lnSpc>
                <a:spcPct val="90000"/>
              </a:lnSpc>
              <a:spcBef>
                <a:spcPts val="451"/>
              </a:spcBef>
              <a:buClr>
                <a:srgbClr val="1e0e57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0e57"/>
                </a:solidFill>
                <a:latin typeface="Verdana"/>
              </a:rPr>
              <a:t>This is then compared to the location of main peak</a:t>
            </a:r>
            <a:endParaRPr b="0" lang="en-US" sz="1800" spc="-1" strike="noStrike">
              <a:solidFill>
                <a:srgbClr val="1e0e57"/>
              </a:solidFill>
              <a:latin typeface="Verdana"/>
            </a:endParaRPr>
          </a:p>
          <a:p>
            <a:pPr lvl="1" marL="631440" indent="-242640">
              <a:lnSpc>
                <a:spcPct val="90000"/>
              </a:lnSpc>
              <a:spcBef>
                <a:spcPts val="451"/>
              </a:spcBef>
              <a:buClr>
                <a:srgbClr val="1e0e57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e0e57"/>
                </a:solidFill>
                <a:latin typeface="Verdana"/>
              </a:rPr>
              <a:t>Pulse is declared symmetric if DC Group Delay is within 3% of main peak location</a:t>
            </a:r>
            <a:endParaRPr b="0" lang="en-US" sz="1800" spc="-1" strike="noStrike">
              <a:solidFill>
                <a:srgbClr val="1e0e57"/>
              </a:solidFill>
              <a:latin typeface="Verdana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e0e57"/>
              </a:solidFill>
              <a:latin typeface="Verdana"/>
            </a:endParaRPr>
          </a:p>
          <a:p>
            <a:pPr marL="29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e0e57"/>
              </a:solidFill>
              <a:latin typeface="Verdana"/>
            </a:endParaRPr>
          </a:p>
          <a:p>
            <a:pPr lvl="1" marL="631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e0e5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ig Bear Networks, Inc.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091EB-07DD-4E37-8291-A9BD5A364B8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bhoja_12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rcRect l="3374" t="16531" r="6043" b="0"/>
          <a:stretch/>
        </p:blipFill>
        <p:spPr>
          <a:xfrm>
            <a:off x="4711680" y="939960"/>
            <a:ext cx="3713040" cy="29876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55320" y="126720"/>
            <a:ext cx="8597880" cy="102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e0e57"/>
                </a:solidFill>
                <a:latin typeface="Tahoma"/>
              </a:rPr>
              <a:t>Fit to Fiber Model</a:t>
            </a:r>
            <a:endParaRPr b="1" lang="en-US" sz="2800" spc="-1" strike="noStrike">
              <a:solidFill>
                <a:srgbClr val="1e0e57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546120" y="4726080"/>
            <a:ext cx="8597880" cy="9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3000"/>
          </a:bodyPr>
          <a:p>
            <a:pPr marL="181800" indent="-181800">
              <a:lnSpc>
                <a:spcPct val="100000"/>
              </a:lnSpc>
              <a:spcBef>
                <a:spcPts val="550"/>
              </a:spcBef>
              <a:buClr>
                <a:srgbClr val="1e0e5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e0e57"/>
                </a:solidFill>
                <a:latin typeface="Verdana"/>
              </a:rPr>
              <a:t>2GHz has good average fit to Quasi-symmetrical pul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393480" indent="-151200">
              <a:lnSpc>
                <a:spcPct val="100000"/>
              </a:lnSpc>
              <a:spcBef>
                <a:spcPts val="499"/>
              </a:spcBef>
              <a:buClr>
                <a:srgbClr val="1e0e57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0e57"/>
                </a:solidFill>
                <a:latin typeface="Verdana"/>
              </a:rPr>
              <a:t>Results in PIE-D of ~4.75d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-181800">
              <a:lnSpc>
                <a:spcPct val="100000"/>
              </a:lnSpc>
              <a:spcBef>
                <a:spcPts val="550"/>
              </a:spcBef>
              <a:buClr>
                <a:srgbClr val="1e0e5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e0e57"/>
                </a:solidFill>
                <a:latin typeface="Verdana"/>
              </a:rPr>
              <a:t>Good agreement between PIE-D and finite E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181800" indent="-181800">
              <a:lnSpc>
                <a:spcPct val="100000"/>
              </a:lnSpc>
              <a:spcBef>
                <a:spcPts val="550"/>
              </a:spcBef>
              <a:buClr>
                <a:srgbClr val="1e0e5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e0e57"/>
                </a:solidFill>
                <a:latin typeface="Verdana"/>
              </a:rPr>
              <a:t>Recommend 2GHz BT4 as the filte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rcRect l="2370" t="14928" r="4485" b="0"/>
          <a:stretch/>
        </p:blipFill>
        <p:spPr>
          <a:xfrm>
            <a:off x="838080" y="911160"/>
            <a:ext cx="3732480" cy="30164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027320" y="3579840"/>
            <a:ext cx="1151280" cy="797040"/>
          </a:xfrm>
          <a:prstGeom prst="line">
            <a:avLst/>
          </a:prstGeom>
          <a:ln w="38160">
            <a:solidFill>
              <a:srgbClr val="ff00ff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53040" y="4176720"/>
            <a:ext cx="226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ff"/>
                </a:solidFill>
                <a:latin typeface="Arial"/>
              </a:rPr>
              <a:t>2GHz BT4 fil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Big Bear Networks, Inc.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65B42-64E3-41D1-BEB8-62FBAE8B3D9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bhoja_12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01T15:43:33Z</dcterms:created>
  <dc:creator>Sudeep Bhoja</dc:creator>
  <dc:description/>
  <dc:language>en-US</dc:language>
  <cp:lastModifiedBy>sbhoja</cp:lastModifiedBy>
  <cp:lastPrinted>2000-05-17T18:50:31Z</cp:lastPrinted>
  <dcterms:modified xsi:type="dcterms:W3CDTF">2004-12-07T04:12:18Z</dcterms:modified>
  <cp:revision>791</cp:revision>
  <dc:subject>802.3aq IEEE MMF</dc:subject>
  <dc:title>TP3 simple stressed tes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961512720</vt:r8>
  </property>
  <property fmtid="{D5CDD505-2E9C-101B-9397-08002B2CF9AE}" pid="3" name="_AuthorEmail">
    <vt:lpwstr>jjaeger@acuitive.com</vt:lpwstr>
  </property>
  <property fmtid="{D5CDD505-2E9C-101B-9397-08002B2CF9AE}" pid="4" name="_AuthorEmailDisplayName">
    <vt:lpwstr>John Jaeger</vt:lpwstr>
  </property>
  <property fmtid="{D5CDD505-2E9C-101B-9397-08002B2CF9AE}" pid="5" name="_EmailSubject">
    <vt:lpwstr>[10GMMF]</vt:lpwstr>
  </property>
  <property fmtid="{D5CDD505-2E9C-101B-9397-08002B2CF9AE}" pid="6" name="_PreviousAdHocReviewCycleID">
    <vt:r8>-801114869</vt:r8>
  </property>
</Properties>
</file>