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26475BDA-D961-4948-BD94-D1DAA36CC0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AE1A9910-8F03-47F3-9B95-EE5640411E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437" name=""/>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38"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39"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CB12C0A-E643-45D3-B602-4B5D3C30B7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84" name=""/>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5"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86"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283208A6-3F7B-41AD-9F05-566C5A9936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 name=""/>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99EE7136-22FC-4EFF-8A46-36216FB24A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3"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4"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95" name=""/>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96"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1A8CFA8F-C6B0-4427-8B18-E742A71B72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38"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3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40" name=""/>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141" name=""/>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2"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143" name=""/>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44" name=""/>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3"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24E600F6-1099-49E8-B88A-F245B94ED0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98" name=""/>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99"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07052E28-72CC-4389-9DE0-E56BB3A1AF8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243" name=""/>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244" name=""/>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4EEADEF-3300-430E-91C9-4CE9B86DD9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7"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8"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9"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90" name=""/>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91"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92"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2677CBBB-84AD-4993-836A-8C000C1E68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337" name=""/>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8"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339"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D9539482-5902-4A00-9CF4-D5F57D7DBE1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84" name=""/>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85"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86" name=""/>
          <p:cNvGrpSpPr/>
          <p:nvPr/>
        </p:nvGrpSpPr>
        <p:grpSpPr>
          <a:xfrm>
            <a:off x="1751040" y="2276640"/>
            <a:ext cx="2554200" cy="368280"/>
            <a:chOff x="1751040" y="2276640"/>
            <a:chExt cx="2554200" cy="368280"/>
          </a:xfrm>
        </p:grpSpPr>
        <p:sp>
          <p:nvSpPr>
            <p:cNvPr id="387" name=""/>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88" name=""/>
            <p:cNvGrpSpPr/>
            <p:nvPr/>
          </p:nvGrpSpPr>
          <p:grpSpPr>
            <a:xfrm>
              <a:off x="1751040" y="2378160"/>
              <a:ext cx="1235160" cy="145800"/>
              <a:chOff x="1751040" y="2378160"/>
              <a:chExt cx="1235160" cy="145800"/>
            </a:xfrm>
          </p:grpSpPr>
          <p:sp>
            <p:nvSpPr>
              <p:cNvPr id="389" name=""/>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7" name="PlaceHolder 2"/>
          <p:cNvSpPr>
            <a:spLocks noGrp="1"/>
          </p:cNvSpPr>
          <p:nvPr>
            <p:ph type="subTitle"/>
          </p:nvPr>
        </p:nvSpPr>
        <p:spPr>
          <a:xfrm>
            <a:off x="539280" y="1844640"/>
            <a:ext cx="7993080" cy="1752480"/>
          </a:xfrm>
          <a:prstGeom prst="rect">
            <a:avLst/>
          </a:prstGeom>
          <a:noFill/>
          <a:ln w="0">
            <a:noFill/>
          </a:ln>
        </p:spPr>
        <p:txBody>
          <a:bodyPr lIns="90000" rIns="9000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324000" y="1844280"/>
            <a:ext cx="8362800" cy="3600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324000" y="2205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2"/>
          <p:cNvSpPr>
            <a:spLocks noGrp="1"/>
          </p:cNvSpPr>
          <p:nvPr>
            <p:ph/>
          </p:nvPr>
        </p:nvSpPr>
        <p:spPr>
          <a:xfrm>
            <a:off x="324000" y="4221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324000" y="2133360"/>
            <a:ext cx="8362800" cy="3166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David Law</cp:lastModifiedBy>
  <dcterms:modified xsi:type="dcterms:W3CDTF">2012-05-13T23:58:52Z</dcterms:modified>
  <cp:revision>72</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2.1</vt:lpwstr>
  </property>
</Properties>
</file>