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C05F-8E2F-4872-B1BC-B0D24AE7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2B4-E1BC-407E-B9A4-890E44E4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416-3303-4D2E-B938-648DA299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E77-BD53-4A14-B48D-F96E499A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D39-0394-4F1D-9D98-524FC7AB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50BA-AE78-45A7-B2C1-4958F6DB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986C-2488-473C-956C-03EE203B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763-A1F1-4F2A-93BD-CE1601AB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99E6-E51A-4310-87B7-396F51F5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F72B-102B-45B0-B25B-849B0EDE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18E9-39BB-4B36-ACDA-89F9BB0A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EA13-90B5-4DA3-B5CE-C1E6586B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87BB-7550-4C55-957D-E3B593352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GBASE-CX4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use 10GBASE-X PCS with minimal changes to 10GBASE-X P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finiband 4X type cable and conn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distances up to 15m with a BER better than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 transmit voltage levels no higher than XA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compatibility with 130nm and 90nm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compatibility of XAUI and –CX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le to meet or exceed FCC/CISPR Class A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. Bradshaw/K. Dal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: 30, N: 0, A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20:04:28Z</dcterms:created>
  <dc:creator>Bob Grow</dc:creator>
  <dc:description/>
  <dc:language>en-US</dc:language>
  <cp:lastModifiedBy>daniel_dove</cp:lastModifiedBy>
  <dcterms:modified xsi:type="dcterms:W3CDTF">2002-12-17T23:29:57Z</dcterms:modified>
  <cp:revision>1</cp:revision>
  <dc:subject/>
  <dc:title>10GBASE-CX4 Objectives</dc:title>
</cp:coreProperties>
</file>