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BAA-F6A3-450F-B792-E8DB064E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326-113A-4DAF-9BD0-64B07947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5FA-F200-4910-9BB8-56D57C6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F17-72CF-453C-B86F-D918582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DA7-EA9F-40B6-8BEC-A11043C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7ED-146C-4494-812E-F8A5B82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03C-FD09-4926-B1EA-0BDB119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AAB-CC57-4A1B-8ED1-F8C35EC0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FF4-E95B-4EE8-8BEB-F8FD3CAF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F92-9EDB-440A-BA47-846E165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975-3A7B-42D2-85A9-AF64AD0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D97-D0A4-41A3-92AD-CB14DB7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206-E6ED-4AAC-9027-EFC83FA7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logo(1)" descr=""/>
          <p:cNvPicPr/>
          <p:nvPr/>
        </p:nvPicPr>
        <p:blipFill>
          <a:blip r:embed="rId2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(1)" descr=""/>
          <p:cNvPicPr/>
          <p:nvPr/>
        </p:nvPicPr>
        <p:blipFill>
          <a:blip r:embed="rId1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52388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GBASE-CX4 Study Group</a:t>
            </a:r>
            <a:br>
              <a:rPr sz="60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960" y="4902120"/>
            <a:ext cx="26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Di Minic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T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@mohawk-cd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04920"/>
            <a:ext cx="7848360" cy="71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Specific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5 meter (24 AWG)  - InfiniBand Cable 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Transmission 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-to-Pair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(?) Models for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8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GBASE-CX4 Cable Assembly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295280"/>
            <a:ext cx="5791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3520" y="68580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X InfiniBand Cable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057400" y="2082960"/>
          <a:ext cx="5715000" cy="25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82960"/>
                    <a:ext cx="57150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823400" y="153828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niBand 4X Electrical Requirements (1.25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5320" y="458640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T Additional Electrical Requirements (1.56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4320" y="5100480"/>
          <a:ext cx="5213520" cy="1343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5100480"/>
                    <a:ext cx="52135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7760" y="4876920"/>
            <a:ext cx="813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CX4- Compliance Channel Inser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ertion loss of each pair of the CX4 cable assembly shall be less th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_Loss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&lt; TBD (d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ll frequencies from TBD MHz to TBD GH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cludes the attenuation of the differential cabling pairs, and th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assembl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410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2286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ASE-CX4 Complianc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3920" y="490680"/>
            <a:ext cx="86929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360" y="620640"/>
            <a:ext cx="831204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9:17:23Z</dcterms:created>
  <dc:creator>Chris DiMinico</dc:creator>
  <dc:description/>
  <dc:language>en-US</dc:language>
  <cp:lastModifiedBy>Chris DiMinico</cp:lastModifiedBy>
  <dcterms:modified xsi:type="dcterms:W3CDTF">2002-12-16T22:38:58Z</dcterms:modified>
  <cp:revision>8</cp:revision>
  <dc:subject/>
  <dc:title>Slide 1</dc:title>
</cp:coreProperties>
</file>