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8CA-606E-4644-9A69-B16A537B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E264-BF17-4350-9D23-152087C4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497D-BD65-44B9-BBAC-015C2243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5D97-AE96-486C-AC28-586977E6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626A-5190-4D44-A759-3E89C69E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C938-BB7C-47DB-94C9-F854ACC9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572D-2402-4F29-8A0E-1BC24A4A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956-FD25-4775-89CC-85BF29B5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69A-9302-4EB2-ADDA-624E3D96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B05-0922-443B-8FD3-0AE07BF1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7BD-532B-4EDE-B85E-3E01A1C8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5CF1-6A76-4009-82FB-D2FC0FF3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3305-8875-4D96-9C02-BCE4D0F25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802.3an comment re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78280" y="5105520"/>
            <a:ext cx="152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lindo Sa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e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n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D0A-8182-4F02-A276-177C892499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7652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The present 802.3an objectives call out for supporting media reach over class E (UTP or FTP) or Class F cabling (S/FTP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The present MDI spec not consistent with all cabling media type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Correct approach would be to reference the present (and future) ISO/IEC 11801 standard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The present standard provides a table (table 29) that summarizes the “Electrical characteristics of telecommunications outlets intended for use with balanced cabling”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 Table 29 provides further reference to the applicable IEC test/component standard for the MDI outle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81B4-8B88-45AC-A9D0-A20EBC9E25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urrent 802.3an Draft Text Draft 3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5840" y="1828800"/>
            <a:ext cx="8572320" cy="1790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3486240" cy="2124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267080" y="4495680"/>
            <a:ext cx="4572000" cy="174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8163-5191-4239-A476-4FB1674F34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SO-IEC 11801 Ed2.0 (200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7960" y="1596960"/>
            <a:ext cx="8668080" cy="1832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5880" y="3276720"/>
            <a:ext cx="8110440" cy="2977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4495680"/>
            <a:ext cx="2133360" cy="175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3962520"/>
            <a:ext cx="1828800" cy="2286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C1E-FDFB-4DAD-BC78-DECAC58D57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posed Re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5440" y="1981080"/>
            <a:ext cx="7697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 the following 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reference: Pg 155, sub clause 55.8.1, Line 9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ight-pin connectors meeting the requirements of subclause 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nd Figures 1 through 4 of IEC 60603-7: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Eight-pin connectors meeting the requirements of Table 29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ISO/IEC 11801:2002 (or later vers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EA79-DE99-47E5-AC50-59FA3AD227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cluding Rema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040" y="1752480"/>
            <a:ext cx="8304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The cabling objectives call out for supporting media defined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/IEC 11801:2002. Why not follow same logic for MDI outle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Table 29 of ISO/IEC 11801:2002 provides further reference to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bl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E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est/component standard for the MDI outle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Present transmission requirements in Clause 55.8 wil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0D11-5DC8-4637-A147-6BC41125BF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indos</cp:lastModifiedBy>
  <dcterms:modified xsi:type="dcterms:W3CDTF">2005-12-22T19:35:05Z</dcterms:modified>
  <cp:revision>9</cp:revision>
  <dc:subject/>
  <dc:title>PowerPoint Presentation</dc:title>
</cp:coreProperties>
</file>