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23A-397E-4283-AC75-DA17682E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C94-5CAA-414C-B5EE-E0F27237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1FA-458A-4DBC-8F36-02EE9B3F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471-5E9C-4DB0-9FFF-B8506AC2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2B8-7E1D-4D33-9DDC-A347FBE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38F-6379-4E01-B64F-469D59F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3E9-2FEA-4E0B-ADD9-5DF6790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EAF-2DFC-4C54-BAF3-C6D15A9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78C-028F-4F1C-B24C-08F3EDA0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94E-AE69-4CBC-9647-C2B9DE6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C1B-2F27-4DF4-B132-3F6F0B4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CAF-76C6-46FA-9B04-07D4356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A5CA-DDE2-475F-A84A-D7208DC1D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02.3an comment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78280" y="5105520"/>
            <a:ext cx="15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lindo S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e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684-6AE0-4350-8547-4E5E3932ED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esent 802.3an objectives call out for supporting media reach over class E (UTP or FTP) or Class F cabling (S/FTP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esent MDI spe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 consist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ll cabling media typ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ct approach would be to reference the present (and future) ISO/IEC 11801 standard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le maintaining interoperability to previous 60603-7 seri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esen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O/IEC 118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ndard provides a table (table 29) that summarizes the “Electrical characteristics of telecommunications outlets intended for use with balanced cabling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29 provides further reference to the applicabl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EC test/component standar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MDI outlet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B1C-0E90-4949-AD63-969107575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rrent 802.3an Draft Text Draft 3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5840" y="1371600"/>
            <a:ext cx="8572320" cy="1790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486240" cy="2124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4572000" cy="174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2743200"/>
            <a:ext cx="3200400" cy="876240"/>
          </a:xfrm>
          <a:prstGeom prst="wedgeRectCallout">
            <a:avLst>
              <a:gd name="adj1" fmla="val 151986"/>
              <a:gd name="adj2" fmla="val -11340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s out for IEC 60603-7 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743200"/>
            <a:ext cx="3200400" cy="1371600"/>
          </a:xfrm>
          <a:prstGeom prst="wedgeRectCallout">
            <a:avLst>
              <a:gd name="adj1" fmla="val -113245"/>
              <a:gd name="adj2" fmla="val 8796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C 60603-7 standard specifies unshielded RJ45 up to 3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AAF-95ED-49B8-B383-F29AC287CC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O-IEC 11801 Ed2.0 (200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7960" y="1596960"/>
            <a:ext cx="8668080" cy="183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5880" y="3276720"/>
            <a:ext cx="8110440" cy="29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4495680"/>
            <a:ext cx="213336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3962520"/>
            <a:ext cx="1828800" cy="2286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295280"/>
            <a:ext cx="3809880" cy="876600"/>
          </a:xfrm>
          <a:prstGeom prst="wedgeRectCallout">
            <a:avLst>
              <a:gd name="adj1" fmla="val 29374"/>
              <a:gd name="adj2" fmla="val 263226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9 identifies current IEC 60603-7-X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8E3-BF2A-4B86-A3D0-CC6F458A2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040" y="380880"/>
            <a:ext cx="879192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5638680"/>
            <a:ext cx="7848720" cy="876600"/>
          </a:xfrm>
          <a:prstGeom prst="wedgeRectCallout">
            <a:avLst>
              <a:gd name="adj1" fmla="val -25486"/>
              <a:gd name="adj2" fmla="val -12807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ixed and the free connector shall be capable of interconnecting with any IEC 60603-7 series connector, and that when it is interconnected, it shall fully meet all requirements of the lower frequency 60603-7 series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343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3F8-A251-4C3F-9D51-6A3D752850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33280" y="1706400"/>
            <a:ext cx="9218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The cabling objectives call out for supporting media defin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/IEC 11801:2002.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y not follow same logic for MDI outl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Table 29 of ISO/IEC 11801:2002 provides further referenc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bl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E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est/component standard for the MDI outle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All IEC references provided in Table 29 ensur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ckwards compat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previous 60603-7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Present transmission requirements in Clause 55.8 wil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E1C-81B6-4545-AA65-8EB4F6A957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posed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5440" y="1981080"/>
            <a:ext cx="7697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the following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eference: Pg 155, sub clause 55.8.1, Line 9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ight-pin connectors meeting the requirements of subclause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d Figures 1 through 4 of IEC 60603-7: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Eight-pin connectors meeting the requirements of Table 29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ISO/IEC 11801:2002 (or later vers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CC0-2708-4464-9708-AC50933AF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ndos</cp:lastModifiedBy>
  <dcterms:modified xsi:type="dcterms:W3CDTF">2006-01-10T21:07:52Z</dcterms:modified>
  <cp:revision>22</cp:revision>
  <dc:subject/>
  <dc:title>PowerPoint Presentation</dc:title>
</cp:coreProperties>
</file>