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D3C67-5146-49A1-AB1C-0A04CF71C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31114-5550-401E-AF4D-51E58D6AC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73943-46A2-416D-B39A-3B868B2F8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C3F88-EA22-4049-80CC-61DB33CB7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FF800-5308-4564-A9C1-DB0876E1A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89F21-5638-4F2C-A046-D959FE2D7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8279C-970E-47F0-8F32-5AB3145A7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C3D90-AE38-46CB-8BC2-F76E7D171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1A2C0-D518-4DEE-8AD7-75ED1DC6C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DE710-7171-4A96-8C25-1305B036C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BD73F-F97D-415C-B659-E9AA6EDB8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F71CD-1E55-407B-97A5-ABEBE80D3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A8AD-BA23-4A2C-B7D6-09707BA206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Power UTP Mode for 802.3a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Text File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55 changes to support 10GBASE-T low power UTP (cont.)</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55.4.3.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text on page 119, line 1 preceding the sentence, “The values of programmable THP coefficient …” as follow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0GBASE-T low power UTP mode, the last 10 THP coefficients, </a:t>
            </a:r>
            <a:r>
              <a:rPr b="0" i="1" lang="en-US" sz="2400" spc="-1" strike="noStrike">
                <a:solidFill>
                  <a:srgbClr val="000000"/>
                </a:solidFill>
                <a:latin typeface="Arial"/>
              </a:rPr>
              <a:t>c</a:t>
            </a:r>
            <a:r>
              <a:rPr b="0" lang="en-US" sz="2400" spc="-1" strike="noStrike" baseline="-25000">
                <a:solidFill>
                  <a:srgbClr val="000000"/>
                </a:solidFill>
                <a:latin typeface="Arial"/>
              </a:rPr>
              <a:t>k</a:t>
            </a:r>
            <a:r>
              <a:rPr b="0" lang="en-US" sz="2400" spc="-1" strike="noStrike">
                <a:solidFill>
                  <a:srgbClr val="000000"/>
                </a:solidFill>
                <a:latin typeface="Arial"/>
              </a:rPr>
              <a:t> for k=7,8,…,16, are always ze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28 changes to support 10GBASE-T low power UTP</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tion Annex 28B.3</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 to priority resolution table page 25 line 56:</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list in 28B.3 by placing “10GBASE-T low power UTP” as bullet (b) and renumbering other bulle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tion Annex 28D.6</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bullet (h) on page 30 line 2 by inserting “and 10GBASE-T low power UTP” after “10GBASE-T full-duple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45 changes to support 10GBASE-T low power UTP</a:t>
            </a:r>
            <a:endParaRPr b="0" lang="en-US" sz="4000" spc="-1" strike="noStrike">
              <a:solidFill>
                <a:srgbClr val="000000"/>
              </a:solidFill>
              <a:latin typeface="Arial"/>
            </a:endParaRPr>
          </a:p>
        </p:txBody>
      </p:sp>
      <p:sp>
        <p:nvSpPr>
          <p:cNvPr id="46" name="PlaceHolder 2"/>
          <p:cNvSpPr>
            <a:spLocks noGrp="1"/>
          </p:cNvSpPr>
          <p:nvPr>
            <p:ph/>
          </p:nvPr>
        </p:nvSpPr>
        <p:spPr>
          <a:xfrm>
            <a:off x="457200" y="1599840"/>
            <a:ext cx="830592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45.2.7.10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able 45-124 as follow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 a new row and make the changes in Table 45-124, page 63 line 32 as indicated:</a:t>
            </a:r>
            <a:endParaRPr b="0" lang="en-US" sz="2000" spc="-1" strike="noStrike">
              <a:solidFill>
                <a:srgbClr val="000000"/>
              </a:solidFill>
              <a:latin typeface="Arial"/>
            </a:endParaRPr>
          </a:p>
        </p:txBody>
      </p:sp>
      <p:graphicFrame>
        <p:nvGraphicFramePr>
          <p:cNvPr id="47" name=""/>
          <p:cNvGraphicFramePr/>
          <p:nvPr/>
        </p:nvGraphicFramePr>
        <p:xfrm>
          <a:off x="762120" y="3886200"/>
          <a:ext cx="7543800" cy="1803240"/>
        </p:xfrm>
        <a:graphic>
          <a:graphicData uri="http://schemas.openxmlformats.org/drawingml/2006/table">
            <a:tbl>
              <a:tblPr/>
              <a:tblGrid>
                <a:gridCol w="977760"/>
                <a:gridCol w="1308240"/>
                <a:gridCol w="4419360"/>
                <a:gridCol w="838440"/>
              </a:tblGrid>
              <a:tr h="550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7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32.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GBASE-T low power UT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dvertise PHY as 10GBASE-T low power UTP capab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Do not advertise PHY as 10GBASE-T low power UTP capab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10: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e on re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45 changes to support 10GBASE-T low power UTP (co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45.2.7.10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descriptions for the new bit and renumber the paragraphs as follow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new description for bit 7.32.11 page 64 line 21.</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2.7.10.5 10GBASE-T low power UTP capability</a:t>
            </a:r>
            <a:endParaRPr b="0" lang="en-US" sz="20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it 7.32.11 is to be used to select whether or not Auto-Negotiation will advertise the ability to operate in 10GBASE-T low power UTP PHY capability. If bit 7.32.11 is set to one the PHY will advertise 10GBASE-T low power UTP capability. If bit 7.32.11 is set to zero the PHY will not advertise 10GBASE-T low power UTP PHY capability. 10GBASE-T low power UTP capability is defined in section 55.6.3. Only full duplex operation is supported in this mode.</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umber remaining subsections page 64 line 28.</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45 changes to support 10GBASE-T low power UTP (cont.)</a:t>
            </a:r>
            <a:endParaRPr b="0" lang="en-US" sz="4000" spc="-1" strike="noStrike">
              <a:solidFill>
                <a:srgbClr val="000000"/>
              </a:solidFill>
              <a:latin typeface="Arial"/>
            </a:endParaRPr>
          </a:p>
        </p:txBody>
      </p:sp>
      <p:sp>
        <p:nvSpPr>
          <p:cNvPr id="51" name="PlaceHolder 2"/>
          <p:cNvSpPr>
            <a:spLocks noGrp="1"/>
          </p:cNvSpPr>
          <p:nvPr>
            <p:ph/>
          </p:nvPr>
        </p:nvSpPr>
        <p:spPr>
          <a:xfrm>
            <a:off x="457200" y="1599840"/>
            <a:ext cx="830592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45.2.7.11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able 45-125 on page 65 near line 10 as follow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 new bit 7.33.10 and renumber subsequent bits accordingly</a:t>
            </a:r>
            <a:endParaRPr b="0" lang="en-US" sz="2000" spc="-1" strike="noStrike">
              <a:solidFill>
                <a:srgbClr val="000000"/>
              </a:solidFill>
              <a:latin typeface="Arial"/>
            </a:endParaRPr>
          </a:p>
        </p:txBody>
      </p:sp>
      <p:graphicFrame>
        <p:nvGraphicFramePr>
          <p:cNvPr id="52" name=""/>
          <p:cNvGraphicFramePr/>
          <p:nvPr/>
        </p:nvGraphicFramePr>
        <p:xfrm>
          <a:off x="380880" y="3733920"/>
          <a:ext cx="8229600" cy="2868480"/>
        </p:xfrm>
        <a:graphic>
          <a:graphicData uri="http://schemas.openxmlformats.org/drawingml/2006/table">
            <a:tbl>
              <a:tblPr/>
              <a:tblGrid>
                <a:gridCol w="1066680"/>
                <a:gridCol w="1427400"/>
                <a:gridCol w="4821120"/>
                <a:gridCol w="914400"/>
              </a:tblGrid>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4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3.10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partner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GBASE-T low power UTP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ink partner is able to operate as 10GBASE-T low power UTP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Link partner is not able to operate as 10GBASE-T low power UTP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3.9</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p timing abil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Link partner is capable of Loop tim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 Link partner is not capable of Loop tim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3.8</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P PMA training reset requ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Link partner requests that Local Device reset PMA training PRBS every fram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 Link partner requests that Local Device run PMA training PRBS continuous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3.7: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always 0, writes igno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45 changes to support 10GBASE-T low power UTP (con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tion 45.2.7.1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ert new descriptions for bit 7.33.10 on page 66, line 7 as follow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2.7.11.6</a:t>
            </a:r>
            <a:r>
              <a:rPr b="1" lang="en-US" sz="2400" spc="-1" strike="noStrike">
                <a:solidFill>
                  <a:srgbClr val="000000"/>
                </a:solidFill>
                <a:latin typeface="Arial"/>
              </a:rPr>
              <a:t>	</a:t>
            </a:r>
            <a:r>
              <a:rPr b="1" lang="en-US" sz="2400" spc="-1" strike="noStrike">
                <a:solidFill>
                  <a:srgbClr val="000000"/>
                </a:solidFill>
                <a:latin typeface="Arial"/>
              </a:rPr>
              <a:t>Link partner 10GBASE-T low power UTP (7.33.10)</a:t>
            </a:r>
            <a:endParaRPr b="0" lang="en-US" sz="24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is bit will only be valid when page receive bit 7.1.6 in is set to one. When read as a one, bit 7.33.10 indicates that the Link Partner is able to operate as 10GBASE-T low power UTP. When read as a zero, bit 7.33.10 indicates that the Link Partner is not able to operate as 10GBASE-T low power UTP.</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45 changes to support 10GBASE-T low power UTP (cont.)</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45.2.7.11</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umber subsection 45.2.7.11.6 to 45.2.7.11.7 page 66 line 7 and change text as follow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2.7.11.7</a:t>
            </a:r>
            <a:r>
              <a:rPr b="0" lang="en-US" sz="1800" spc="-1" strike="noStrike">
                <a:solidFill>
                  <a:srgbClr val="000000"/>
                </a:solidFill>
                <a:latin typeface="Arial"/>
              </a:rPr>
              <a:t>	</a:t>
            </a:r>
            <a:r>
              <a:rPr b="0" lang="en-US" sz="1800" spc="-1" strike="noStrike">
                <a:solidFill>
                  <a:srgbClr val="000000"/>
                </a:solidFill>
                <a:latin typeface="Arial"/>
              </a:rPr>
              <a:t>Link partner loop timing ability (7.33.9)</a:t>
            </a:r>
            <a:endParaRPr b="0" lang="en-US" sz="18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n read as a one, bit 7.33.9 indicates that the Link Partner has the ability to support loop timing as specified in 55.1.3. When read as a zero, bit 7.33.9 indicates that the Link Partner lacks the ability to support loop tim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umber subsection 45.2.7.11.7 to 45.2.7.11.8 page 66 line 14 and change text as follow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2.7.11.8</a:t>
            </a:r>
            <a:r>
              <a:rPr b="0" lang="en-US" sz="1800" spc="-1" strike="noStrike">
                <a:solidFill>
                  <a:srgbClr val="000000"/>
                </a:solidFill>
                <a:latin typeface="Arial"/>
              </a:rPr>
              <a:t>	</a:t>
            </a:r>
            <a:r>
              <a:rPr b="0" lang="en-US" sz="1800" spc="-1" strike="noStrike">
                <a:solidFill>
                  <a:srgbClr val="000000"/>
                </a:solidFill>
                <a:latin typeface="Arial"/>
              </a:rPr>
              <a:t>Link partner PMA training reset request (7.33.8)</a:t>
            </a:r>
            <a:endParaRPr b="0" lang="en-US" sz="18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bit 7.33.8 is set to one then the Link Partner is expecting the Local Device to reset the PMA training PRBS for every PMA training frame. If bit 7.33.8 is zero then the Link Partner expects Local Device to run PMA Training PRBS continuously through every PMA Training fr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55 changes to support 10GBASE-T low power UTP</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55.6.1</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text page 134 line 24 as follows:</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To negotiate that the PHY is or is not capable of supporting 10GBASE-T or 10GBASE-T low power UTP.</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55.6.1.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able 55-10</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page 135 line 36 U31:U21 to U31:U22</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 new row page 135 line 36 U21 as shown</a:t>
            </a:r>
            <a:endParaRPr b="0" lang="en-US" sz="2000" spc="-1" strike="noStrike">
              <a:solidFill>
                <a:srgbClr val="000000"/>
              </a:solidFill>
              <a:latin typeface="Arial"/>
            </a:endParaRPr>
          </a:p>
        </p:txBody>
      </p:sp>
      <p:graphicFrame>
        <p:nvGraphicFramePr>
          <p:cNvPr id="59" name=""/>
          <p:cNvGraphicFramePr/>
          <p:nvPr/>
        </p:nvGraphicFramePr>
        <p:xfrm>
          <a:off x="457200" y="4952880"/>
          <a:ext cx="8153280" cy="1257120"/>
        </p:xfrm>
        <a:graphic>
          <a:graphicData uri="http://schemas.openxmlformats.org/drawingml/2006/table">
            <a:tbl>
              <a:tblPr/>
              <a:tblGrid>
                <a:gridCol w="1189080"/>
                <a:gridCol w="4678200"/>
                <a:gridCol w="2286000"/>
              </a:tblGrid>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31:U2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served, transmit as 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2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GBASE-T low power UTP ability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support of 10GBASE-T low power UTP and 0 = no suppor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in 45.2.7.1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55 changes to support 10GBASE-T low power UTP (cont.)</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55.6.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new section 55.6.3 page 138 line 44</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6.3 Operating modes for 10GBASE-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GBASE-T includes provision for multiple modes of operation. 10GBASE-T mode will support all link segments shown in Table 55-12 and defined in 55.7.2. 10GBASE-T low power UTP mode will support up to 30 meters of Class E</a:t>
            </a:r>
            <a:r>
              <a:rPr b="0" lang="en-US" sz="2000" spc="-1" strike="noStrike" baseline="-25000">
                <a:solidFill>
                  <a:srgbClr val="000000"/>
                </a:solidFill>
                <a:latin typeface="Arial"/>
              </a:rPr>
              <a:t>A</a:t>
            </a:r>
            <a:r>
              <a:rPr b="0" lang="en-US" sz="2000" spc="-1" strike="noStrike">
                <a:solidFill>
                  <a:srgbClr val="000000"/>
                </a:solidFill>
                <a:latin typeface="Arial"/>
              </a:rPr>
              <a:t> /Augmented Category 6 or up to 30 meters of Class F cabling.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55.7</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needed to scale channel models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2T21:20:58Z</dcterms:created>
  <dc:creator>Mike</dc:creator>
  <dc:description/>
  <dc:language>en-US</dc:language>
  <cp:lastModifiedBy>zhatab</cp:lastModifiedBy>
  <dcterms:modified xsi:type="dcterms:W3CDTF">2005-12-23T00:47:55Z</dcterms:modified>
  <cp:revision>13</cp:revision>
  <dc:subject/>
  <dc:title>Low Power Modes for 802.3an</dc:title>
</cp:coreProperties>
</file>