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06D85-0460-4C89-80F0-2D5DAF4DA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2A12C-AD5D-4A5E-9E43-EE0E6EE81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0188D-251C-45C4-AA22-DE28CF90C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0E83A-4CD3-4C58-810E-A82506244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E2608-307C-46FB-A792-432C8DDB8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8CDFD-BF67-4154-801D-7FAD78DC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3548-25CC-4D46-BBD4-7901C1EC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3D607-75C9-42F2-BE1A-61A54D7CF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AC480-E366-42FC-A94E-DDF445F48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65A80-FFD9-4C07-8D93-430153178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73F6C-9440-43CE-8203-C71F712E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10A2-F3E7-45B7-84B4-C1F817D67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5FE7-FC57-4394-9E78-1FF44E80B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Power STP Mode for 802.3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Text File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comments from fil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55 changes to support 10GBASE-T low power STP mode</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tion 55.4.3.1</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second paragraph of section 55.4.3.1 on page 119 beginning with line 4</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nominal power (denoted Ptx) and the symbol response of the PMA Transmit signal, shall comply with the electrical specifications given in 55.5. When the link segment does not experience the maximum IL, each transceiver indicates to the link partner that the link partner PMA Transmit signal shall be reduced in increments of 2 dB </a:t>
            </a:r>
            <a:r>
              <a:rPr b="0" lang="en-US" sz="1600" spc="-1" strike="noStrike" u="sng">
                <a:solidFill>
                  <a:srgbClr val="000000"/>
                </a:solidFill>
                <a:uFillTx/>
                <a:latin typeface="Arial"/>
              </a:rPr>
              <a:t>if not operating in 10GBASE-T low power STP mode</a:t>
            </a:r>
            <a:r>
              <a:rPr b="0" lang="en-US" sz="1600" spc="-1" strike="noStrike">
                <a:solidFill>
                  <a:srgbClr val="000000"/>
                </a:solidFill>
                <a:latin typeface="Arial"/>
              </a:rPr>
              <a:t>. The minimum power backoff levels are described in the Power Backoff schedule in Table 55–6. If a given receiver has sufficient decision point SNR margin it may choose to request from the link partner larger power backoff than shown in Table 55–6 up to 14 dB. The PMA transmit shall be capable of 8 power backoff settings in approximately 2 dB steps. The difference between each consecutive power setting shall be 2 +/- 0.25 dB, and each step shall be centered at 2*n dB (n=0 to 7) reduction from nominal, with a maximum error of +/- 1 dB. </a:t>
            </a:r>
            <a:r>
              <a:rPr b="0" lang="en-US" sz="1600" spc="-1" strike="noStrike" u="sng">
                <a:solidFill>
                  <a:srgbClr val="000000"/>
                </a:solidFill>
                <a:uFillTx/>
                <a:latin typeface="Arial"/>
              </a:rPr>
              <a:t>When 10GBASE-T low power STP mode is selected PMA transmit power shall be set at nominal power as defined in 55.5.3.4.</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55 changes for 10GBASE-T low power UTP/STP (cont.)</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55.6.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ext page 134 line 24 as follows:</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To negotiate that the PHY is or is not capable of supporting 10GBASE-T, 10GBASE-T low power UTP or 10GBASE-T low power S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55 changes for 10GBASE-T low power UTP/STP (cont.)</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55.6.1.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able 55-10</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page 135 line 36 U31:U21 to U31:U2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new rows page 135 line 36 U22 and U21 as shown</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7" name=""/>
          <p:cNvGraphicFramePr/>
          <p:nvPr/>
        </p:nvGraphicFramePr>
        <p:xfrm>
          <a:off x="457200" y="4343400"/>
          <a:ext cx="8305920" cy="1749240"/>
        </p:xfrm>
        <a:graphic>
          <a:graphicData uri="http://schemas.openxmlformats.org/drawingml/2006/table">
            <a:tbl>
              <a:tblPr/>
              <a:tblGrid>
                <a:gridCol w="1211400"/>
                <a:gridCol w="4765680"/>
                <a:gridCol w="2328840"/>
              </a:tblGrid>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31:U2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served, transmit as 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2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GBASE-T low power STP ability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support of 10GBASE-T low power STP and 0 = no suppor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in 45.2.7.10.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2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GBASE-T low power UTP ability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support of 10GBASE-T low power UTP and 0 = no suppor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in 45.2.7.1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55 changes for 10GBASE-T low power UTP/STP (cont.)</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55.6.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new section 55.6.3 page 138 line 44</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6.3 Operating modes for 10GBASE-T</a:t>
            </a:r>
            <a:endParaRPr b="0" lang="en-US" sz="20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GBASE-T includes provision for multiple modes of operation. 10GBASE-T mode will support all link segments shown in Table 55-12 and defined in 55.7.2. 10GBASE-T low power UTP mode will support up to 30 meters of Class E</a:t>
            </a:r>
            <a:r>
              <a:rPr b="0" lang="en-US" sz="1800" spc="-1" strike="noStrike" baseline="-25000">
                <a:solidFill>
                  <a:srgbClr val="000000"/>
                </a:solidFill>
                <a:latin typeface="Arial"/>
              </a:rPr>
              <a:t>A</a:t>
            </a:r>
            <a:r>
              <a:rPr b="0" lang="en-US" sz="1800" spc="-1" strike="noStrike">
                <a:solidFill>
                  <a:srgbClr val="000000"/>
                </a:solidFill>
                <a:latin typeface="Arial"/>
              </a:rPr>
              <a:t> /Augmented Category 6 or up to 30 meters of Class F cabling. 10GBASE-T low power STP mode will support up to 30 meters of Class F cabling.</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55.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needed to scale channel models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55 changes for 10GBASE-T low power UTP/STP (cont.)</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tion 55.4.3.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ext on page 119, line 1 preceding the sentence, “The values of programmable THP coefficient …” as follow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0GBASE-T low power UTP and 10GBASE-T low power STP modes, the last 10 THP coefficients, </a:t>
            </a:r>
            <a:r>
              <a:rPr b="0" i="1" lang="en-US" sz="2400" spc="-1" strike="noStrike">
                <a:solidFill>
                  <a:srgbClr val="000000"/>
                </a:solidFill>
                <a:latin typeface="Arial"/>
              </a:rPr>
              <a:t>c</a:t>
            </a:r>
            <a:r>
              <a:rPr b="0" lang="en-US" sz="2400" spc="-1" strike="noStrike" baseline="-25000">
                <a:solidFill>
                  <a:srgbClr val="000000"/>
                </a:solidFill>
                <a:latin typeface="Arial"/>
              </a:rPr>
              <a:t>k</a:t>
            </a:r>
            <a:r>
              <a:rPr b="0" lang="en-US" sz="2400" spc="-1" strike="noStrike">
                <a:solidFill>
                  <a:srgbClr val="000000"/>
                </a:solidFill>
                <a:latin typeface="Arial"/>
              </a:rPr>
              <a:t> for k=7,8,…,16, are always ze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28 changes to support 10GBASE-T low power UTP/STP</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Annex 28B.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 to priority resolution table page 25 line 56:</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list in 28B.3 by placing “10GBASE-T low power UTP” as bullet (b) and renumbering other bulle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list in 28B.3 by placing “10GBASE-T low power STP” as bullet (c) and renumbering other bullet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Annex 28D.6</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bullet (h) on page 30 line 2 by inserting “, 10GBASE-T low power UTP, and 10GBASE-T low power STP” after “10GBASE-T full-dupl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to support 10GBASE-T low power UTP/STP</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30592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45.2.7.10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able 45-124 as follow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a new row and make the changes in Table 45-124, page 63 line 32 as indicated:</a:t>
            </a:r>
            <a:endParaRPr b="0" lang="en-US" sz="2000" spc="-1" strike="noStrike">
              <a:solidFill>
                <a:srgbClr val="000000"/>
              </a:solidFill>
              <a:latin typeface="Arial"/>
            </a:endParaRPr>
          </a:p>
        </p:txBody>
      </p:sp>
      <p:graphicFrame>
        <p:nvGraphicFramePr>
          <p:cNvPr id="47" name=""/>
          <p:cNvGraphicFramePr/>
          <p:nvPr/>
        </p:nvGraphicFramePr>
        <p:xfrm>
          <a:off x="762120" y="3886200"/>
          <a:ext cx="7543800" cy="2478240"/>
        </p:xfrm>
        <a:graphic>
          <a:graphicData uri="http://schemas.openxmlformats.org/drawingml/2006/table">
            <a:tbl>
              <a:tblPr/>
              <a:tblGrid>
                <a:gridCol w="977760"/>
                <a:gridCol w="1308240"/>
                <a:gridCol w="4419360"/>
                <a:gridCol w="838440"/>
              </a:tblGrid>
              <a:tr h="549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4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32.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GBASE-T low power UT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dvertise PHY as 10GBASE-T low power UTP capa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Do not advertise PHY as 10GBASE-T low power UTP capab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GBASE-T low power ST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dvertise PHY as 10GBASE-T low power STP capa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Do not advertise PHY as 10GBASE-T low power STP capab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9: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 on re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for 10GBASE-T low power UTP/STP (co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45.2.7.10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descriptions for the new bits and renumber the paragraphs as follo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new description for bits 7.32.11 and 7.32.10 page 64 line 21.</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2.7.10.5 10GBASE-T low power UTP capability</a:t>
            </a:r>
            <a:endParaRPr b="0" lang="en-US" sz="20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t 7.32.11 is to be used to select whether or not Auto-Negotiation will advertise the ability to operate in 10GBASE-T low power UTP PHY capability. If bit 7.32.11 is set to one the PHY will advertise 10GBASE-T low power UTP capability. If bit 7.32.11 is set to zero the PHY will not advertise 10GBASE-T low power UTP PHY capability. 10GBASE-T low power UTP capability is defined in section 55.6.3. Only full duplex operation is supported in this mod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for 10GBASE-T low power UTP/STP (cont.)</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2.7.10.6 10GBASE-T low power STP capability</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t 7.32.10 is to be used to select whether or not Auto-Negotiation will advertise the ability to operate in 10GBASE-T low power STP PHY capability. If bit 7.32.10 is set to one the PHY will advertise 10GBASE-T low power STP capability. If bit 7.32.10 is set to zero the PHY will not advertise 10GBASE-T low power STP PHY capability. 10GBASE-T low power STP capability is defined in section 55.6.3. Only full duplex operation is supported in this mode.</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umber remaining subsections page 64 line 28.</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for 10GBASE-T low power UTP/STP (cont.)</a:t>
            </a:r>
            <a:endParaRPr b="0" lang="en-US" sz="4000" spc="-1" strike="noStrike">
              <a:solidFill>
                <a:srgbClr val="000000"/>
              </a:solidFill>
              <a:latin typeface="Arial"/>
            </a:endParaRPr>
          </a:p>
        </p:txBody>
      </p:sp>
      <p:sp>
        <p:nvSpPr>
          <p:cNvPr id="53" name="PlaceHolder 2"/>
          <p:cNvSpPr>
            <a:spLocks noGrp="1"/>
          </p:cNvSpPr>
          <p:nvPr>
            <p:ph/>
          </p:nvPr>
        </p:nvSpPr>
        <p:spPr>
          <a:xfrm>
            <a:off x="457200" y="1599840"/>
            <a:ext cx="830592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45.2.7.11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able 45-125 on page 65, line 10 as follow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new bits 7.33.10 and 7.33.9, then renumber subsequent bits as shown</a:t>
            </a:r>
            <a:endParaRPr b="0" lang="en-US" sz="2000" spc="-1" strike="noStrike">
              <a:solidFill>
                <a:srgbClr val="000000"/>
              </a:solidFill>
              <a:latin typeface="Arial"/>
            </a:endParaRPr>
          </a:p>
        </p:txBody>
      </p:sp>
      <p:graphicFrame>
        <p:nvGraphicFramePr>
          <p:cNvPr id="54" name=""/>
          <p:cNvGraphicFramePr/>
          <p:nvPr/>
        </p:nvGraphicFramePr>
        <p:xfrm>
          <a:off x="380880" y="3276720"/>
          <a:ext cx="8229600" cy="3543120"/>
        </p:xfrm>
        <a:graphic>
          <a:graphicData uri="http://schemas.openxmlformats.org/drawingml/2006/table">
            <a:tbl>
              <a:tblPr/>
              <a:tblGrid>
                <a:gridCol w="1067040"/>
                <a:gridCol w="1427040"/>
                <a:gridCol w="4821120"/>
                <a:gridCol w="914400"/>
              </a:tblGrid>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3.10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partner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GBASE-T low power UTP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ink partner is able to operate as 10GBASE-T low power UTP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Link partner is not able to operate as 10GBASE-T low power UTP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3.9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partner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GBASE-T low power STP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ink partner is able to operate as 10GBASE-T low power STP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Link partner is not able to operate as 10GBASE-T low power STP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3.8</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 timing ab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Link partner is capable of Loop tim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 Link partner is not capable of Loop tim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3.7</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P PMA training reset re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Link partner requests that Local Device reset PMA training PRBS every fram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 Link partner requests that Local Device run PMA training PRBS continuous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6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3.6: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lways 0, writes igno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for 10GBASE-T low power UTP/STP (con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tion 45.2.7.1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new descriptions for bits 7.33.10 and 7.33.9 on page 66, line 7 as follow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2.7.11.6</a:t>
            </a:r>
            <a:r>
              <a:rPr b="0" lang="en-US" sz="2400" spc="-1" strike="noStrike">
                <a:solidFill>
                  <a:srgbClr val="000000"/>
                </a:solidFill>
                <a:latin typeface="Arial"/>
              </a:rPr>
              <a:t>	</a:t>
            </a:r>
            <a:r>
              <a:rPr b="0" lang="en-US" sz="2400" spc="-1" strike="noStrike">
                <a:solidFill>
                  <a:srgbClr val="000000"/>
                </a:solidFill>
                <a:latin typeface="Arial"/>
              </a:rPr>
              <a:t>Link partner 10GBASE-T low power UTP (7.33.10)</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bit will only be valid when page receive bit 7.1.6 in is set to one. When read as a one, bit 7.33.10 indicates that the Link Partner is able to operate as 10GBASE-T low power UTP. When read as a zero, bit 7.33.10 indicates that the Link Partner is not able to operate as 10GBASE-T low power UTP.</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for 10GBASE-T low power UTP/STP (con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2.7.11.7</a:t>
            </a:r>
            <a:r>
              <a:rPr b="0" lang="en-US" sz="2400" spc="-1" strike="noStrike">
                <a:solidFill>
                  <a:srgbClr val="000000"/>
                </a:solidFill>
                <a:latin typeface="Arial"/>
              </a:rPr>
              <a:t>	</a:t>
            </a:r>
            <a:r>
              <a:rPr b="0" lang="en-US" sz="2400" spc="-1" strike="noStrike">
                <a:solidFill>
                  <a:srgbClr val="000000"/>
                </a:solidFill>
                <a:latin typeface="Arial"/>
              </a:rPr>
              <a:t>Link partner 10GBASE-T low power STP (7.33.9)</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bit will only be valid when page receive bit 7.1.6 in is set to one. When read as a one, bit 7.33.9 indicates that the Link Partner is able to operate as 10GBASE-T low power STP. When read as a zero, bit 7.33.9 indicates that the Link Partner is not able to operate as 10GBASE-T low power STP.</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use 45 changes for 10GBASE-T low power UTP/STP (co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45.2.7.11</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umber subsection 45.2.7.11.6 to 45.2.7.11.8 page 66 line 7 and change text as follow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2.7.11.8</a:t>
            </a:r>
            <a:r>
              <a:rPr b="0" lang="en-US" sz="1800" spc="-1" strike="noStrike">
                <a:solidFill>
                  <a:srgbClr val="000000"/>
                </a:solidFill>
                <a:latin typeface="Arial"/>
              </a:rPr>
              <a:t>	</a:t>
            </a:r>
            <a:r>
              <a:rPr b="0" lang="en-US" sz="1800" spc="-1" strike="noStrike">
                <a:solidFill>
                  <a:srgbClr val="000000"/>
                </a:solidFill>
                <a:latin typeface="Arial"/>
              </a:rPr>
              <a:t>Link partner loop timing ability (7.33.8)</a:t>
            </a:r>
            <a:endParaRPr b="0" lang="en-US" sz="18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n read as a one, bit 7.33.8 indicates that the Link Partner has the ability to support loop timing as specified in 55.1.3. When read as a zero, bit 7.33.8 indicates that the Link Partner lacks the ability to support loop tim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umber subsection 45.2.7.11.7 to 45.2.7.11.9 page 66 line 14 and change text as follow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2.7.11.9</a:t>
            </a:r>
            <a:r>
              <a:rPr b="0" lang="en-US" sz="1800" spc="-1" strike="noStrike">
                <a:solidFill>
                  <a:srgbClr val="000000"/>
                </a:solidFill>
                <a:latin typeface="Arial"/>
              </a:rPr>
              <a:t>	</a:t>
            </a:r>
            <a:r>
              <a:rPr b="0" lang="en-US" sz="1800" spc="-1" strike="noStrike">
                <a:solidFill>
                  <a:srgbClr val="000000"/>
                </a:solidFill>
                <a:latin typeface="Arial"/>
              </a:rPr>
              <a:t>Link partner PMA training reset request (7.33.7)</a:t>
            </a:r>
            <a:endParaRPr b="0" lang="en-US" sz="18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bit 7.33.7 is set to one then the Link Partner is expecting the Local Device to reset the PMA training PRBS for every PMA training frame. If bit 7.33.7 is zero then the Link Partner expects Local Device to run PMA Training PRBS continuously through every PMA Training fr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2T22:18:03Z</dcterms:created>
  <dc:creator>Mike</dc:creator>
  <dc:description/>
  <dc:language>en-US</dc:language>
  <cp:lastModifiedBy>zhatab</cp:lastModifiedBy>
  <dcterms:modified xsi:type="dcterms:W3CDTF">2005-12-23T01:46:18Z</dcterms:modified>
  <cp:revision>12</cp:revision>
  <dc:subject/>
  <dc:title>Low Power STP Mode for 802.3an</dc:title>
</cp:coreProperties>
</file>