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2709-A922-46F5-BB35-2FBBBA074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19AC-FB44-4127-890F-E70FB9240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1E55-E0C6-4780-B6F4-3FE78646A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B195-BFB4-4AE0-8985-3D9679470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B624-3BBE-44D3-A6C4-53427E41F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A971-7126-4388-A283-56FE8D93C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02D0-6AAD-4B5F-AF54-03C302E62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0AA2-CE97-4592-A154-9F0F311E7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D223-AE39-4463-ADAA-33BC2F993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D750-6A35-45A2-A9DA-AC6647C0F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EAE4-D66B-4305-AB0F-BCFAFE4D2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3F93-01F9-4D81-9963-EA99BC725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7D66F-F9FF-4029-B881-625166ADAC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w Power Latency 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 #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s to support reduced latency in low power m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tion 44.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40, line 6 add comment to Table 44-2 column Maximum (bit time) as follo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nt footnote #1) 1 Maximum bit time delay is reduced  to 15,000 BT for 10GBASE-T low power UTP or 10GBASE-T low power ST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se section 55.6.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ert new section 55.6.3 page 138 line 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5.6.3 Operating modes for 10GBASE-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GBASE-T includes provision for multiple modes of operation. 10GBASE-T mode will support all link segments shown in Table 55-12 and defined in 55.7.2. 10GBASE-T low power UTP mode will support up to 30 meters of Clas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/Augmented Category 6 or up to 30 meters of Class F cabling. 10GBASE-T low power STP will support up to 30 meters of Class F cabling.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 addition to reduced reach on specified channels, 10GBASE-T low power UTP and 10GBASE-T low power STP both have reduced delay requirements as stated in 44.3 and 55.1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se section 55.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tion 55.1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ert text immediately following the first sentence of the paragraph page 160 line 7 (section 55.11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n implementation of a 10GBASE-T PHY operating in 10GBASE-T low power UTP or 10GBASE-T low power STP mode the sum of the transmit and receive data delay shall not exceed 15,000 B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2T22:16:14Z</dcterms:created>
  <dc:creator>Mike</dc:creator>
  <dc:description/>
  <dc:language>en-US</dc:language>
  <cp:lastModifiedBy>zhatab</cp:lastModifiedBy>
  <dcterms:modified xsi:type="dcterms:W3CDTF">2005-12-23T00:53:49Z</dcterms:modified>
  <cp:revision>3</cp:revision>
  <dc:subject/>
  <dc:title>Low Power Latency Reduction</dc:title>
</cp:coreProperties>
</file>