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43F-E095-4DD2-842D-FBCE69EE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0BA-0DC2-420A-A567-AFEAA3C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B7E-650E-42B2-BC9E-B6920BF9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676-EFB5-4755-82F4-72250E53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C2D9-23D6-4692-BB68-F5B0C5A38A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C3969-357B-44C2-9A2A-536029AE7C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F125-5E82-4E50-AD3E-97350ED01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18D5D-4384-419C-8A54-ED62D270E7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FA1D-136E-4BF4-A319-C818878CE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181C-ED79-4AD5-A43F-04446EF41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DA00-B4AC-4E29-AE1C-7903CFD9B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76E-36D4-46A6-A27F-55822A70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B350D-A253-4E57-8640-AC8953C2C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E5DFD-A896-41E6-AB6F-AE39354233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64E00-E415-48AB-9F8D-5B1975F36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E58C-FF6E-4503-8BC8-EE6C3CCD5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A6DA-DE92-4EE6-9E23-BB1234BC3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6DC-3ACC-4407-A576-E735965C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3EB-3B49-40EB-BEB7-BB4018D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89E-7A08-40CC-8AA2-D2A7B8FE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956-91E3-4D29-80BA-7BAA9CC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07F-EF7B-414F-933D-6727F1C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584-88BC-41E1-8F2F-B88E052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B01-31FE-4710-8665-FD34571C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0764-476A-4105-96E4-DB1CFD9A7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3160" y="6400800"/>
            <a:ext cx="39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EEE 802.3ap Backplane Ethernet Task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217440"/>
            <a:ext cx="8229600" cy="696960"/>
            <a:chOff x="228600" y="217440"/>
            <a:chExt cx="8229600" cy="696960"/>
          </a:xfrm>
        </p:grpSpPr>
        <p:pic>
          <p:nvPicPr>
            <p:cNvPr id="7" name="mx200rd%20transparent" descr=""/>
            <p:cNvPicPr/>
            <p:nvPr/>
          </p:nvPicPr>
          <p:blipFill>
            <a:blip r:embed="rId2"/>
            <a:stretch/>
          </p:blipFill>
          <p:spPr>
            <a:xfrm>
              <a:off x="228600" y="217440"/>
              <a:ext cx="9144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14400" y="838080"/>
              <a:ext cx="7543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3E0-0C66-4DE8-A515-9D1B3E243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228600"/>
            <a:ext cx="8001000" cy="635040"/>
            <a:chOff x="380880" y="228600"/>
            <a:chExt cx="8001000" cy="635040"/>
          </a:xfrm>
        </p:grpSpPr>
        <p:pic>
          <p:nvPicPr>
            <p:cNvPr id="48" name="molex%20small%20lgo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8413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219320" y="838080"/>
              <a:ext cx="7162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22600" y="6400800"/>
            <a:ext cx="279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2004  Optical Internetworking Foru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310356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855720"/>
            <a:ext cx="78487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-Parameter Measurements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Backplane Ethernet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Brunk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brunker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urgen Oganessy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ganessyan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McCall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mccallum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le, Illin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467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470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1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492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14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652640" y="861840"/>
            <a:ext cx="45255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-up and Calib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: Thru Adapter / Phase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Cal -&gt; SOL CAL Kit Adap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Multiport (Press-Fit/Quick Connect Us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u Cal -&gt; Connect 1 -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1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3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2 -&gt;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3 – SOL -&gt; Conn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 to Port 1, 4, 3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rt to Port 2, 1, 4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ad to Port 3, 2, 1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4724280" y="1589040"/>
            <a:ext cx="4191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beling Conven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ft Card – Pr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ght Card – Remo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279440" y="990720"/>
            <a:ext cx="2987280" cy="5638320"/>
            <a:chOff x="1279440" y="990720"/>
            <a:chExt cx="2987280" cy="5638320"/>
          </a:xfrm>
        </p:grpSpPr>
        <p:sp>
          <p:nvSpPr>
            <p:cNvPr id="631" name=""/>
            <p:cNvSpPr/>
            <p:nvPr/>
          </p:nvSpPr>
          <p:spPr>
            <a:xfrm>
              <a:off x="2382480" y="384552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82480" y="99072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381480" y="1276200"/>
              <a:ext cx="885240" cy="5067360"/>
              <a:chOff x="3381480" y="1276200"/>
              <a:chExt cx="885240" cy="5067360"/>
            </a:xfrm>
          </p:grpSpPr>
          <p:sp>
            <p:nvSpPr>
              <p:cNvPr id="634" name=""/>
              <p:cNvSpPr/>
              <p:nvPr/>
            </p:nvSpPr>
            <p:spPr>
              <a:xfrm>
                <a:off x="339696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381480" y="1327320"/>
                <a:ext cx="828000" cy="4963320"/>
                <a:chOff x="3381480" y="1327320"/>
                <a:chExt cx="828000" cy="49633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3381480" y="1327320"/>
                  <a:ext cx="635040" cy="2536560"/>
                  <a:chOff x="3381480" y="1327320"/>
                  <a:chExt cx="635040" cy="25365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13508400">
                    <a:off x="3472200" y="14148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3508400">
                    <a:off x="3472200" y="205704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3508400">
                    <a:off x="3472200" y="26992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3508400">
                    <a:off x="3472200" y="33415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602880" y="1490040"/>
                    <a:ext cx="413640" cy="2230560"/>
                    <a:chOff x="3602880" y="1490040"/>
                    <a:chExt cx="413640" cy="22305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616200" y="1490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616200" y="21884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3616200" y="28306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3602880" y="347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3599280" y="3753720"/>
                  <a:ext cx="610200" cy="2536920"/>
                  <a:chOff x="3599280" y="3753720"/>
                  <a:chExt cx="610200" cy="25369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3726720" y="3916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8091600">
                    <a:off x="3690000" y="3841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8091600">
                    <a:off x="3690000" y="44834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8091600">
                    <a:off x="3690000" y="51256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8091600">
                    <a:off x="3690000" y="57679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3726720" y="46137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3726720" y="52578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3713040" y="590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5" name=""/>
            <p:cNvGrpSpPr/>
            <p:nvPr/>
          </p:nvGrpSpPr>
          <p:grpSpPr>
            <a:xfrm>
              <a:off x="1279440" y="1276200"/>
              <a:ext cx="911520" cy="5067360"/>
              <a:chOff x="1279440" y="1276200"/>
              <a:chExt cx="911520" cy="5067360"/>
            </a:xfrm>
          </p:grpSpPr>
          <p:sp>
            <p:nvSpPr>
              <p:cNvPr id="656" name=""/>
              <p:cNvSpPr/>
              <p:nvPr/>
            </p:nvSpPr>
            <p:spPr>
              <a:xfrm>
                <a:off x="129528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1279440" y="1327320"/>
                <a:ext cx="911520" cy="4962960"/>
                <a:chOff x="1279440" y="1327320"/>
                <a:chExt cx="911520" cy="496296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1279440" y="1327320"/>
                  <a:ext cx="626400" cy="2536920"/>
                  <a:chOff x="1279440" y="1327320"/>
                  <a:chExt cx="626400" cy="25369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1513440" y="149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3508400">
                    <a:off x="1370520" y="14148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3508400">
                    <a:off x="1370520" y="20570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3508400">
                    <a:off x="1370520" y="26992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3508400">
                    <a:off x="1370520" y="33415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513440" y="21891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513440" y="28314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503360" y="34779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1581120" y="3753720"/>
                  <a:ext cx="609840" cy="2536560"/>
                  <a:chOff x="1581120" y="3753720"/>
                  <a:chExt cx="609840" cy="2536560"/>
                </a:xfrm>
              </p:grpSpPr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1581120" y="3753720"/>
                    <a:ext cx="609840" cy="2536560"/>
                    <a:chOff x="1581120" y="3753720"/>
                    <a:chExt cx="609840" cy="25365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8091600">
                      <a:off x="1671840" y="38415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8091600">
                      <a:off x="1671840" y="448380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 rot="8091600">
                      <a:off x="1671840" y="51260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91600">
                      <a:off x="1671840" y="57682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1587240" y="3916080"/>
                    <a:ext cx="414720" cy="2229480"/>
                    <a:chOff x="1587240" y="3916080"/>
                    <a:chExt cx="414720" cy="222948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1587240" y="3916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>
                      <a:off x="1587240" y="4613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>
                      <a:off x="1587240" y="5257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>
                      <a:off x="1601640" y="58993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8" name=""/>
            <p:cNvGrpSpPr/>
            <p:nvPr/>
          </p:nvGrpSpPr>
          <p:grpSpPr>
            <a:xfrm>
              <a:off x="1730160" y="1490400"/>
              <a:ext cx="1956960" cy="285120"/>
              <a:chOff x="1730160" y="1490400"/>
              <a:chExt cx="1956960" cy="2851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1730160" y="1490400"/>
                <a:ext cx="1956960" cy="285120"/>
                <a:chOff x="1730160" y="1490400"/>
                <a:chExt cx="1956960" cy="2851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1730160" y="1490400"/>
                  <a:ext cx="579600" cy="285120"/>
                  <a:chOff x="1730160" y="1490400"/>
                  <a:chExt cx="579600" cy="2851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1802160" y="1775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730160" y="14904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2309760" y="156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309760" y="1704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252240" y="1775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52240" y="14904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309760" y="1490400"/>
                <a:ext cx="942120" cy="284760"/>
                <a:chOff x="2309760" y="1490400"/>
                <a:chExt cx="942120" cy="2847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0976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30976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25188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25188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1730160" y="2774880"/>
              <a:ext cx="1956960" cy="285120"/>
              <a:chOff x="1730160" y="2774880"/>
              <a:chExt cx="1956960" cy="28512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30160" y="2774880"/>
                <a:ext cx="1956960" cy="285120"/>
                <a:chOff x="1730160" y="2774880"/>
                <a:chExt cx="1956960" cy="28512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1730160" y="2774880"/>
                  <a:ext cx="579600" cy="285120"/>
                  <a:chOff x="1730160" y="2774880"/>
                  <a:chExt cx="579600" cy="2851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1802160" y="30600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1730160" y="2774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2309760" y="2845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309760" y="2988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52240" y="30600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52240" y="2774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309760" y="2774880"/>
                <a:ext cx="942120" cy="284760"/>
                <a:chOff x="2309760" y="2774880"/>
                <a:chExt cx="942120" cy="284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30976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30976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5188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5188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" name=""/>
            <p:cNvGrpSpPr/>
            <p:nvPr/>
          </p:nvGrpSpPr>
          <p:grpSpPr>
            <a:xfrm>
              <a:off x="1730160" y="2132640"/>
              <a:ext cx="1956960" cy="285120"/>
              <a:chOff x="1730160" y="2132640"/>
              <a:chExt cx="1956960" cy="28512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1730160" y="2132640"/>
                <a:ext cx="1956960" cy="285120"/>
                <a:chOff x="1730160" y="2132640"/>
                <a:chExt cx="1956960" cy="2851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1730160" y="2132640"/>
                  <a:ext cx="579600" cy="285120"/>
                  <a:chOff x="1730160" y="2132640"/>
                  <a:chExt cx="579600" cy="2851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1802160" y="24177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730160" y="2132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2309760" y="2203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309760" y="2346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252240" y="24177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252240" y="2132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309760" y="2132640"/>
                <a:ext cx="942120" cy="284760"/>
                <a:chOff x="2309760" y="2132640"/>
                <a:chExt cx="942120" cy="2847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30976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30976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25188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25188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" name=""/>
            <p:cNvGrpSpPr/>
            <p:nvPr/>
          </p:nvGrpSpPr>
          <p:grpSpPr>
            <a:xfrm>
              <a:off x="1730160" y="3417480"/>
              <a:ext cx="1956960" cy="285120"/>
              <a:chOff x="1730160" y="3417480"/>
              <a:chExt cx="1956960" cy="2851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730160" y="3417480"/>
                <a:ext cx="1956960" cy="285120"/>
                <a:chOff x="1730160" y="3417480"/>
                <a:chExt cx="1956960" cy="28512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1730160" y="3417480"/>
                  <a:ext cx="579600" cy="285120"/>
                  <a:chOff x="1730160" y="3417480"/>
                  <a:chExt cx="579600" cy="2851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802160" y="37026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730160" y="3417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2309760" y="3488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09760" y="363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252240" y="37026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252240" y="3417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309760" y="3417480"/>
                <a:ext cx="942120" cy="284760"/>
                <a:chOff x="2309760" y="3417480"/>
                <a:chExt cx="942120" cy="284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30976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30976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25188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25188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1874880" y="5843880"/>
              <a:ext cx="1956960" cy="285480"/>
              <a:chOff x="1874880" y="5843880"/>
              <a:chExt cx="1956960" cy="28548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1874880" y="5843880"/>
                <a:ext cx="1956960" cy="285480"/>
                <a:chOff x="1874880" y="5843880"/>
                <a:chExt cx="1956960" cy="28548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3252240" y="5843880"/>
                  <a:ext cx="579600" cy="285480"/>
                  <a:chOff x="3252240" y="5843880"/>
                  <a:chExt cx="579600" cy="285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>
                    <a:off x="3252600" y="61293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>
                    <a:off x="3252240" y="5843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 flipH="1">
                  <a:off x="2310120" y="5914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2310120" y="6058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1874880" y="61293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1874880" y="5843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310120" y="5843880"/>
                <a:ext cx="942120" cy="285120"/>
                <a:chOff x="2310120" y="5843880"/>
                <a:chExt cx="942120" cy="2851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325224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25224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31012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31012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"/>
            <p:cNvGrpSpPr/>
            <p:nvPr/>
          </p:nvGrpSpPr>
          <p:grpSpPr>
            <a:xfrm>
              <a:off x="1874880" y="5201640"/>
              <a:ext cx="1956960" cy="285480"/>
              <a:chOff x="1874880" y="5201640"/>
              <a:chExt cx="1956960" cy="2854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1874880" y="5201640"/>
                <a:ext cx="1956960" cy="285480"/>
                <a:chOff x="1874880" y="5201640"/>
                <a:chExt cx="1956960" cy="28548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3252240" y="5201640"/>
                  <a:ext cx="579600" cy="285480"/>
                  <a:chOff x="3252240" y="5201640"/>
                  <a:chExt cx="579600" cy="28548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flipH="1">
                    <a:off x="3252600" y="54871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3252240" y="5201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3" name=""/>
                <p:cNvSpPr/>
                <p:nvPr/>
              </p:nvSpPr>
              <p:spPr>
                <a:xfrm flipH="1">
                  <a:off x="2310120" y="5272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2310120" y="54158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1874880" y="54871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1874880" y="5201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310120" y="5201640"/>
                <a:ext cx="942120" cy="285120"/>
                <a:chOff x="2310120" y="5201640"/>
                <a:chExt cx="942120" cy="285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25224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25224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31012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31012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2" name=""/>
            <p:cNvGrpSpPr/>
            <p:nvPr/>
          </p:nvGrpSpPr>
          <p:grpSpPr>
            <a:xfrm>
              <a:off x="1874880" y="4559040"/>
              <a:ext cx="1956960" cy="285480"/>
              <a:chOff x="1874880" y="4559040"/>
              <a:chExt cx="1956960" cy="28548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874880" y="4559040"/>
                <a:ext cx="1956960" cy="285480"/>
                <a:chOff x="1874880" y="4559040"/>
                <a:chExt cx="1956960" cy="28548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3252240" y="4559040"/>
                  <a:ext cx="579600" cy="285480"/>
                  <a:chOff x="3252240" y="4559040"/>
                  <a:chExt cx="579600" cy="2854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>
                    <a:off x="3252600" y="4844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3252240" y="45590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 flipH="1">
                  <a:off x="2310120" y="46299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2310120" y="4773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1874880" y="4844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874880" y="4559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310120" y="4559040"/>
                <a:ext cx="942120" cy="285120"/>
                <a:chOff x="2310120" y="4559040"/>
                <a:chExt cx="942120" cy="2851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25224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25224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31012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31012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"/>
            <p:cNvGrpSpPr/>
            <p:nvPr/>
          </p:nvGrpSpPr>
          <p:grpSpPr>
            <a:xfrm>
              <a:off x="1874880" y="3916800"/>
              <a:ext cx="1956960" cy="285480"/>
              <a:chOff x="1874880" y="3916800"/>
              <a:chExt cx="1956960" cy="2854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1874880" y="3916800"/>
                <a:ext cx="1956960" cy="285480"/>
                <a:chOff x="1874880" y="3916800"/>
                <a:chExt cx="1956960" cy="28548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3252240" y="3916800"/>
                  <a:ext cx="579600" cy="285480"/>
                  <a:chOff x="3252240" y="3916800"/>
                  <a:chExt cx="579600" cy="28548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H="1">
                    <a:off x="3252600" y="4202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>
                    <a:off x="3252240" y="39168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 flipH="1">
                  <a:off x="2310120" y="3987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2310120" y="4131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1874880" y="4202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874880" y="3916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310120" y="3916800"/>
                <a:ext cx="942120" cy="285120"/>
                <a:chOff x="2310120" y="3916800"/>
                <a:chExt cx="942120" cy="2851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25224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25224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31012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31012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0" name=""/>
            <p:cNvSpPr/>
            <p:nvPr/>
          </p:nvSpPr>
          <p:spPr>
            <a:xfrm>
              <a:off x="2415960" y="612936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48320" y="1498680"/>
            <a:ext cx="41907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 Phase 1 (Create Folders 1-25m_Outbound_F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Create Folder 1-25m_Outbound_NEX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: J2K2 Thru G2H2 ssj2k2g2h2 SN 004 (Backp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Data Transforms – Select 2 balanced ports –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sam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s4p (mixed mode) transform same 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osstalk 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quiet lines g3h3 (Rx1-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–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- example 1.25m  (-35.376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3h3 NEXT (Rx5-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2.972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2h2 Place in NEXT 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0.503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794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797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8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819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841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871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3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7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6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927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3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066680" y="914400"/>
            <a:ext cx="4343400" cy="5257440"/>
            <a:chOff x="1066680" y="914400"/>
            <a:chExt cx="4343400" cy="5257440"/>
          </a:xfrm>
        </p:grpSpPr>
        <p:pic>
          <p:nvPicPr>
            <p:cNvPr id="956" name="" descr=""/>
            <p:cNvPicPr/>
            <p:nvPr/>
          </p:nvPicPr>
          <p:blipFill>
            <a:blip r:embed="rId1"/>
            <a:srcRect l="0" t="0" r="12987" b="0"/>
            <a:stretch/>
          </p:blipFill>
          <p:spPr>
            <a:xfrm>
              <a:off x="1066680" y="914400"/>
              <a:ext cx="4343400" cy="289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7" name=""/>
            <p:cNvGrpSpPr/>
            <p:nvPr/>
          </p:nvGrpSpPr>
          <p:grpSpPr>
            <a:xfrm>
              <a:off x="1066680" y="3745440"/>
              <a:ext cx="4343400" cy="2426400"/>
              <a:chOff x="1066680" y="3745440"/>
              <a:chExt cx="4343400" cy="2426400"/>
            </a:xfrm>
          </p:grpSpPr>
          <p:pic>
            <p:nvPicPr>
              <p:cNvPr id="9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745440"/>
                <a:ext cx="4343400" cy="24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>
                <a:off x="2819160" y="3776760"/>
                <a:ext cx="79992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1752480" y="98172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Inser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52480" y="381276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Retur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633640" y="1066680"/>
            <a:ext cx="290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vias have signific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35440" y="2362320"/>
            <a:ext cx="305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632200" y="3797280"/>
            <a:ext cx="271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6160" y="4848120"/>
            <a:ext cx="3087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Return Loss –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Return Loss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D11 and SDD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295280" y="914400"/>
            <a:ext cx="4343400" cy="2666880"/>
            <a:chOff x="1295280" y="914400"/>
            <a:chExt cx="4343400" cy="2666880"/>
          </a:xfrm>
        </p:grpSpPr>
        <p:grpSp>
          <p:nvGrpSpPr>
            <p:cNvPr id="968" name=""/>
            <p:cNvGrpSpPr/>
            <p:nvPr/>
          </p:nvGrpSpPr>
          <p:grpSpPr>
            <a:xfrm>
              <a:off x="1295280" y="914400"/>
              <a:ext cx="4343400" cy="2666880"/>
              <a:chOff x="1295280" y="914400"/>
              <a:chExt cx="4343400" cy="2666880"/>
            </a:xfrm>
          </p:grpSpPr>
          <p:pic>
            <p:nvPicPr>
              <p:cNvPr id="9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914400"/>
                <a:ext cx="434340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3107880" y="949680"/>
                <a:ext cx="7174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448080" y="947160"/>
              <a:ext cx="11304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295280" y="3657600"/>
            <a:ext cx="4343400" cy="2666880"/>
            <a:chOff x="1295280" y="3657600"/>
            <a:chExt cx="4343400" cy="2666880"/>
          </a:xfrm>
        </p:grpSpPr>
        <p:pic>
          <p:nvPicPr>
            <p:cNvPr id="973" name="" descr=""/>
            <p:cNvPicPr/>
            <p:nvPr/>
          </p:nvPicPr>
          <p:blipFill>
            <a:blip r:embed="rId2"/>
            <a:stretch/>
          </p:blipFill>
          <p:spPr>
            <a:xfrm>
              <a:off x="1295280" y="3657600"/>
              <a:ext cx="43434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3140280" y="3693600"/>
              <a:ext cx="6534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6122520" y="2333520"/>
            <a:ext cx="283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F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F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94080" y="4924440"/>
            <a:ext cx="285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N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N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and F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838080" y="114300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x reference back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 m Nelco N4000-13SI with 2 GbX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driven line crosstalk for each of four aggr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aggressors can be superimposed to simulate multiple driven line cros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demonstrate effect of an uncorrected 191.2 mil stub and bottom-side rout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 the inclusion of this channel in the Backplane Ethernet simulation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VC-001F" descr=""/>
          <p:cNvPicPr/>
          <p:nvPr/>
        </p:nvPicPr>
        <p:blipFill>
          <a:blip r:embed="rId1"/>
          <a:stretch/>
        </p:blipFill>
        <p:spPr>
          <a:xfrm>
            <a:off x="4191120" y="1871640"/>
            <a:ext cx="4114800" cy="308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28040" y="254160"/>
            <a:ext cx="46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b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erence Backpl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9840" y="5319720"/>
            <a:ext cx="32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-Parameter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9160" y="1793880"/>
            <a:ext cx="323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 Dim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” x 13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25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154476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results presented for a 1.0 meter channel length (backplane plus daughter c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densities are consistent with Gb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or column p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 inches of total channel length is contained in each daughte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conventions include significant stub lengths to exercise full range of channel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s are routed through passive pinfields with non-terminated backplane connector p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24300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-457200"/>
            <a:ext cx="5786280" cy="6699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0120" y="965160"/>
            <a:ext cx="346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e dielectr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is per ParkNel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guide and measu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2.5 GHz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half of bo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ction is shown. Bott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lf is mirrored below cent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 layer count is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dermask thick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cluded in total over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ness of 225 mi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5880" y="3816360"/>
            <a:ext cx="2819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edge-coupl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and bottom region channels are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able channel construction is used in passive daughter card bui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meter channel length is represented in s-parameter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282680" y="914400"/>
            <a:ext cx="5949360" cy="5163120"/>
            <a:chOff x="1282680" y="914400"/>
            <a:chExt cx="5949360" cy="5163120"/>
          </a:xfrm>
        </p:grpSpPr>
        <p:grpSp>
          <p:nvGrpSpPr>
            <p:cNvPr id="100" name=""/>
            <p:cNvGrpSpPr/>
            <p:nvPr/>
          </p:nvGrpSpPr>
          <p:grpSpPr>
            <a:xfrm>
              <a:off x="1282680" y="914400"/>
              <a:ext cx="5949360" cy="2586240"/>
              <a:chOff x="1282680" y="914400"/>
              <a:chExt cx="5949360" cy="25862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282680" y="1376280"/>
                <a:ext cx="5544720" cy="771480"/>
                <a:chOff x="1282680" y="1376280"/>
                <a:chExt cx="5544720" cy="7714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282680" y="1376280"/>
                  <a:ext cx="5371560" cy="420480"/>
                  <a:chOff x="1282680" y="1376280"/>
                  <a:chExt cx="5371560" cy="420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282680" y="1376280"/>
                    <a:ext cx="5371560" cy="210240"/>
                    <a:chOff x="1282680" y="1376280"/>
                    <a:chExt cx="5371560" cy="210240"/>
                  </a:xfrm>
                </p:grpSpPr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1282680" y="1376280"/>
                      <a:ext cx="5371560" cy="210240"/>
                      <a:chOff x="1282680" y="1376280"/>
                      <a:chExt cx="5371560" cy="21024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2495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1282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307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3535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3361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3188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015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2841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2668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322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148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975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18021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1629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1455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708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5614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881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4055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4228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4401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4574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4748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4921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5094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5267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5441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5787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61344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5960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6480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>
                            <a:alpha val="50000"/>
                          </a:srgbClr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282680" y="137628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282680" y="1586520"/>
                    <a:ext cx="5371560" cy="210240"/>
                    <a:chOff x="1282680" y="1586520"/>
                    <a:chExt cx="5371560" cy="2102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282680" y="1586520"/>
                      <a:ext cx="5371560" cy="210240"/>
                      <a:chOff x="1282680" y="1586520"/>
                      <a:chExt cx="5371560" cy="21024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282680" y="1586520"/>
                        <a:ext cx="53715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282680" y="179676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744560" y="1586520"/>
                    <a:ext cx="4504320" cy="0"/>
                    <a:chOff x="1744560" y="1586520"/>
                    <a:chExt cx="4504320" cy="0"/>
                  </a:xfrm>
                </p:grpSpPr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1744560" y="1586520"/>
                      <a:ext cx="345960" cy="0"/>
                      <a:chOff x="1744560" y="1586520"/>
                      <a:chExt cx="345960" cy="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1744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1975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4516920" y="1586520"/>
                      <a:ext cx="345960" cy="0"/>
                      <a:chOff x="4516920" y="1586520"/>
                      <a:chExt cx="345960" cy="0"/>
                    </a:xfrm>
                  </p:grpSpPr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4516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4747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130560" y="1586520"/>
                      <a:ext cx="345960" cy="0"/>
                      <a:chOff x="3130560" y="1586520"/>
                      <a:chExt cx="345960" cy="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3130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3361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5902920" y="1586520"/>
                      <a:ext cx="345960" cy="0"/>
                      <a:chOff x="5902920" y="1586520"/>
                      <a:chExt cx="345960" cy="0"/>
                    </a:xfrm>
                  </p:grpSpPr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5902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133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654240" y="1376280"/>
                  <a:ext cx="173160" cy="771480"/>
                  <a:chOff x="6654240" y="1376280"/>
                  <a:chExt cx="173160" cy="7714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6827400" y="1376280"/>
                    <a:ext cx="0" cy="771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54240" y="137628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654240" y="179712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4691160" y="914400"/>
                <a:ext cx="2540880" cy="2586240"/>
                <a:chOff x="4691160" y="914400"/>
                <a:chExt cx="2540880" cy="25862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691160" y="1308240"/>
                  <a:ext cx="2147760" cy="2192400"/>
                  <a:chOff x="4691160" y="1308240"/>
                  <a:chExt cx="2147760" cy="21924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854680" y="2494080"/>
                    <a:ext cx="984240" cy="100656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annel Pitch Progression  = 1.85 mm TYP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4691160" y="1308240"/>
                    <a:ext cx="1404720" cy="1190520"/>
                    <a:chOff x="4691160" y="1308240"/>
                    <a:chExt cx="1404720" cy="11905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469116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09588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4723920" y="2133720"/>
                      <a:ext cx="1296000" cy="0"/>
                      <a:chOff x="4723920" y="2133720"/>
                      <a:chExt cx="1296000" cy="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1028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 flipH="1">
                        <a:off x="472392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614920" y="914400"/>
                  <a:ext cx="1617120" cy="461880"/>
                  <a:chOff x="5614920" y="914400"/>
                  <a:chExt cx="1617120" cy="461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967720" y="914400"/>
                    <a:ext cx="1264320" cy="2764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25 mil Coppe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5614920" y="1026720"/>
                    <a:ext cx="346320" cy="34956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2" name=""/>
            <p:cNvGrpSpPr/>
            <p:nvPr/>
          </p:nvGrpSpPr>
          <p:grpSpPr>
            <a:xfrm>
              <a:off x="1282680" y="1166760"/>
              <a:ext cx="4449240" cy="4910760"/>
              <a:chOff x="1282680" y="1166760"/>
              <a:chExt cx="4449240" cy="4910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3651120" y="2743200"/>
                <a:ext cx="2080800" cy="1778040"/>
                <a:chOff x="3651120" y="2743200"/>
                <a:chExt cx="2080800" cy="1778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651120" y="3697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.6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preg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51120" y="2743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.5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r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2080" y="3368520"/>
                  <a:ext cx="1149840" cy="45900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 mil Co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ignal Height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282680" y="1166760"/>
                <a:ext cx="2079720" cy="4910760"/>
                <a:chOff x="1282680" y="1166760"/>
                <a:chExt cx="2079720" cy="49107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282680" y="1166760"/>
                  <a:ext cx="2079720" cy="4910760"/>
                  <a:chOff x="1282680" y="1166760"/>
                  <a:chExt cx="2079720" cy="49107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06800" y="4888440"/>
                    <a:ext cx="810000" cy="11890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.75 mil TYP Tr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.25 mil TYP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1282680" y="1166760"/>
                    <a:ext cx="2079720" cy="3084480"/>
                    <a:chOff x="1282680" y="1166760"/>
                    <a:chExt cx="2079720" cy="3084480"/>
                  </a:xfrm>
                </p:grpSpPr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1282680" y="2849400"/>
                      <a:ext cx="2079720" cy="1401840"/>
                      <a:chOff x="1282680" y="2849400"/>
                      <a:chExt cx="2079720" cy="140184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1282680" y="2849400"/>
                        <a:ext cx="2079720" cy="1401840"/>
                        <a:chOff x="1282680" y="2849400"/>
                        <a:chExt cx="2079720" cy="14018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1282680" y="284940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1282680" y="355032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629000" y="3550320"/>
                        <a:ext cx="462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553480" y="3550320"/>
                        <a:ext cx="461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1282680" y="1166760"/>
                      <a:ext cx="2079360" cy="1682280"/>
                      <a:chOff x="1282680" y="1166760"/>
                      <a:chExt cx="2079360" cy="168228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1571400" y="1166760"/>
                        <a:ext cx="693000" cy="841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 flipH="1">
                        <a:off x="1282680" y="1587240"/>
                        <a:ext cx="28872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264400" y="1587240"/>
                        <a:ext cx="109764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162900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9124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553480" y="3410280"/>
                    <a:ext cx="0" cy="140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628640" y="4952880"/>
                    <a:ext cx="461880" cy="0"/>
                    <a:chOff x="1628640" y="4952880"/>
                    <a:chExt cx="461880" cy="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80216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162864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2090880" y="4602240"/>
                    <a:ext cx="461880" cy="0"/>
                    <a:chOff x="2090880" y="4602240"/>
                    <a:chExt cx="461880" cy="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26440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H="1">
                      <a:off x="209088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82680" y="2849400"/>
                    <a:ext cx="20797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1282680" y="42670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795320"/>
            <a:ext cx="5486400" cy="11001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990720" y="990720"/>
            <a:ext cx="3543120" cy="761760"/>
            <a:chOff x="990720" y="990720"/>
            <a:chExt cx="3543120" cy="761760"/>
          </a:xfrm>
        </p:grpSpPr>
        <p:sp>
          <p:nvSpPr>
            <p:cNvPr id="205" name=""/>
            <p:cNvSpPr/>
            <p:nvPr/>
          </p:nvSpPr>
          <p:spPr>
            <a:xfrm>
              <a:off x="990720" y="990720"/>
              <a:ext cx="35431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1419120"/>
              <a:ext cx="2133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/Inb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rcRect l="3127" t="31250" r="4688" b="29168"/>
          <a:stretch/>
        </p:blipFill>
        <p:spPr>
          <a:xfrm>
            <a:off x="1249200" y="4062240"/>
            <a:ext cx="5608800" cy="1805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72200" y="990720"/>
            <a:ext cx="274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ransmit ports initiate with J/K terminal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receive ports terminate with G/H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ent transmit-to-receive pin mapping allows for only one line card port desig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” backplane channel routing is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blocked in groups of 4 transmit pairs and 4 receive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90720" y="3200400"/>
            <a:ext cx="4724280" cy="809640"/>
            <a:chOff x="990720" y="3200400"/>
            <a:chExt cx="4724280" cy="809640"/>
          </a:xfrm>
        </p:grpSpPr>
        <p:sp>
          <p:nvSpPr>
            <p:cNvPr id="210" name=""/>
            <p:cNvSpPr/>
            <p:nvPr/>
          </p:nvSpPr>
          <p:spPr>
            <a:xfrm>
              <a:off x="990720" y="3200400"/>
              <a:ext cx="472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 Traffic Moves Left-to-Right      Tx             R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bound Traffic Moves Right-to-Left        Rx             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221120" y="2430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865080"/>
            <a:ext cx="5672160" cy="2563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486080" y="952560"/>
            <a:ext cx="39240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ut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43000" y="1986120"/>
            <a:ext cx="567216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3657600"/>
            <a:ext cx="5181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7680" y="1371600"/>
            <a:ext cx="289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outbound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as have significant stub to assess channel robustn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3949560"/>
            <a:ext cx="27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inbound channel length designed without stub to allow for channel performance comparis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2560" y="24300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22920" y="2430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54476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 X1 cm (X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Nelco N4000-13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ughter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Y1 cm (Y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ZZ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Length: W1 cm (W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b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ors: 2 G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9360" y="914400"/>
            <a:ext cx="4221720" cy="5181120"/>
            <a:chOff x="459360" y="914400"/>
            <a:chExt cx="4221720" cy="5181120"/>
          </a:xfrm>
        </p:grpSpPr>
        <p:grpSp>
          <p:nvGrpSpPr>
            <p:cNvPr id="225" name=""/>
            <p:cNvGrpSpPr/>
            <p:nvPr/>
          </p:nvGrpSpPr>
          <p:grpSpPr>
            <a:xfrm>
              <a:off x="459360" y="1243080"/>
              <a:ext cx="4221720" cy="4852440"/>
              <a:chOff x="459360" y="1243080"/>
              <a:chExt cx="4221720" cy="48524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254960" y="1243080"/>
                <a:ext cx="2567880" cy="4852440"/>
                <a:chOff x="1254960" y="1243080"/>
                <a:chExt cx="2567880" cy="48524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1254960" y="1487880"/>
                  <a:ext cx="2567880" cy="4361760"/>
                  <a:chOff x="1254960" y="1487880"/>
                  <a:chExt cx="2567880" cy="436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254960" y="1487880"/>
                    <a:ext cx="2567880" cy="4361760"/>
                    <a:chOff x="1254960" y="1487880"/>
                    <a:chExt cx="2567880" cy="436176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043080" y="1487880"/>
                      <a:ext cx="779760" cy="4361760"/>
                      <a:chOff x="3043080" y="1487880"/>
                      <a:chExt cx="779760" cy="436176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05784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3043080" y="1533240"/>
                        <a:ext cx="779760" cy="4269600"/>
                        <a:chOff x="3043080" y="1533240"/>
                        <a:chExt cx="779760" cy="426960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3043080" y="1533240"/>
                          <a:ext cx="779760" cy="4269600"/>
                          <a:chOff x="3043080" y="1533240"/>
                          <a:chExt cx="779760" cy="4269600"/>
                        </a:xfrm>
                      </p:grpSpPr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 rot="13508400">
                            <a:off x="3119760" y="16092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 rot="13508400">
                            <a:off x="3119760" y="2161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 rot="13508400">
                            <a:off x="3119760" y="271476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 rot="13508400">
                            <a:off x="3119760" y="32677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 flipH="1" rot="8091600">
                            <a:off x="3377520" y="36979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flipH="1" rot="8091600">
                            <a:off x="3377520" y="425088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 flipH="1" rot="8091600">
                            <a:off x="3377520" y="480384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 flipH="1" rot="8091600">
                            <a:off x="3377520" y="5356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3242520" y="1856160"/>
                          <a:ext cx="184320" cy="3808440"/>
                          <a:chOff x="3242520" y="1856160"/>
                          <a:chExt cx="184320" cy="380844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3242520" y="18561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3242520" y="24087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42520" y="29617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42520" y="35146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36528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36528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36528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336528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1254960" y="1487880"/>
                      <a:ext cx="768600" cy="4361760"/>
                      <a:chOff x="1254960" y="1487880"/>
                      <a:chExt cx="768600" cy="43617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27008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1254960" y="1533240"/>
                        <a:ext cx="768600" cy="4269240"/>
                        <a:chOff x="1254960" y="1533240"/>
                        <a:chExt cx="768600" cy="4269240"/>
                      </a:xfrm>
                    </p:grpSpPr>
                    <p:grpSp>
                      <p:nvGrpSpPr>
                        <p:cNvPr id="253" name=""/>
                        <p:cNvGrpSpPr/>
                        <p:nvPr/>
                      </p:nvGrpSpPr>
                      <p:grpSpPr>
                        <a:xfrm>
                          <a:off x="1254960" y="1533240"/>
                          <a:ext cx="768600" cy="4269240"/>
                          <a:chOff x="1254960" y="1533240"/>
                          <a:chExt cx="768600" cy="4269240"/>
                        </a:xfrm>
                      </p:grpSpPr>
                      <p:grpSp>
                        <p:nvGrpSpPr>
                          <p:cNvPr id="254" name=""/>
                          <p:cNvGrpSpPr/>
                          <p:nvPr/>
                        </p:nvGrpSpPr>
                        <p:grpSpPr>
                          <a:xfrm>
                            <a:off x="1254960" y="1533240"/>
                            <a:ext cx="522000" cy="2180520"/>
                            <a:chOff x="1254960" y="1533240"/>
                            <a:chExt cx="522000" cy="2180520"/>
                          </a:xfrm>
                        </p:grpSpPr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 rot="13508400">
                              <a:off x="1331640" y="16092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6" name=""/>
                            <p:cNvSpPr/>
                            <p:nvPr/>
                          </p:nvSpPr>
                          <p:spPr>
                            <a:xfrm rot="13508400">
                              <a:off x="1331640" y="21618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 rot="13508400">
                              <a:off x="1331640" y="271476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 rot="13508400">
                              <a:off x="1331640" y="32677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1501560" y="3621960"/>
                            <a:ext cx="522000" cy="2180520"/>
                            <a:chOff x="1501560" y="3621960"/>
                            <a:chExt cx="522000" cy="218052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 flipH="1" rot="8091600">
                              <a:off x="1578240" y="36979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 flipH="1" rot="8091600">
                              <a:off x="1578240" y="42505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 flipH="1" rot="8091600">
                              <a:off x="1578240" y="480348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 flipH="1" rot="8091600">
                              <a:off x="1578240" y="535644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4" name=""/>
                        <p:cNvGrpSpPr/>
                        <p:nvPr/>
                      </p:nvGrpSpPr>
                      <p:grpSpPr>
                        <a:xfrm>
                          <a:off x="1639440" y="1856160"/>
                          <a:ext cx="184320" cy="3808440"/>
                          <a:chOff x="1639440" y="1856160"/>
                          <a:chExt cx="184320" cy="3808440"/>
                        </a:xfrm>
                      </p:grpSpPr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176220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176220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176220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176220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1639440" y="296172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>
                            <a:off x="1639440" y="24087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" name=""/>
                          <p:cNvSpPr/>
                          <p:nvPr/>
                        </p:nvSpPr>
                        <p:spPr>
                          <a:xfrm>
                            <a:off x="1639440" y="351468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>
                            <a:off x="1639440" y="18561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3221280" y="1685520"/>
                    <a:ext cx="464760" cy="4021200"/>
                    <a:chOff x="3221280" y="1685520"/>
                    <a:chExt cx="464760" cy="40212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3227040" y="168552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227040" y="22827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3227040" y="28371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221280" y="339120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3299760" y="37699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>
                      <a:off x="3299760" y="43765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3299760" y="492156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3313080" y="547560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14800" y="1670760"/>
                    <a:ext cx="457920" cy="4018680"/>
                    <a:chOff x="1414800" y="1670760"/>
                    <a:chExt cx="457920" cy="401868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414800" y="1670760"/>
                      <a:ext cx="378720" cy="1938960"/>
                      <a:chOff x="1414800" y="1670760"/>
                      <a:chExt cx="378720" cy="19389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1420920" y="167076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1420920" y="22726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1420920" y="28252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3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1414800" y="337860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4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" name=""/>
                    <p:cNvGrpSpPr/>
                    <p:nvPr/>
                  </p:nvGrpSpPr>
                  <p:grpSpPr>
                    <a:xfrm>
                      <a:off x="1486800" y="3753360"/>
                      <a:ext cx="385920" cy="1936080"/>
                      <a:chOff x="1486800" y="3753360"/>
                      <a:chExt cx="385920" cy="1936080"/>
                    </a:xfrm>
                  </p:grpSpPr>
                  <p:sp>
                    <p:nvSpPr>
                      <p:cNvPr id="289" name=""/>
                      <p:cNvSpPr/>
                      <p:nvPr/>
                    </p:nvSpPr>
                    <p:spPr>
                      <a:xfrm flipH="1">
                        <a:off x="1486800" y="375336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 flipH="1">
                        <a:off x="1486800" y="436104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6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flipH="1">
                        <a:off x="1486800" y="491400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7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flipH="1">
                        <a:off x="1494000" y="545832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8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1639800" y="1243080"/>
                  <a:ext cx="1787040" cy="4852440"/>
                  <a:chOff x="1639800" y="1243080"/>
                  <a:chExt cx="1787040" cy="485244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171520" y="1243080"/>
                    <a:ext cx="700560" cy="4852440"/>
                    <a:chOff x="2171520" y="1243080"/>
                    <a:chExt cx="700560" cy="485244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2171520" y="1243080"/>
                      <a:ext cx="700560" cy="2395440"/>
                      <a:chOff x="2171520" y="1243080"/>
                      <a:chExt cx="700560" cy="239544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2194200" y="1243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2171520" y="1291680"/>
                        <a:ext cx="69120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ut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2194200" y="3700080"/>
                      <a:ext cx="677880" cy="2395440"/>
                      <a:chOff x="2194200" y="3700080"/>
                      <a:chExt cx="677880" cy="239544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2194200" y="3700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2214360" y="5683320"/>
                        <a:ext cx="60732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n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639800" y="1672920"/>
                    <a:ext cx="1663920" cy="245160"/>
                    <a:chOff x="1639800" y="1672920"/>
                    <a:chExt cx="1663920" cy="24516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1639800" y="1672920"/>
                      <a:ext cx="1663920" cy="245160"/>
                      <a:chOff x="1639800" y="1672920"/>
                      <a:chExt cx="1663920" cy="245160"/>
                    </a:xfrm>
                  </p:grpSpPr>
                  <p:grpSp>
                    <p:nvGrpSpPr>
                      <p:cNvPr id="303" name=""/>
                      <p:cNvGrpSpPr/>
                      <p:nvPr/>
                    </p:nvGrpSpPr>
                    <p:grpSpPr>
                      <a:xfrm>
                        <a:off x="1639800" y="1672920"/>
                        <a:ext cx="492840" cy="245160"/>
                        <a:chOff x="1639800" y="1672920"/>
                        <a:chExt cx="492840" cy="245160"/>
                      </a:xfrm>
                    </p:grpSpPr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701000" y="191808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639800" y="167292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2132640" y="173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2132640" y="18568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2934000" y="19180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934000" y="167292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2132640" y="1672920"/>
                      <a:ext cx="801360" cy="244800"/>
                      <a:chOff x="2132640" y="1672920"/>
                      <a:chExt cx="801360" cy="24480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213264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213264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293400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293400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639800" y="2778480"/>
                    <a:ext cx="1663920" cy="245160"/>
                    <a:chOff x="1639800" y="2778480"/>
                    <a:chExt cx="1663920" cy="245160"/>
                  </a:xfrm>
                </p:grpSpPr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1639800" y="2778480"/>
                      <a:ext cx="1663920" cy="245160"/>
                      <a:chOff x="1639800" y="2778480"/>
                      <a:chExt cx="1663920" cy="245160"/>
                    </a:xfrm>
                  </p:grpSpPr>
                  <p:grpSp>
                    <p:nvGrpSpPr>
                      <p:cNvPr id="317" name=""/>
                      <p:cNvGrpSpPr/>
                      <p:nvPr/>
                    </p:nvGrpSpPr>
                    <p:grpSpPr>
                      <a:xfrm>
                        <a:off x="1639800" y="2778480"/>
                        <a:ext cx="492840" cy="245160"/>
                        <a:chOff x="1639800" y="2778480"/>
                        <a:chExt cx="492840" cy="245160"/>
                      </a:xfrm>
                    </p:grpSpPr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1701000" y="30236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1639800" y="27784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2132640" y="28393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132640" y="29624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2934000" y="30236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2934000" y="27784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2132640" y="2778480"/>
                      <a:ext cx="801360" cy="244800"/>
                      <a:chOff x="2132640" y="2778480"/>
                      <a:chExt cx="801360" cy="24480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213264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213264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293400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293400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1639800" y="2225880"/>
                    <a:ext cx="1663920" cy="245160"/>
                    <a:chOff x="1639800" y="2225880"/>
                    <a:chExt cx="1663920" cy="245160"/>
                  </a:xfrm>
                </p:grpSpPr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1639800" y="2225880"/>
                      <a:ext cx="1663920" cy="245160"/>
                      <a:chOff x="1639800" y="2225880"/>
                      <a:chExt cx="1663920" cy="245160"/>
                    </a:xfrm>
                  </p:grpSpPr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1639800" y="2225880"/>
                        <a:ext cx="492840" cy="245160"/>
                        <a:chOff x="1639800" y="2225880"/>
                        <a:chExt cx="492840" cy="24516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1701000" y="24710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1639800" y="2225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2132640" y="22867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2132640" y="24098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2934000" y="24710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2934000" y="2225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2132640" y="2225880"/>
                      <a:ext cx="801360" cy="244800"/>
                      <a:chOff x="2132640" y="2225880"/>
                      <a:chExt cx="801360" cy="24480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213264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213264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293400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3400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639800" y="3331440"/>
                    <a:ext cx="1663920" cy="245160"/>
                    <a:chOff x="1639800" y="3331440"/>
                    <a:chExt cx="1663920" cy="24516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639800" y="3331440"/>
                      <a:ext cx="1663920" cy="245160"/>
                      <a:chOff x="1639800" y="3331440"/>
                      <a:chExt cx="1663920" cy="245160"/>
                    </a:xfrm>
                  </p:grpSpPr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1639800" y="3331440"/>
                        <a:ext cx="492840" cy="245160"/>
                        <a:chOff x="1639800" y="3331440"/>
                        <a:chExt cx="492840" cy="24516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1701000" y="35766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1639800" y="3331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132640" y="33922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132640" y="35154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2934000" y="35766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2934000" y="3331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2132640" y="3331440"/>
                      <a:ext cx="801360" cy="244800"/>
                      <a:chOff x="2132640" y="3331440"/>
                      <a:chExt cx="801360" cy="24480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213264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213264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293400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293400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1762920" y="5419440"/>
                    <a:ext cx="1663920" cy="245520"/>
                    <a:chOff x="1762920" y="5419440"/>
                    <a:chExt cx="1663920" cy="245520"/>
                  </a:xfrm>
                </p:grpSpPr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762920" y="5419440"/>
                      <a:ext cx="1663920" cy="245520"/>
                      <a:chOff x="1762920" y="5419440"/>
                      <a:chExt cx="1663920" cy="245520"/>
                    </a:xfrm>
                  </p:grpSpPr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2934000" y="5419440"/>
                        <a:ext cx="492840" cy="245520"/>
                        <a:chOff x="2934000" y="5419440"/>
                        <a:chExt cx="492840" cy="24552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>
                          <a:off x="2934360" y="56649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>
                          <a:off x="2934000" y="5419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"/>
                      <p:cNvSpPr/>
                      <p:nvPr/>
                    </p:nvSpPr>
                    <p:spPr>
                      <a:xfrm flipH="1">
                        <a:off x="2132640" y="54806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 flipH="1">
                        <a:off x="2132640" y="560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flipH="1">
                        <a:off x="1762920" y="56649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 flipH="1">
                        <a:off x="1762920" y="5419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2132640" y="5419440"/>
                      <a:ext cx="801360" cy="245520"/>
                      <a:chOff x="2132640" y="5419440"/>
                      <a:chExt cx="801360" cy="245520"/>
                    </a:xfrm>
                  </p:grpSpPr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293400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3400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13264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213264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762920" y="4866840"/>
                    <a:ext cx="1663920" cy="245520"/>
                    <a:chOff x="1762920" y="4866840"/>
                    <a:chExt cx="1663920" cy="24552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762920" y="4866840"/>
                      <a:ext cx="1663920" cy="245520"/>
                      <a:chOff x="1762920" y="4866840"/>
                      <a:chExt cx="1663920" cy="245520"/>
                    </a:xfrm>
                  </p:grpSpPr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2934000" y="4866840"/>
                        <a:ext cx="492840" cy="245520"/>
                        <a:chOff x="2934000" y="4866840"/>
                        <a:chExt cx="492840" cy="24552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>
                          <a:off x="2934360" y="51123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flipH="1">
                          <a:off x="2934000" y="48668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6" name=""/>
                      <p:cNvSpPr/>
                      <p:nvPr/>
                    </p:nvSpPr>
                    <p:spPr>
                      <a:xfrm flipH="1">
                        <a:off x="2132640" y="49280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H="1">
                        <a:off x="2132640" y="50511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flipH="1">
                        <a:off x="1762920" y="51123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flipH="1">
                        <a:off x="1762920" y="48668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32640" y="4866840"/>
                      <a:ext cx="801360" cy="245520"/>
                      <a:chOff x="2132640" y="4866840"/>
                      <a:chExt cx="801360" cy="24552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93400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93400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3264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13264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1762920" y="4313880"/>
                    <a:ext cx="1663920" cy="245520"/>
                    <a:chOff x="1762920" y="4313880"/>
                    <a:chExt cx="1663920" cy="245520"/>
                  </a:xfrm>
                </p:grpSpPr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1762920" y="4313880"/>
                      <a:ext cx="1663920" cy="245520"/>
                      <a:chOff x="1762920" y="4313880"/>
                      <a:chExt cx="1663920" cy="245520"/>
                    </a:xfrm>
                  </p:grpSpPr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2934000" y="4313880"/>
                        <a:ext cx="492840" cy="245520"/>
                        <a:chOff x="2934000" y="4313880"/>
                        <a:chExt cx="492840" cy="245520"/>
                      </a:xfrm>
                    </p:grpSpPr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>
                          <a:off x="2934360" y="45594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>
                          <a:off x="2934000" y="4313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0" name=""/>
                      <p:cNvSpPr/>
                      <p:nvPr/>
                    </p:nvSpPr>
                    <p:spPr>
                      <a:xfrm flipH="1">
                        <a:off x="2132640" y="43750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 flipH="1">
                        <a:off x="2132640" y="44982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 flipH="1">
                        <a:off x="1762920" y="45594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 flipH="1">
                        <a:off x="1762920" y="4313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4" name=""/>
                    <p:cNvGrpSpPr/>
                    <p:nvPr/>
                  </p:nvGrpSpPr>
                  <p:grpSpPr>
                    <a:xfrm>
                      <a:off x="2132640" y="4313880"/>
                      <a:ext cx="801360" cy="245520"/>
                      <a:chOff x="2132640" y="4313880"/>
                      <a:chExt cx="801360" cy="245520"/>
                    </a:xfrm>
                  </p:grpSpPr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293400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293400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213264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213264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762920" y="3761280"/>
                    <a:ext cx="1663920" cy="245520"/>
                    <a:chOff x="1762920" y="3761280"/>
                    <a:chExt cx="1663920" cy="245520"/>
                  </a:xfrm>
                </p:grpSpPr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1762920" y="3761280"/>
                      <a:ext cx="1663920" cy="245520"/>
                      <a:chOff x="1762920" y="3761280"/>
                      <a:chExt cx="1663920" cy="245520"/>
                    </a:xfrm>
                  </p:grpSpPr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2934000" y="3761280"/>
                        <a:ext cx="492840" cy="245520"/>
                        <a:chOff x="2934000" y="3761280"/>
                        <a:chExt cx="492840" cy="24552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H="1">
                          <a:off x="2934360" y="40068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H="1">
                          <a:off x="2934000" y="37612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2132640" y="38224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2132640" y="39456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flipH="1">
                        <a:off x="1762920" y="40068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flipH="1">
                        <a:off x="1762920" y="37612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2132640" y="3761280"/>
                      <a:ext cx="801360" cy="245520"/>
                      <a:chOff x="2132640" y="3761280"/>
                      <a:chExt cx="801360" cy="245520"/>
                    </a:xfrm>
                  </p:grpSpPr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293400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293400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213264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213264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59360" y="1813680"/>
                <a:ext cx="4221720" cy="3710520"/>
                <a:chOff x="459360" y="1813680"/>
                <a:chExt cx="4221720" cy="371052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981000" y="1813680"/>
                  <a:ext cx="3105360" cy="3710520"/>
                  <a:chOff x="981000" y="1813680"/>
                  <a:chExt cx="3105360" cy="37105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981000" y="1813680"/>
                    <a:ext cx="432720" cy="1640880"/>
                    <a:chOff x="981000" y="1813680"/>
                    <a:chExt cx="432720" cy="164088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1125000" y="1813680"/>
                      <a:ext cx="288720" cy="1640880"/>
                      <a:chOff x="1125000" y="1813680"/>
                      <a:chExt cx="288720" cy="164088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 flipH="1">
                        <a:off x="112500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flipH="1">
                        <a:off x="112500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112500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981000" y="259812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981000" y="3882960"/>
                    <a:ext cx="432720" cy="1641240"/>
                    <a:chOff x="981000" y="3882960"/>
                    <a:chExt cx="432720" cy="164124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1125000" y="3882960"/>
                      <a:ext cx="288720" cy="1641240"/>
                      <a:chOff x="1125000" y="3882960"/>
                      <a:chExt cx="288720" cy="164124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 flipH="1">
                        <a:off x="112500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 flipH="1">
                        <a:off x="112500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112500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981000" y="473904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653640" y="3882960"/>
                    <a:ext cx="432720" cy="1641240"/>
                    <a:chOff x="3653640" y="3882960"/>
                    <a:chExt cx="432720" cy="16412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3653640" y="3882960"/>
                      <a:ext cx="288720" cy="1641240"/>
                      <a:chOff x="3653640" y="3882960"/>
                      <a:chExt cx="288720" cy="164124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365364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65364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394236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"/>
                    <p:cNvSpPr/>
                    <p:nvPr/>
                  </p:nvSpPr>
                  <p:spPr>
                    <a:xfrm flipH="1">
                      <a:off x="3942360" y="466776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653640" y="1813680"/>
                    <a:ext cx="432720" cy="1640880"/>
                    <a:chOff x="3653640" y="1813680"/>
                    <a:chExt cx="432720" cy="1640880"/>
                  </a:xfrm>
                </p:grpSpPr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3653640" y="1813680"/>
                      <a:ext cx="288720" cy="1640880"/>
                      <a:chOff x="3653640" y="1813680"/>
                      <a:chExt cx="288720" cy="164088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65364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65364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94236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3942360" y="266940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9" name=""/>
                <p:cNvSpPr/>
                <p:nvPr/>
              </p:nvSpPr>
              <p:spPr>
                <a:xfrm>
                  <a:off x="459360" y="24408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00040" y="4579920"/>
                  <a:ext cx="589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009680" y="45252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034520" y="2512440"/>
                  <a:ext cx="6210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1956600" y="914400"/>
              <a:ext cx="1122480" cy="276480"/>
              <a:chOff x="1956600" y="914400"/>
              <a:chExt cx="1122480" cy="276480"/>
            </a:xfrm>
          </p:grpSpPr>
          <p:sp>
            <p:nvSpPr>
              <p:cNvPr id="444" name=""/>
              <p:cNvSpPr/>
              <p:nvPr/>
            </p:nvSpPr>
            <p:spPr>
              <a:xfrm>
                <a:off x="1956600" y="91440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c0000"/>
                    </a:solidFill>
                    <a:latin typeface="Times New Roman"/>
                  </a:rPr>
                  <a:t>Power Forwa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36600" y="1171440"/>
                <a:ext cx="79416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5486400" y="1295280"/>
            <a:ext cx="1447200" cy="1600200"/>
            <a:chOff x="5486400" y="1295280"/>
            <a:chExt cx="1447200" cy="1600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295280"/>
              <a:ext cx="1447200" cy="1600200"/>
              <a:chOff x="5486400" y="1295280"/>
              <a:chExt cx="1447200" cy="1600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562360" y="1295280"/>
                <a:ext cx="1294920" cy="16002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6400" y="1600200"/>
                <a:ext cx="15192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86400" y="2438280"/>
                <a:ext cx="15192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1320" y="2438280"/>
                <a:ext cx="15228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1320" y="1600200"/>
                <a:ext cx="15228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715000" y="167652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912280" y="1721520"/>
              <a:ext cx="630000" cy="671400"/>
              <a:chOff x="5912280" y="1721520"/>
              <a:chExt cx="630000" cy="6714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5952240" y="1721520"/>
                <a:ext cx="590040" cy="5954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5912280" y="1761840"/>
                <a:ext cx="595440" cy="5896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912640" y="1762560"/>
                <a:ext cx="595080" cy="5900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52240" y="1797840"/>
                <a:ext cx="590040" cy="5950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715000" y="251460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640840" y="91440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wer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432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432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8804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804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048120"/>
            <a:ext cx="38862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Times New Roman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1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3 Connection Op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2 – J5  For Prime Transmit Tx1N – Tx4N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 – K5 For Prime Transmit Tx1P – T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sertion Loss And F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Remote Receive Rx1N – Rx4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Remote Receive Rx1P – R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Prime Receive Rx5N – Rx8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Prime Receive Rx5P – Rx8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47:21Z</dcterms:created>
  <dc:creator>dbrunker</dc:creator>
  <dc:description/>
  <dc:language>en-US</dc:language>
  <cp:lastModifiedBy>GOganessyan</cp:lastModifiedBy>
  <dcterms:modified xsi:type="dcterms:W3CDTF">2004-10-18T18:20:40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6307923</vt:r8>
  </property>
  <property fmtid="{D5CDD505-2E9C-101B-9397-08002B2CF9AE}" pid="3" name="_AuthorEmail">
    <vt:lpwstr>David.McCallum@molex.com</vt:lpwstr>
  </property>
  <property fmtid="{D5CDD505-2E9C-101B-9397-08002B2CF9AE}" pid="4" name="_AuthorEmailDisplayName">
    <vt:lpwstr>McCallum, David</vt:lpwstr>
  </property>
  <property fmtid="{D5CDD505-2E9C-101B-9397-08002B2CF9AE}" pid="5" name="_EmailSubject">
    <vt:lpwstr>IEEE S-parameter release</vt:lpwstr>
  </property>
  <property fmtid="{D5CDD505-2E9C-101B-9397-08002B2CF9AE}" pid="6" name="_PreviousAdHocReviewCycleID">
    <vt:r8>-379369206</vt:r8>
  </property>
</Properties>
</file>