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98B-4B36-4089-AF46-8DAF7FCA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C01-63A2-4747-A7EF-90EE476F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343-A25E-4A68-B63F-62A97CF4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BBA-2520-4CEB-B42F-9AAC192A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2DC-A6BE-4A47-ADA6-16517CD5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8DE-7110-428B-B501-0259B3A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76E-B011-4562-949A-B1706BB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89E-BD7C-4B92-9025-71E473D1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379-8FDD-489E-8C3E-4A6DAAAD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CA5-879F-4550-BCAA-4457C0DB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97F-74F1-45D7-BB00-0B2438F5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638-B711-419D-A86F-B3D5A950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85CE-88A0-43D6-93A9-DF13F4411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 communication statement to Q12/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Hugh Bar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ed: Richard B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3: Y: 71    N: 0              A: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2:02:43Z</dcterms:created>
  <dc:creator>Cisco User</dc:creator>
  <dc:description/>
  <dc:language>en-US</dc:language>
  <cp:lastModifiedBy>Hugh Barrass (hbarrass)</cp:lastModifiedBy>
  <dcterms:modified xsi:type="dcterms:W3CDTF">2003-07-24T23:54:35Z</dcterms:modified>
  <cp:revision>71</cp:revision>
  <dc:subject/>
  <dc:title>Editorial Report Vancouver Interim – January ‘03</dc:title>
</cp:coreProperties>
</file>