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7620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7620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840" y="175212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840" y="3976200"/>
            <a:ext cx="264816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6440" y="759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97620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752120"/>
            <a:ext cx="401364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76200"/>
            <a:ext cx="8224920" cy="20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95000"/>
              </a:lnSpc>
              <a:spcBef>
                <a:spcPts val="1250"/>
              </a:spcBef>
              <a:buClr>
                <a:srgbClr val="3333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>
              <a:lnSpc>
                <a:spcPct val="95000"/>
              </a:lnSpc>
              <a:spcBef>
                <a:spcPts val="1250"/>
              </a:spcBef>
              <a:buClr>
                <a:srgbClr val="990033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840">
              <a:lnSpc>
                <a:spcPct val="95000"/>
              </a:lnSpc>
              <a:spcBef>
                <a:spcPts val="1250"/>
              </a:spcBef>
              <a:buClr>
                <a:srgbClr val="990099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2092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2092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2092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7E96CF1-30C6-4021-9FCA-BBBB8A2FC367}" type="slidenum">
              <a:rPr b="0" lang="ja-JP" sz="9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3680" y="6603840"/>
            <a:ext cx="164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066680"/>
            <a:ext cx="8153280" cy="152640"/>
          </a:xfrm>
          <a:prstGeom prst="rect">
            <a:avLst/>
          </a:prstGeom>
          <a:gradFill rotWithShape="0">
            <a:gsLst>
              <a:gs pos="0">
                <a:srgbClr val="cbdffe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48520"/>
            <a:ext cx="8153280" cy="457200"/>
          </a:xfrm>
          <a:prstGeom prst="rect">
            <a:avLst/>
          </a:prstGeom>
          <a:gradFill rotWithShape="0">
            <a:gsLst>
              <a:gs pos="0">
                <a:srgbClr val="cbdffe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EE802.3ah EFM Task For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st 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440" y="265752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237580A-BB12-4215-8798-82966CBCCF16}" type="slidenum">
              <a:rPr b="0" lang="ja-JP" sz="9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248520"/>
            <a:ext cx="8153280" cy="457200"/>
          </a:xfrm>
          <a:prstGeom prst="rect">
            <a:avLst/>
          </a:prstGeom>
          <a:gradFill rotWithShape="0">
            <a:gsLst>
              <a:gs pos="0">
                <a:srgbClr val="cbdffe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EE802.3ah EFM Task For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st 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2" marL="855720" algn="ctr">
              <a:lnSpc>
                <a:spcPct val="95000"/>
              </a:lnSpc>
              <a:spcBef>
                <a:spcPts val="1125"/>
              </a:spcBef>
              <a:buClr>
                <a:srgbClr val="990033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990033"/>
              </a:solidFill>
              <a:latin typeface="Arial"/>
            </a:endParaRPr>
          </a:p>
          <a:p>
            <a:pPr lvl="3" marL="1131840" algn="ctr">
              <a:lnSpc>
                <a:spcPct val="95000"/>
              </a:lnSpc>
              <a:spcBef>
                <a:spcPts val="1125"/>
              </a:spcBef>
              <a:buClr>
                <a:srgbClr val="990099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990099"/>
              </a:solidFill>
              <a:latin typeface="Arial"/>
            </a:endParaRPr>
          </a:p>
          <a:p>
            <a:pPr lvl="4" marL="1420920" algn="ctr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20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209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666880"/>
            <a:ext cx="899172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FM OA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ding Violation Counters </a:t>
            </a:r>
            <a:br>
              <a:rPr sz="4800"/>
            </a:br>
            <a:br>
              <a:rPr sz="2000"/>
            </a:b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Ben Brown – AM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Violation Cou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BASE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efine a new 8B/10B coding violation counter that increments for all INVALID code-groups based on the running disparity rules and Tables 36-1 &amp; 36-2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6-bit counter supports a BER of 5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-4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without reaching a max value in 1 sec – 65535 / (125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) = 5.24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-4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– granularity is 10 bit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BASE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Define a new 4B/5B coding violation counter that increments for all INVALID code-groups, other than /H/, as defined in Table 24-1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6-bit counter supports a BER of 2.6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-3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without reaching a max value in 1 sec – 65535 / (25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) = 2.62x10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</a:rPr>
              <a:t>-3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– granularity is 5 bit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4000"/>
          </a:bodyPr>
          <a:p>
            <a:pPr marL="271440" indent="-27144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unters direct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Used by upper layer applications and directed test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X BER for Y time requires Z counter bits (see previous slide)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marL="271440" indent="-27144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thresholds &amp; ala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Eliminates polling by upper layer application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Ideal to detect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2" marL="8042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rrored Seconds (ES – a second with &gt;= 1 violation)</a:t>
            </a:r>
            <a:endParaRPr b="1" lang="en-US" sz="1800" spc="-1" strike="noStrike">
              <a:solidFill>
                <a:srgbClr val="990033"/>
              </a:solidFill>
              <a:latin typeface="Arial"/>
            </a:endParaRPr>
          </a:p>
          <a:p>
            <a:pPr lvl="2" marL="8042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everely Errored Seconds (SES – a second with &gt;= X violations)</a:t>
            </a:r>
            <a:endParaRPr b="1" lang="en-US" sz="1800" spc="-1" strike="noStrike">
              <a:solidFill>
                <a:srgbClr val="990033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Even better to track these over many seconds</a:t>
            </a:r>
            <a:endParaRPr b="1" lang="en-US" sz="1800" spc="-1" strike="noStrike">
              <a:solidFill>
                <a:srgbClr val="3333ff"/>
              </a:solidFill>
              <a:latin typeface="Arial"/>
            </a:endParaRPr>
          </a:p>
          <a:p>
            <a:pPr lvl="2" marL="80424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larm after Y Errored Seconds or Z Severely Errored Seconds</a:t>
            </a:r>
            <a:endParaRPr b="1" lang="en-US" sz="1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gets spec’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lemma is how much to standard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add the 2 counters but how wid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 threshold to look for S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n ES &amp; SES alarm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unters to count ES &amp; S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ES &amp; SES counter thresholds to generate alarm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440" y="759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24920" cy="425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1.1, only add Coding Violation Coun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250"/>
              </a:spcBef>
              <a:buClr>
                <a:srgbClr val="35c5ff"/>
              </a:buClr>
              <a:buSzPct val="15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comments and associated presentations to add supporting log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02:09:06Z</dcterms:created>
  <dc:creator>Ben Brown</dc:creator>
  <dc:description/>
  <dc:language>en-US</dc:language>
  <cp:lastModifiedBy>mattsquire</cp:lastModifiedBy>
  <cp:lastPrinted>2002-07-30T20:07:13Z</cp:lastPrinted>
  <dcterms:modified xsi:type="dcterms:W3CDTF">2002-10-07T14:09:08Z</dcterms:modified>
  <cp:revision>1198</cp:revision>
  <dc:subject>EFM OAM</dc:subject>
  <dc:title>Periodic Reporting of BER</dc:title>
</cp:coreProperties>
</file>