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816C-0D83-4849-9D94-6458934B8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3160" y="34531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AD23-1C4B-45D7-8674-F43A1BC08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5040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B37D-F07F-4BD2-A7ED-E75782664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6144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72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316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6144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72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FAAC-5F21-46A9-B3B3-7329CF62C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2800" y="154080"/>
            <a:ext cx="715644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5839-571E-4287-9970-57023D249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040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73160" y="34531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5040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6144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972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7316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6144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972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DFEB-B76E-4337-99B8-A38325F001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2800" y="154080"/>
            <a:ext cx="715644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040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73160" y="34531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5040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6144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9720" y="9457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7316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6144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9720" y="3453120"/>
            <a:ext cx="2750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E40EB-2C70-4C15-93E3-0C9932DA5A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ACEF-BFA2-433E-9EB6-0F5ECEFED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2800" y="154080"/>
            <a:ext cx="715644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5526-21BB-429E-BA95-490433DA1E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00E97-6520-441B-8316-FDFB0502F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0400" y="34531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0FB0F-E811-416C-A910-4EDB33A08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0400" y="945720"/>
            <a:ext cx="416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3160" y="3453120"/>
            <a:ext cx="8542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AB18-C144-40C8-922E-1A6DFE8A0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1" marL="574560" indent="-23328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2" marL="909720" indent="-22068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3" marL="125100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4" marL="1609560" indent="-24444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5" marL="1609560" indent="-244440">
              <a:spcBef>
                <a:spcPts val="2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6" marL="1609560" indent="-244440">
              <a:spcBef>
                <a:spcPts val="2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5268960" y="6515280"/>
            <a:ext cx="7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80808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98C6-48C2-4847-B9C2-86B9896E62E4}" type="slidenum">
              <a:rPr b="0" lang="ja-JP" sz="1100" spc="-1" strike="noStrike">
                <a:solidFill>
                  <a:srgbClr val="80808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11320" y="2176200"/>
            <a:ext cx="611496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224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201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87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7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3320"/>
            <a:chOff x="0" y="0"/>
            <a:chExt cx="9144000" cy="685332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42880" y="5533920"/>
              <a:ext cx="1924200" cy="85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367000" y="2309760"/>
            <a:ext cx="4410000" cy="178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51040" y="2176200"/>
            <a:ext cx="76960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UI Ad Hoc – Retimed Interface Specification Discus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11320" y="3688920"/>
            <a:ext cx="61149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yan.latchman@gennum.co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ots of the XLAUI / CA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433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Simple retimed interface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Chip to chip with the potential for 1 connector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1" marL="574560" indent="-233280">
              <a:spcBef>
                <a:spcPts val="249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jor reason for including the connector was modul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Desire to keep the XLAUI / CAUI interface simple without sacrificing broad market applicability and implementation flexibility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1" marL="574560" indent="-233280">
              <a:spcBef>
                <a:spcPts val="249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to chip and chip to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32400" y="1663560"/>
            <a:ext cx="4325760" cy="336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FBAB-F90A-44B6-9E9A-F0052D512D3C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 flipH="1">
            <a:off x="174240" y="2203560"/>
            <a:ext cx="1120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FP Based Modu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Retimed Interface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71680" y="1571760"/>
            <a:ext cx="2282760" cy="2446200"/>
          </a:xfrm>
          <a:prstGeom prst="rect">
            <a:avLst/>
          </a:prstGeom>
          <a:solidFill>
            <a:srgbClr val="1a8a1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4240" y="1684440"/>
            <a:ext cx="2036520" cy="1836720"/>
          </a:xfrm>
          <a:prstGeom prst="rect">
            <a:avLst/>
          </a:prstGeom>
          <a:solidFill>
            <a:srgbClr val="743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19440" y="2163600"/>
            <a:ext cx="160560" cy="174960"/>
          </a:xfrm>
          <a:prstGeom prst="rect">
            <a:avLst/>
          </a:prstGeom>
          <a:solidFill>
            <a:srgbClr val="f8e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25840" y="1690560"/>
            <a:ext cx="1046160" cy="6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635" y="18974"/>
                </a:moveTo>
                <a:lnTo>
                  <a:pt x="-1573" y="4288"/>
                </a:lnTo>
              </a:path>
              <a:path w="21600" h="21600">
                <a:moveTo>
                  <a:pt x="-1573" y="0"/>
                </a:moveTo>
                <a:lnTo>
                  <a:pt x="-1573" y="21600"/>
                </a:lnTo>
              </a:path>
            </a:pathLst>
          </a:custGeom>
          <a:solidFill>
            <a:srgbClr val="743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’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21240" y="3024360"/>
            <a:ext cx="160200" cy="174600"/>
          </a:xfrm>
          <a:prstGeom prst="rect">
            <a:avLst/>
          </a:prstGeom>
          <a:solidFill>
            <a:srgbClr val="f8e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44920" y="2730600"/>
            <a:ext cx="1046160" cy="63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176" y="12703"/>
                </a:moveTo>
                <a:lnTo>
                  <a:pt x="-1573" y="3859"/>
                </a:lnTo>
              </a:path>
              <a:path w="21600" h="21600">
                <a:moveTo>
                  <a:pt x="-1573" y="0"/>
                </a:moveTo>
                <a:lnTo>
                  <a:pt x="-1573" y="21600"/>
                </a:lnTo>
              </a:path>
            </a:pathLst>
          </a:custGeom>
          <a:solidFill>
            <a:srgbClr val="7430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F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’ Comp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9960" y="3728880"/>
            <a:ext cx="174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odule Compliance 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2880" y="35226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FP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2612160" y="1962360"/>
            <a:ext cx="779400" cy="39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x 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2693880" y="2823840"/>
            <a:ext cx="612720" cy="39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x 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112120" y="2772000"/>
            <a:ext cx="6015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1432440" y="2772000"/>
            <a:ext cx="62388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O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11280" y="3119400"/>
            <a:ext cx="26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90760" y="223524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1384200" y="1929960"/>
            <a:ext cx="695160" cy="504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O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3280" y="3065400"/>
            <a:ext cx="10130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25560" y="1603440"/>
            <a:ext cx="1263960" cy="1947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637000"/>
            <a:ext cx="420480" cy="406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1720" y="1792440"/>
            <a:ext cx="420840" cy="406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07040" y="4338720"/>
            <a:ext cx="4478040" cy="224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83360" y="4757760"/>
            <a:ext cx="434880" cy="1233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90960" y="4427640"/>
            <a:ext cx="110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24760" y="4784760"/>
            <a:ext cx="784080" cy="1233360"/>
          </a:xfrm>
          <a:prstGeom prst="ellipse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1680" y="4308480"/>
            <a:ext cx="110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1f08"/>
                </a:solidFill>
                <a:latin typeface="Arial"/>
              </a:rPr>
              <a:t>N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B1A1-9AE6-493D-8A0F-3EBE78243A36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160" y="154080"/>
            <a:ext cx="8012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vs. B’:  Eye Mask Before &amp; After Connector Assumed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9520" y="846000"/>
            <a:ext cx="6122880" cy="3125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3316320" y="3895560"/>
            <a:ext cx="5638680" cy="268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920" y="1146240"/>
            <a:ext cx="5994360" cy="149544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367080" y="4149720"/>
            <a:ext cx="5573880" cy="174132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21280" y="2641680"/>
            <a:ext cx="581040" cy="276120"/>
          </a:xfrm>
          <a:prstGeom prst="ellipse">
            <a:avLst/>
          </a:prstGeom>
          <a:noFill/>
          <a:ln w="9360">
            <a:solidFill>
              <a:srgbClr val="a211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05440" y="252576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1102"/>
                </a:solidFill>
                <a:latin typeface="Arial"/>
              </a:rPr>
              <a:t>Not Applic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40600" y="270036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120" y="4689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1102"/>
                </a:solidFill>
                <a:latin typeface="Arial"/>
              </a:rPr>
              <a:t>Jitter Toleranc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7040" y="500688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4BA0-249D-4FE5-8FD3-6F43FAA8B131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160" y="154080"/>
            <a:ext cx="8012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vs. C’:  Eye Mask Before &amp; After Connector Assumed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200" y="1000080"/>
            <a:ext cx="5918400" cy="27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270160" y="3863880"/>
            <a:ext cx="6670800" cy="2652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33360" y="1015920"/>
            <a:ext cx="5850000" cy="239544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06520" y="3816360"/>
            <a:ext cx="6561360" cy="236520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32720" y="1989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1102"/>
                </a:solidFill>
                <a:latin typeface="Arial"/>
              </a:rPr>
              <a:t>Jitter Tolerance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7520" y="2163600"/>
            <a:ext cx="63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AEAD-FD08-4C57-A49A-1BD12F953AC0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3160" y="154080"/>
            <a:ext cx="8361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vs. B’:  Electrical Before &amp; After Connector Assumed Sa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1080" y="892080"/>
            <a:ext cx="5919840" cy="2793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56040" y="3594240"/>
            <a:ext cx="5875200" cy="3149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7440" y="928800"/>
            <a:ext cx="5951520" cy="240984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92480" y="3606840"/>
            <a:ext cx="5951520" cy="248292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21640" y="6095880"/>
            <a:ext cx="581040" cy="363600"/>
          </a:xfrm>
          <a:prstGeom prst="ellipse">
            <a:avLst/>
          </a:prstGeom>
          <a:noFill/>
          <a:ln w="9360">
            <a:solidFill>
              <a:srgbClr val="a211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51F1-7529-4B6D-9FEC-1DDB029B3710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3160" y="154080"/>
            <a:ext cx="86500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vs. C’:  Electrical Before &amp; After Connector Assumed S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930240"/>
            <a:ext cx="5281560" cy="311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629160" y="3733920"/>
            <a:ext cx="5514840" cy="3124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397320" y="3425760"/>
            <a:ext cx="581040" cy="363600"/>
          </a:xfrm>
          <a:prstGeom prst="ellipse">
            <a:avLst/>
          </a:prstGeom>
          <a:noFill/>
          <a:ln w="9360">
            <a:solidFill>
              <a:srgbClr val="a211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942840"/>
            <a:ext cx="5427720" cy="248292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16280" y="3772080"/>
            <a:ext cx="5427720" cy="2584440"/>
          </a:xfrm>
          <a:prstGeom prst="rect">
            <a:avLst/>
          </a:prstGeom>
          <a:noFill/>
          <a:ln w="38160">
            <a:solidFill>
              <a:srgbClr val="fc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2F0-A43A-49AB-8CCF-2B6976E4105B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2800" y="154080"/>
            <a:ext cx="71564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LAUI / CAUI Spec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3160" y="945720"/>
            <a:ext cx="8542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Keep concept of simple retimed interface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1" marL="574560" indent="-233280">
              <a:spcBef>
                <a:spcPts val="249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to chip or chip to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249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A based chip-module implementation not prev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220680">
              <a:spcBef>
                <a:spcPts val="224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the connector allowance for nAUI is used by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275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43030"/>
                </a:solidFill>
                <a:latin typeface="Arial"/>
              </a:rPr>
              <a:t>Questions:</a:t>
            </a:r>
            <a:endParaRPr b="0" lang="en-US" sz="2200" spc="-1" strike="noStrike">
              <a:solidFill>
                <a:srgbClr val="743030"/>
              </a:solidFill>
              <a:latin typeface="Arial"/>
            </a:endParaRPr>
          </a:p>
          <a:p>
            <a:pPr lvl="1" marL="574560" indent="-233280">
              <a:spcBef>
                <a:spcPts val="249"/>
              </a:spcBef>
              <a:buClr>
                <a:srgbClr val="74303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 specifications within the draft flexible enough to allow both implementations?  If not what do we need t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220680">
              <a:spcBef>
                <a:spcPts val="224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, Return-loss, channel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220680">
              <a:spcBef>
                <a:spcPts val="224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 and Rx evaluation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220680">
              <a:spcBef>
                <a:spcPts val="224"/>
              </a:spcBef>
              <a:buClr>
                <a:srgbClr val="74303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7432-96F6-40E0-B0F9-DE09ED2A7A1D}" type="slidenum">
              <a:t>8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2:08:25Z</dcterms:created>
  <dc:creator/>
  <dc:description/>
  <cp:keywords/>
  <dc:language>en-US</dc:language>
  <cp:lastModifiedBy>ryan_l</cp:lastModifiedBy>
  <dcterms:modified xsi:type="dcterms:W3CDTF">2008-12-23T18:05:58Z</dcterms:modified>
  <cp:revision>340</cp:revision>
  <dc:subject/>
  <dc:title>Click to Add Presentation Title Second Line Op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