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23D92-8993-42A8-B6FC-F3898269C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454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854880"/>
            <a:ext cx="8454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AEC8B-0863-40B0-8B9B-D20F5171B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5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4125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854880"/>
            <a:ext cx="4125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520" y="3854880"/>
            <a:ext cx="4125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250B5-FB8A-4536-BBDA-04088C324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22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3680" y="1371240"/>
            <a:ext cx="2722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440" y="1371240"/>
            <a:ext cx="2722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854880"/>
            <a:ext cx="2722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3680" y="3854880"/>
            <a:ext cx="2722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440" y="3854880"/>
            <a:ext cx="2722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EA9B5-6FBA-493D-BA3D-41C8122B50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45496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BCC17-A36B-4798-917F-125697AA5A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4549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A1540-AD1E-42CE-8889-F6E3E1C6C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59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41259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11607-6C04-4902-B58F-58D3CA7FA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E4349-2763-40DD-BC65-DD161A847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6F701-C5BB-447D-A5BF-0AB3F1C63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5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41259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854880"/>
            <a:ext cx="4125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EF02F-D1AD-450E-87F5-38B65E007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59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4125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520" y="3854880"/>
            <a:ext cx="4125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4A52A-349A-4EA1-941E-E490FD434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5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520" y="1371240"/>
            <a:ext cx="4125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854880"/>
            <a:ext cx="8454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E502A-5BE4-411C-948C-2E4B92CC5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4549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1066680"/>
            <a:ext cx="8458200" cy="152640"/>
          </a:xfrm>
          <a:prstGeom prst="rect">
            <a:avLst/>
          </a:prstGeom>
          <a:gradFill rotWithShape="0">
            <a:gsLst>
              <a:gs pos="0">
                <a:srgbClr val="9900ff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248520"/>
            <a:ext cx="8534160" cy="457200"/>
          </a:xfrm>
          <a:prstGeom prst="rect">
            <a:avLst/>
          </a:prstGeom>
          <a:gradFill rotWithShape="0">
            <a:gsLst>
              <a:gs pos="0">
                <a:srgbClr val="9900ff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2247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EE 802.3 RE S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 Antonio November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9040" y="632412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E9DE-963C-4EA2-898E-AD042B1C63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6286680"/>
            <a:ext cx="109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ly  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1960" y="1857240"/>
            <a:ext cx="779940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idential Etherne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ynchronization Schem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39200" y="3534840"/>
            <a:ext cx="8340840" cy="1798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ceu Cavendish,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D6296-D7B5-46DC-A28E-F366B8DB1C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ck Synchronization Ty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4549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-synchronous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devices are clocked from a common click or Primary Reference Clock (PRC).PRC and clock distribution scheme re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X and RX are clocked independent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p buffers are used to smooth out any clock differences. Slow slip rate required. Network jitter has no effect on destination c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X derives an estimate of the transmitter clock from the received data stream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L required to slave receiver clock to the master clock. Packet network jitter has a direct effect on clock estimatio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C93F1-919E-4920-8DA1-A65C25F55F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Stamp Clock Synchro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1168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ommon network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stamp send periodically between TX and R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 is smaller than smallest block size of data stre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2560" y="2828880"/>
            <a:ext cx="1332000" cy="121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9560" y="3092400"/>
            <a:ext cx="771480" cy="37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8720" y="3089160"/>
            <a:ext cx="1114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p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87480" y="3589200"/>
            <a:ext cx="771480" cy="37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1960" y="3584520"/>
            <a:ext cx="111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2160" y="4610160"/>
            <a:ext cx="1025280" cy="37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7440" y="4660920"/>
            <a:ext cx="7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cill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66800" y="4606920"/>
            <a:ext cx="1025640" cy="37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57440" y="465768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lse cou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7440" y="478620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81280" y="4782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0200" y="4400640"/>
            <a:ext cx="341280" cy="320760"/>
          </a:xfrm>
          <a:custGeom>
            <a:avLst/>
            <a:gdLst/>
            <a:ahLst/>
            <a:rect l="l" t="t" r="r" b="b"/>
            <a:pathLst>
              <a:path w="215" h="202">
                <a:moveTo>
                  <a:pt x="0" y="202"/>
                </a:moveTo>
                <a:lnTo>
                  <a:pt x="0" y="139"/>
                </a:lnTo>
                <a:lnTo>
                  <a:pt x="69" y="146"/>
                </a:lnTo>
                <a:lnTo>
                  <a:pt x="69" y="77"/>
                </a:lnTo>
                <a:lnTo>
                  <a:pt x="145" y="77"/>
                </a:lnTo>
                <a:lnTo>
                  <a:pt x="145" y="0"/>
                </a:lnTo>
                <a:lnTo>
                  <a:pt x="2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173240" y="457632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292400" y="457308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411200" y="457056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530360" y="456732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loud"/>
          <p:cNvSpPr/>
          <p:nvPr/>
        </p:nvSpPr>
        <p:spPr>
          <a:xfrm>
            <a:off x="3225960" y="2700360"/>
            <a:ext cx="2306520" cy="15462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47320" y="314784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06640" y="3454560"/>
            <a:ext cx="1231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537160" y="3454200"/>
            <a:ext cx="1346400" cy="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80320" y="2803680"/>
            <a:ext cx="1331640" cy="121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3168720"/>
            <a:ext cx="733680" cy="22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46760" y="2784600"/>
            <a:ext cx="1114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i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84880" y="3564000"/>
            <a:ext cx="771840" cy="37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16760" y="3546360"/>
            <a:ext cx="1114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35840" y="31622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37360" y="31748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31748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81960" y="31748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80440" y="31748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78560" y="31748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4920" y="328464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5486400"/>
            <a:ext cx="291960" cy="291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67440" y="5430960"/>
            <a:ext cx="771480" cy="37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72040" y="4762440"/>
            <a:ext cx="1025640" cy="37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01200" y="481320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CO or D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7040" y="4759200"/>
            <a:ext cx="1025640" cy="37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37320" y="480996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lse cou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97680" y="493884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61520" y="49356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650440" y="4552920"/>
            <a:ext cx="341280" cy="320760"/>
          </a:xfrm>
          <a:custGeom>
            <a:avLst/>
            <a:gdLst/>
            <a:ahLst/>
            <a:rect l="l" t="t" r="r" b="b"/>
            <a:pathLst>
              <a:path w="215" h="202">
                <a:moveTo>
                  <a:pt x="0" y="202"/>
                </a:moveTo>
                <a:lnTo>
                  <a:pt x="0" y="139"/>
                </a:lnTo>
                <a:lnTo>
                  <a:pt x="69" y="146"/>
                </a:lnTo>
                <a:lnTo>
                  <a:pt x="69" y="77"/>
                </a:lnTo>
                <a:lnTo>
                  <a:pt x="145" y="77"/>
                </a:lnTo>
                <a:lnTo>
                  <a:pt x="145" y="0"/>
                </a:lnTo>
                <a:lnTo>
                  <a:pt x="2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7053120" y="472932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172280" y="472608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291440" y="47228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410600" y="471924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75320" y="4940280"/>
            <a:ext cx="3174840" cy="1003320"/>
          </a:xfrm>
          <a:custGeom>
            <a:avLst/>
            <a:gdLst/>
            <a:ahLst/>
            <a:rect l="l" t="t" r="r" b="b"/>
            <a:pathLst>
              <a:path w="2000" h="632">
                <a:moveTo>
                  <a:pt x="2000" y="0"/>
                </a:moveTo>
                <a:lnTo>
                  <a:pt x="2000" y="632"/>
                </a:lnTo>
                <a:lnTo>
                  <a:pt x="0" y="632"/>
                </a:lnTo>
                <a:lnTo>
                  <a:pt x="0" y="5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16520" y="56466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465960" y="5125680"/>
            <a:ext cx="6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6440" y="5634000"/>
            <a:ext cx="37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50880" y="5319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19720" y="5675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92560" y="4610160"/>
            <a:ext cx="3835440" cy="1447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5200" y="471024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82960" y="3225960"/>
            <a:ext cx="342720" cy="12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24160" y="321300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65360" y="3225960"/>
            <a:ext cx="343080" cy="12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06560" y="321300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13480" y="3225960"/>
            <a:ext cx="342720" cy="12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54680" y="321300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225960"/>
            <a:ext cx="343080" cy="12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37440" y="321300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0120" y="5079960"/>
            <a:ext cx="4226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X &amp; RX clock frequency dr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cketization at 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jitter (queueing, mux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86360" y="5413320"/>
            <a:ext cx="1114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152960"/>
            <a:ext cx="3378240" cy="952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8FC9-A109-4C65-B0CF-06F1E452C0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Stamp Clock Synch-PLL algo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85840" y="1305000"/>
            <a:ext cx="1762200" cy="387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09960" y="1355760"/>
            <a:ext cx="174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t Loop filter parame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98800" y="1838160"/>
            <a:ext cx="1761840" cy="66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14720" y="1889280"/>
            <a:ext cx="1557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itialize vari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ror: e(0) =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ter output: Nerr(0)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54200" y="2651040"/>
            <a:ext cx="2727360" cy="806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92280" y="2701800"/>
            <a:ext cx="2765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rival of first transmitter timesta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rival index: n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e timestamp value: T(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e receiver counter value at arrival: R(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01920" y="3641760"/>
            <a:ext cx="3057480" cy="806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54760" y="3692520"/>
            <a:ext cx="3071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rival of next Kth (K&gt;=1) transmitter timesta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rival index: n=n+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e timestamp value: T(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e receiver counter value at arrival: R(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9920" y="4568760"/>
            <a:ext cx="3921120" cy="819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21320" y="4619520"/>
            <a:ext cx="397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asure time interval between current and previous timesta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e.g. in clock cycl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mitter interval measurement:   T(n): T(n) – T(n-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er interval measurementl:   R(n) = R(n) – R(n-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82920" y="488484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55840" y="503712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02240" y="4975200"/>
            <a:ext cx="2701800" cy="69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80640" y="5025960"/>
            <a:ext cx="268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ute error in transmitter and 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stamp measu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(n) =   T(n) -   R(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9600" y="530388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38640" y="530388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21280" y="4175280"/>
            <a:ext cx="1825560" cy="47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85720" y="4213080"/>
            <a:ext cx="1774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ute loop filter 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corr(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29320" y="3121200"/>
            <a:ext cx="2448000" cy="806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32200" y="3184560"/>
            <a:ext cx="2460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CO Inpu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dco(n) = Nnom – Round[KoNcorr(n)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CO Inpu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(n) = Ncorr(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97360" y="1689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09960" y="2514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22560" y="3454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35160" y="44449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35160" y="5397480"/>
            <a:ext cx="3886200" cy="533520"/>
          </a:xfrm>
          <a:custGeom>
            <a:avLst/>
            <a:gdLst/>
            <a:ahLst/>
            <a:rect l="l" t="t" r="r" b="b"/>
            <a:pathLst>
              <a:path w="2448" h="336">
                <a:moveTo>
                  <a:pt x="0" y="0"/>
                </a:moveTo>
                <a:lnTo>
                  <a:pt x="0" y="336"/>
                </a:lnTo>
                <a:lnTo>
                  <a:pt x="2448" y="336"/>
                </a:lnTo>
                <a:lnTo>
                  <a:pt x="2448" y="176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908760" y="464832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896160" y="3936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59400" y="3505320"/>
            <a:ext cx="1066680" cy="546120"/>
          </a:xfrm>
          <a:custGeom>
            <a:avLst/>
            <a:gdLst/>
            <a:ahLst/>
            <a:rect l="l" t="t" r="r" b="b"/>
            <a:pathLst>
              <a:path w="672" h="344">
                <a:moveTo>
                  <a:pt x="672" y="0"/>
                </a:moveTo>
                <a:lnTo>
                  <a:pt x="360" y="0"/>
                </a:lnTo>
                <a:lnTo>
                  <a:pt x="360" y="344"/>
                </a:lnTo>
                <a:lnTo>
                  <a:pt x="0" y="3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7120" y="5938920"/>
            <a:ext cx="427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“CES over Ethernet: Part 1: Clock synchronization using timestamps”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. Aweya, M. Ouellette, D. Y. Montuno, K. Felske, Int. Journal of Net. Mgm., 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4F17F-6DAF-4EB1-8073-86130FD539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load playout with recovered c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19360" y="1324080"/>
            <a:ext cx="155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ize of bound on delay vari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62280" y="2644920"/>
            <a:ext cx="1114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stamp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612800" y="2450880"/>
            <a:ext cx="1155960" cy="1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34000" y="1773360"/>
            <a:ext cx="860400" cy="590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8480" y="1755720"/>
            <a:ext cx="111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y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90840" y="3238560"/>
            <a:ext cx="292320" cy="291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92320" y="3208320"/>
            <a:ext cx="771480" cy="37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71720" y="3398760"/>
            <a:ext cx="53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76560" y="2052720"/>
            <a:ext cx="75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06080" y="3071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24160" y="3503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11240" y="3254400"/>
            <a:ext cx="111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57600" y="1898640"/>
            <a:ext cx="250560" cy="37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65520" y="2281320"/>
            <a:ext cx="250560" cy="37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98800" y="1898640"/>
            <a:ext cx="250920" cy="37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06720" y="2281320"/>
            <a:ext cx="250920" cy="37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0" y="1898640"/>
            <a:ext cx="250920" cy="37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7920" y="2281320"/>
            <a:ext cx="250920" cy="37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81560" y="1898640"/>
            <a:ext cx="250560" cy="37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281320"/>
            <a:ext cx="250560" cy="37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22760" y="1898640"/>
            <a:ext cx="250920" cy="37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30680" y="2281320"/>
            <a:ext cx="250920" cy="37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27000" y="2031840"/>
            <a:ext cx="181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0120" y="1768320"/>
            <a:ext cx="111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55720" y="1768320"/>
            <a:ext cx="111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55720" y="2543040"/>
            <a:ext cx="111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2031840"/>
            <a:ext cx="469800" cy="1359000"/>
          </a:xfrm>
          <a:custGeom>
            <a:avLst/>
            <a:gdLst/>
            <a:ahLst/>
            <a:rect l="l" t="t" r="r" b="b"/>
            <a:pathLst>
              <a:path w="296" h="856">
                <a:moveTo>
                  <a:pt x="0" y="0"/>
                </a:moveTo>
                <a:lnTo>
                  <a:pt x="0" y="856"/>
                </a:lnTo>
                <a:lnTo>
                  <a:pt x="296" y="8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543480" y="3517560"/>
            <a:ext cx="0" cy="57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16080" y="4041720"/>
            <a:ext cx="111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itter off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08440" y="2763720"/>
            <a:ext cx="911160" cy="37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03680" y="2809800"/>
            <a:ext cx="111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a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75120" y="2476440"/>
            <a:ext cx="711360" cy="381240"/>
          </a:xfrm>
          <a:custGeom>
            <a:avLst/>
            <a:gdLst/>
            <a:ahLst/>
            <a:rect l="l" t="t" r="r" b="b"/>
            <a:pathLst>
              <a:path w="448" h="240">
                <a:moveTo>
                  <a:pt x="0" y="0"/>
                </a:moveTo>
                <a:lnTo>
                  <a:pt x="224" y="0"/>
                </a:lnTo>
                <a:lnTo>
                  <a:pt x="224" y="240"/>
                </a:lnTo>
                <a:lnTo>
                  <a:pt x="448" y="2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83160" y="3086280"/>
            <a:ext cx="990360" cy="291960"/>
          </a:xfrm>
          <a:custGeom>
            <a:avLst/>
            <a:gdLst/>
            <a:ahLst/>
            <a:rect l="l" t="t" r="r" b="b"/>
            <a:pathLst>
              <a:path w="616" h="184">
                <a:moveTo>
                  <a:pt x="0" y="184"/>
                </a:moveTo>
                <a:lnTo>
                  <a:pt x="416" y="184"/>
                </a:lnTo>
                <a:lnTo>
                  <a:pt x="416" y="0"/>
                </a:lnTo>
                <a:lnTo>
                  <a:pt x="61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003640" y="23749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76440" y="2374920"/>
            <a:ext cx="3365640" cy="2095560"/>
          </a:xfrm>
          <a:custGeom>
            <a:avLst/>
            <a:gdLst/>
            <a:ahLst/>
            <a:rect l="l" t="t" r="r" b="b"/>
            <a:pathLst>
              <a:path w="2120" h="1320">
                <a:moveTo>
                  <a:pt x="0" y="760"/>
                </a:moveTo>
                <a:lnTo>
                  <a:pt x="0" y="1320"/>
                </a:lnTo>
                <a:lnTo>
                  <a:pt x="2120" y="1320"/>
                </a:lnTo>
                <a:lnTo>
                  <a:pt x="2120" y="152"/>
                </a:lnTo>
                <a:lnTo>
                  <a:pt x="1760" y="152"/>
                </a:lnTo>
                <a:lnTo>
                  <a:pt x="176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94000" y="4460760"/>
            <a:ext cx="157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er Frequency (bit tim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9720" y="2065320"/>
            <a:ext cx="75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6171-A522-4811-90AC-1D84A8BB82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DF1B9-A045-497A-ADC9-F56887E0C4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01:28:01Z</dcterms:created>
  <dc:creator>Sync-E CFI Team</dc:creator>
  <dc:description/>
  <cp:keywords>Sync-E CFI Ethernet 802.3 July 2004</cp:keywords>
  <dc:language>en-US</dc:language>
  <cp:lastModifiedBy>dirceu</cp:lastModifiedBy>
  <cp:lastPrinted>2004-04-14T00:56:29Z</cp:lastPrinted>
  <dcterms:modified xsi:type="dcterms:W3CDTF">2004-11-12T20:15:59Z</dcterms:modified>
  <cp:revision>477</cp:revision>
  <dc:subject>Sync-E CFI</dc:subject>
  <dc:title>Sync-E Call for Interest</dc:title>
</cp:coreProperties>
</file>