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7E7339-5426-42DF-A9EA-974D5A4A2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8920" y="742680"/>
            <a:ext cx="66196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06C5C8-36E9-4C3F-BA29-D5526A69BC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A3B354-238D-4936-9337-EEA7DB9023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8920" y="743040"/>
            <a:ext cx="6621480" cy="3725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4680" y="47178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8388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2982600"/>
            <a:ext cx="8388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36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1360" y="109008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7440" y="109008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298260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1360" y="298260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7440" y="298260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8880" y="171360"/>
            <a:ext cx="68277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36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2982600"/>
            <a:ext cx="8388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8388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2982600"/>
            <a:ext cx="8388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36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1360" y="109008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7440" y="109008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298260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1360" y="298260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7440" y="2982600"/>
            <a:ext cx="270072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8880" y="171360"/>
            <a:ext cx="68277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3680" y="298260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3680" y="1090080"/>
            <a:ext cx="40932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2982600"/>
            <a:ext cx="8388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4"/>
          <p:cNvSpPr/>
          <p:nvPr/>
        </p:nvSpPr>
        <p:spPr>
          <a:xfrm>
            <a:off x="7920" y="4780080"/>
            <a:ext cx="6168960" cy="242640"/>
          </a:xfrm>
          <a:custGeom>
            <a:avLst/>
            <a:gdLst>
              <a:gd name="textAreaLeft" fmla="*/ 0 w 6168960"/>
              <a:gd name="textAreaRight" fmla="*/ 6169320 w 61689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1" y="0"/>
                </a:lnTo>
                <a:lnTo>
                  <a:pt x="21600" y="10800"/>
                </a:lnTo>
                <a:lnTo>
                  <a:pt x="208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2af2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3"/>
          <p:cNvSpPr/>
          <p:nvPr/>
        </p:nvSpPr>
        <p:spPr>
          <a:xfrm>
            <a:off x="-44280" y="4795920"/>
            <a:ext cx="3630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AN#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4091400" y="247824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3GPP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3GPP_TM_RD.jpg"/>
          <p:cNvPicPr/>
          <p:nvPr/>
        </p:nvPicPr>
        <p:blipFill>
          <a:blip r:embed="rId3"/>
          <a:stretch/>
        </p:blipFill>
        <p:spPr>
          <a:xfrm>
            <a:off x="7574040" y="230040"/>
            <a:ext cx="1187280" cy="690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6"/>
          <p:cNvSpPr/>
          <p:nvPr/>
        </p:nvSpPr>
        <p:spPr>
          <a:xfrm>
            <a:off x="7445160" y="4846680"/>
            <a:ext cx="81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 3GPP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8308800" y="4773600"/>
            <a:ext cx="609840" cy="314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F941-D175-4932-A0FF-0F84032637E7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4"/>
          <p:cNvSpPr/>
          <p:nvPr/>
        </p:nvSpPr>
        <p:spPr>
          <a:xfrm>
            <a:off x="7920" y="4780080"/>
            <a:ext cx="6168960" cy="242640"/>
          </a:xfrm>
          <a:custGeom>
            <a:avLst/>
            <a:gdLst>
              <a:gd name="textAreaLeft" fmla="*/ 0 w 6168960"/>
              <a:gd name="textAreaRight" fmla="*/ 6169320 w 61689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1" y="0"/>
                </a:lnTo>
                <a:lnTo>
                  <a:pt x="21600" y="10800"/>
                </a:lnTo>
                <a:lnTo>
                  <a:pt x="208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2af2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-44280" y="4795920"/>
            <a:ext cx="3630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AN#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4091400" y="247824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3GPP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3GPP_TM_RD.jpg"/>
          <p:cNvPicPr/>
          <p:nvPr/>
        </p:nvPicPr>
        <p:blipFill>
          <a:blip r:embed="rId2"/>
          <a:stretch/>
        </p:blipFill>
        <p:spPr>
          <a:xfrm>
            <a:off x="7574040" y="230040"/>
            <a:ext cx="1187280" cy="690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6"/>
          <p:cNvSpPr/>
          <p:nvPr/>
        </p:nvSpPr>
        <p:spPr>
          <a:xfrm>
            <a:off x="7445160" y="4846680"/>
            <a:ext cx="81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 3GPP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8308800" y="4773600"/>
            <a:ext cx="609840" cy="314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E13-EB40-4644-B9D1-FC591512D62A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bubbles_ppt_cover.png"/>
          <p:cNvPicPr/>
          <p:nvPr/>
        </p:nvPicPr>
        <p:blipFill>
          <a:blip r:embed="rId3"/>
          <a:stretch/>
        </p:blipFill>
        <p:spPr>
          <a:xfrm>
            <a:off x="169920" y="0"/>
            <a:ext cx="3859200" cy="4748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1976400"/>
            <a:ext cx="746604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2900"/>
            </a:b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n LAA capabilities &amp; scope</a:t>
            </a:r>
            <a:br>
              <a:rPr sz="2900"/>
            </a:br>
            <a:br>
              <a:rPr sz="2500"/>
            </a:b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57200" y="287928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o Fl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hairman of 3GPP R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Qualcomm Technologies In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19520" y="4408560"/>
            <a:ext cx="4201920" cy="7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EEE LS in RP-150543 contains questions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A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olution developed by the LTE-U Forum, aka LTE-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bove and the questions received during the presentations to IEEE and Wi-Fi Alliance reflect some industry confusions on the 3GPP LAA capabilities &amp; sco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goal of this document is to clarify these asp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A capabilities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1 provided an interlocutory answer in RP-150551 to the IEEE questions related to the LAA capabilities, but doubts still remain outside 3GPP given that the detailed capabilities are discussed at end of the re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, from general 3GPP release perspective features are typically made optional or mandatory with an IoT bit, to allow phased deployment of the features in the mar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has led some outside 3GPP to legitimately wonder what will happen when 3GPP defines the new 5 GHz band(s). Will it be possible to have 3GPP release-13 compliant products that operates in this band but do not support the LAA featur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nswer to the above question is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A capabilities (cont’d)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85280" y="1090080"/>
            <a:ext cx="83883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 current agreement 3GPP is committed to develop a single, global, solution addressing the regulatory constraints of the different reg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eans that 3GPP will mandate support of the essential LAA coexistence features in eNBs/UEs accessing the newly defined 5GHz unlicensed band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essential LAA coexistence features will be the ones recommended by WGs to address the requirements of the various reg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se will include the recommended scheme for LBT,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iscontinuous transmission with limited maximum transmission duration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tc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ailed coding of the above in the specs will be done when LAA is finalized and features are added in the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t 3GPP specs have multiple examples of features mandated for specific ban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880" y="171360"/>
            <a:ext cx="6827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A scope &amp; LTE-U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5280" y="1090080"/>
            <a:ext cx="838836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prietary coexistence mechanisms developed by the LTE-U Forum for the US market, aka LTE-U, have not been evaluated by 3GP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such LTE-U is not in scope of the current 3GPP LAA work and 3GPP cannot express any opinion on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9:32:10Z</dcterms:created>
  <dc:creator>Scrase</dc:creator>
  <dc:description>© 2009  All rights reserved</dc:description>
  <dc:language>en-US</dc:language>
  <cp:lastModifiedBy>Flore, Dino</cp:lastModifiedBy>
  <dcterms:modified xsi:type="dcterms:W3CDTF">2015-06-18T11:28:19Z</dcterms:modified>
  <cp:revision>879</cp:revision>
  <dc:subject/>
  <dc:title>Presentation title</dc:title>
</cp:coreProperties>
</file>