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BBC3-621B-442C-BAFA-7AD648E9C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6A25-E436-4972-8B7E-26CB2C37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0574-8AC0-4A2F-A2A6-5A4C68A5E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A9E9-A8C2-4670-8312-79CB96B59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E0CA-0DEC-4273-98B7-7E66C31A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25CF-2529-40B7-BC32-CB53A785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E65A-9E14-4264-9F59-FCEC5292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B480-97B2-4FA9-8BBA-3D05A112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BD19-945C-444D-8941-01F6A02A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B797-012D-42D2-9F13-F6BA0D29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DF0F-D5F3-484E-BC5B-A438218C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A8F2-492E-40EA-B967-4E3853E9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B78B-16E7-461B-AD5F-38A8D7300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EE 802 Ombuds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rganizational ombudsm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confidential and informal information resource, communications channel, complaint-handler and dispute-resolver, and a person who helps an organization work for chan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 is to foster values and decent behavior -fairness, justice, equality of opportunity and re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designated neutral within an organization and usually reports at or near the top of that organization, outside ordinary management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EE 802 Ombuds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ic Options, Functions and Ski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ning impar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ing and Receiv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aming Issues and Develop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ing People Help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- Third Party Intervention and Diplom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ing into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ing 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igation and Adjudication or Formal Appe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EE 802 Ombuds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of 1 August 2006, contact inform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ombudsman@ieee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4T21:42:44Z</dcterms:created>
  <dc:creator>Bob O'Hara</dc:creator>
  <dc:description/>
  <dc:language>en-US</dc:language>
  <cp:lastModifiedBy>Bob O'Hara</cp:lastModifiedBy>
  <dcterms:modified xsi:type="dcterms:W3CDTF">2006-08-14T21:43:09Z</dcterms:modified>
  <cp:revision>1</cp:revision>
  <dc:subject/>
  <dc:title>IEEE 802 Ombudsman</dc:title>
</cp:coreProperties>
</file>