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87FA-0CF4-41E0-85E0-82529B9CE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640" y="135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7640" y="350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D4A7-F739-4EEE-9CD1-4BA3B7822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35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135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47640" y="350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0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8C91-2706-4410-80A6-67F19A147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7640" y="135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5640" y="135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03280" y="135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47640" y="350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5640" y="350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03280" y="350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E430-A50C-4D0B-84F2-8C5EA1899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4F1-4303-41B2-83BC-2C0A8A2083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7640" y="135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AD6-5964-4F39-8621-0A68FB70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7640" y="135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E0F6-30C1-4403-ADBF-69B4DBC3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7640" y="135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0320" y="135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A22-1861-4B75-BA54-DE38704E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176-C44D-4AEC-BD9C-BCB7DE16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55680" y="126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657-A3F9-4C70-BE2F-1D9CC646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640" y="135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0320" y="135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7640" y="350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F1F-212F-464A-98DA-C05D908A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47640" y="135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DE48-AE4A-406B-82C2-863BA3297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7640" y="135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0320" y="135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0320" y="350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1CE-4BD8-47F8-A777-7CBB4D6E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640" y="135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0320" y="135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7640" y="350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DB7-B621-4CBF-B45A-BDF6B88F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35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7640" y="350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35F-3ED7-43C1-8BE0-64FC40DC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7640" y="135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0320" y="135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7640" y="350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0320" y="350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235-948A-4B66-9FFC-D4D724D5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35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5640" y="135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3280" y="135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47640" y="350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75640" y="350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3280" y="350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B76-F4CE-482E-9EED-C36165D975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7640" y="135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AB7C-8617-4892-A4C8-59D735C26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135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135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7AB9-6B6F-4073-B4C1-E060BE076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E5AD-2D87-4101-B67F-ED29D50AD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55680" y="126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0E76-6348-4F6A-B15E-903BFF276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7640" y="135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135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47640" y="350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1489-7492-4107-9926-717206870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35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135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0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29B5-A015-4F5C-888D-4D4ABD4CC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7640" y="135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135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7640" y="350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75FC-14CF-4110-82C9-E6210FEB7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68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f262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135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4e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4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4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13320" y="66168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01B5-B2F3-4E4F-AA6A-73B1D54C5488}" type="slidenum">
              <a:rPr b="0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9520" y="2158560"/>
            <a:ext cx="428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f262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88920" y="6616800"/>
            <a:ext cx="19051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921360" y="6616440"/>
            <a:ext cx="22226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D098-5AE0-4966-8AF0-6EB44DAC0BB9}" type="slidenum">
              <a:rPr b="0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3640" y="6367320"/>
            <a:ext cx="32767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larion Proprietary and Confidential</a:t>
            </a:r>
            <a:endParaRPr b="0" lang="en-US" sz="1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3080" y="0"/>
            <a:ext cx="78483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2626"/>
                </a:solidFill>
                <a:latin typeface="Arial"/>
                <a:ea typeface="ＭＳ Ｐゴシック"/>
              </a:rPr>
              <a:t>IEEE 802.20 Project Development Plan- 802.20-PD-07R1</a:t>
            </a:r>
            <a:endParaRPr b="1" lang="en-US" sz="1800" spc="-1" strike="noStrike">
              <a:solidFill>
                <a:srgbClr val="bf262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2400" y="723960"/>
            <a:ext cx="88675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Launch Process:                                                      July 04 Dates        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New Dates</a:t>
            </a:r>
            <a:endParaRPr b="0" lang="en-US" sz="1600" spc="-1" strike="noStrike">
              <a:solidFill>
                <a:srgbClr val="004e86"/>
              </a:solidFill>
              <a:latin typeface="Arial"/>
            </a:endParaRPr>
          </a:p>
          <a:p>
            <a:pPr lvl="1" marL="528120" indent="-174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SG Approval of PAR/5C                                                                    Sept 02</a:t>
            </a:r>
            <a:endParaRPr b="0" lang="en-US" sz="1400" spc="-1" strike="noStrike">
              <a:solidFill>
                <a:srgbClr val="004e86"/>
              </a:solidFill>
              <a:latin typeface="Arial"/>
            </a:endParaRPr>
          </a:p>
          <a:p>
            <a:pPr lvl="1" marL="528120" indent="-174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of PAR/5C by LMSC Executive Committee                         Nov 15, 02</a:t>
            </a:r>
            <a:endParaRPr b="0" lang="en-US" sz="1400" spc="-1" strike="noStrike">
              <a:solidFill>
                <a:srgbClr val="004e86"/>
              </a:solidFill>
              <a:latin typeface="Arial"/>
            </a:endParaRPr>
          </a:p>
          <a:p>
            <a:pPr lvl="1" marL="528120" indent="-174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 of PAR by IEEE-SA Board                                                     Dec 12, 02</a:t>
            </a:r>
            <a:endParaRPr b="0" lang="en-US" sz="1400" spc="-1" strike="noStrike">
              <a:solidFill>
                <a:srgbClr val="004e86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ge Setting:</a:t>
            </a:r>
            <a:endParaRPr b="0" lang="en-US" sz="1600" spc="-1" strike="noStrike">
              <a:solidFill>
                <a:srgbClr val="004e86"/>
              </a:solidFill>
              <a:latin typeface="Arial"/>
            </a:endParaRPr>
          </a:p>
          <a:p>
            <a:pPr lvl="1" marL="528120" indent="-174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 Membership Meeting                                                       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. 03</a:t>
            </a:r>
            <a:endParaRPr b="0" lang="en-US" sz="1400" spc="-1" strike="noStrike">
              <a:solidFill>
                <a:srgbClr val="004e86"/>
              </a:solidFill>
              <a:latin typeface="Arial"/>
            </a:endParaRPr>
          </a:p>
          <a:p>
            <a:pPr lvl="1" marL="528120" indent="-174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on Requirements                                                                       July 04</a:t>
            </a:r>
            <a:endParaRPr b="0" lang="en-US" sz="1400" spc="-1" strike="noStrike">
              <a:solidFill>
                <a:srgbClr val="004e86"/>
              </a:solidFill>
              <a:latin typeface="Arial"/>
            </a:endParaRPr>
          </a:p>
          <a:p>
            <a:pPr lvl="1" marL="528120" indent="-174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on Channel Models                                                                   Sept  04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Jan/Mar 05</a:t>
            </a:r>
            <a:endParaRPr b="0" lang="en-US" sz="1400" spc="-1" strike="noStrike">
              <a:solidFill>
                <a:srgbClr val="004e86"/>
              </a:solidFill>
              <a:latin typeface="Arial"/>
            </a:endParaRPr>
          </a:p>
          <a:p>
            <a:pPr lvl="1" marL="528120" indent="-174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on Evaluation Criteria                                                               Sept 04                </a:t>
            </a:r>
            <a:r>
              <a:rPr b="1" lang="en-US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Jan/Mar 05</a:t>
            </a:r>
            <a:endParaRPr b="0" lang="en-US" sz="1400" spc="-1" strike="noStrike">
              <a:solidFill>
                <a:srgbClr val="004e86"/>
              </a:solidFill>
              <a:latin typeface="Arial"/>
            </a:endParaRPr>
          </a:p>
          <a:p>
            <a:pPr lvl="1" marL="528120" indent="-174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dure for proposal selection and merging  (“Down select”)       Sept 04                 </a:t>
            </a:r>
            <a:r>
              <a:rPr b="1" lang="en-US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Mar 0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4e86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al Selection</a:t>
            </a:r>
            <a:endParaRPr b="0" lang="en-US" sz="1600" spc="-1" strike="noStrike">
              <a:solidFill>
                <a:srgbClr val="004e86"/>
              </a:solidFill>
              <a:latin typeface="Arial"/>
            </a:endParaRPr>
          </a:p>
          <a:p>
            <a:pPr lvl="1" marL="528120" indent="-174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l for Proposals                                                                                     Sept 04                </a:t>
            </a:r>
            <a:r>
              <a:rPr b="1" lang="en-US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Mar 05</a:t>
            </a:r>
            <a:endParaRPr b="0" lang="en-US" sz="1400" spc="-1" strike="noStrike">
              <a:solidFill>
                <a:srgbClr val="004e86"/>
              </a:solidFill>
              <a:latin typeface="Arial"/>
            </a:endParaRPr>
          </a:p>
          <a:p>
            <a:pPr lvl="1" marL="528120" indent="-174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al Presentations, Simulation Results, and Mergers             Nov 04-May 05     </a:t>
            </a:r>
            <a:r>
              <a:rPr b="1" lang="en-US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May-Sept 05</a:t>
            </a:r>
            <a:endParaRPr b="0" lang="en-US" sz="1400" spc="-1" strike="noStrike">
              <a:solidFill>
                <a:srgbClr val="004e86"/>
              </a:solidFill>
              <a:latin typeface="Arial"/>
            </a:endParaRPr>
          </a:p>
          <a:p>
            <a:pPr lvl="1" marL="528120" indent="-174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l Selections                                                                                        July  05                 </a:t>
            </a:r>
            <a:r>
              <a:rPr b="1" lang="en-US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Nov 05</a:t>
            </a:r>
            <a:endParaRPr b="0" lang="en-US" sz="1400" spc="-1" strike="noStrike">
              <a:solidFill>
                <a:srgbClr val="004e86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 Development</a:t>
            </a:r>
            <a:endParaRPr b="0" lang="en-US" sz="1600" spc="-1" strike="noStrike">
              <a:solidFill>
                <a:srgbClr val="004e86"/>
              </a:solidFill>
              <a:latin typeface="Arial"/>
            </a:endParaRPr>
          </a:p>
          <a:p>
            <a:pPr lvl="1" marL="528120" indent="-174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fting the Standard                                                                            July-Sept 05       </a:t>
            </a:r>
            <a:r>
              <a:rPr b="1" lang="en-US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Nov 05-Jan 06</a:t>
            </a:r>
            <a:endParaRPr b="0" lang="en-US" sz="1400" spc="-1" strike="noStrike">
              <a:solidFill>
                <a:srgbClr val="004e86"/>
              </a:solidFill>
              <a:latin typeface="Arial"/>
            </a:endParaRPr>
          </a:p>
          <a:p>
            <a:pPr lvl="1" marL="528120" indent="-174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 WG Letter Ballot                                                                               Oct  05                </a:t>
            </a:r>
            <a:r>
              <a:rPr b="1" lang="en-US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Jan 06</a:t>
            </a:r>
            <a:endParaRPr b="0" lang="en-US" sz="1400" spc="-1" strike="noStrike">
              <a:solidFill>
                <a:srgbClr val="004e86"/>
              </a:solidFill>
              <a:latin typeface="Arial"/>
            </a:endParaRPr>
          </a:p>
          <a:p>
            <a:pPr lvl="1" marL="528120" indent="-174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WG Ballot                                                                                     Feb  06                 </a:t>
            </a:r>
            <a:r>
              <a:rPr b="1" lang="en-US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May 06</a:t>
            </a:r>
            <a:endParaRPr b="0" lang="en-US" sz="1400" spc="-1" strike="noStrike">
              <a:solidFill>
                <a:srgbClr val="004e86"/>
              </a:solidFill>
              <a:latin typeface="Arial"/>
            </a:endParaRPr>
          </a:p>
          <a:p>
            <a:pPr lvl="1" marL="528120" indent="-174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onsor Ballot                                                                                           June 06               </a:t>
            </a:r>
            <a:r>
              <a:rPr b="1" lang="en-US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July 06</a:t>
            </a:r>
            <a:endParaRPr b="0" lang="en-US" sz="1400" spc="-1" strike="noStrike">
              <a:solidFill>
                <a:srgbClr val="004e86"/>
              </a:solidFill>
              <a:latin typeface="Arial"/>
            </a:endParaRPr>
          </a:p>
          <a:p>
            <a:pPr lvl="1" marL="528120" indent="-174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onsor Recirculation                                                                              Sept  06               Sept 06</a:t>
            </a:r>
            <a:endParaRPr b="0" lang="en-US" sz="1400" spc="-1" strike="noStrike">
              <a:solidFill>
                <a:srgbClr val="004e86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EEE-SA Approv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600" spc="-1" strike="noStrike">
              <a:solidFill>
                <a:srgbClr val="004e86"/>
              </a:solidFill>
              <a:latin typeface="Arial"/>
            </a:endParaRPr>
          </a:p>
          <a:p>
            <a:pPr lvl="1" marL="528120" indent="-174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mission to Rev. Com                                                                           Nov 06                 Nov 06</a:t>
            </a:r>
            <a:endParaRPr b="0" lang="en-US" sz="1400" spc="-1" strike="noStrike">
              <a:solidFill>
                <a:srgbClr val="004e86"/>
              </a:solidFill>
              <a:latin typeface="Arial"/>
            </a:endParaRPr>
          </a:p>
          <a:p>
            <a:pPr lvl="1" marL="528120" indent="-174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r" pos="84582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 Approval                                                                                                Dec 06                 Dec 06</a:t>
            </a:r>
            <a:endParaRPr b="0" lang="en-US" sz="1400" spc="-1" strike="noStrike">
              <a:solidFill>
                <a:srgbClr val="004e86"/>
              </a:solidFill>
              <a:latin typeface="Arial"/>
            </a:endParaRPr>
          </a:p>
          <a:p>
            <a:pPr lvl="1" marL="528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r" pos="84582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e86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2160" y="6415200"/>
            <a:ext cx="11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. 18, 2004</a:t>
            </a:r>
            <a:endParaRPr b="0" lang="en-US" sz="1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2240" y="5927760"/>
            <a:ext cx="32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4d85"/>
                </a:solidFill>
                <a:uFillTx/>
                <a:latin typeface="Arial"/>
              </a:rPr>
              <a:t>As approved at the November Plenary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20:28:39Z</dcterms:created>
  <dc:creator/>
  <dc:description/>
  <dc:language>en-US</dc:language>
  <cp:lastModifiedBy>Jim Mollenauer</cp:lastModifiedBy>
  <dcterms:modified xsi:type="dcterms:W3CDTF">2005-10-21T16:47:35Z</dcterms:modified>
  <cp:revision>49</cp:revision>
  <dc:subject/>
  <dc:title>Slide 1</dc:title>
</cp:coreProperties>
</file>