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EEA43-FFF6-4B69-8C02-131DC809D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B2BAD-34DB-4F84-B67D-B2062321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F69C1-6613-4959-A4F2-0665423B4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57C4C-7303-4637-9F59-DD8C3071A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DBD24-9C5C-4939-8E47-F66D5489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8CFE8-5C19-43E9-9326-2A5F39E3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EADA6-F2F6-4CAA-A32E-5539F539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DBAD7-E129-4F13-833F-8A0A0C9C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74E87-407D-4F08-BA35-AD334B64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DFEC4-222D-40BC-B042-124DA8E8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00D1D-8B7D-481F-A110-47F028B3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8EE00-2A74-4E1C-9184-E3F7DDDC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97C5FBB-6F07-4910-9021-E34B74CC9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05320" y="2286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c.: IEEE 802.11-03/492r0-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67800" y="6477120"/>
            <a:ext cx="101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Authentication layering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bert Moskowi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secur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CSALa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bert Moskowitz, Trusecure/ICSA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ECA3D-1A1B-479A-BC4B-357424AB089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Mutual Authentica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the parties authenticate to each other within a single authenticatio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uthentication process may be called ‘mutual’ and still the following issues are undefin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one or both identities exchang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only one identity is exchanged, is the other identity implied by knowledge of a symmetric ke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/are the identities exchange secu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wo identities are securely exchanged, are they protected with one or two key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wo identities, is there one identity exchange, two intertwined exchanges, or two serial or parallel exchang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bert Moskowitz, Trusecure/ICSA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59721-F411-4296-81F1-E780ED07D49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Mutual Authentica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 the applicability of ‘Mutual Authentication’ to authentication algorithms and how they act on Identity bin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ation flows and channels are silent on mut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tuality is NOT established by a bi-directional or coupled unidirectiona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priate to delineate the requirement of mutual authentication for a system, like in IEEE 802.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bert Moskowitz, Trusecure/ICSA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E0579-A39E-41B6-9EAD-A37DF8B350F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Mutual Authentica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two features that further typify an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both identities explicitly included within the algorithm or is one implicit as in AK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one of the identities not bound to its key, but protected with the other party’s k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bert Moskowitz, Trusecure/ICSA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1697D-3182-4C21-B5D5-381A1F670E0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Mutual Authentica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terminology would be appropriate to describe a particular mutual authentication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icit, Secured Identity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, Secured Identity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icit, Unsecured Identity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, Unsecured Identity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Explicit means identity is included in the protocol and Secure means the identity is cryptographicly prot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bert Moskowitz, Trusecure/ICSA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44668-EA74-4416-BAE2-4914C4B8D1D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urity Associ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SA is a set of policy and key(s) used to protect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ccessful authentication creates a unique SA for the two 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ew authentication creates a new, unique, 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A is used to group all the information related to the authentication so that everything can be properly protected within the party and deleted when no longer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SA can be bi-directional or unidirec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set of keying material in bi-drectional, separate keying material in unidirec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bert Moskowitz, Trusecure/ICSA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8F09A-B77B-463E-8ADA-5B95ADDB8CD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ation has grown beyond a small component of security to a self-standing pillar of secure systems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olithic authentication systems are being replaced by componentiz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a layered model fo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s, channels, algorithms, and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lear taxonomy fo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effort is limited to two-party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bert Moskowitz, Trusecure/ICSA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9E6D4-E765-43F9-A11B-719D22EA253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uthentication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st authentication systems these layers are not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hannel is frequently not provi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dvent of the channel (e.g. EAP) that makes this well defined model valu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85800" y="1828800"/>
            <a:ext cx="7773840" cy="2133360"/>
            <a:chOff x="685800" y="1828800"/>
            <a:chExt cx="7773840" cy="2133360"/>
          </a:xfrm>
        </p:grpSpPr>
        <p:sp>
          <p:nvSpPr>
            <p:cNvPr id="52" name=""/>
            <p:cNvSpPr/>
            <p:nvPr/>
          </p:nvSpPr>
          <p:spPr>
            <a:xfrm>
              <a:off x="685800" y="3429000"/>
              <a:ext cx="7772400" cy="533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uthentication 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85800" y="2895480"/>
              <a:ext cx="77724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uthentication Channel [optional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5800" y="2361960"/>
              <a:ext cx="259092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uthentication Algorith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720" y="2361960"/>
              <a:ext cx="259056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uthentication Algorith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867280" y="2361960"/>
              <a:ext cx="259092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uthentication Algorith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5800" y="1828800"/>
              <a:ext cx="1946160" cy="533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dentity &amp; Ke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631960" y="1828800"/>
              <a:ext cx="1946520" cy="533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dentity &amp; Ke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578480" y="1828800"/>
              <a:ext cx="1946160" cy="533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dentity &amp; Ke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521400" y="1828800"/>
              <a:ext cx="1938240" cy="533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dentity &amp; Ke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bert Moskowitz, Trusecure/ICSA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C3F05-A257-4C5B-87E1-A6B26C01847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uthentication Flo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group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directional, Bi-directional, Coupled unidirec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directional has two state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tor and Respo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-directional as a single stat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both the Initiator and Respo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dles directional reversal and race con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pled unidirec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unidirectional that both must complete before the authentication is fin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gnores race condition and direction rever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bert Moskowitz, Trusecure/ICSA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AC470-9561-4A52-A55C-A92B241F3C9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idirectional Versus Bi-direct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directional advantage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ear cut Initi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7040" indent="-2055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 from smaller Initiator state machine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-directional advantage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stat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ther party may initi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es race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‘emulate’ unidirectional through role enfor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pled unidirectional NOT equivalent to bi-direc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bert Moskowitz, Trusecure/ICSA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56079-4535-4210-83EE-73824B86F65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ablishing Ident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ation’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son d'êt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establishing Ident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ties are established by a cryptographic b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dings can be based on Symmetric or Asymmetric crypt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bert Moskowitz, Trusecure/ICSA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ACA96-35AC-4098-A7FD-DF409AA22C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ature of Cryptographic Bind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k b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y has the key, but no proof of id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ong b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ty is tied to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 of Bin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to Symmetric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names to Symmetric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to Asymmetric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bert Moskowitz, Trusecure/ICSA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05D20-E1EE-47C8-91DE-34AD77B1B99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bindings in an authentication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designed algorithm will maximize the trust for each pa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 of an authentication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Identity with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Identities with a single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Identities with keys in a nes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Identities with 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bert Moskowitz, Trusecure/ICSA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BE6C4-16F7-4AEC-A237-077858B02D5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uthentication Chann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uthentication algorithm muxing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s further the development and use of good authentica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bert Moskowitz, Trusecure/ICSA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779DE-29EC-471D-B076-E48AF7F34A4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20:05:06Z</dcterms:created>
  <dc:creator>Robert Moskowitz</dc:creator>
  <dc:description/>
  <dc:language>en-US</dc:language>
  <cp:lastModifiedBy>Dolors Sala</cp:lastModifiedBy>
  <cp:lastPrinted>2000-08-12T19:25:02Z</cp:lastPrinted>
  <dcterms:modified xsi:type="dcterms:W3CDTF">2003-07-21T20:12:55Z</dcterms:modified>
  <cp:revision>18</cp:revision>
  <dc:subject/>
  <dc:title>An Authentication layering model</dc:title>
</cp:coreProperties>
</file>