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FF7-8DE4-44F8-837C-5EDAD28F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1DD-9197-4144-9BB1-CEE64286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B66-9BD3-4B5A-A6AA-D45FC25A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E3E-0147-42E2-B692-0E1B09CB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791-7B68-4310-B443-8BC135B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3A3-B967-4E71-A353-FA255A7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F6F-0D05-43B0-986E-956CC5E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FC8-317F-4EC8-91A4-F474542B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A17-BF3F-469E-AD0B-DAFAE91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291-1C61-4A19-8753-92A30EC2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F1C-7143-4016-8426-B950F25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79A-5511-43D9-ADA3-36B2741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088-3FA1-4718-80B6-75EBC5874BAE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4520" y="6319440"/>
            <a:ext cx="358452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IEEE802.1 LinkSec Jul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Allyn Romanow, Cisco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68AB-12D6-4284-92CE-8DCA5B0F74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MACsec Draf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yn Roma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802.1 LinkSec July 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com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sections of th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where various issues can go in the do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FB2-D8A7-4A04-BF93-83314F5D37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03B4E-0F8C-43C4-AE94-282B9CD48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same pattern as other 802.1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fulness of having a template to organize contribu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9C076-5A5F-4C62-B90B-6E55EA3A99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 – go over gener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bbreviations, Conforma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support of the MAC Service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what’s the point here,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Secure Network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how does this fit, wha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MAC Security Entity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etails of the solution, how i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076EE-7071-491A-853A-405C95C485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3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 Security Protocol (MACse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oding of MACsec PDU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of MAC 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Protocol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A PIC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Y Bibli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Annexes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context, explan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Z Informative Commentary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history, unresolved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5B847-AD9C-48D9-A61F-60584B4A9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some issues 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af8a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pe – 1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ments – some in cl01, full discussion in ann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– in another document, with pointer in ch.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oint - ch. 7 Principles of Network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hop – ch. 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6E81F-FA4D-4967-8F72-80FCA0F95E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9:57:02Z</dcterms:created>
  <dc:creator>Allyn Romanow (allyn)</dc:creator>
  <dc:description/>
  <dc:language>en-US</dc:language>
  <cp:lastModifiedBy>Allyn Romanow (allyn)</cp:lastModifiedBy>
  <dcterms:modified xsi:type="dcterms:W3CDTF">2003-07-21T21:14:43Z</dcterms:modified>
  <cp:revision>17</cp:revision>
  <dc:subject/>
  <dc:title>Toward a MACsec Draft</dc:title>
</cp:coreProperties>
</file>