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175600" y="7102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C34F023-5A87-4B87-BB38-57F8ACF7E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152388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nkSec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739440" y="4191120"/>
            <a:ext cx="860724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bert Moskow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uly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CSAl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View of Link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nkSec Security Association is bound to the MAC addresses of interfaces on th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 edge device this is its SOURC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be used in filtering rules and relating keys to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addresses of Bridges never appear in forwarded dat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esents a challenge on shared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AP MACs are in the pre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-Driven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79800" indent="-2847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r Network cen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EEE 802 networks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800" indent="-2847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r link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ra-Provider, Inter-Provider, Subscriber to N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800" indent="-2847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thentication alway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lps limit mis-use of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tects mis-w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800" indent="-2847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ivacy and Integrity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confidenti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usiness-Driven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r Bridge (802.1ad) 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data private from 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ing bridge management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subscribers to one physical 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802.3ah and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-Driven Require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Inclu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375480" indent="-2815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1320" indent="-2498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, trusted links across hostile bri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6800" indent="-18756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 is 802.1ad Provider bri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1320" indent="-2498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n multi-party Adhoc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5480" indent="-2815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rty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1320" indent="-2498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2 bridges on 802.3 with device ignorant of which is 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5480" indent="-2815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l Inter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1320" indent="-2498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d by deployment methodology not provisions in Link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607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lti-link model per network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network component (or node) has N points of connection to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 = 1 is the degenerat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ider all links as ephem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manent links” are just long-lived ephemeral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s change state as soon as link is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quirements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nature of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ends of the link control the authentication process, even though one side starts the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eers SHOULD be mutually authenticated (this is a function of a higher level serv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end may force a role of Initiator or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should never be a race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both peers start authentication at the same time, one is gracefully term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quirements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79800" indent="-2847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yer Signalling of Link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for Handoff between N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direct support of Handoff mechanisms in LinkSec.  I.E. Transparency to handoff at layer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800" indent="-2847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fidentiality of Data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9800" indent="-2847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grity of Management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are specific media management frames not carried in data frames (e.g. 802.11 DISASSOCI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nimally only accept control packets from authenticated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Sec Network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6058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66840" indent="-2750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p-by-hop model for Link Confidenti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4040" indent="-2440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where provider bridges facilitate virtual links between subscriber bri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6840" indent="-2750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4040" indent="-2440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 ‘owns’ the network.  A Provider may be the Corporate IT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4040" indent="-2440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rs ‘use’ the network.  E.G. a corporate employee or a paying custo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4040" indent="-2440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arency in security refers to 2 or more links appearing as a single link to the end devices with the intermediate bridges being transparent to the securit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Sec Network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Sec delineates link own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link (Provider/Subscri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 link (Subscriber over Provi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twork is the collec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, Provider link interfaces, and Provider Authentication Servers (and related serv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Sec Network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05720" indent="-3042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ily to protect the Provider network from attack and mis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5720" indent="-3042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vider IEEE 802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800" indent="-2700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r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800" indent="-2700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Provider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800" indent="-2700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attachment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7520" indent="-20268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tly controlled by Provider and Subscr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5720" indent="-3042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800" indent="-2700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Auth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800" indent="-2700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confidentiality (privacy and integ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Defini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2520" y="1599840"/>
            <a:ext cx="4970520" cy="5543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purposes here, a Network refers to Layer 2 infrastructure and Layer 3 provisioning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twork is an entity in its own right that needs to be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onents of a network need various levels of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79600" y="2603520"/>
            <a:ext cx="2408040" cy="878040"/>
          </a:xfrm>
          <a:custGeom>
            <a:avLst/>
            <a:gdLst/>
            <a:ahLst/>
            <a:rect l="l" t="t" r="r" b="b"/>
            <a:pathLst>
              <a:path w="1377" h="502">
                <a:moveTo>
                  <a:pt x="266" y="65"/>
                </a:moveTo>
                <a:cubicBezTo>
                  <a:pt x="276" y="92"/>
                  <a:pt x="271" y="144"/>
                  <a:pt x="251" y="169"/>
                </a:cubicBezTo>
                <a:cubicBezTo>
                  <a:pt x="236" y="187"/>
                  <a:pt x="205" y="192"/>
                  <a:pt x="185" y="199"/>
                </a:cubicBezTo>
                <a:cubicBezTo>
                  <a:pt x="119" y="177"/>
                  <a:pt x="156" y="182"/>
                  <a:pt x="74" y="191"/>
                </a:cubicBezTo>
                <a:cubicBezTo>
                  <a:pt x="57" y="239"/>
                  <a:pt x="100" y="230"/>
                  <a:pt x="44" y="243"/>
                </a:cubicBezTo>
                <a:cubicBezTo>
                  <a:pt x="36" y="251"/>
                  <a:pt x="9" y="275"/>
                  <a:pt x="7" y="288"/>
                </a:cubicBezTo>
                <a:cubicBezTo>
                  <a:pt x="0" y="327"/>
                  <a:pt x="57" y="338"/>
                  <a:pt x="81" y="347"/>
                </a:cubicBezTo>
                <a:cubicBezTo>
                  <a:pt x="128" y="335"/>
                  <a:pt x="166" y="324"/>
                  <a:pt x="214" y="317"/>
                </a:cubicBezTo>
                <a:cubicBezTo>
                  <a:pt x="298" y="332"/>
                  <a:pt x="225" y="312"/>
                  <a:pt x="288" y="347"/>
                </a:cubicBezTo>
                <a:cubicBezTo>
                  <a:pt x="302" y="355"/>
                  <a:pt x="319" y="355"/>
                  <a:pt x="333" y="362"/>
                </a:cubicBezTo>
                <a:cubicBezTo>
                  <a:pt x="360" y="375"/>
                  <a:pt x="370" y="397"/>
                  <a:pt x="399" y="406"/>
                </a:cubicBezTo>
                <a:cubicBezTo>
                  <a:pt x="406" y="416"/>
                  <a:pt x="426" y="470"/>
                  <a:pt x="436" y="473"/>
                </a:cubicBezTo>
                <a:cubicBezTo>
                  <a:pt x="460" y="481"/>
                  <a:pt x="486" y="478"/>
                  <a:pt x="511" y="480"/>
                </a:cubicBezTo>
                <a:cubicBezTo>
                  <a:pt x="631" y="473"/>
                  <a:pt x="748" y="465"/>
                  <a:pt x="866" y="443"/>
                </a:cubicBezTo>
                <a:cubicBezTo>
                  <a:pt x="899" y="466"/>
                  <a:pt x="938" y="480"/>
                  <a:pt x="977" y="488"/>
                </a:cubicBezTo>
                <a:cubicBezTo>
                  <a:pt x="1002" y="493"/>
                  <a:pt x="1051" y="502"/>
                  <a:pt x="1051" y="502"/>
                </a:cubicBezTo>
                <a:cubicBezTo>
                  <a:pt x="1120" y="480"/>
                  <a:pt x="1189" y="452"/>
                  <a:pt x="1259" y="436"/>
                </a:cubicBezTo>
                <a:cubicBezTo>
                  <a:pt x="1266" y="431"/>
                  <a:pt x="1275" y="427"/>
                  <a:pt x="1281" y="421"/>
                </a:cubicBezTo>
                <a:cubicBezTo>
                  <a:pt x="1287" y="415"/>
                  <a:pt x="1289" y="405"/>
                  <a:pt x="1296" y="399"/>
                </a:cubicBezTo>
                <a:cubicBezTo>
                  <a:pt x="1309" y="387"/>
                  <a:pt x="1340" y="369"/>
                  <a:pt x="1340" y="369"/>
                </a:cubicBezTo>
                <a:cubicBezTo>
                  <a:pt x="1377" y="315"/>
                  <a:pt x="1359" y="229"/>
                  <a:pt x="1325" y="176"/>
                </a:cubicBezTo>
                <a:cubicBezTo>
                  <a:pt x="1323" y="169"/>
                  <a:pt x="1325" y="157"/>
                  <a:pt x="1318" y="154"/>
                </a:cubicBezTo>
                <a:cubicBezTo>
                  <a:pt x="1239" y="126"/>
                  <a:pt x="1150" y="143"/>
                  <a:pt x="1066" y="139"/>
                </a:cubicBezTo>
                <a:cubicBezTo>
                  <a:pt x="1036" y="120"/>
                  <a:pt x="1016" y="91"/>
                  <a:pt x="985" y="73"/>
                </a:cubicBezTo>
                <a:cubicBezTo>
                  <a:pt x="909" y="29"/>
                  <a:pt x="827" y="33"/>
                  <a:pt x="740" y="28"/>
                </a:cubicBezTo>
                <a:cubicBezTo>
                  <a:pt x="658" y="0"/>
                  <a:pt x="625" y="0"/>
                  <a:pt x="540" y="13"/>
                </a:cubicBezTo>
                <a:cubicBezTo>
                  <a:pt x="512" y="23"/>
                  <a:pt x="365" y="19"/>
                  <a:pt x="340" y="21"/>
                </a:cubicBezTo>
                <a:cubicBezTo>
                  <a:pt x="323" y="26"/>
                  <a:pt x="305" y="31"/>
                  <a:pt x="288" y="36"/>
                </a:cubicBezTo>
                <a:cubicBezTo>
                  <a:pt x="278" y="39"/>
                  <a:pt x="263" y="34"/>
                  <a:pt x="259" y="43"/>
                </a:cubicBezTo>
                <a:cubicBezTo>
                  <a:pt x="247" y="67"/>
                  <a:pt x="291" y="65"/>
                  <a:pt x="266" y="65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19600" rIns="219600" tIns="109800" bIns="109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15280" y="2790720"/>
            <a:ext cx="161640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0" rIns="219600" tIns="10980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t of the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000" y="3733920"/>
            <a:ext cx="1172880" cy="676800"/>
            <a:chOff x="990000" y="3733920"/>
            <a:chExt cx="1172880" cy="676800"/>
          </a:xfrm>
        </p:grpSpPr>
        <p:sp>
          <p:nvSpPr>
            <p:cNvPr id="52" name=""/>
            <p:cNvSpPr/>
            <p:nvPr/>
          </p:nvSpPr>
          <p:spPr>
            <a:xfrm>
              <a:off x="1193760" y="3803760"/>
              <a:ext cx="755640" cy="503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90000" y="3733920"/>
              <a:ext cx="117288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tachmen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910880" y="4051440"/>
            <a:ext cx="15631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0" rIns="219600" tIns="109800" bIns="109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The netwo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top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596600" y="3211560"/>
            <a:ext cx="250920" cy="58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11520" y="3378240"/>
            <a:ext cx="16848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0840" y="4572000"/>
            <a:ext cx="1025280" cy="494280"/>
            <a:chOff x="150840" y="4572000"/>
            <a:chExt cx="1025280" cy="494280"/>
          </a:xfrm>
        </p:grpSpPr>
        <p:sp>
          <p:nvSpPr>
            <p:cNvPr id="58" name=""/>
            <p:cNvSpPr/>
            <p:nvPr/>
          </p:nvSpPr>
          <p:spPr>
            <a:xfrm>
              <a:off x="268200" y="463860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0840" y="457200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512720" y="4302000"/>
            <a:ext cx="0" cy="841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72840" y="4302000"/>
            <a:ext cx="587160" cy="336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47880" y="4302000"/>
            <a:ext cx="420480" cy="336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695760" y="4385880"/>
            <a:ext cx="0" cy="839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00400" y="3809880"/>
            <a:ext cx="1363680" cy="828720"/>
            <a:chOff x="3200400" y="3809880"/>
            <a:chExt cx="1363680" cy="828720"/>
          </a:xfrm>
        </p:grpSpPr>
        <p:sp>
          <p:nvSpPr>
            <p:cNvPr id="65" name=""/>
            <p:cNvSpPr/>
            <p:nvPr/>
          </p:nvSpPr>
          <p:spPr>
            <a:xfrm>
              <a:off x="3378240" y="3890880"/>
              <a:ext cx="755640" cy="501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3809880"/>
              <a:ext cx="136368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tachmen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48120" y="4386240"/>
              <a:ext cx="587520" cy="252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9600" rIns="219600" tIns="109800" bIns="10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989280" y="5105520"/>
            <a:ext cx="1025280" cy="494280"/>
            <a:chOff x="989280" y="5105520"/>
            <a:chExt cx="1025280" cy="494280"/>
          </a:xfrm>
        </p:grpSpPr>
        <p:sp>
          <p:nvSpPr>
            <p:cNvPr id="69" name=""/>
            <p:cNvSpPr/>
            <p:nvPr/>
          </p:nvSpPr>
          <p:spPr>
            <a:xfrm>
              <a:off x="1106640" y="517212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89280" y="510552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827360" y="4572000"/>
            <a:ext cx="1025280" cy="494280"/>
            <a:chOff x="1827360" y="4572000"/>
            <a:chExt cx="1025280" cy="494280"/>
          </a:xfrm>
        </p:grpSpPr>
        <p:sp>
          <p:nvSpPr>
            <p:cNvPr id="72" name=""/>
            <p:cNvSpPr/>
            <p:nvPr/>
          </p:nvSpPr>
          <p:spPr>
            <a:xfrm>
              <a:off x="1944720" y="463860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27360" y="457200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198960" y="5181480"/>
            <a:ext cx="1025280" cy="494280"/>
            <a:chOff x="3198960" y="5181480"/>
            <a:chExt cx="1025280" cy="494280"/>
          </a:xfrm>
        </p:grpSpPr>
        <p:sp>
          <p:nvSpPr>
            <p:cNvPr id="75" name=""/>
            <p:cNvSpPr/>
            <p:nvPr/>
          </p:nvSpPr>
          <p:spPr>
            <a:xfrm>
              <a:off x="3316320" y="524808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8960" y="518148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113360" y="4572000"/>
            <a:ext cx="1025280" cy="494280"/>
            <a:chOff x="4113360" y="4572000"/>
            <a:chExt cx="1025280" cy="494280"/>
          </a:xfrm>
        </p:grpSpPr>
        <p:sp>
          <p:nvSpPr>
            <p:cNvPr id="78" name=""/>
            <p:cNvSpPr/>
            <p:nvPr/>
          </p:nvSpPr>
          <p:spPr>
            <a:xfrm>
              <a:off x="4230720" y="463860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13360" y="457200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Services Componen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2520" y="1599840"/>
            <a:ext cx="4970520" cy="5543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existing trust between Authentication Server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r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ed Trus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ween Attached devices and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ween 2 attached devices in specific si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79600" y="2603520"/>
            <a:ext cx="2408040" cy="878040"/>
          </a:xfrm>
          <a:custGeom>
            <a:avLst/>
            <a:gdLst/>
            <a:ahLst/>
            <a:rect l="l" t="t" r="r" b="b"/>
            <a:pathLst>
              <a:path w="1377" h="502">
                <a:moveTo>
                  <a:pt x="266" y="65"/>
                </a:moveTo>
                <a:cubicBezTo>
                  <a:pt x="276" y="92"/>
                  <a:pt x="271" y="144"/>
                  <a:pt x="251" y="169"/>
                </a:cubicBezTo>
                <a:cubicBezTo>
                  <a:pt x="236" y="187"/>
                  <a:pt x="205" y="192"/>
                  <a:pt x="185" y="199"/>
                </a:cubicBezTo>
                <a:cubicBezTo>
                  <a:pt x="119" y="177"/>
                  <a:pt x="156" y="182"/>
                  <a:pt x="74" y="191"/>
                </a:cubicBezTo>
                <a:cubicBezTo>
                  <a:pt x="57" y="239"/>
                  <a:pt x="100" y="230"/>
                  <a:pt x="44" y="243"/>
                </a:cubicBezTo>
                <a:cubicBezTo>
                  <a:pt x="36" y="251"/>
                  <a:pt x="9" y="275"/>
                  <a:pt x="7" y="288"/>
                </a:cubicBezTo>
                <a:cubicBezTo>
                  <a:pt x="0" y="327"/>
                  <a:pt x="57" y="338"/>
                  <a:pt x="81" y="347"/>
                </a:cubicBezTo>
                <a:cubicBezTo>
                  <a:pt x="128" y="335"/>
                  <a:pt x="166" y="324"/>
                  <a:pt x="214" y="317"/>
                </a:cubicBezTo>
                <a:cubicBezTo>
                  <a:pt x="298" y="332"/>
                  <a:pt x="225" y="312"/>
                  <a:pt x="288" y="347"/>
                </a:cubicBezTo>
                <a:cubicBezTo>
                  <a:pt x="302" y="355"/>
                  <a:pt x="319" y="355"/>
                  <a:pt x="333" y="362"/>
                </a:cubicBezTo>
                <a:cubicBezTo>
                  <a:pt x="360" y="375"/>
                  <a:pt x="370" y="397"/>
                  <a:pt x="399" y="406"/>
                </a:cubicBezTo>
                <a:cubicBezTo>
                  <a:pt x="406" y="416"/>
                  <a:pt x="426" y="470"/>
                  <a:pt x="436" y="473"/>
                </a:cubicBezTo>
                <a:cubicBezTo>
                  <a:pt x="460" y="481"/>
                  <a:pt x="486" y="478"/>
                  <a:pt x="511" y="480"/>
                </a:cubicBezTo>
                <a:cubicBezTo>
                  <a:pt x="631" y="473"/>
                  <a:pt x="748" y="465"/>
                  <a:pt x="866" y="443"/>
                </a:cubicBezTo>
                <a:cubicBezTo>
                  <a:pt x="899" y="466"/>
                  <a:pt x="938" y="480"/>
                  <a:pt x="977" y="488"/>
                </a:cubicBezTo>
                <a:cubicBezTo>
                  <a:pt x="1002" y="493"/>
                  <a:pt x="1051" y="502"/>
                  <a:pt x="1051" y="502"/>
                </a:cubicBezTo>
                <a:cubicBezTo>
                  <a:pt x="1120" y="480"/>
                  <a:pt x="1189" y="452"/>
                  <a:pt x="1259" y="436"/>
                </a:cubicBezTo>
                <a:cubicBezTo>
                  <a:pt x="1266" y="431"/>
                  <a:pt x="1275" y="427"/>
                  <a:pt x="1281" y="421"/>
                </a:cubicBezTo>
                <a:cubicBezTo>
                  <a:pt x="1287" y="415"/>
                  <a:pt x="1289" y="405"/>
                  <a:pt x="1296" y="399"/>
                </a:cubicBezTo>
                <a:cubicBezTo>
                  <a:pt x="1309" y="387"/>
                  <a:pt x="1340" y="369"/>
                  <a:pt x="1340" y="369"/>
                </a:cubicBezTo>
                <a:cubicBezTo>
                  <a:pt x="1377" y="315"/>
                  <a:pt x="1359" y="229"/>
                  <a:pt x="1325" y="176"/>
                </a:cubicBezTo>
                <a:cubicBezTo>
                  <a:pt x="1323" y="169"/>
                  <a:pt x="1325" y="157"/>
                  <a:pt x="1318" y="154"/>
                </a:cubicBezTo>
                <a:cubicBezTo>
                  <a:pt x="1239" y="126"/>
                  <a:pt x="1150" y="143"/>
                  <a:pt x="1066" y="139"/>
                </a:cubicBezTo>
                <a:cubicBezTo>
                  <a:pt x="1036" y="120"/>
                  <a:pt x="1016" y="91"/>
                  <a:pt x="985" y="73"/>
                </a:cubicBezTo>
                <a:cubicBezTo>
                  <a:pt x="909" y="29"/>
                  <a:pt x="827" y="33"/>
                  <a:pt x="740" y="28"/>
                </a:cubicBezTo>
                <a:cubicBezTo>
                  <a:pt x="658" y="0"/>
                  <a:pt x="625" y="0"/>
                  <a:pt x="540" y="13"/>
                </a:cubicBezTo>
                <a:cubicBezTo>
                  <a:pt x="512" y="23"/>
                  <a:pt x="365" y="19"/>
                  <a:pt x="340" y="21"/>
                </a:cubicBezTo>
                <a:cubicBezTo>
                  <a:pt x="323" y="26"/>
                  <a:pt x="305" y="31"/>
                  <a:pt x="288" y="36"/>
                </a:cubicBezTo>
                <a:cubicBezTo>
                  <a:pt x="278" y="39"/>
                  <a:pt x="263" y="34"/>
                  <a:pt x="259" y="43"/>
                </a:cubicBezTo>
                <a:cubicBezTo>
                  <a:pt x="247" y="67"/>
                  <a:pt x="291" y="65"/>
                  <a:pt x="266" y="65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19600" rIns="219600" tIns="109800" bIns="109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15280" y="2790720"/>
            <a:ext cx="161640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0" rIns="219600" tIns="10980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t of the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90000" y="3733920"/>
            <a:ext cx="1172880" cy="676800"/>
            <a:chOff x="990000" y="3733920"/>
            <a:chExt cx="1172880" cy="676800"/>
          </a:xfrm>
        </p:grpSpPr>
        <p:sp>
          <p:nvSpPr>
            <p:cNvPr id="85" name=""/>
            <p:cNvSpPr/>
            <p:nvPr/>
          </p:nvSpPr>
          <p:spPr>
            <a:xfrm>
              <a:off x="1193760" y="3803760"/>
              <a:ext cx="755640" cy="503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90000" y="3733920"/>
              <a:ext cx="117288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tachmen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 flipH="1">
            <a:off x="1596600" y="3211560"/>
            <a:ext cx="250920" cy="58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11520" y="3378240"/>
            <a:ext cx="16848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50840" y="4572000"/>
            <a:ext cx="1025280" cy="494280"/>
            <a:chOff x="150840" y="4572000"/>
            <a:chExt cx="1025280" cy="494280"/>
          </a:xfrm>
        </p:grpSpPr>
        <p:sp>
          <p:nvSpPr>
            <p:cNvPr id="90" name=""/>
            <p:cNvSpPr/>
            <p:nvPr/>
          </p:nvSpPr>
          <p:spPr>
            <a:xfrm>
              <a:off x="268200" y="463860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0840" y="457200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512720" y="4302000"/>
            <a:ext cx="0" cy="841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72840" y="4302000"/>
            <a:ext cx="587160" cy="336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47880" y="4302000"/>
            <a:ext cx="420480" cy="336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00400" y="3809880"/>
            <a:ext cx="1363680" cy="828720"/>
            <a:chOff x="3200400" y="3809880"/>
            <a:chExt cx="1363680" cy="828720"/>
          </a:xfrm>
        </p:grpSpPr>
        <p:sp>
          <p:nvSpPr>
            <p:cNvPr id="96" name=""/>
            <p:cNvSpPr/>
            <p:nvPr/>
          </p:nvSpPr>
          <p:spPr>
            <a:xfrm>
              <a:off x="3378240" y="3890880"/>
              <a:ext cx="755640" cy="501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00400" y="3809880"/>
              <a:ext cx="136368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tachmen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48120" y="4386240"/>
              <a:ext cx="587520" cy="252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9600" rIns="219600" tIns="109800" bIns="10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989280" y="5105520"/>
            <a:ext cx="1025280" cy="494280"/>
            <a:chOff x="989280" y="5105520"/>
            <a:chExt cx="1025280" cy="494280"/>
          </a:xfrm>
        </p:grpSpPr>
        <p:sp>
          <p:nvSpPr>
            <p:cNvPr id="100" name=""/>
            <p:cNvSpPr/>
            <p:nvPr/>
          </p:nvSpPr>
          <p:spPr>
            <a:xfrm>
              <a:off x="1106640" y="517212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89280" y="510552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27360" y="4572000"/>
            <a:ext cx="1025280" cy="494280"/>
            <a:chOff x="1827360" y="4572000"/>
            <a:chExt cx="1025280" cy="494280"/>
          </a:xfrm>
        </p:grpSpPr>
        <p:sp>
          <p:nvSpPr>
            <p:cNvPr id="103" name=""/>
            <p:cNvSpPr/>
            <p:nvPr/>
          </p:nvSpPr>
          <p:spPr>
            <a:xfrm>
              <a:off x="1944720" y="463860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27360" y="457200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113360" y="4572000"/>
            <a:ext cx="1025280" cy="494280"/>
            <a:chOff x="4113360" y="4572000"/>
            <a:chExt cx="1025280" cy="494280"/>
          </a:xfrm>
        </p:grpSpPr>
        <p:sp>
          <p:nvSpPr>
            <p:cNvPr id="106" name=""/>
            <p:cNvSpPr/>
            <p:nvPr/>
          </p:nvSpPr>
          <p:spPr>
            <a:xfrm>
              <a:off x="4230720" y="463860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13360" y="457200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045600" y="2286000"/>
            <a:ext cx="1243080" cy="494280"/>
            <a:chOff x="3045600" y="2286000"/>
            <a:chExt cx="1243080" cy="494280"/>
          </a:xfrm>
        </p:grpSpPr>
        <p:sp>
          <p:nvSpPr>
            <p:cNvPr id="109" name=""/>
            <p:cNvSpPr/>
            <p:nvPr/>
          </p:nvSpPr>
          <p:spPr>
            <a:xfrm>
              <a:off x="3163680" y="2352600"/>
              <a:ext cx="70632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5600" y="2286000"/>
              <a:ext cx="12430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uthent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1" name=""/>
          <p:cNvCxnSpPr>
            <a:stCxn id="110" idx="2"/>
            <a:endCxn id="97" idx="0"/>
          </p:cNvCxnSpPr>
          <p:nvPr/>
        </p:nvCxnSpPr>
        <p:spPr>
          <a:xfrm flipH="1" rot="16200000">
            <a:off x="3259080" y="3185640"/>
            <a:ext cx="1032480" cy="216720"/>
          </a:xfrm>
          <a:prstGeom prst="curvedConnector5">
            <a:avLst>
              <a:gd name="adj1" fmla="val 49982"/>
              <a:gd name="adj2" fmla="val 49916"/>
              <a:gd name="adj3" fmla="val 49982"/>
            </a:avLst>
          </a:prstGeom>
          <a:ln w="93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endCxn id="107" idx="0"/>
          </p:cNvCxnSpPr>
          <p:nvPr/>
        </p:nvCxnSpPr>
        <p:spPr>
          <a:xfrm flipH="1" rot="16200000">
            <a:off x="3302640" y="3249360"/>
            <a:ext cx="1981800" cy="664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98" idx="0"/>
            <a:endCxn id="107" idx="1"/>
          </p:cNvCxnSpPr>
          <p:nvPr/>
        </p:nvCxnSpPr>
        <p:spPr>
          <a:xfrm flipH="1" rot="16200000">
            <a:off x="3814920" y="4518720"/>
            <a:ext cx="432720" cy="167040"/>
          </a:xfrm>
          <a:prstGeom prst="curvedConnector5">
            <a:avLst>
              <a:gd name="adj1" fmla="val 21648"/>
              <a:gd name="adj2" fmla="val -26565"/>
              <a:gd name="adj3" fmla="val 2164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3660480" y="190512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ed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191120" y="220968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85840" y="213372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5760" y="52578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get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429000" y="4724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/>
          <p:nvPr/>
        </p:nvCxnSpPr>
        <p:spPr>
          <a:xfrm rot="5400000">
            <a:off x="1256400" y="2933640"/>
            <a:ext cx="2363040" cy="198180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93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 flipH="1">
            <a:off x="3352320" y="21337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523880" y="3276360"/>
            <a:ext cx="914400" cy="19047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3200040" y="3276720"/>
            <a:ext cx="1143000" cy="13716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32767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819520" y="3352680"/>
            <a:ext cx="3808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vider View Of Link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97080" indent="-2977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bi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520" indent="-2642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oney, no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1600" indent="-19836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, no provisioning impl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520" indent="-2642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r and cross-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7080" indent="-2977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l obl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520" indent="-2642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r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520" indent="-2642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intercept function of deployment, not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7080" indent="-2977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access to Network Attachment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520" indent="-2642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your Subscriber (i.e. link termin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scriber View of Link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92760" indent="-29448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exists to service Subscr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136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ec exists to protect subscribers from other subscr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2760" indent="-29448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st in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136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e the 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136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 of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136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: Subscriber assumes no attack from Provider, but Provider assumes attack from Subscr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2760" indent="-29448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st in bi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136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charged for real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er View of Link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Peer systems control th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directiona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can initiate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play an equal role in controlling the authent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ystem may take control of th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based on link ow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21348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802.1ad Provider Bridge might always be the Responder, even if it initiated the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Moskowitz</dc:creator>
  <dc:description/>
  <dc:language>en-US</dc:language>
  <cp:lastModifiedBy>Dolors Sala</cp:lastModifiedBy>
  <dcterms:modified xsi:type="dcterms:W3CDTF">2003-07-21T14:16:52Z</dcterms:modified>
  <cp:revision>22</cp:revision>
  <dc:subject/>
  <dc:title>LinkSec Architecture</dc:title>
</cp:coreProperties>
</file>