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5A4-806E-4D75-8E8C-F68415FD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18C-F279-46F5-9117-A93C4E92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A35-5A99-484E-AAD9-44ECC719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B88-611F-454B-833D-E5A22994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551-CDBA-4087-9A88-775281F7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A8A-69AE-47D9-B655-195725A2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45F-BD65-46FF-A049-F0BD0C5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71D-906E-4578-BB44-CD790F9D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1C3-6DCE-44BF-97B1-AF1532D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09F-7C35-42F6-9F0D-E234BF4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890-DA86-47B3-BCFC-2B367A8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C8F-2FA2-4182-9560-1948034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.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0800" y="6474960"/>
            <a:ext cx="1309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90C221-FC99-4D88-B6EA-A6DC2B3D7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61080" y="396000"/>
            <a:ext cx="360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802_Handoff_Linksec_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685800"/>
            <a:ext cx="1828800" cy="17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johnston@ieee.org" TargetMode="External"/><Relationship Id="rId2" Type="http://schemas.openxmlformats.org/officeDocument/2006/relationships/hyperlink" Target="mailto:dj.johnston@inte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 Handof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Sec Handoff Iss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vid.johnston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j.johnston@in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9EA-892B-44B6-A538-D3FE249637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ocking behavior of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allows access to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access to all LSAPs above the LLC except for EAPoL until authentication h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only MAC signalling and EAP available prior to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akes advantage of the common MSDU transport capability of different 802 netwo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chanism applicable to diverse 802 network types could not be codified in existing MAC signaling or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urrent 802 authentication practice impacts on the transfer of handoff related information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FAA-A876-4017-B9AC-B348BA3069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 – au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attempting to authenticate, the mobile node may want to know whether it is worth th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P support my L3 network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 have a payment method, auth protocol, subscription that will work on the candidat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y QoS need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nice for the conduit for this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not be blocked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pplicable to diverse 802 network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4C1-A0B4-4670-866C-B457D4A97C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ing the auth model be extended to support Hand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set of pre authentication unblocked things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sensitive handoff rel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022-3A59-484E-8C5F-1EC31ABBEE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the unblocked fork of 802.1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048120"/>
            <a:ext cx="1219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971800"/>
            <a:ext cx="411480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209680"/>
            <a:ext cx="129528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514600"/>
            <a:ext cx="3045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7339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3520" y="4572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76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334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36572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334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209680"/>
            <a:ext cx="228600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ff Informatio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/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94E-A304-49D2-BBF1-958C7AA5F9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: One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ake it impossible for the definition of the distribution of media independent handoff decision data prior to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obile nodes to handoff based on go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mobile nodes to choose who they should bother authenticating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45B-AF52-4E51-983A-2718F807D3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 of 802 Handoff ECSG Launched, May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–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–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–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ttendance – 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Separate organizations re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09D-A5EE-407A-AF2F-92E2960611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uctant Recording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Li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, volunteer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EB1-783D-4352-8CF2-FB77DA71E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possibility of specifying a common handoff framework application to 802 standards, 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placement of work (In a new working group or 802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ed to draft a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43C-5C2D-4ED6-AB9D-ABA9917155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cope and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ork with all MACs and PH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nnecessary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02.y (where x could equal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 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ow to address Authentication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PAR? Coordinated with Link Securit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 framework that 802 MACs can ad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D62-E13E-4FE9-8F8A-9BC25A226E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proposed to implement a protocol for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at the link layer. What are we handing o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problem cannot be solved at lay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is is not a handoff stand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0B1-FCCB-48D5-9147-2E2CFB90D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 interfaced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ked Laptop with 802.3, 802.11 and 802.16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session being used for VoIP and web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und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1 and attach to a suitable 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moves out of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6e and choice a suitable 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DED-9F41-43CB-8B34-9102D8C062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good handoff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 decision data wit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appropriately to L3 handoff capabl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 to 802.[11/15/16] are importan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AE2-F3AA-4B51-B31C-ED61CCFDC5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y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implified Anatomy of a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hing somewhere up the stack agrees, in its own way to handoff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down at the link layer, an attachment switches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-authentication-authorization in one of several possible orders and flav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by picking a new attachment point for an interface, or picking a new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DC3-93BE-4765-B453-E23A2DCC5B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03:28Z</dcterms:created>
  <dc:creator>David Johnston</dc:creator>
  <dc:description/>
  <cp:keywords>802 handoff PAR architecture ECSG</cp:keywords>
  <dc:language>en-US</dc:language>
  <cp:lastModifiedBy>Dolors Sala</cp:lastModifiedBy>
  <cp:lastPrinted>1998-02-10T13:28:06Z</cp:lastPrinted>
  <dcterms:modified xsi:type="dcterms:W3CDTF">2003-07-21T20:10:38Z</dcterms:modified>
  <cp:revision>114</cp:revision>
  <dc:subject>802 Handoff</dc:subject>
  <dc:title>Architectural Elements of an 802 Handoff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612339</vt:r8>
  </property>
  <property fmtid="{D5CDD505-2E9C-101B-9397-08002B2CF9AE}" pid="3" name="_AuthorEmail">
    <vt:lpwstr>dj.johnston@intel.com</vt:lpwstr>
  </property>
  <property fmtid="{D5CDD505-2E9C-101B-9397-08002B2CF9AE}" pid="4" name="_AuthorEmailDisplayName">
    <vt:lpwstr>Johnston, Dj</vt:lpwstr>
  </property>
  <property fmtid="{D5CDD505-2E9C-101B-9397-08002B2CF9AE}" pid="5" name="_EmailSubject">
    <vt:lpwstr>[LinkSec] Linksec meeting material and schedule</vt:lpwstr>
  </property>
</Properties>
</file>