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DB1D-E9D1-4E68-A760-18C5AF40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AEC3-75E7-4A3F-B70D-9092EA25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5D17-118D-4CBD-8470-A97A06CA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D967-5033-4D2E-A9D7-078ADFC2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5308-FA48-4785-83A1-680B175A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1C51-82A7-4A08-9728-AEF77E9D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9E7E-7CA6-40A7-83DB-3A6123DA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F929-6D53-45B5-B9D2-5CB50BD0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D8E3-93DA-41F0-95FF-32E440D7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477E-8358-4537-9DAF-962E3FCC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0D76-6682-46D8-920F-E0EE82C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5103-434B-49FC-9E94-80665E8E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CDAD92-CF56-413B-BD67-8F6696BFF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05320" y="2286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.: IEEE 802.11-03/492r0-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uthentication layer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oskow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ecur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SA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1B8C-0F43-4160-BE6A-3ED7C3F9E29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parties authenticate to each other within a single authentic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uthentication process may be called ‘mutual’ and still the following issues are undef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one or both identities exchan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nly one identity is exchanged, is the other identity implied by knowledge of a symmetric ke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/are the identities exchange sec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wo identities are securely exchanged, are they protected with one or two ke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wo identities, is there one identity exchange, two intertwined exchanges, or two serial or parallel exchan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144C-74ED-4684-A327-CFE5C21EA5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the applicability of ‘Mutual Authentication’ to authentication algorithms and how they act on Identity bi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flows and channels are silent on mut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ity is NOT established by a bi-directional or coupled unidirectiona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to delineate the requirement of mutual authentication for a system, like in 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AF1B-CDAC-4A15-99F3-1C728EBD69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features that further typify a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both identities explicitly included within the algorithm or is one implicit as in A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one of the identities not bound to its key, but protected with the other party’s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9931-6EF8-4E85-B98B-19236248D5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utual Authent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rminology would be appropriate to describe a particular mutual authenticat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, 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, 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, Un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, Unsecured Identit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xplicit means identity is included in the protocol and Secure means the identity is cryptographicly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F612-97E3-48CC-A7A4-61CF4C0AF4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 Assoc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SA is a set of policy and key(s) used to prote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ccessful authentication creates a unique SA for the two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ew authentication creates a new, unique,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 is used to group all the information related to the authentication so that everything can be properly protected within the party and deleted when no longer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SA can be bi-directional or un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keying material in bi-drectional, separate keying material in unidire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1793-66C7-42C3-A01C-4EE697BB55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has grown beyond a small component of security to a self-standing pillar of secure system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lithic authentication systems are being replaced by componentiz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layered model fo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s, channels, algorithms, and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ear taxonomy fo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ffort is limited to two-party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E5EB-40B5-4C5C-818B-68B2D06F5D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uthentic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authentication systems these layers are not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annel is frequently not prov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vent of the channel (e.g. EAP) that makes this well defined model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5800" y="1828800"/>
            <a:ext cx="7773840" cy="2133360"/>
            <a:chOff x="685800" y="1828800"/>
            <a:chExt cx="7773840" cy="2133360"/>
          </a:xfrm>
        </p:grpSpPr>
        <p:sp>
          <p:nvSpPr>
            <p:cNvPr id="52" name=""/>
            <p:cNvSpPr/>
            <p:nvPr/>
          </p:nvSpPr>
          <p:spPr>
            <a:xfrm>
              <a:off x="685800" y="3429000"/>
              <a:ext cx="777240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hentication 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5800" y="2895480"/>
              <a:ext cx="77724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hentication Channel [optional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2361960"/>
              <a:ext cx="259092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uthentication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720" y="2361960"/>
              <a:ext cx="259056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uthentication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67280" y="2361960"/>
              <a:ext cx="259092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uthentication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1828800"/>
              <a:ext cx="194616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31960" y="1828800"/>
              <a:ext cx="194652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8480" y="1828800"/>
              <a:ext cx="194616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21400" y="1828800"/>
              <a:ext cx="1938240" cy="53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ntity &amp;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889B-C8ED-4E03-82ED-07A9803EBE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entication Fl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grou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directional, Bi-directional, Coupled unidire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irectional has two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or and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-directional as a single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both the Initiator and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s directional reversal and race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pled un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unidirectional that both must complete before the authentication is fin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race condition and direction re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66D5-3343-4AF7-9042-B2E512474F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idirectional Versus Bi-direc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directional advantag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cut Ini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 from smaller Initiator state machin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advantag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party may ini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s race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‘emulate’ unidirectional through rol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d unidirectional NOT equivalent to bi-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F8E8-AF32-47E8-B86D-F572DFEB4C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ablishing Ident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on d'êt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stablishing Id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ies are established by a cryptographic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s can be based on Symmetric or Asymmetric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10E6-3E3A-4964-AB17-D39CE4E00D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ture of Cryptographic B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y has the key, but no proof of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ty is tied to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Bi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o Symmetric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ames to Symmetric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o Asymmetric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768D-5B61-434A-BA91-4666172029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bindings in an authentication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designed algorithm will maximize the trust for each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an authenticat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Identity with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dentities with a singl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dentities with keys in a nes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dentities with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4AD0-E924-4467-9BE0-7F0FA2E8B1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entication Chann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uthentication algorithm muxin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further the development and use of good authentica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bert Moskowitz, Trusecure/ICSA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1734-6E56-4147-9BB1-FFF7CD109B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20:05:06Z</dcterms:created>
  <dc:creator>Robert Moskowitz</dc:creator>
  <dc:description/>
  <dc:language>en-US</dc:language>
  <cp:lastModifiedBy>Dolors Sala</cp:lastModifiedBy>
  <cp:lastPrinted>2000-08-12T19:25:02Z</cp:lastPrinted>
  <dcterms:modified xsi:type="dcterms:W3CDTF">2003-07-21T20:12:55Z</dcterms:modified>
  <cp:revision>18</cp:revision>
  <dc:subject/>
  <dc:title>An Authentication layering model</dc:title>
</cp:coreProperties>
</file>