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110-C52C-46A7-AC35-FD5CAC09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D19-CDDD-4F1A-8C66-DD42565D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6A9-BA6C-4240-B64F-30C9DD0F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F32-97FF-4803-82DB-7CA9AB8D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B05-0B90-4925-B090-3D16322A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5C6-A459-4640-AE3E-78AA24B2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EA7-7F20-434F-A5E1-8A300446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F13-E740-419A-A1E2-904D0480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4FC-D7A7-477A-B5CC-4677DBF0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BF9-2E01-430A-9611-C550A6EB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867-E1D3-4B38-80A5-898D13E1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DD0-82E2-4702-BD7D-ABD3B26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166680"/>
            <a:ext cx="7905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.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0800" y="6474960"/>
            <a:ext cx="13096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Johnston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914CE5-6B4F-4417-8355-F07048586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861080" y="396000"/>
            <a:ext cx="360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802_Handoff_Linksec_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010280" y="685800"/>
            <a:ext cx="1828800" cy="17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johnston@ieee.org" TargetMode="External"/><Relationship Id="rId2" Type="http://schemas.openxmlformats.org/officeDocument/2006/relationships/hyperlink" Target="mailto:dj.johnston@intel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 Handof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kSec Handoff Issu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Johns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avid.johnston@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j.johnston@inte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771-FEF1-49F4-BE36-552C4FFB52A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locking behavior of 802.1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allows access to the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access to all LSAPs above the LLC except for EAPoL until authentication ha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only MAC signalling and EAP available prior to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takes advantage of the common MSDU transport capability of different 802 netwo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chanism applicable to diverse 802 network types could not be codified in existing MAC signaling or 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urrent 802 authentication practice impacts on the transfer of handoff related information prior to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1A3-9D3F-4CF7-9ADA-CE49CA0C25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 – auth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to attempting to authenticate, the mobile node may want to know whether it is worth the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AP support my L3 network nee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 have a payment method, auth protocol, subscription that will work on the candidate 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y QoS needs be m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ould be nice for the conduit for this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not be blocked prior to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applicable to diverse 802 network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ADE-E67E-45AD-8311-FF02E68161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tending the auth model be extended to support Hand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set of pre authentication unblocked things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 sensitive handoff rela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332-3ED5-452A-BB90-572869C76D1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the unblocked fork of 802.1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048120"/>
            <a:ext cx="1219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971800"/>
            <a:ext cx="411480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2209680"/>
            <a:ext cx="129528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514600"/>
            <a:ext cx="3049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514600"/>
            <a:ext cx="30456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2514600"/>
            <a:ext cx="3049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7339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523520" y="45720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876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53341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952880" y="365724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53341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209680"/>
            <a:ext cx="228600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en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off Informatio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col/nego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14600"/>
            <a:ext cx="3049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28F-E47F-4457-8E6E-C31DAB26AC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: One requi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make it impossible for the definition of the distribution of media independent handoff decision data prior to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mobile nodes to handoff based on goo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mobile nodes to choose who they should bother authenticating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F82-4BDF-4A3D-83AA-32A50822C9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 of 802 Handoff ECSG Launched, May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day –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–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–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ttendance – 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Separate organizations repres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394-6ADF-4CE9-B289-FFD8BE6729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Johnston,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uctant Recording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Lin,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, volunteer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297-92AC-410F-9B65-8D153305BB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possibility of specifying a common handoff framework application to 802 standards, wired and w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placement of work (In a new working group or 802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ed to draft a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C3E-F109-411D-BD9A-85D07E63AF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scope and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work with all MACs and PH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unnecessary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802.y (where x could equal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 8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ow to address Authentication an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the PAR? Coordinated with Link Securit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a framework that 802 MACs can ado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SAP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B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D5A-9D80-4D98-8B63-DFB68D0396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t is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proposed to implement a protocol for hand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at the link layer. What are we handing of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re problem cannot be solved at lay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is is not a handoff standar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FA5-5DDC-4F9B-816E-DA12E160BC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 interfaced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ked Laptop with 802.3, 802.11 and 802.16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P session being used for VoIP and web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top und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make a timely decision to switch to 802.11 and attach to a suitable 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traffic should suffer minimum inter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ptop moves out of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make a timely decision to switch to 802.16e and choice a suitable 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traffic should suffer minimum inter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BE4-73B3-480C-A5D4-34116D760A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t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i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ing good handoff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ff decision data with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 appropriately to L3 handoff capable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 trig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d and W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3 to 802.[11/15/16] are important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141-DDB9-4CCC-9A04-95CE395B06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ery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implified Anatomy of a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hing somewhere up the stack agrees, in its own way to handoff from one place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Mobil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, down at the link layer, an attachment switches from one place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-authentication-authorization in one of several possible orders and flav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by picking a new attachment point for an interface, or picking a new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3CE-9F2F-4C86-8843-2638F32661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22:03:28Z</dcterms:created>
  <dc:creator>David Johnston</dc:creator>
  <dc:description/>
  <cp:keywords>802 handoff PAR architecture ECSG</cp:keywords>
  <dc:language>en-US</dc:language>
  <cp:lastModifiedBy>Dolors Sala</cp:lastModifiedBy>
  <cp:lastPrinted>1998-02-10T13:28:06Z</cp:lastPrinted>
  <dcterms:modified xsi:type="dcterms:W3CDTF">2003-07-21T20:10:38Z</dcterms:modified>
  <cp:revision>114</cp:revision>
  <dc:subject>802 Handoff</dc:subject>
  <dc:title>Architectural Elements of an 802 Handoff Solu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1612339</vt:r8>
  </property>
  <property fmtid="{D5CDD505-2E9C-101B-9397-08002B2CF9AE}" pid="3" name="_AuthorEmail">
    <vt:lpwstr>dj.johnston@intel.com</vt:lpwstr>
  </property>
  <property fmtid="{D5CDD505-2E9C-101B-9397-08002B2CF9AE}" pid="4" name="_AuthorEmailDisplayName">
    <vt:lpwstr>Johnston, Dj</vt:lpwstr>
  </property>
  <property fmtid="{D5CDD505-2E9C-101B-9397-08002B2CF9AE}" pid="5" name="_EmailSubject">
    <vt:lpwstr>[LinkSec] Linksec meeting material and schedule</vt:lpwstr>
  </property>
</Properties>
</file>