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883-C919-4CD6-A18F-75B6C4F9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944-2828-457C-B0A0-E3233775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FD8-1D0E-4AB8-A806-3F0D6FEF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7BA-5A75-469B-855B-A13F598F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A6E-6D5F-41B3-9A6C-36824399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1A1-4517-484F-A2B3-12154F4A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5D3-FC9A-412D-AB8F-8516A261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8FB-1B09-4C6B-85AB-C93E0389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785-B200-45F6-BCD0-E522D75A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FAF-41F0-4704-BC0E-21CF464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B27-1CDE-42AD-8C20-7E40AF18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3EF-391D-4495-8A6F-52B5578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2BE1-9ED9-4D2F-B299-85661DF73715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4520" y="6319440"/>
            <a:ext cx="358452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IEEE802.1 LinkSec Jul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Allyn Romanow, Cisco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C0DB-F122-46CB-AF7E-DBDB3E7FD5B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MACsec Draf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yn Roma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EE802.1 LinkSec July 20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com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sections of the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where various issues can go in the do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swer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B41-F637-46CC-AF9D-A52F7F76AF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85A8A-D842-4122-B72F-49C994A5EF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same pattern as other 802.1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fulness of having a template to organize contribu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AE358-6872-4C94-8107-E799B0FE63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16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 – go over general fl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feren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bbreviations, Conforma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support of the MAC Service-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what’s the point here,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les of Secure Network Operation-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how does this fit, what happe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les of MAC Security Entity operation-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details of the solution, how it happe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095FD-77E6-4FA2-AAE2-FD9E5CA0A5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63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solidFill>
            <a:srgbClr val="faf8a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C Security Protocol (MACse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oding of MACsec PDUs -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boilerp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of MAC 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Protocol -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boilerp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ex A PICS -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boilerp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ex Y Bibliogra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Annexes –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context, explan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ex Z Informative Commentary – </a:t>
            </a: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history, unresolved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4AA10-E866-4234-A9EC-6A4EA33D3C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e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some issues g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faf8a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pe – 1.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ments – some in cl01, full discussion in anne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ation – in another document, with pointer in ch.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oint - ch. 7 Principles of Network 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hop – ch. 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42473-8B5B-4596-A664-7B3E46176C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9:57:02Z</dcterms:created>
  <dc:creator>Allyn Romanow (allyn)</dc:creator>
  <dc:description/>
  <dc:language>en-US</dc:language>
  <cp:lastModifiedBy>Allyn Romanow (allyn)</cp:lastModifiedBy>
  <dcterms:modified xsi:type="dcterms:W3CDTF">2003-07-21T21:14:43Z</dcterms:modified>
  <cp:revision>17</cp:revision>
  <dc:subject/>
  <dc:title>Toward a MACsec Draft</dc:title>
</cp:coreProperties>
</file>