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1553-3836-4C30-B1A7-E6EE8C788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1852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13400"/>
            <a:ext cx="831852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7BB8-06AC-49BF-98CB-94C166E1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328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C9FE-6608-429B-A81A-CB27F80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21932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21932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1340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71340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713400"/>
            <a:ext cx="267840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D606-D276-48D4-BBC9-ADEAAE65BD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spcAft>
                <a:spcPts val="601"/>
              </a:spcAft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C630-0204-4E06-ACDE-A0DD2B93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0787-0E46-40FA-A0E9-C4F72CE1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E90E-35E6-47DC-85AD-30CD454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A895-29C8-45F3-ABCA-3A1B396E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71000"/>
            <a:ext cx="8305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1CC4-D4A6-4ED8-8955-40D3C15B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6446-A71B-4B1F-B770-FDBBCE76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3280" y="371340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7763-C5DE-49C4-B8A8-43D899F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3280" y="1219320"/>
            <a:ext cx="405936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13400"/>
            <a:ext cx="8318520" cy="2277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2999"/>
              </a:spcBef>
              <a:spcAft>
                <a:spcPts val="601"/>
              </a:spcAft>
              <a:buNone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F632-69B1-4310-A44C-D4EF419A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8000"/>
          </a:bodyPr>
          <a:p>
            <a:pPr marL="226080" indent="-226080">
              <a:spcBef>
                <a:spcPts val="2999"/>
              </a:spcBef>
              <a:spcAft>
                <a:spcPts val="601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240" indent="-181440">
              <a:spcBef>
                <a:spcPts val="2999"/>
              </a:spcBef>
              <a:spcAft>
                <a:spcPts val="601"/>
              </a:spcAft>
              <a:buClr>
                <a:srgbClr val="fc0128"/>
              </a:buClr>
              <a:buSzPct val="120000"/>
              <a:buFont typeface="Arial"/>
              <a:buChar char="–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5400" indent="-181800">
              <a:spcBef>
                <a:spcPts val="2999"/>
              </a:spcBef>
              <a:spcAft>
                <a:spcPts val="601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222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35360">
              <a:spcBef>
                <a:spcPts val="29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066680"/>
            <a:ext cx="830556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3111-821B-4568-AE63-8E510737E6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43480" y="62485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146-0A97-4CF8-908E-FA39A7782EC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71000"/>
            <a:ext cx="8305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Arial Black"/>
              </a:rPr>
              <a:t>LinkSec Objectives</a:t>
            </a:r>
            <a:endParaRPr b="0" lang="en-US" sz="3600" spc="-1" strike="noStrike">
              <a:solidFill>
                <a:srgbClr val="fc012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18520" cy="4775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80880" indent="0">
              <a:spcBef>
                <a:spcPts val="2500"/>
              </a:spcBef>
              <a:spcAft>
                <a:spcPts val="499"/>
              </a:spcAft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nd/or specif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nified security architecture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idge-transparent secure data exchange mechanism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ine the service interface to see if it requires extension to support security services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uthentication protocol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key management protocol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link security mechanism for 802.3 (including ptp, sharedmedia, and PON) networks if additional MAC-specific functionality is needed (high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01"/>
              </a:spcBef>
              <a:spcAft>
                <a:spcPts val="400"/>
              </a:spcAft>
              <a:buClr>
                <a:srgbClr val="fc0128"/>
              </a:buClr>
              <a:buSzPct val="120000"/>
              <a:buFont typeface="C Futura Condensed"/>
              <a:buChar char="•"/>
              <a:tabLst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discovery protocol (low prior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9:46:39Z</dcterms:created>
  <dc:creator>Dolors Sala</dc:creator>
  <dc:description/>
  <dc:language>en-US</dc:language>
  <cp:lastModifiedBy>Dolors Sala</cp:lastModifiedBy>
  <cp:lastPrinted>2000-02-07T20:00:00Z</cp:lastPrinted>
  <dcterms:modified xsi:type="dcterms:W3CDTF">2003-06-03T21:10:27Z</dcterms:modified>
  <cp:revision>486</cp:revision>
  <dc:subject/>
  <dc:title>Sample Title, 36pt Arial Black  </dc:title>
</cp:coreProperties>
</file>