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8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4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3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spcAft>
                <a:spcPts val="13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urity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us L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te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siness-Drive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ft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ssio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ssage integrity/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ryption (theft of subscription video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stomer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ssio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587520"/>
            <a:ext cx="860724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siness-Driven Requirements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lling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ssio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ent committment (subscriber auditability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/MAC consist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on key-management architecture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apsulation (SDE) may be different from media-to-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s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ssion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ividual identity/cre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spcAft>
                <a:spcPts val="8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criber/human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spcAft>
                <a:spcPts val="8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point/hardware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y  management/agreement/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shness of key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exible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spcAft>
                <a:spcPts val="82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plug into existing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 Detail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ssage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uires freshness of key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cryptographic MA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y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exibility in algorithm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gotiation of *fresh*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re speed performance for whatever MAC i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sonable” footprint for skinny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 Details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y management/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exibility in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, publically analysed/available cryptographic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shness guaran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F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ty hid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spcAft>
                <a:spcPts val="11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y translation/inter-MAC trans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lors Sala</cp:lastModifiedBy>
  <dcterms:modified xsi:type="dcterms:W3CDTF">2003-05-29T17:43:17Z</dcterms:modified>
  <cp:revision>1</cp:revision>
  <dc:subject/>
  <dc:title>Security Requirements</dc:title>
</cp:coreProperties>
</file>