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nkSec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bert Moskow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CSAl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Sec Network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vider IEEE 802 Infra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-Provider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attachment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ly controlled by Provider and Subscr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Autho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privacy and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vider View Of Link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bi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oney, no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r and cross-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l obl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r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intercept function of deployment, not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access to Network Attachment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scriber View of Link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exists to service Sub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ec exists to protect Subscr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st in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e the 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 of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st in bi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charged for real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-Driven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r Network cen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EEE 802 networks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r link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ra-Provider, Inter-Provider, Subscriber to N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thentication alway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lps limit miss-use of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ivacy and Integrity prot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-Driven Require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Inclu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, trusted links across hostile bri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Norm’s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n multi-party Adhoc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l 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d by deployment methodology not provisions in Link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97080" indent="-2977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-link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node has N points of 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 = 1 is the degenerate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7080" indent="-2977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ider all links as ephem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manent links” are just long-lived ephemeral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7080" indent="-2977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-directional nature of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ends of a link authenticate the other even though one side starts th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520" indent="-26424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tual Authentication is not always bi-dire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quirements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yer Signalling of Link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for Handoff between N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direct support of Handoff mechanisms in LinkSec.  I.E. Transpa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ivacy of Data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grity of Management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lors Sala</cp:lastModifiedBy>
  <dcterms:modified xsi:type="dcterms:W3CDTF">2003-05-29T17:48:34Z</dcterms:modified>
  <cp:revision>7</cp:revision>
  <dc:subject/>
  <dc:title>LinkSec Architecture</dc:title>
</cp:coreProperties>
</file>