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0849-2972-4621-89CB-37FD4217C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9258-1A10-42A5-ABC7-A36A298D6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9360" y="303120"/>
            <a:ext cx="4494240" cy="3370320"/>
          </a:xfrm>
          <a:prstGeom prst="rect">
            <a:avLst/>
          </a:prstGeom>
          <a:ln w="0">
            <a:noFill/>
          </a:ln>
        </p:spPr>
      </p:sp>
      <p:sp>
        <p:nvSpPr>
          <p:cNvPr id="101" name=""/>
          <p:cNvSpPr/>
          <p:nvPr/>
        </p:nvSpPr>
        <p:spPr>
          <a:xfrm>
            <a:off x="503280" y="4221000"/>
            <a:ext cx="58500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91105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60" y="3700800"/>
            <a:ext cx="91105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99036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-360" y="370080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70080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293328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79800" y="990360"/>
            <a:ext cx="293328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60320" y="990360"/>
            <a:ext cx="293328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-360" y="3700800"/>
            <a:ext cx="293328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79800" y="3700800"/>
            <a:ext cx="293328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60320" y="3700800"/>
            <a:ext cx="293328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-360" y="990360"/>
            <a:ext cx="911052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911052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4564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990360"/>
            <a:ext cx="444564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099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990360"/>
            <a:ext cx="444564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-360" y="370080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4564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99036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70080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990360"/>
            <a:ext cx="444564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-360" y="3700800"/>
            <a:ext cx="91105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76160" y="6440400"/>
            <a:ext cx="5638680" cy="4176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  <a:defRPr b="0" lang="en-US" sz="13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Comic Sans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1440" y="-3240"/>
            <a:ext cx="9145440" cy="976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-360" y="990360"/>
            <a:ext cx="911052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1" marL="336600" indent="-111240">
              <a:spcBef>
                <a:spcPts val="624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2" marL="565200" indent="-114480">
              <a:spcBef>
                <a:spcPts val="624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3" marL="792000" indent="-112680">
              <a:spcBef>
                <a:spcPts val="624"/>
              </a:spcBef>
              <a:buClr>
                <a:srgbClr val="3366cc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4" marL="1117440" indent="-210960">
              <a:spcBef>
                <a:spcPts val="624"/>
              </a:spcBef>
              <a:buClr>
                <a:srgbClr val="006666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5" marL="1117440" indent="-210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6" marL="1117440" indent="-210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432480"/>
            <a:ext cx="792468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2840" y="648180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www.ggf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061480" y="5527800"/>
            <a:ext cx="183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263080" y="5867280"/>
            <a:ext cx="88092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jwdct@technologist.co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365760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OGSA SEC W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[OGSA= Open Grid Services Architectur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-chairs: 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ataraj Nagaratnam, </a:t>
            </a:r>
            <a:r>
              <a:rPr b="1" lang="en-US" sz="1900" spc="-1" strike="noStrike">
                <a:solidFill>
                  <a:srgbClr val="006666"/>
                </a:solidFill>
                <a:latin typeface="Arial"/>
              </a:rPr>
              <a:t>IBM, U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Marty Humphr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900" spc="-1" strike="noStrike">
                <a:solidFill>
                  <a:srgbClr val="006666"/>
                </a:solidFill>
                <a:latin typeface="Arial"/>
              </a:rPr>
              <a:t>University of Virginia, U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GGF9 WG session: Oct 7, 2003, Chicago, Illino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GF OGSA SEC WG History &amp; Stat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143000"/>
            <a:ext cx="62485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esentation Edited and Mod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an J Weissb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ata Communications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ajwdct@technologis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 Services Security Progress Since GGF6 (Oct 200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911052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476280" indent="-47628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Dec 18, 2002: WS-Policy, WS-PolicyAttachment,  WS-PolicyAssertions, WS-SecurityPolicy, WS-Trust, WS-SecureConversation from IBM-MSF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1" marL="644400" indent="-419040">
              <a:spcBef>
                <a:spcPts val="550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WS-Policy 1.1 </a:t>
            </a:r>
            <a:r>
              <a:rPr b="0" i="1" lang="en-US" sz="2200" spc="-1" strike="noStrike">
                <a:solidFill>
                  <a:srgbClr val="006666"/>
                </a:solidFill>
                <a:latin typeface="Arial"/>
              </a:rPr>
              <a:t>et. al. </a:t>
            </a: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May 28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476280" indent="-47628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July 2003: WS-Federat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476280" indent="-47628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OASIS WS SEC docs for public review (Sept 9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1" marL="644400" indent="-419040">
              <a:spcBef>
                <a:spcPts val="550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SOAP Message Security, Username Token Profile, X.509 Cert Token Profile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476280" indent="-47628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XACML ratified as OASIS Open Standard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476280" indent="-47628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SAML v1.1 (Sept, 2003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476280" indent="-47628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WS-I creates Basic Profiles for Web Servic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GSA SEC WG progress(?) since Oct 200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911052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ed to let non-GGF activities progress….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0">
              <a:spcBef>
                <a:spcPts val="6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(AW: </a:t>
            </a: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this is a tacit acknowledgement that there has been no progress since 1</a:t>
            </a:r>
            <a:r>
              <a:rPr b="1" i="1" lang="en-US" sz="25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 WG Meeting- Oct 2002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0">
              <a:spcBef>
                <a:spcPts val="6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Focus is on Authorization (OGSA AuthZ WG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0">
              <a:spcBef>
                <a:spcPts val="6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OGSA SEC WG is “</a:t>
            </a: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idle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” at the moment= hibernating now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How to get the OGSA SEC WG active again?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0">
              <a:spcBef>
                <a:spcPts val="6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Should they consider IEEE 802.1  Link Sec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0">
              <a:spcBef>
                <a:spcPts val="624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0">
              <a:spcBef>
                <a:spcPts val="6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1" marL="336600" indent="0">
              <a:spcBef>
                <a:spcPts val="55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lvl="1" marL="336600" indent="0">
              <a:spcBef>
                <a:spcPts val="55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W: What is missing/ wrong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143000"/>
            <a:ext cx="73152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pendence on a set of WS consortium spec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curity protocols.  Only one of those has b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orked in OASIS; others  may never be submit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n open standards body  for peer review and 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  What if Grid data types are not compatible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S encoding format (SOAP/XML messages)? 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ample: floating point numbers, binary data, me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ages, real time video, storage area network data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 No consideration of when to use IP Sec, SSL, IE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802.1x, or even knowledge of IEEE 802.1 Link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 assumptions as to whether the LAN/MAN link, wh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nnects servers, is secure or has been authentic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o get Link Sec-&gt;OGSA Sec WG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943600"/>
            <a:ext cx="183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143000"/>
            <a:ext cx="8839080" cy="58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bjectiv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 Include 802.1 Link Sec in WG “Bin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curity” (se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GSA Security Component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slide) as 1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yer of transport (below IP and WS bindings- HTT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MTTP, MIME, etc).  Defer on IPSec and SSL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to do this?  [Assuming WG goes into active mod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Could establish a liaison between IEEE 802 and G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Convey IEEE 802.1 position on need to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inkSec in Grid network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dividuals may participate in GGF WGs at no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Join email reflector and create a new thread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Participate in conference calls and interim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id Forge web site will get you to all GGF W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ttp://forge.gridforum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GSA SEC WG Char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9110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Enumerate and address the Grid Security requirements in the context of the OGSA”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Leverage… WS-Security… and… WS Security Roadmap”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0">
              <a:spcBef>
                <a:spcPts val="6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500" spc="-1" strike="noStrike" u="sng">
                <a:solidFill>
                  <a:srgbClr val="000099"/>
                </a:solidFill>
                <a:uFillTx/>
                <a:latin typeface="Arial"/>
              </a:rPr>
              <a:t>Primary outcome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: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1" marL="336600" indent="-111240">
              <a:spcBef>
                <a:spcPts val="550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doc #1: The Security Architecture for Open Grid Services 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lvl="1" marL="336600" indent="-111240">
              <a:spcBef>
                <a:spcPts val="550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doc #2: OGSA Security Roadmap 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 u="sng">
                <a:solidFill>
                  <a:srgbClr val="000099"/>
                </a:solidFill>
                <a:uFillTx/>
                <a:latin typeface="Arial"/>
              </a:rPr>
              <a:t>Secondary outcome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: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1" marL="336600" indent="-111240">
              <a:spcBef>
                <a:spcPts val="550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Creation of new GGF WGs to address “gaps” identified by #2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Synergistic with other efforts (e.g., OASIS, W3C)??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But…no incorporation of IETF Security specs (IP Sec or SSL), no recognition of  IEEE 802.1X or knowledge of IEEE 802.1 Link Security!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[GGF6] OGSA Security WG Method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911052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rmAutofit/>
          </a:bodyPr>
          <a:p>
            <a:pPr lvl="1" marL="336600" indent="0">
              <a:spcBef>
                <a:spcPts val="55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200" spc="-1" strike="noStrike" u="sng">
                <a:solidFill>
                  <a:srgbClr val="006666"/>
                </a:solidFill>
                <a:uFillTx/>
                <a:latin typeface="Arial"/>
              </a:rPr>
              <a:t>1</a:t>
            </a:r>
            <a:r>
              <a:rPr b="1" lang="en-US" sz="2200" spc="-1" strike="noStrike" u="sng" baseline="30000">
                <a:solidFill>
                  <a:srgbClr val="006666"/>
                </a:solidFill>
                <a:uFillTx/>
                <a:latin typeface="Arial"/>
              </a:rPr>
              <a:t>st</a:t>
            </a:r>
            <a:r>
              <a:rPr b="1" lang="en-US" sz="2200" spc="-1" strike="noStrike" u="sng">
                <a:solidFill>
                  <a:srgbClr val="006666"/>
                </a:solidFill>
                <a:uFillTx/>
                <a:latin typeface="Arial"/>
              </a:rPr>
              <a:t> WG meeting at GGF6 (Oct 2002)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marL="111240" indent="-111240"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What requirements are unique/necessary in Grids?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Do the Architecture/Roadmap cover these? 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336600" indent="-111240">
              <a:spcBef>
                <a:spcPts val="499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If not, how to extend documents?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111240" indent="-111240"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What components need to be built based on these requirements?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Are any specifications not listed?  </a:t>
            </a:r>
            <a:r>
              <a:rPr b="1" i="1" lang="en-US" sz="2100" spc="-1" strike="noStrike">
                <a:solidFill>
                  <a:srgbClr val="000099"/>
                </a:solidFill>
                <a:latin typeface="Arial"/>
              </a:rPr>
              <a:t>[AW: </a:t>
            </a:r>
            <a:r>
              <a:rPr b="1" i="1" lang="en-US" sz="2100" spc="-1" strike="noStrike" u="sng">
                <a:solidFill>
                  <a:srgbClr val="000099"/>
                </a:solidFill>
                <a:uFillTx/>
                <a:latin typeface="Arial"/>
              </a:rPr>
              <a:t>IP Sec, SSL, LinkSec</a:t>
            </a:r>
            <a:r>
              <a:rPr b="1" i="1" lang="en-US" sz="2100" spc="-1" strike="noStrike">
                <a:solidFill>
                  <a:srgbClr val="000099"/>
                </a:solidFill>
                <a:latin typeface="Arial"/>
              </a:rPr>
              <a:t>?]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111240" indent="-111240"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Are any of these “boxes” actively being constructed outside of the GGF?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336600" indent="-111240">
              <a:spcBef>
                <a:spcPts val="499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hat are these? Where are these? Who are building them?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111240" indent="-111240"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Which of the (inactive/pending) boxes are urgent?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336600" indent="-111240">
              <a:spcBef>
                <a:spcPts val="499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ased on the identified set of specifications that we need to work on, try to prioritize the list and come up with a dependency/deliverable graph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336600" indent="-111240">
              <a:spcBef>
                <a:spcPts val="499"/>
              </a:spcBef>
              <a:buClr>
                <a:srgbClr val="006666"/>
              </a:buClr>
              <a:buSzPct val="80000"/>
              <a:buFont typeface="Wingdings" charset="2"/>
              <a:buChar char="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Suggest spinning off workgroups based on specs identified to be started under GGF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/proposed specs 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ilding on the WS/ SOAP Found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2405160"/>
            <a:ext cx="1752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This is a composable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only use what you ne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5562720"/>
            <a:ext cx="5562720" cy="6094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OAP Found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4521240"/>
            <a:ext cx="5562720" cy="6094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S-Secur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3479760"/>
            <a:ext cx="1752840" cy="6094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WS-Poli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479760"/>
            <a:ext cx="1752480" cy="6094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WS-Tru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3479760"/>
            <a:ext cx="1752480" cy="6094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WS-Priva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2438280"/>
            <a:ext cx="1752840" cy="60984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WS-Sec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2438280"/>
            <a:ext cx="1752480" cy="60984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WS-Fed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2438280"/>
            <a:ext cx="1752480" cy="60984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WS-Authoriz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086600" y="24382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6878160" y="5313600"/>
            <a:ext cx="7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44197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ASIS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1219320"/>
            <a:ext cx="607716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W Not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 This is the IBM-MSFT WS Roadmap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curity Protocols.  Only WS-Security is a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GSA Security Compon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280" y="1168560"/>
          <a:ext cx="8610840" cy="46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68560"/>
                    <a:ext cx="861084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ing Bloc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14400" y="990720"/>
          <a:ext cx="7439040" cy="53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7439040" cy="53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28600" y="914400"/>
          <a:ext cx="8686800" cy="5711760"/>
        </p:xfrm>
        <a:graphic>
          <a:graphicData uri="http://schemas.openxmlformats.org/drawingml/2006/table">
            <a:tbl>
              <a:tblPr/>
              <a:tblGrid>
                <a:gridCol w="3200400"/>
                <a:gridCol w="54864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Categor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Specifica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Nam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 Identity 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 Target/Action Naming 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 Attribute and Group Naming 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Transient Service Identity Acquisi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Translation between Security Realm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Identity Mapping Service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Generic Name Mapping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Policy Mapping Service 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Credential Mapping Servi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Authentication Mechanism Agnosti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 Certificate Validation Service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-Kerberos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Pluggable Session Secur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GSSAPI-SecureConversation</a:t>
                      </a:r>
                      <a:br>
                        <a:rPr sz="1900"/>
                      </a:b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Pluggable Authorization Servi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-Authorization Servi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dmap: Proposed Specs.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28600" y="914400"/>
          <a:ext cx="8686800" cy="5465880"/>
        </p:xfrm>
        <a:graphic>
          <a:graphicData uri="http://schemas.openxmlformats.org/drawingml/2006/table">
            <a:tbl>
              <a:tblPr/>
              <a:tblGrid>
                <a:gridCol w="3200400"/>
                <a:gridCol w="54864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Categor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Specifica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Authorization Policy Manag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Coarse-grained Authorization Policy Management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Fine-grained Authorization Policy Manag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Trust Policy Manag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 Trust Serv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Privacy Policy Manag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Privacy Policy Framewor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VO Policy Manag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VO Policy Serv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Deleg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Identity Assertion Profile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Capability Assertion Profi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362320" y="76320"/>
            <a:ext cx="53337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d Specs.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dmap: Proposed Specs. 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28600" y="914400"/>
          <a:ext cx="8686800" cy="4579920"/>
        </p:xfrm>
        <a:graphic>
          <a:graphicData uri="http://schemas.openxmlformats.org/drawingml/2006/table">
            <a:tbl>
              <a:tblPr/>
              <a:tblGrid>
                <a:gridCol w="3200400"/>
                <a:gridCol w="54864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Categor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Specifica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Firewall Friendl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 Firewall Interoperab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Security Policy Expression and Ex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Grid Service Reference and Service Data Security Policy Decor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Secure Service Oper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Secure Service’s Policy and Processing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Service Data Access Control</a:t>
                      </a:r>
                      <a:br>
                        <a:rPr sz="2200"/>
                      </a:b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Audit and Secure Logg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 Audit Service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OGSA Audit Policy Manag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362320" y="76320"/>
            <a:ext cx="53337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d Specs.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99720" cy="9302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2160" rIns="921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dmap: Proposed Specs. (3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1T14:51:42Z</dcterms:created>
  <dc:creator>Marty Humphrey and Peter Clarke</dc:creator>
  <dc:description/>
  <dc:language>en-US</dc:language>
  <cp:lastModifiedBy>Dolors Sala</cp:lastModifiedBy>
  <dcterms:modified xsi:type="dcterms:W3CDTF">2003-11-03T17:13:37Z</dcterms:modified>
  <cp:revision>187</cp:revision>
  <dc:subject/>
  <dc:title>PowerPoint Presentation  -  GGF5 Closing</dc:title>
</cp:coreProperties>
</file>