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38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023-9041-494D-BB69-E03C9FE7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1E3-B79A-443F-BA3E-DE747EA1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1BA-36CA-4355-B073-41F0F766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A06-3ACD-4BB4-8CD5-30AC11E1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A97-4943-4416-A432-1FFCC4BB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C8B-EF9B-4380-BDF4-1BBC8BFC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E3E-7160-497E-9857-C3631171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0A0-BDA3-4184-992A-B5333FFF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FDB-5194-4BC6-9D08-94EFA479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BB0-ED1E-4462-830B-BAE549A7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FEF-5D33-4DE6-ABC1-FC4824F1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483-E77D-4725-80C2-191B915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8234-277D-47EB-A763-EED8C31C01CD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GF9: OGSA 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OGSA-Authz)- FYI On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4419360"/>
            <a:ext cx="7239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ho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on Welch (vwelch@ncsa.uiuc.e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bekah Lepro, Andrew McNab and rest of OGSA-Authz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6019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ed andAmmend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an J Weissb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Communications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wdct@technologis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OGSA= Open Grid Services Architectur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hZ WG Requirements/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fine and allow for interoperability between OGSA Services and different Authorization Services (TB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fine use cases &amp; requirements fo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 not mandate Authoriza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fine small number profiles for mechanisms to allow interoperability [do not invent new mechanisms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ild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S Secu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work; add specification for Grid-specific stu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 Service Data, Instances, Virtual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eedback to relevant standards body (OASI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EEE 802.1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8A6-A1BB-455C-B0BF-D34C37C9EE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chitecture/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92360" y="4365720"/>
            <a:ext cx="2087640" cy="1439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1484280"/>
            <a:ext cx="1512720" cy="8636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7733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1628640"/>
            <a:ext cx="1942920" cy="720720"/>
          </a:xfrm>
          <a:prstGeom prst="rightArrow">
            <a:avLst>
              <a:gd name="adj1" fmla="val 50000"/>
              <a:gd name="adj2" fmla="val 673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427640" y="2349360"/>
            <a:ext cx="1440" cy="2016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716360" y="2349000"/>
            <a:ext cx="0" cy="2016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0360" y="24210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640" y="2565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/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4724280"/>
            <a:ext cx="3024000" cy="720720"/>
            <a:chOff x="324000" y="4724280"/>
            <a:chExt cx="3024000" cy="720720"/>
          </a:xfrm>
        </p:grpSpPr>
        <p:sp>
          <p:nvSpPr>
            <p:cNvPr id="56" name=""/>
            <p:cNvSpPr/>
            <p:nvPr/>
          </p:nvSpPr>
          <p:spPr>
            <a:xfrm>
              <a:off x="324000" y="4724280"/>
              <a:ext cx="1728720" cy="719280"/>
            </a:xfrm>
            <a:prstGeom prst="parallelogram">
              <a:avLst>
                <a:gd name="adj" fmla="val 60085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24000" y="4941720"/>
              <a:ext cx="1224000" cy="503280"/>
            </a:xfrm>
            <a:prstGeom prst="rightArrow">
              <a:avLst>
                <a:gd name="adj1" fmla="val 50000"/>
                <a:gd name="adj2" fmla="val 60801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724360" y="4508640"/>
            <a:ext cx="2735280" cy="1152360"/>
            <a:chOff x="5724360" y="4508640"/>
            <a:chExt cx="2735280" cy="1152360"/>
          </a:xfrm>
        </p:grpSpPr>
        <p:sp>
          <p:nvSpPr>
            <p:cNvPr id="59" name=""/>
            <p:cNvSpPr/>
            <p:nvPr/>
          </p:nvSpPr>
          <p:spPr>
            <a:xfrm>
              <a:off x="7020000" y="4508640"/>
              <a:ext cx="1439640" cy="1152360"/>
            </a:xfrm>
            <a:prstGeom prst="verticalScroll">
              <a:avLst>
                <a:gd name="adj" fmla="val 125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li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4360" y="5013360"/>
              <a:ext cx="1224000" cy="431640"/>
            </a:xfrm>
            <a:prstGeom prst="leftArrow">
              <a:avLst>
                <a:gd name="adj1" fmla="val 50000"/>
                <a:gd name="adj2" fmla="val 7089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4000" y="3213000"/>
            <a:ext cx="8280360" cy="2737080"/>
            <a:chOff x="324000" y="3213000"/>
            <a:chExt cx="8280360" cy="2737080"/>
          </a:xfrm>
        </p:grpSpPr>
        <p:sp>
          <p:nvSpPr>
            <p:cNvPr id="62" name=""/>
            <p:cNvSpPr/>
            <p:nvPr/>
          </p:nvSpPr>
          <p:spPr>
            <a:xfrm>
              <a:off x="4067280" y="3213000"/>
              <a:ext cx="115236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4000" y="4365720"/>
              <a:ext cx="187164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4720" y="4292640"/>
              <a:ext cx="2519640" cy="158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E0D-AE2B-4CD2-A55B-FB207AFFFE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hZ WG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and document requirements for each of Authz Interface, Attributes, Authz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ecify one or more bindings of how to use existing technologies (as volunteers emer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 Attributes in X.509 ACs, Authz Interface in SA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0B4-3B1B-42D1-BF40-C2D004846F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ed Grid Services/portTypes for Authorization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 least 1 portType for AuthzService that supports both SAML and XAC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thers possible – e.g. for WS-Trust/Authz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 reference to IEEE 802.1x or LinkSe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ould either be included as mechanis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hZ management for attributes and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ther portTypes for management of Authz service would be useful, but out of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704-E4EE-40EA-800B-C8FC2C2EEB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 Being Considered for Grid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1447920"/>
          <a:ext cx="68961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68961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53B-8B31-4DEA-B628-00951524F4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L and XAC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23920" y="1447920"/>
            <a:ext cx="6896160" cy="43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293-86CE-439C-845D-DCAB1B0B97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.509 Certific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98320" y="2870280"/>
          <a:ext cx="816480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2870280"/>
                    <a:ext cx="816480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295280" y="16002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.509 Certificates, with ASN.1 encoding, are also being considered for Gri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GSA cross WG discussion: OGSA-Auth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0CE-2761-4174-B5E9-C82127F857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lors Sala</cp:lastModifiedBy>
  <dcterms:modified xsi:type="dcterms:W3CDTF">2003-11-03T17:14:41Z</dcterms:modified>
  <cp:revision>50</cp:revision>
  <dc:subject/>
  <dc:title>PowerPoint Presentation</dc:title>
</cp:coreProperties>
</file>